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.jpeg" ContentType="image/jpeg"/>
  <Override PartName="/ppt/media/image1.jpeg" ContentType="image/jpeg"/>
  <Override PartName="/ppt/media/image7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CE7-DF0A-43E6-AEAF-678CB3D6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455-8FE8-445F-A1A6-06A518C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506-AF33-4416-8EB2-8AD97F1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D86-82B2-4A2A-84E8-EE60E1EC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680-EF82-4741-AD82-F61F45E2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3E0-F4E9-4469-92CC-0705FFB8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9B8-75DC-4EA6-8113-459F3B49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993-97C9-423A-B7FF-2C85B3D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51D-3DDE-4FBA-B4F8-2A70444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CF5-DD65-4602-9DC6-C3F59CA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D5C-2FD5-4533-B2D1-5C29183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D88-9F30-4F46-BA2D-0E672DE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72A-D4D2-456B-B4CA-35F269471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филактика агрессивного поведения детей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агрессия"/>
          <p:cNvPicPr/>
          <p:nvPr/>
        </p:nvPicPr>
        <p:blipFill>
          <a:blip r:embed="rId1"/>
          <a:stretch/>
        </p:blipFill>
        <p:spPr>
          <a:xfrm>
            <a:off x="4343400" y="167940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грессивное поведе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зделяется на 2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несоциализир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ормы (не носят враждебного характ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оциализир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ормы (враждебность и причинение ущерба другому челове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hild-fighting"/>
          <p:cNvPicPr/>
          <p:nvPr/>
        </p:nvPicPr>
        <p:blipFill>
          <a:blip r:embed="rId1"/>
          <a:stretch/>
        </p:blipFill>
        <p:spPr>
          <a:xfrm>
            <a:off x="5257800" y="41148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ети черпают знания о моделях поведения из тре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, которая может демонстрировать агрессивное поведение и обеспечивать его за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со сверстниками, в ходе которого узнают о преимуществах 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ческие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gr_05"/>
          <p:cNvPicPr/>
          <p:nvPr/>
        </p:nvPicPr>
        <p:blipFill>
          <a:blip r:embed="rId1"/>
          <a:stretch/>
        </p:blipFill>
        <p:spPr>
          <a:xfrm>
            <a:off x="5715000" y="4229280"/>
            <a:ext cx="34290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рушения социаль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ый пренаталь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ссовые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ение необходимого (еда, одежда, забота) или привилегий (прогулка, праздники, поход  в театр и ки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ированное 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оциональный «гол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илие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Факторы воспитания и стиля общения взрослых, провоцирующие детей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на агрессивное пове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речивость требований к ребенку со стороны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негативные эмоциональные состояния взрослых и отсутствие контроля и саморегуляции с их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наказаний детей как способа разрядки взрослым собственных негативных эмо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й стиль общения с ребенком (использование приказов, обвинений, «Ты-сообщений», вербальные оскорбления детей, игнорирование чувств ребенка, его интересов и жел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сновные воспитательные средства родителей агрессивны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привиле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ограничений и отсутствие поощ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ые изоляци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нательное лишение любви и заботы в случае просту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сновные направления профилактик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грессивного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что такое агрессия, каковы причины ее появления, чем она опасна для человека и окружающих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я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ффективным способам общения с другими людьми, развитие коммуникативн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620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щи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ировать внимание на поведении, а не на личности ребенка (ты хороший и можешь быть еще лучше, а поведение ужас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я поведение, ограничиться тем, что произошло сейчас. Обращение к негативному прошлому неэффе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ть, а не усиливать напряжение ситуации. В реагировании на неприемлемое поведение ребенка избегать ошибок: повышать голос, оставлять последнее слово за собой, оценивать характер, физическую силу, делать обобщения: «Ты всегда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ировать модели желатель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емы эффективного взаимодействия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ладение  языком «Я - высказы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выков активного слуш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ные намерения ребенка в фокусе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р1"/>
          <p:cNvPicPr/>
          <p:nvPr/>
        </p:nvPicPr>
        <p:blipFill>
          <a:blip r:embed="rId1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4 способа выражения гн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 заявить о своих чувствах, давая выход отрицательным эмоц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ь гнев в косвенной форме, вымещая на человеке или предме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рживать гнев, загоняя его внут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ерживать негативную эмоцию до ее на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правления коррекционной работы с агрессивными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грессия является осознанным, контролируемым актом со стороны ребёнка, то для взрослого важно не поддаться на эту манипуляцию, при этом можно достаточно жёстко пресечь агрессив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сли агрессия является выражением гнева, возможно применение разнообразных стратегий воз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детей контролю над своими эмоциями. Нужно учить ребёнка выплёскивать внутреннее напряжения через активные действия, занятие спортом, 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 ребёнка умение снижать уровень эмоционального напряжения через физическую релаксацию (прослушивание спокойной музыки, медленные танцы, дыхательные упражнения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умению предъявлять свои чувства через их проговаривание и приглашение к сотрудн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таких качеств, как эмпатия, доверие к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грессивное п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любая форма поведения, нацеленная  на оскорбление или причинение вреда другому живому существу; явно злонамеренное поведение, предполагающее действия, посредством которых агрессор намеренно причиняет ущерб своей жер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взаимодействие, в ходе которого одним человеком (агрессором) умышленно наносится вред другому (жер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от, кто умышленно наносит вред другому: насмехается, дерется, портит вещи и т. д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р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еловек, которому умышленно наносит вред агрес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ость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войство личности, выражающееся в готовности к агресси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malysh"/>
          <p:cNvPicPr/>
          <p:nvPr/>
        </p:nvPicPr>
        <p:blipFill>
          <a:blip r:embed="rId1"/>
          <a:stretch/>
        </p:blipFill>
        <p:spPr>
          <a:xfrm>
            <a:off x="7469280" y="209520"/>
            <a:ext cx="167616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 это выглядит на практ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способам выражения гнева в приемлемой фор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амешек в ботинке», «Спустить пар»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зитивные способы выражения гне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направлять гнев на объект. При этом выражается основная жалоба, без уклонений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в обращ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ление найти конструктив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360"/>
          </a:xfrm>
          <a:prstGeom prst="rect">
            <a:avLst/>
          </a:prstGeom>
          <a:noFill/>
          <a:ln w="0">
            <a:noFill/>
          </a:ln>
        </p:spPr>
        <p:txBody>
          <a:bodyPr tIns="17640" bIns="17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Саморегу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457200"/>
            <a:ext cx="85122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бучение детей приемам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Стоп», упр. «Галерея негативных портретов», «Снежная баб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тработка навыков общения в возможных конфликтных ситуация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гры «А, кроме того…», «Спустить пар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Формир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зитивных качеств лич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мпатии, доверия к людям и т.д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р. «Работа с фотографиями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зитивной самооцен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р. «Реконструкция детского образа через детские воспоминания», игры:«Копилка хороших поступков», «Тетрадь моих достижений», «Хвасталки»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труктура группов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 дискуссии и 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6"/>
          <p:cNvPicPr/>
          <p:nvPr/>
        </p:nvPicPr>
        <p:blipFill>
          <a:blip r:embed="rId1"/>
          <a:stretch/>
        </p:blipFill>
        <p:spPr>
          <a:xfrm>
            <a:off x="6172200" y="4495680"/>
            <a:ext cx="2647800" cy="21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жидаемые результат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уппов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уровня тревожности и агресс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адекватной самооце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ответственности подростков за собственные поступ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ей к самоанализу и контролю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озитивных жизненных целей и повышение мотивации к их дости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творческого потенциала подро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риска повторных право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Arial"/>
              </a:rPr>
              <a:t>Рекомендации для родителей и педагог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867040" cy="2381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покойное отношение в случае незначительной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Акцентирование внимания на поступках, а не на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нтроль над собственными негативными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нижение напряжения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бсуждение просту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охранение положительной репутаци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Демонстрация модели неагрессивного поведен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е условия – искренность взрослого, соответствие  его невербальных реакций с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частливое дет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«Дети – какой замечательный способ стать человек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Дон Херольд, писате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детки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Факторы детской агресс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ая склон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раждебность; биологическая и социальная наследствен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ерсивные случа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оль, жара, тесно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буж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ссивн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– прямое применение силы для нанесения морального и физического ущерба против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– выражена в словесной форме: угрозы, оскор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рессивная – проявляется невербальными средствами: жестами, мимикой, интонацией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– направляется непосредственно на объект, вызывающий раздражение, тревогу или возб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венная -  обращается на объекты, непосредственно не вызывающие возбуждение и раздражение, но более удобные для проявления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чины возникновения детской агресс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2987640" cy="159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Заболевание центральной нерв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Агрессивность как средство психологической защ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Агрессивность как следствие нарушения семейного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тие детей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различие со стороны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ение эмоциональных связе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мерный контроль или полное его отсут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на физическую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в праве на личную своб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Особенности проявления детской агресс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физической агрессии 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активные, целеустремлённые ребята, их отличает решительность, склонность к риску. Они обладают хорошими лидерскими качествами, умением сплотить сверстников, в то же время любят демонстрировать свою силу и власть, проявлять садистские накло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вербальной агресси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х ребят отличает психическая неуравновешенность, постоянная тревожность и неуверенность в себе. Они активны и работоспособны. Малейшие неприятности выбивают таких детей из колеи, они не скрывают свои чувства  и выражают их в агрессивных вербальны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косвенной агре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Таких детей отличает чрезмерная импульсивность, слабый самоконтроль. Они редко задумываются о причинах своих поступков, не предвидят их последствий. Эти ребята плохо переносят замечания в свой адрес, поэтому критикующие их вызывают у них чувство раздражения, обиды и подозр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негативизм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ят этой группы отличает повышенная ранимость и впечатлительность. Основные черты характера: эгоизм, самодовольство. Всё, что задевает их, вызывает чувство прот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543800" y="-152280"/>
            <a:ext cx="1438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7480" y="-52560"/>
            <a:ext cx="1444320" cy="1731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озрастные различия в проявлении детской агресс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ладший (дошкольный) 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ёнок, находясь в группе сверстников, старается стать в этой среде популярным. Коммуникативные навыки в этом возрасте не достаточно развиты, поэтому он пытается занять лидерские позиции с помощью агрессивных методов. Маленькие легко вовлекают свои конфликты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ладший  школьный 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возрасте инициаторами агрессии являются уже не отдельные личности, а группировки ребят. Дети всё чаще стараются решать проблемы в своём кругу, реже прибегают к помощ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дростковый возрас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с 13 до 16 лет некоторые учёные рассматривают как сплошной возрастной кризис. Подросток может реализовать свою агрессию двумя способами: проявлять открыто или прятать и подавлять. За помощью к взрослым обращаются очень 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азличия в проявлении агрессивности у мальчиков и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120168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11523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533520" y="35053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шеская агрессия  проявляется более открыто, грубо, она менее управляема. Обычно мальчики проявляют физическую агресси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4876920" y="349884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и рано заменяют физическую агрессию вербальной. Некоторые с раннего детства приучаются камуфлировать агрессивность иронией и сарказмом. Это выглядит мягче, зато бьёт боль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и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вним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ение боли жерт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ь за перенесенное стр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ение ущер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инирование, власть над другим челове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ие материальных бл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утверждение, повышение самооц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воображаемой или реальной угро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таивание автономии и своб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воевание авторитета в группе сверст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ление препятствий на пути к удовлетворению потре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alysh"/>
          <p:cNvPicPr/>
          <p:nvPr/>
        </p:nvPicPr>
        <p:blipFill>
          <a:blip r:embed="rId1"/>
          <a:stretch/>
        </p:blipFill>
        <p:spPr>
          <a:xfrm>
            <a:off x="7467480" y="152280"/>
            <a:ext cx="167652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rdi777</dc:creator>
  <dc:description/>
  <dc:language>en-US</dc:language>
  <cp:lastModifiedBy>Александр</cp:lastModifiedBy>
  <dcterms:modified xsi:type="dcterms:W3CDTF">2015-04-14T16:44:18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