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2.jpeg" ContentType="image/jpeg"/>
  <Override PartName="/ppt/media/image1.jpeg" ContentType="image/jpeg"/>
  <Override PartName="/ppt/media/image7.png" ContentType="image/png"/>
  <Override PartName="/ppt/media/image4.png" ContentType="image/png"/>
  <Override PartName="/ppt/media/image3.gif" ContentType="image/gif"/>
  <Override PartName="/ppt/media/image6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EAE-D2FA-4C9E-AEA5-28B1E825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995-F394-4AC0-B5F2-C71D32B7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A39-C283-421E-B134-3ED18B98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014-D6E2-45EC-AA69-DA9BEECD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E28-9640-4C0D-8E36-EDD539DF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262-7EDC-4225-AB32-0AF96A3C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6EF-2D9C-4377-80EE-6C52A6D2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1D6-E10B-45F1-A664-88894561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69B-E170-4E53-9CE4-ACAA44C0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A8C-8A9D-46EA-9D09-F6B344B0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EB3-D3F3-491C-8635-A6525D02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DF7-5FFE-470D-88F2-E2A801B7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ABF6-9CAF-4716-BB31-1985190DB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офилактика агрессивного поведения детей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агрессия"/>
          <p:cNvPicPr/>
          <p:nvPr/>
        </p:nvPicPr>
        <p:blipFill>
          <a:blip r:embed="rId1"/>
          <a:stretch/>
        </p:blipFill>
        <p:spPr>
          <a:xfrm>
            <a:off x="4343400" y="1679400"/>
            <a:ext cx="4495680" cy="29973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грессивное поведение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азделяется на 2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несоциализирова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ормы (не носят враждебного характе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социализирова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ормы (враждебность и причинение ущерба другому челове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child-fighting"/>
          <p:cNvPicPr/>
          <p:nvPr/>
        </p:nvPicPr>
        <p:blipFill>
          <a:blip r:embed="rId1"/>
          <a:stretch/>
        </p:blipFill>
        <p:spPr>
          <a:xfrm>
            <a:off x="5257800" y="411480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ети черпают знания о моделях поведения из трех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, которая может демонстрировать агрессивное поведение и обеспечивать его закре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е со сверстниками, в ходе которого узнают о преимуществах агрессивн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ические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agr_05"/>
          <p:cNvPicPr/>
          <p:nvPr/>
        </p:nvPicPr>
        <p:blipFill>
          <a:blip r:embed="rId1"/>
          <a:stretch/>
        </p:blipFill>
        <p:spPr>
          <a:xfrm>
            <a:off x="5715000" y="4229280"/>
            <a:ext cx="342900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арушения социального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елый пренатальный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ссовые 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шение необходимого (еда, одежда, забота) или привилегий (прогулка, праздники, поход  в театр и ки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лированное 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моциональный «голо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илие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Факторы воспитания и стиля общения взрослых, провоцирующие детей</a:t>
            </a:r>
            <a:br>
              <a:rPr sz="2600"/>
            </a:b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на агрессивное повед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речивость требований к ребенку со стороны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ственные негативные эмоциональные состояния взрослых и отсутствие контроля и саморегуляции с их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наказаний детей как способа разрядки взрослым собственных негативных эмо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ативный стиль общения с ребенком (использование приказов, обвинений, «Ты-сообщений», вербальные оскорбления детей, игнорирование чувств ребенка, его интересов и жел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сновные воспитательные средства родителей агрессивных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е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шение привиле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ение ограничений и отсутствие поощ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ые изоляции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нательное лишение любви и заботы в случае просту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сновные направления профилактики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агрессивного по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52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формир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что такое агрессия, каковы причины ее появления, чем она опасна для человека и окружающих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я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бу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ффективным способам общения с другими людьми, развитие коммуникативных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620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бщие 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1536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ентировать внимание на поведении, а не на личности ребенка (ты хороший и можешь быть еще лучше, а поведение ужас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рая поведение, ограничиться тем, что произошло сейчас. Обращение к негативному прошлому неэффекти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ть, а не усиливать напряжение ситуации. В реагировании на неприемлемое поведение ребенка избегать ошибок: повышать голос, оставлять последнее слово за собой, оценивать характер, физическую силу, делать обобщения: «Ты всегда так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нстрировать модели желательного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акт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емы эффективного взаимодействия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7524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владение  языком «Я - высказыв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навыков активного слуш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итивные намерения ребенка в фокусе взрос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р1"/>
          <p:cNvPicPr/>
          <p:nvPr/>
        </p:nvPicPr>
        <p:blipFill>
          <a:blip r:embed="rId1"/>
          <a:stretch/>
        </p:blipFill>
        <p:spPr>
          <a:xfrm>
            <a:off x="4762440" y="357192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75438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4 способа выражения гн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 заявить о своих чувствах, давая выход отрицательным эмоц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зить гнев в косвенной форме, вымещая на человеке или предме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ерживать гнев, загоняя его внут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ерживать негативную эмоцию до ее насту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аправления коррекционной работы с агрессивными дет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грессия является осознанным, контролируемым актом со стороны ребёнка, то для взрослого важно не поддаться на эту манипуляцию, при этом можно достаточно жёстко пресечь агрессивн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Если агрессия является выражением гнева, возможно применение разнообразных стратегий воздейств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детей контролю над своими эмоциями. Нужно учить ребёнка выплёскивать внутреннее напряжения через активные действия, занятие спортом, подвижны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у ребёнка умение снижать уровень эмоционального напряжения через физическую релаксацию (прослушивание спокойной музыки, медленные танцы, дыхательные упражнения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умению предъявлять свои чувства через их проговаривание и приглашение к сотрудниче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таких качеств, как эмпатия, доверие к люд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Агрессивное п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рессия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любая форма поведения, нацеленная  на оскорбление или причинение вреда другому живому существу; явно злонамеренное поведение, предполагающее действия, посредством которых агрессор намеренно причиняет ущерб своей жер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рессивное по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взаимодействие, в ходе которого одним человеком (агрессором) умышленно наносится вред другому (жертв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ресс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от, кто умышленно наносит вред другому: насмехается, дерется, портит вещи и т. д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р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человек, которому умышленно наносит вред агресс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рессивность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войство личности, выражающееся в готовности к агресси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malysh"/>
          <p:cNvPicPr/>
          <p:nvPr/>
        </p:nvPicPr>
        <p:blipFill>
          <a:blip r:embed="rId1"/>
          <a:stretch/>
        </p:blipFill>
        <p:spPr>
          <a:xfrm>
            <a:off x="7469280" y="209520"/>
            <a:ext cx="1676160" cy="151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ак это выглядит на практи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чение способам выражения гнева в приемлемой форм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Камешек в ботинке», «Спустить пар» и др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зитивные способы выражения гне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направлять гнев на объект. При этом выражается основная жалоба, без уклонений в стор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жливость в обращ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ление найти конструктивное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360"/>
          </a:xfrm>
          <a:prstGeom prst="rect">
            <a:avLst/>
          </a:prstGeom>
          <a:noFill/>
          <a:ln w="0">
            <a:noFill/>
          </a:ln>
        </p:spPr>
        <p:txBody>
          <a:bodyPr tIns="17640" bIns="17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Саморегуля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457200"/>
            <a:ext cx="85122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бучение детей приемам саморег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«Стоп», упр. «Галерея негативных портретов», «Снежная баба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тработка навыков общения в возможных конфликтных ситуация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гры «А, кроме того…», «Спустить пар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Формиро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зитивных качеств личност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мпатии, доверия к людям и т.д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пр. «Работа с фотографиями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зитивной самооцен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пр. «Реконструкция детского образа через детские воспоминания», игры:«Копилка хороших поступков», «Тетрадь моих достижений», «Хвасталки»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труктура групповых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овые дискуссии и ролев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6"/>
          <p:cNvPicPr/>
          <p:nvPr/>
        </p:nvPicPr>
        <p:blipFill>
          <a:blip r:embed="rId1"/>
          <a:stretch/>
        </p:blipFill>
        <p:spPr>
          <a:xfrm>
            <a:off x="6172200" y="4495680"/>
            <a:ext cx="2647800" cy="211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жидаемые результаты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руппов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уровня тревожности и агресс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адекватной самооцен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ответственности подростков за собственные поступ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ей к самоанализу и контролю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озитивных жизненных целей и повышение мотивации к их достиж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тие творческого потенциала подрост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риска повторных право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Arial"/>
              </a:rPr>
              <a:t>Рекомендации для родителей и педагогов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2867040" cy="2381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покойное отношение в случае незначительной агр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Акцентирование внимания на поступках, а не на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онтроль над собственными негативными эмо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нижение напряжения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бсуждение проступ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Сохранение положительной репутации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Демонстрация модели неагрессивного поведения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е условия – искренность взрослого, соответствие  его невербальных реакций сло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Счастливое дет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Arial"/>
              </a:rPr>
              <a:t>«Дети – какой замечательный способ стать человек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Дон Херольд, писател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детки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Факторы детской агресси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ожденная склон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раждебность; биологическая и социальная наследственность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ерсивные случа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боль, жара, теснот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бужд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овая культу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ессивные иг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груп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иды агр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ая – прямое применение силы для нанесения морального и физического ущерба против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бальная – выражена в словесной форме: угрозы, оскор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рессивная – проявляется невербальными средствами: жестами, мимикой, интонацией г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– направляется непосредственно на объект, вызывающий раздражение, тревогу или возбуж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венная -  обращается на объекты, непосредственно не вызывающие возбуждение и раздражение, но более удобные для проявления агр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ричины возникновения детской агрессив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19920" y="4267080"/>
            <a:ext cx="2987640" cy="1597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Заболевание центральной нерв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Агрессивность как средство психологической защи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Агрессивность как следствие нарушения семейного воспит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иятие детей роди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различие со стороны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ушение эмоциональных связей в сем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резмерный контроль или полное его отсутств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ыток или недостаток внимания со стороны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т на физическую актив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аз в праве на личную своб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Особенности проявления детской агресси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, склонные к проявлению физической агрессии 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активные, целеустремлённые ребята, их отличает решительность, склонность к риску. Они обладают хорошими лидерскими качествами, умением сплотить сверстников, в то же время любят демонстрировать свою силу и власть, проявлять садистские накло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, склонные к проявлению вербальной агрессии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х ребят отличает психическая неуравновешенность, постоянная тревожность и неуверенность в себе. Они активны и работоспособны. Малейшие неприятности выбивают таких детей из колеи, они не скрывают свои чувства  и выражают их в агрессивных вербальных форм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, склонные к проявлению косвенной агре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Таких детей отличает чрезмерная импульсивность, слабый самоконтроль. Они редко задумываются о причинах своих поступков, не предвидят их последствий. Эти ребята плохо переносят замечания в свой адрес, поэтому критикующие их вызывают у них чувство раздражения, обиды и подозри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, склонные к проявлению негативизм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бят этой группы отличает повышенная ранимость и впечатлительность. Основные черты характера: эгоизм, самодовольство. Всё, что задевает их, вызывает чувство проте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543800" y="-152280"/>
            <a:ext cx="14382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87480" y="-52560"/>
            <a:ext cx="1444320" cy="1731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озрастные различия в проявлении детской агрессив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Младший (дошкольный) возра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ёнок, находясь в группе сверстников, старается стать в этой среде популярным. Коммуникативные навыки в этом возрасте не достаточно развиты, поэтому он пытается занять лидерские позиции с помощью агрессивных методов. Маленькие легко вовлекают свои конфликты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Младший  школьный возра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м возрасте инициаторами агрессии являются уже не отдельные личности, а группировки ребят. Дети всё чаще стараются решать проблемы в своём кругу, реже прибегают к помощи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Подростковый возраст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од с 13 до 16 лет некоторые учёные рассматривают как сплошной возрастной кризис. Подросток может реализовать свою агрессию двумя способами: проявлять открыто или прятать и подавлять. За помощью к взрослым обращаются очень ред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азличия в проявлении агрессивности у мальчиков и дев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1201680" cy="1060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019920" y="1905120"/>
            <a:ext cx="115236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"/>
          <p:cNvSpPr/>
          <p:nvPr/>
        </p:nvSpPr>
        <p:spPr>
          <a:xfrm>
            <a:off x="533520" y="35053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ьчишеская агрессия  проявляется более открыто, грубо, она менее управляема. Обычно мальчики проявляют физическую агрессию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4876920" y="349884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очки рано заменяют физическую агрессию вербальной. Некоторые с раннего детства приучаются камуфлировать агрессивность иронией и сарказмом. Это выглядит мягче, зато бьёт боль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иболее распространенные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цели агрессивного по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вним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ение боли жерт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сть за перенесенное страд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ение ущерб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инирование, власть над другим человек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ение материальных бл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моутверждение, повышение самооце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щита от воображаемой или реальной угроз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таивание автономии и своб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воевание авторитета в группе сверст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даление препятствий на пути к удовлетворению потреб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alysh"/>
          <p:cNvPicPr/>
          <p:nvPr/>
        </p:nvPicPr>
        <p:blipFill>
          <a:blip r:embed="rId1"/>
          <a:stretch/>
        </p:blipFill>
        <p:spPr>
          <a:xfrm>
            <a:off x="7467480" y="152280"/>
            <a:ext cx="1676520" cy="151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rdi777</dc:creator>
  <dc:description/>
  <dc:language>en-US</dc:language>
  <cp:lastModifiedBy>Александр</cp:lastModifiedBy>
  <dcterms:modified xsi:type="dcterms:W3CDTF">2015-04-14T16:44:18Z</dcterms:modified>
  <cp:revision>1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