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3.jpeg" ContentType="image/jpeg"/>
  <Override PartName="/ppt/media/image20.gif" ContentType="image/gif"/>
  <Override PartName="/ppt/media/image12.jpeg" ContentType="image/jpeg"/>
  <Override PartName="/ppt/media/image19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1.jpeg" ContentType="image/jpeg"/>
  <Override PartName="/ppt/media/image3.png" ContentType="image/png"/>
  <Override PartName="/ppt/media/image6.jpeg" ContentType="image/jpeg"/>
  <Override PartName="/ppt/media/image18.png" ContentType="image/png"/>
  <Override PartName="/ppt/media/image7.jpeg" ContentType="image/jpeg"/>
  <Override PartName="/ppt/media/image11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1180-2E4E-4B9C-BBAF-518D87E2A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CB7E-3283-4329-95B7-E4B455C5D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BA20FB-937A-4B6F-ADF8-1B77765A4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3FAF57-E813-4245-9111-3B4CA5E3E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D8F783-ABD0-4BAD-B71D-71BBFB448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0E782C-B56F-4C29-82D9-FDC2294B1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F77F3F-CD88-4955-8BC6-844D3A717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536D13-CCFA-48EB-904E-EA9EE4DC5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C4B65B-E808-424A-9B6C-058F0C36F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E54513-3C53-4057-9D25-5F3FD1A4B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932543-4A4F-4960-A7CA-A684D1EF3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FBC5-8A2C-4CD1-99F7-14FC9EF6D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3C2A-96F6-4F3D-A66D-FADB1B8E3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59C50-FF06-4DD0-955E-BED77D07A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E66CF-A08C-4585-9A63-4C51EE9E1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65EB1-98C1-437C-AD6C-989AE9869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C1BF5-B9D7-4856-A54D-B2A6FD73E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5C483-B51C-4F86-8F32-593A6A814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9D8C9-A826-40EC-84AD-A4453959E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92F6A-1C00-49C0-A659-AD7FE93EA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A020-86F6-49DB-BD1C-863875CF8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B9B34-A9B5-43A7-95BE-C1A5F4E86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7EA4B-F78F-411D-B8FC-C60CCA1E9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8FA99-AA7F-4CA1-BE74-C83DE17B3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B0A25-9296-470C-B77D-732ED676B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85B03-CD26-4E12-AAEF-D3502D91E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B583AA-5FB6-4D99-ACE1-C60C8AC34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D92FE2-8777-4B43-9369-E9A4959E2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CE2A11-4AB9-4BCB-B996-C75E2F024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B35676-B0F8-4D4E-BFB0-94A60DA4C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D11538-9131-430B-B76F-697A0BF96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9DAB-6213-4594-A0A1-9913A9D6B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2E97EE-2B8C-4971-9E0B-160111E72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529150-0EB3-47A6-A3EB-E97ABABC6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81C39D-E612-407D-BB80-F74E8541F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2B3E03-CDDD-4799-B8F1-F8CC78AFB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73BFE3-1C08-44BF-B47F-164C52383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85E993-D339-4DDA-9EBD-2D2C23816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AD41CA-C149-450A-8217-64202EE9F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79A093-D749-4F3A-A85D-95994DBFF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FB84BF-1697-43F9-919C-BA4922286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BFB216-BA7D-4466-A9C1-A6C684426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93A3-3337-4A2A-BE40-0901F715C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92D442-1AE3-4B7A-9195-4C6CACABB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0A1B20-7F0F-43F1-9A85-5960588AA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CE4EFB-8423-4070-B6D1-ABB1D3325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52CD43-43D9-4152-881F-B14331AEE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8DE978-D739-4DA9-8B36-002866EF5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D3D709-6453-4128-85A8-CA815D4A8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0F0E55-1061-4405-A6A2-72F893C12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A2B6EC-8F2B-4D66-A795-DFA1EB097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324F91-DAFD-46DD-A040-73599EED8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146EF8-A4C9-47AD-8B9D-90F992A0C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7F5A-B268-494B-968D-274A90ABB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37CCC1-F7AF-46EC-AB64-C1CCDC0D9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2BB813-00E6-4001-BA61-69443AC61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3D4BA4-B4A1-452F-98DC-89EC5A836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35A334-89A9-476C-B311-132AD1C13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2379C6-7FD2-4E36-B552-64F3C6FFF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A4253D-14D0-4A16-A088-C3292D73C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EDEC3B-43B6-4537-9BC1-C192DA1F4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D0C6D1-9117-48AE-977F-5B3D2BF35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1C0747-BF10-4B6F-9470-E909F496C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F9DBFB-E7C8-491A-8249-F09DF72EE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FA32-2FE6-4898-B59D-7505CD3F7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72B169-112C-473A-BBF7-C49BBBD68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2E92B5-26EC-434A-9E13-525A73BEB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D5B573-D6C0-4A83-A7D4-5CBB54CA6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AC97F2-6709-4F30-98C6-C22FCBC05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537EE4-6EBE-45FA-A203-A27C34C29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3096EA-A29A-4ED3-AC58-5ECEFBF49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71EDCD-B288-4CF2-8C55-A1446EDAD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207EC3-512A-44AD-B885-561188416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4FA7ED-5B0B-4F0C-87D4-3C9A8C26B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BF87BF-A96D-4A6E-9355-8B93564BE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C834-4C74-4320-8BE4-AEDC5212A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656D10-DAE3-47D4-A9F2-5C5CE764A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D428B9-1A2B-48D9-9DA8-C37373343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46E300-6134-44C9-8CF2-4A9E4C5C7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E4E1FD-11F0-44C6-A3A3-3849CA196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BBBEFE-DA6D-4311-B9A3-46870B1FC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3EF5A9-288B-49DC-82FD-6FD8BB31A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D1C3A8-5B8D-4DF9-B6DA-B6720C1A3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D99D09-4F2C-453E-AB60-84EA8C717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D39FE6-EA52-4EF4-B12A-31E96F592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899A80-0068-447C-88FA-D3D152674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E449-02B6-425A-994A-953DFDFAB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BC1815-DFB9-421F-AAFE-AF8BD9C15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106F73-8156-4840-B160-936F806F8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A596B7-AEC3-4254-9D6A-D77468F27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B3B76E-AEAD-498D-8D8D-BAE24E13B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37EE1F-D5CF-4921-A541-C42953AF6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1A9712-45E7-4470-B2DB-CFEBC395D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9FC8FE-E6FD-49C4-90A2-73620CAE8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3C017B-2C78-4110-ACC0-CC6D0DE5E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AB741E-C8FC-4E87-8F07-77D3657E5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F83078-8546-4002-845E-2FFB75574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B245-C5D0-4867-8E4D-1CBBF6EAF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1E746A-E7E4-41A5-AED3-588316798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5D607B-71E4-4FB9-A84B-C9686C1D7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D189BB-B090-404E-89E1-14C37A369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0396F7-3DE7-471E-BFA6-70F156350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A99D96-E71E-444D-89F4-7881D4F2A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AA7C62-20EF-4C2C-B91E-23D933095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B649B7-200C-4426-821F-618DAEA8A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F74D58-AE8B-4EB3-8BC5-B2EB73ADD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EB9DD3-70B3-4561-8B01-79BA357A5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B9CCF4-125D-4746-816A-34195D905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DF196-78C1-4444-A9EC-B0089CFBB15F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3DA01-ECCE-44BE-9F11-FE5C4B28C2DC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DFC9D-B5C8-4560-9974-C902862921CE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8FBA9-0122-4BFF-B6A0-8FFE47BAE29C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9A513-14AF-454E-83F8-55B826DA3DA5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08C85-6868-470E-B34C-5B36A7586158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DA5F4-A7FB-414F-A3D3-71E6EC89F786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3B747-D884-4E3B-87AB-B4CA314C49E0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5EE3A-91A0-4518-8A61-C467C80900E4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Заголовок 1" descr=""/>
          <p:cNvPicPr/>
          <p:nvPr/>
        </p:nvPicPr>
        <p:blipFill>
          <a:blip r:embed="rId1"/>
          <a:stretch/>
        </p:blipFill>
        <p:spPr>
          <a:xfrm>
            <a:off x="463680" y="231840"/>
            <a:ext cx="8143920" cy="163332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/>
          </p:nvPr>
        </p:nvSpPr>
        <p:spPr>
          <a:xfrm>
            <a:off x="5724360" y="3428640"/>
            <a:ext cx="357192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втор: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ернова Анастасия Юрьевна,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7 в класс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БОУ «ЛянторскаяСОШ№5»,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учный руководитель: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рипова Алина Альбертовна,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итель истории,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БОУ «ЛянторскаяСОШ№5»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1" name="Picture 2" descr="D:\Users\user\Desktop\035-6.jpg"/>
          <p:cNvPicPr/>
          <p:nvPr/>
        </p:nvPicPr>
        <p:blipFill>
          <a:blip r:embed="rId2"/>
          <a:stretch/>
        </p:blipFill>
        <p:spPr>
          <a:xfrm>
            <a:off x="1332000" y="1773360"/>
            <a:ext cx="435600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Заголовок 1" descr=""/>
          <p:cNvPicPr/>
          <p:nvPr/>
        </p:nvPicPr>
        <p:blipFill>
          <a:blip r:embed="rId1"/>
          <a:stretch/>
        </p:blipFill>
        <p:spPr>
          <a:xfrm>
            <a:off x="463680" y="512640"/>
            <a:ext cx="8265960" cy="127332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5" descr="34259023_29465039_17286201_solnuyfko"/>
          <p:cNvPicPr/>
          <p:nvPr/>
        </p:nvPicPr>
        <p:blipFill>
          <a:blip r:embed="rId2"/>
          <a:stretch/>
        </p:blipFill>
        <p:spPr>
          <a:xfrm>
            <a:off x="3143160" y="2143080"/>
            <a:ext cx="2857680" cy="31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843280" y="115560"/>
            <a:ext cx="367344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АКТУАЛЬНОСТЬ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00720" y="765000"/>
            <a:ext cx="44640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 algn="just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обытный период в истории человечества охватывает более 2,5 млн. лет. В сравнении с существованием цивилизаций (6 тыс. лет), это наиболее значимый этап в становлении человечества, но данная тема недостаточно изучена. Основными источниками изучения первобытного общества являются археологические раскопки. К сожалению, на данный период истории они не дают полной картины развития человеческого общества. </a:t>
            </a: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4" name="Picture 2" descr="D:\Users\user\Desktop\0000000562.jpg"/>
          <p:cNvPicPr/>
          <p:nvPr/>
        </p:nvPicPr>
        <p:blipFill>
          <a:blip r:embed="rId1"/>
          <a:stretch/>
        </p:blipFill>
        <p:spPr>
          <a:xfrm>
            <a:off x="108000" y="836640"/>
            <a:ext cx="4362480" cy="3270240"/>
          </a:xfrm>
          <a:prstGeom prst="rect">
            <a:avLst/>
          </a:prstGeom>
          <a:ln w="0">
            <a:noFill/>
          </a:ln>
        </p:spPr>
      </p:pic>
      <p:sp>
        <p:nvSpPr>
          <p:cNvPr id="405" name="Прямоугольник 6"/>
          <p:cNvSpPr/>
          <p:nvPr/>
        </p:nvSpPr>
        <p:spPr>
          <a:xfrm>
            <a:off x="108000" y="5149800"/>
            <a:ext cx="9036000" cy="16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чень много возникает дискуссионных вопросов о месте появления первого человека на Земле до его расселения. Возникают споры среди ученых о влиянии первых орудий труда на изменение человеческого общества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ная работа позволит расширить представление о первобытном периоде и послужит основой для создания сравнительных таблиц по истори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/>
          </p:nvPr>
        </p:nvSpPr>
        <p:spPr>
          <a:xfrm>
            <a:off x="323640" y="404280"/>
            <a:ext cx="828036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0000"/>
                </a:solidFill>
                <a:latin typeface="Constantia"/>
              </a:rPr>
              <a:t>Гипотеза</a:t>
            </a:r>
            <a:endParaRPr b="0" lang="en-US" sz="2900" spc="-1" strike="noStrike">
              <a:solidFill>
                <a:srgbClr val="4e3b30"/>
              </a:solidFill>
              <a:latin typeface="Franklin Gothic Book"/>
            </a:endParaRPr>
          </a:p>
          <a:p>
            <a:pPr indent="0" algn="just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onstantia"/>
              </a:rPr>
              <a:t>Мы предположили, что появление новых орудий труда способствовало изменению первобытного общества. </a:t>
            </a:r>
            <a:endParaRPr b="0" lang="en-US" sz="2300" spc="-1" strike="noStrike">
              <a:solidFill>
                <a:srgbClr val="4e3b30"/>
              </a:solidFill>
              <a:latin typeface="Franklin Gothic Book"/>
            </a:endParaRPr>
          </a:p>
          <a:p>
            <a:pPr indent="0" algn="just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e3b30"/>
              </a:solidFill>
              <a:latin typeface="Franklin Gothic Book"/>
            </a:endParaRPr>
          </a:p>
          <a:p>
            <a:pPr indent="0" algn="just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e3b30"/>
              </a:solidFill>
              <a:latin typeface="Franklin Gothic Book"/>
            </a:endParaRPr>
          </a:p>
          <a:p>
            <a:pPr indent="0" algn="just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0000"/>
                </a:solidFill>
                <a:latin typeface="Constantia"/>
              </a:rPr>
              <a:t>Проблема</a:t>
            </a:r>
            <a:endParaRPr b="0" lang="en-US" sz="2900" spc="-1" strike="noStrike">
              <a:solidFill>
                <a:srgbClr val="4e3b30"/>
              </a:solidFill>
              <a:latin typeface="Franklin Gothic Book"/>
            </a:endParaRPr>
          </a:p>
          <a:p>
            <a:pPr indent="0" algn="just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onstantia"/>
              </a:rPr>
              <a:t>Достаточно сложно изучить весь первобытный период, поэтому мы в данной работе постарались составить сравнительные таблицы по периодам становления человечества, которые помогут лучше усвоить данную тему.</a:t>
            </a:r>
            <a:endParaRPr b="0" lang="en-US" sz="23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7" name="Picture 2" descr="D:\Users\user\Desktop\efaa2374e3b73d1d80ae2ae6ca4f0a0b07485b22_594.jpg"/>
          <p:cNvPicPr/>
          <p:nvPr/>
        </p:nvPicPr>
        <p:blipFill>
          <a:blip r:embed="rId1"/>
          <a:stretch/>
        </p:blipFill>
        <p:spPr>
          <a:xfrm>
            <a:off x="6767640" y="4857840"/>
            <a:ext cx="237636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/>
          </p:nvPr>
        </p:nvSpPr>
        <p:spPr>
          <a:xfrm>
            <a:off x="468000" y="188640"/>
            <a:ext cx="790092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nstantia"/>
              </a:rPr>
              <a:t>Цель работы </a:t>
            </a:r>
            <a:r>
              <a:rPr b="1" lang="ru-RU" sz="2800" spc="-1" strike="noStrike">
                <a:solidFill>
                  <a:srgbClr val="002060"/>
                </a:solidFill>
                <a:latin typeface="Constantia"/>
              </a:rPr>
              <a:t>-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проследить влияние открытий и изобретений на жизнь первобытных людей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nstantia"/>
              </a:rPr>
              <a:t>Задачи исследовательской работы: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- изучить литературу об открытиях и изобретениях первобытных людей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- выяснить какие образом изобретения повлияли на их жизнь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- представить изученный материал в сравнительных таблицах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/>
          </p:nvPr>
        </p:nvSpPr>
        <p:spPr>
          <a:xfrm>
            <a:off x="499680" y="356760"/>
            <a:ext cx="792972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Constantia"/>
              </a:rPr>
              <a:t>Объект  исследования</a:t>
            </a:r>
            <a:r>
              <a:rPr b="0" lang="ru-RU" sz="2400" spc="-1" strike="noStrike">
                <a:solidFill>
                  <a:srgbClr val="002060"/>
                </a:solidFill>
                <a:latin typeface="Constantia"/>
              </a:rPr>
              <a:t> –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ияние открытий и изобретений на жизнь первобытных людей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Constantia"/>
              </a:rPr>
              <a:t>Предмет  исследования</a:t>
            </a:r>
            <a:r>
              <a:rPr b="0" lang="ru-RU" sz="2400" spc="-1" strike="noStrike">
                <a:solidFill>
                  <a:srgbClr val="002060"/>
                </a:solidFill>
                <a:latin typeface="Constantia"/>
              </a:rPr>
              <a:t> –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рытия и изобретения первобытных людей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Constantia"/>
              </a:rPr>
              <a:t>Методы</a:t>
            </a:r>
            <a:r>
              <a:rPr b="0" lang="ru-RU" sz="2400" spc="-1" strike="noStrike">
                <a:solidFill>
                  <a:srgbClr val="00b050"/>
                </a:solidFill>
                <a:latin typeface="Constantia"/>
              </a:rPr>
              <a:t>  </a:t>
            </a:r>
            <a:r>
              <a:rPr b="1" lang="ru-RU" sz="2400" spc="-1" strike="noStrike">
                <a:solidFill>
                  <a:srgbClr val="00b050"/>
                </a:solidFill>
                <a:latin typeface="Constantia"/>
              </a:rPr>
              <a:t>исследования</a:t>
            </a:r>
            <a:r>
              <a:rPr b="0" lang="ru-RU" sz="2400" spc="-1" strike="noStrike">
                <a:solidFill>
                  <a:srgbClr val="00b050"/>
                </a:solidFill>
                <a:latin typeface="Constantia"/>
              </a:rPr>
              <a:t> :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1. Анализ литературы по данной теме;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2. Сравнение исторических источников;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3. Обобщение и выводы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"/>
          <p:cNvSpPr/>
          <p:nvPr/>
        </p:nvSpPr>
        <p:spPr>
          <a:xfrm>
            <a:off x="1476360" y="-43560"/>
            <a:ext cx="669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238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Таблица 1. Палеолит (2,5 млн. - 10 тыс. до н. э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238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611280" y="576360"/>
          <a:ext cx="8064360" cy="6165720"/>
        </p:xfrm>
        <a:graphic>
          <a:graphicData uri="http://schemas.openxmlformats.org/drawingml/2006/table">
            <a:tbl>
              <a:tblPr/>
              <a:tblGrid>
                <a:gridCol w="2430360"/>
                <a:gridCol w="5634000"/>
              </a:tblGrid>
              <a:tr h="914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32385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крытия и изобрет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32385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ист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11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32385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    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32385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било - самое первое орудие труда древнего человека, оно представляло из себя тяжелое (больше 1 кг) солидное (больше 20 см в длину) каменное оруди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9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32385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 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32385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лка - копалка и дубина - одни из первых орудий, которое использовал человек. Палка - копалка: предназначена для разрыхления почвы, копания. Дубина -  использовалась как на охоте, так и в боях с соседними племенами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32385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32385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пье - главное охотничье орудие, сделанное целиком из дерева; Гарпун (из кости) - орудие, употребляемое для охоты на водных животных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12" name="Picture 3" descr="415574_kamennoe-rubilo"/>
          <p:cNvPicPr/>
          <p:nvPr/>
        </p:nvPicPr>
        <p:blipFill>
          <a:blip r:embed="rId1"/>
          <a:stretch/>
        </p:blipFill>
        <p:spPr>
          <a:xfrm>
            <a:off x="1332000" y="1592280"/>
            <a:ext cx="1079280" cy="136188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1" descr="hello_html_4655b3ff"/>
          <p:cNvPicPr/>
          <p:nvPr/>
        </p:nvPicPr>
        <p:blipFill>
          <a:blip r:embed="rId2"/>
          <a:stretch/>
        </p:blipFill>
        <p:spPr>
          <a:xfrm>
            <a:off x="1476360" y="5373720"/>
            <a:ext cx="934920" cy="141300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2" descr="1438453553_1070346742"/>
          <p:cNvPicPr/>
          <p:nvPr/>
        </p:nvPicPr>
        <p:blipFill>
          <a:blip r:embed="rId3"/>
          <a:stretch/>
        </p:blipFill>
        <p:spPr>
          <a:xfrm>
            <a:off x="1403280" y="3213000"/>
            <a:ext cx="100800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1"/>
          <p:cNvSpPr/>
          <p:nvPr/>
        </p:nvSpPr>
        <p:spPr>
          <a:xfrm>
            <a:off x="1780920" y="189360"/>
            <a:ext cx="564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238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Таблица 2. Мезолит (10-5 тыс. лет до н.э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6" name=""/>
          <p:cNvGraphicFramePr/>
          <p:nvPr/>
        </p:nvGraphicFramePr>
        <p:xfrm>
          <a:off x="468360" y="692280"/>
          <a:ext cx="8207280" cy="6194160"/>
        </p:xfrm>
        <a:graphic>
          <a:graphicData uri="http://schemas.openxmlformats.org/drawingml/2006/table">
            <a:tbl>
              <a:tblPr/>
              <a:tblGrid>
                <a:gridCol w="2473200"/>
                <a:gridCol w="5734080"/>
              </a:tblGrid>
              <a:tr h="9396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32385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крытия и изобрет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32385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ист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9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32385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32385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пор - орудие с рабочей частью из камня, имеющее поперечную рукоятку. Сменил в верхнем (позднем) палеолите более древнее орудие рубило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4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32385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 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32385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тыга -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емлекопное орудие труда, деревянная палка с прикрепленными каменными насадками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0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32385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32385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ук и стрелы (представлял собой деревянную палку, согнутую в дугу, концы которой стягивались тетивой) - его изобретение стало важнейшим техническим достижением первобытного общества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17" name="Picture 2" descr="drevniy-chelovek-4"/>
          <p:cNvPicPr/>
          <p:nvPr/>
        </p:nvPicPr>
        <p:blipFill>
          <a:blip r:embed="rId1"/>
          <a:stretch/>
        </p:blipFill>
        <p:spPr>
          <a:xfrm>
            <a:off x="1258920" y="4923000"/>
            <a:ext cx="1209600" cy="193500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3" descr="000087-14"/>
          <p:cNvPicPr/>
          <p:nvPr/>
        </p:nvPicPr>
        <p:blipFill>
          <a:blip r:embed="rId2"/>
          <a:stretch/>
        </p:blipFill>
        <p:spPr>
          <a:xfrm>
            <a:off x="1258920" y="3141720"/>
            <a:ext cx="792000" cy="155880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4" descr="i"/>
          <p:cNvPicPr/>
          <p:nvPr/>
        </p:nvPicPr>
        <p:blipFill>
          <a:blip r:embed="rId3"/>
          <a:stretch/>
        </p:blipFill>
        <p:spPr>
          <a:xfrm>
            <a:off x="1332000" y="1628640"/>
            <a:ext cx="745920" cy="14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"/>
          <p:cNvSpPr/>
          <p:nvPr/>
        </p:nvSpPr>
        <p:spPr>
          <a:xfrm>
            <a:off x="1909800" y="-1440"/>
            <a:ext cx="532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238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Таблица 3. Неолит (5-3 тыс. лет до н.э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1" name=""/>
          <p:cNvGraphicFramePr/>
          <p:nvPr/>
        </p:nvGraphicFramePr>
        <p:xfrm>
          <a:off x="900000" y="692280"/>
          <a:ext cx="7488360" cy="5932440"/>
        </p:xfrm>
        <a:graphic>
          <a:graphicData uri="http://schemas.openxmlformats.org/drawingml/2006/table">
            <a:tbl>
              <a:tblPr/>
              <a:tblGrid>
                <a:gridCol w="2259000"/>
                <a:gridCol w="5229360"/>
              </a:tblGrid>
              <a:tr h="365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32385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удия тру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32385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исти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8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32385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32385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узила для сетей и сети - орудия труда использовали для ловли морских животных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32385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32385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92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32385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32385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емень -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ьзовали с целью добычи огня. Его свойство искрить при ударе кусочков друг о друга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32385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трые осколки кремня шли на изготовление топоров, ножей и наконечников для стре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6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32385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32385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юди научились лепить горшки из глины и обжигать их в огне очага. В глиняной посуде можно было не только хранить продукты, но и варить пищу на огне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22" name="Picture 4" descr="molokini_hawaiian_stone_sinker_relic-1024x767"/>
          <p:cNvPicPr/>
          <p:nvPr/>
        </p:nvPicPr>
        <p:blipFill>
          <a:blip r:embed="rId1"/>
          <a:stretch/>
        </p:blipFill>
        <p:spPr>
          <a:xfrm>
            <a:off x="1332000" y="1197000"/>
            <a:ext cx="1224000" cy="146700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3" descr="pic1_13062012192105"/>
          <p:cNvPicPr/>
          <p:nvPr/>
        </p:nvPicPr>
        <p:blipFill>
          <a:blip r:embed="rId2"/>
          <a:stretch/>
        </p:blipFill>
        <p:spPr>
          <a:xfrm>
            <a:off x="1332000" y="3141720"/>
            <a:ext cx="1295280" cy="147168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2" descr="drm5-032"/>
          <p:cNvPicPr/>
          <p:nvPr/>
        </p:nvPicPr>
        <p:blipFill>
          <a:blip r:embed="rId3"/>
          <a:stretch/>
        </p:blipFill>
        <p:spPr>
          <a:xfrm>
            <a:off x="1403280" y="5084640"/>
            <a:ext cx="12002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Заголовок 1" descr=""/>
          <p:cNvPicPr/>
          <p:nvPr/>
        </p:nvPicPr>
        <p:blipFill>
          <a:blip r:embed="rId1"/>
          <a:stretch/>
        </p:blipFill>
        <p:spPr>
          <a:xfrm>
            <a:off x="390600" y="-36360"/>
            <a:ext cx="8272440" cy="1206360"/>
          </a:xfrm>
          <a:prstGeom prst="rect">
            <a:avLst/>
          </a:prstGeom>
          <a:ln w="0">
            <a:noFill/>
          </a:ln>
        </p:spPr>
      </p:pic>
      <p:sp>
        <p:nvSpPr>
          <p:cNvPr id="426" name="PlaceHolder 1"/>
          <p:cNvSpPr>
            <a:spLocks noGrp="1"/>
          </p:cNvSpPr>
          <p:nvPr>
            <p:ph/>
          </p:nvPr>
        </p:nvSpPr>
        <p:spPr>
          <a:xfrm>
            <a:off x="684000" y="765000"/>
            <a:ext cx="8135640" cy="498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Наша гипотеза подтвердилась, а именно изобретение орудия труда, которые человек получил опытным путем в этот длительный период помогли древнему человеку не только в ежедневной борьбе за жизнь, но и способствовали тому, что древние люди смогли пережить ледниковый период. Люди начинают охотиться на больших животных – слонов и оленей. Учатся пользоваться огнем, который обогревает и защищает первобытных людей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Человек, который занимается изготовлением орудий труда, также выделяется и в дальнейшем этот тип перерастет в ремесленника, который будет уже создавать глиняные сосуды, керамические предметы быта, ткать льняное или шерстяное полотно, шить одежду и прочее. Родовая община сменяется на соседское первобытное общество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А когда человек узнал, что такое металл, то на этом каменный век закончился и начался следующий – «медный век» (век неолита). 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лина</dc:creator>
  <dc:description/>
  <dc:language>en-US</dc:language>
  <cp:lastModifiedBy>k302</cp:lastModifiedBy>
  <dcterms:modified xsi:type="dcterms:W3CDTF">2018-12-07T14:21:42Z</dcterms:modified>
  <cp:revision>50</cp:revision>
  <dc:subject/>
  <dc:title>Качество проточной воды города Лянтор и наше здоровье</dc:title>
</cp:coreProperties>
</file>