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0.gif" ContentType="image/gif"/>
  <Override PartName="/ppt/media/image12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DB0-672E-4710-8A3E-ABD70210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10D-01A7-4429-A8D2-4AF81AF9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E4C9D-5EB0-45E4-80D6-D7834ED9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81B71-824D-4DF2-B20A-12F491B3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05F97-CCAD-4662-9411-D35BCA66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C79BC-113E-46C7-8A06-D350FF1C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FFEFE-D104-439E-A523-222E5889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098B2-2347-471E-8687-DA2C821B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FB47E-C468-4F5E-981C-0353B56B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ADBD6-988D-424F-909C-4C6D6A99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283F4-8BA1-4187-AB91-9F184D49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B259-7E33-4631-BA85-6B4D18C2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ED7-AE1A-4C22-A2F8-8D0B0E50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F652-FF21-4984-80BF-06C2AFE9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1E38-FB28-477B-8212-56B73963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6362-4C1F-4056-8418-2DD25B87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0908-8E20-46A4-A730-DB4F1E63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388F-CF23-4698-9DAB-402295CB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5D7E-113A-4716-8E4B-5CF0FEE3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3EC3-7281-4218-B25B-35BD887F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5155-C82D-4B36-8692-A2724209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2811-D148-4ADC-945F-9D96E998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D369-1DE3-4C96-BE60-2D06D566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7D7E-EE23-4EB3-8C8D-6E2FB4ED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8FB5-3BB7-4631-AFAD-FC25736C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1342-D034-461D-91EB-B0D92E26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42342-D328-445E-BC1C-86C7A79F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BC526-BAA7-4E8E-B178-8F9721B5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F445-28BC-4E25-A8FC-C312A331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AF89A-9884-47AC-A75C-DF769092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DD5DE-E989-4E69-A956-148EF254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06F-E4C4-4C7D-90C0-4EFC2667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A41C5-B095-45F4-9AE8-789EC145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8943A-AFEA-466F-ABE1-AA3C443F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15E87-1BC6-41DC-8CF5-DF338DAA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1046-C265-467A-9333-98D1DC8B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13E74-429F-4D0F-BB56-7E91415C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F837E-37A5-4EF3-A443-28D95263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19CBE-9A4D-41E5-B47E-C7AAF3ED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B6175-9BDD-47EC-9E44-804D05D6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C9AF6-1DC4-43A5-A5EC-FACC66B6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23A34-F63C-467B-8E6C-B24C8AC5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372-B71A-4B8F-8184-449F028D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EDDFA-B583-4DA5-84B1-0FA62AF5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9794E-BE2A-4275-974B-EE458676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FE782-FF26-4DAB-96AA-24E5AFEF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3D731-CF31-4071-83C3-4298EEF7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098FB-D727-4DEF-BC68-EBBB2DEE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5C86B-7D4E-4136-ADF0-78B38FCE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FF726-44B0-4E36-97EB-3BCE4ED9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A1D42-635C-4604-AAF2-39F296C6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DA837-C2F6-46F2-9267-6BF98614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A0FC1-5DAC-49E0-9AF6-5CFCD4F1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37C-1D44-4501-9F92-1169A8FD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99514-B885-4494-BCFF-BDD387A7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6937E-07B9-485D-9F9B-C92698A7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3D21F-E10E-4612-A662-D6F90310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791CF-1F6C-47F2-AA9D-0D93D030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97A18-B88C-4C43-B4F0-01EE745C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74B1A-9332-4167-9434-28C04AF4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D1C65-2F76-411E-A1BB-8F99A9F3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4DCD8-66DB-4056-BFBB-A3860D00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D43E4-2B37-48AD-89C3-8FBD6162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E7801-EB26-4BD7-BB2D-2DD21EB4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60A-3950-47EF-B3BF-33B8FCAB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22ABC-2EB0-4897-89CA-6507DF82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9DD4A-807E-4DCD-9478-99ECCFD9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44923-6E6F-4A76-9EFA-90E02DBF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A99B8-B5AD-4AE8-BC55-55DB9EFA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0BCB3-8A17-495D-ADAE-70FD1B06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186C1-DBAF-40E7-9465-C0D00C28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12181-32DF-428C-8C63-1D7B87AA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79268-9B17-4FAB-8651-A9C6E11B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D302E-AE5F-4796-85CE-ABE3386E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9A56E-44F1-42FC-9945-B397E3B3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BD8E-8ECC-4DAE-9A5A-0C93E199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AF6D2-5340-41E5-AB37-79F9C591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8E6DA-CF0D-414C-A814-1DE3C5D6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177AD-AA5A-49CC-86CA-115234E5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49469-5216-4AE5-9898-3354F02B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721C4-5544-4F34-BE9F-4D979316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160FD-9A38-4026-B418-D5236F18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A60E7-87A1-4863-B83E-330BFAC8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1105C-A9A0-4B43-80AF-2EBA2C08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BE8D0-378F-4923-A32A-9EB72594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C1ABF-47B7-4760-B2A4-AE230A5E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4019-0881-4825-8D92-6BD1589B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02C15-8DA1-4A04-9B79-AF337D99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501FA-B0F3-4850-9E89-FAD1CD5A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87B94-296E-4709-BFB9-5CB8BDAD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2F0BA-67CA-4221-9B52-1724FE55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6CFC0-836B-454E-9866-D27D68F8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19270-49B4-454F-8297-BDC7E9F9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5E2CA-3FD0-4D65-A93E-51D6737A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DE0D5-905D-492B-B2D4-F2CBA9F4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344A6-7474-460F-858F-77446A85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C450C-D20E-4EC4-9304-BBD97687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664-0EF3-4579-9C15-1029C384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C413D-FB52-4551-AE02-3FA351DE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5DC9E-0FA1-45C9-B8AA-EF89519C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CA391-A37E-45A0-81F2-2F7DAEA7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65DB6-158C-42E9-9AEC-89D1DD11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0F881-624B-438B-9E3D-03C14E76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0DAFA-AD87-49E9-A640-77DB167B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FCEC6-B772-4EF2-BFF6-2FE96DC3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E493E-CFF5-41DC-BE76-A837C842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BD6CD-CA50-4BFE-8552-B6E826CB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AB1E8-F524-4C18-8F14-67B0B21B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5BBA-CA1D-462F-9ACA-B6D227005DD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5492-1D3D-49D8-BE52-10A90C331B9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00CD-E88A-4F76-BB32-61771AE2400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6F10-9C39-42ED-B768-8A7E296B5AF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6B0D-3BDD-47A6-8062-60419E056D8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4F41-ABB7-4A7E-8BA9-178E7C9DB98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A78F-630C-49CE-A3CA-8F751A16050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DB30-17C0-49C8-8C0D-EC5A3E47610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F9CB-DE12-4ECC-89C5-3C9D5AF29D2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63680" y="231840"/>
            <a:ext cx="8143920" cy="16333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5724360" y="3428640"/>
            <a:ext cx="35719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нова Анастасия Юрьевна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 в класс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янторскаяСОШ№5»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учный руководитель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ипова Алина Альбертовна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истории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янторскаяСОШ№5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2" descr="D:\Users\user\Desktop\035-6.jpg"/>
          <p:cNvPicPr/>
          <p:nvPr/>
        </p:nvPicPr>
        <p:blipFill>
          <a:blip r:embed="rId2"/>
          <a:stretch/>
        </p:blipFill>
        <p:spPr>
          <a:xfrm>
            <a:off x="1332000" y="1773360"/>
            <a:ext cx="435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463680" y="512640"/>
            <a:ext cx="8265960" cy="12733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34259023_29465039_17286201_solnuyfko"/>
          <p:cNvPicPr/>
          <p:nvPr/>
        </p:nvPicPr>
        <p:blipFill>
          <a:blip r:embed="rId2"/>
          <a:stretch/>
        </p:blipFill>
        <p:spPr>
          <a:xfrm>
            <a:off x="3143160" y="2143080"/>
            <a:ext cx="28576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43280" y="115560"/>
            <a:ext cx="36734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бытный период в истории человечества охватывает более 2,5 млн. лет. В сравнении с существованием цивилизаций (6 тыс. лет), это наиболее значимый этап в становлении человечества, но данная тема недостаточно изучена. Основными источниками изучения первобытного общества являются археологические раскопки. К сожалению, на данный период истории они не дают полной картины развития человеческого общества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2" descr="D:\Users\user\Desktop\0000000562.jpg"/>
          <p:cNvPicPr/>
          <p:nvPr/>
        </p:nvPicPr>
        <p:blipFill>
          <a:blip r:embed="rId1"/>
          <a:stretch/>
        </p:blipFill>
        <p:spPr>
          <a:xfrm>
            <a:off x="108000" y="836640"/>
            <a:ext cx="4362480" cy="32702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6"/>
          <p:cNvSpPr/>
          <p:nvPr/>
        </p:nvSpPr>
        <p:spPr>
          <a:xfrm>
            <a:off x="108000" y="5149800"/>
            <a:ext cx="90360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много возникает дискуссионных вопросов о месте появления первого человека на Земле до его расселения. Возникают споры среди ученых о влиянии первых орудий труда на изменение человеческого обществ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работа позволит расширить представление о первобытном периоде и послужит основой для создания сравнительных таблиц по истор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2803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onstantia"/>
              </a:rPr>
              <a:t>Гипотеза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Мы предположили, что появление новых орудий труда способствовало изменению первобытного общества. 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onstantia"/>
              </a:rPr>
              <a:t>Проблема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Достаточно сложно изучить весь первобытный период, поэтому мы в данной работе постарались составить сравнительные таблицы по периодам становления человечества, которые помогут лучше усвоить данную тему.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2" descr="D:\Users\user\Desktop\efaa2374e3b73d1d80ae2ae6ca4f0a0b07485b22_594.jpg"/>
          <p:cNvPicPr/>
          <p:nvPr/>
        </p:nvPicPr>
        <p:blipFill>
          <a:blip r:embed="rId1"/>
          <a:stretch/>
        </p:blipFill>
        <p:spPr>
          <a:xfrm>
            <a:off x="6767640" y="4857840"/>
            <a:ext cx="23763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790092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Цель работы 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следить влияние открытий и изобретений на жизнь первобытных люде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Задачи исследовательской работы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изучить литературу об открытиях и изобретениях первобытных люде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выяснить какие образом изобретения повлияли на их жизнь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представить изученный материал в сравнительных таблицах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99680" y="356760"/>
            <a:ext cx="79297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nstantia"/>
              </a:rPr>
              <a:t>Объект  исследования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 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открытий и изобретений на жизнь первобытных людей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nstantia"/>
              </a:rPr>
              <a:t>Предмет  исследования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 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ия и изобретения первобытных людей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nstantia"/>
              </a:rPr>
              <a:t>Методы</a:t>
            </a:r>
            <a:r>
              <a:rPr b="0" lang="ru-RU" sz="2400" spc="-1" strike="noStrike">
                <a:solidFill>
                  <a:srgbClr val="00b050"/>
                </a:solidFill>
                <a:latin typeface="Constantia"/>
              </a:rPr>
              <a:t>  </a:t>
            </a:r>
            <a:r>
              <a:rPr b="1" lang="ru-RU" sz="2400" spc="-1" strike="noStrike">
                <a:solidFill>
                  <a:srgbClr val="00b050"/>
                </a:solidFill>
                <a:latin typeface="Constantia"/>
              </a:rPr>
              <a:t>исследования</a:t>
            </a:r>
            <a:r>
              <a:rPr b="0" lang="ru-RU" sz="2400" spc="-1" strike="noStrike">
                <a:solidFill>
                  <a:srgbClr val="00b050"/>
                </a:solidFill>
                <a:latin typeface="Constantia"/>
              </a:rPr>
              <a:t> 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Анализ литературы по данной теме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Сравнение исторических источников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Обобщение и вывод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"/>
          <p:cNvSpPr/>
          <p:nvPr/>
        </p:nvSpPr>
        <p:spPr>
          <a:xfrm>
            <a:off x="1476360" y="-435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аблица 1. Палеолит (2,5 млн. - 10 тыс. до н. 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611280" y="576360"/>
          <a:ext cx="8064360" cy="6165720"/>
        </p:xfrm>
        <a:graphic>
          <a:graphicData uri="http://schemas.openxmlformats.org/drawingml/2006/table">
            <a:tbl>
              <a:tblPr/>
              <a:tblGrid>
                <a:gridCol w="2430360"/>
                <a:gridCol w="563400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я и изобре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ило - самое первое орудие труда древнего человека, оно представляло из себя тяжелое (больше 1 кг) солидное (больше 20 см в длину) каменное оруд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ка - копалка и дубина - одни из первых орудий, которое использовал человек. Палка - копалка: предназначена для разрыхления почвы, копания. Дубина -  использовалась как на охоте, так и в боях с соседними племена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ье - главное охотничье орудие, сделанное целиком из дерева; Гарпун (из кости) - орудие, употребляемое для охоты на водных животных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2" name="Picture 3" descr="415574_kamennoe-rubilo"/>
          <p:cNvPicPr/>
          <p:nvPr/>
        </p:nvPicPr>
        <p:blipFill>
          <a:blip r:embed="rId1"/>
          <a:stretch/>
        </p:blipFill>
        <p:spPr>
          <a:xfrm>
            <a:off x="1332000" y="1592280"/>
            <a:ext cx="1079280" cy="1361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" descr="hello_html_4655b3ff"/>
          <p:cNvPicPr/>
          <p:nvPr/>
        </p:nvPicPr>
        <p:blipFill>
          <a:blip r:embed="rId2"/>
          <a:stretch/>
        </p:blipFill>
        <p:spPr>
          <a:xfrm>
            <a:off x="1476360" y="5373720"/>
            <a:ext cx="934920" cy="1413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1438453553_1070346742"/>
          <p:cNvPicPr/>
          <p:nvPr/>
        </p:nvPicPr>
        <p:blipFill>
          <a:blip r:embed="rId3"/>
          <a:stretch/>
        </p:blipFill>
        <p:spPr>
          <a:xfrm>
            <a:off x="1403280" y="3213000"/>
            <a:ext cx="1008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1780920" y="189360"/>
            <a:ext cx="56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аблица 2. Мезолит (10-5 тыс. лет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692280"/>
          <a:ext cx="8207280" cy="6194160"/>
        </p:xfrm>
        <a:graphic>
          <a:graphicData uri="http://schemas.openxmlformats.org/drawingml/2006/table">
            <a:tbl>
              <a:tblPr/>
              <a:tblGrid>
                <a:gridCol w="2473200"/>
                <a:gridCol w="5734080"/>
              </a:tblGrid>
              <a:tr h="939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я и изобре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пор - орудие с рабочей частью из камня, имеющее поперечную рукоятку. Сменил в верхнем (позднем) палеолите более древнее орудие рубил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ыга 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копное орудие труда, деревянная палка с прикрепленными каменными насадка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к и стрелы (представлял собой деревянную палку, согнутую в дугу, концы которой стягивались тетивой) - его изобретение стало важнейшим техническим достижением первобытного обществ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7" name="Picture 2" descr="drevniy-chelovek-4"/>
          <p:cNvPicPr/>
          <p:nvPr/>
        </p:nvPicPr>
        <p:blipFill>
          <a:blip r:embed="rId1"/>
          <a:stretch/>
        </p:blipFill>
        <p:spPr>
          <a:xfrm>
            <a:off x="1258920" y="4923000"/>
            <a:ext cx="1209600" cy="1935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000087-14"/>
          <p:cNvPicPr/>
          <p:nvPr/>
        </p:nvPicPr>
        <p:blipFill>
          <a:blip r:embed="rId2"/>
          <a:stretch/>
        </p:blipFill>
        <p:spPr>
          <a:xfrm>
            <a:off x="1258920" y="3141720"/>
            <a:ext cx="792000" cy="1558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i"/>
          <p:cNvPicPr/>
          <p:nvPr/>
        </p:nvPicPr>
        <p:blipFill>
          <a:blip r:embed="rId3"/>
          <a:stretch/>
        </p:blipFill>
        <p:spPr>
          <a:xfrm>
            <a:off x="1332000" y="1628640"/>
            <a:ext cx="7459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1909800" y="-1440"/>
            <a:ext cx="53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аблица 3. Неолит (5-3 тыс. лет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00000" y="692280"/>
          <a:ext cx="7488360" cy="5932440"/>
        </p:xfrm>
        <a:graphic>
          <a:graphicData uri="http://schemas.openxmlformats.org/drawingml/2006/table">
            <a:tbl>
              <a:tblPr/>
              <a:tblGrid>
                <a:gridCol w="2259000"/>
                <a:gridCol w="52293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удия тру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зила для сетей и сети - орудия труда использовали для ловли морских животны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мень 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ли с целью добычи огня. Его свойство искрить при ударе кусочков друг о друг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осколки кремня шли на изготовление топоров, ножей и наконечников для ст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 научились лепить горшки из глины и обжигать их в огне очага. В глиняной посуде можно было не только хранить продукты, но и варить пищу на огне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2" name="Picture 4" descr="molokini_hawaiian_stone_sinker_relic-1024x767"/>
          <p:cNvPicPr/>
          <p:nvPr/>
        </p:nvPicPr>
        <p:blipFill>
          <a:blip r:embed="rId1"/>
          <a:stretch/>
        </p:blipFill>
        <p:spPr>
          <a:xfrm>
            <a:off x="1332000" y="1197000"/>
            <a:ext cx="1224000" cy="1467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pic1_13062012192105"/>
          <p:cNvPicPr/>
          <p:nvPr/>
        </p:nvPicPr>
        <p:blipFill>
          <a:blip r:embed="rId2"/>
          <a:stretch/>
        </p:blipFill>
        <p:spPr>
          <a:xfrm>
            <a:off x="1332000" y="3141720"/>
            <a:ext cx="1295280" cy="14716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drm5-032"/>
          <p:cNvPicPr/>
          <p:nvPr/>
        </p:nvPicPr>
        <p:blipFill>
          <a:blip r:embed="rId3"/>
          <a:stretch/>
        </p:blipFill>
        <p:spPr>
          <a:xfrm>
            <a:off x="1403280" y="5084640"/>
            <a:ext cx="1200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390600" y="-36360"/>
            <a:ext cx="8272440" cy="12063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13564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ша гипотеза подтвердилась, а именно изобретение орудия труда, которые человек получил опытным путем в этот длительный период помогли древнему человеку не только в ежедневной борьбе за жизнь, но и способствовали тому, что древние люди смогли пережить ледниковый период. Люди начинают охотиться на больших животных – слонов и оленей. Учатся пользоваться огнем, который обогревает и защищает первобытных люд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ловек, который занимается изготовлением орудий труда, также выделяется и в дальнейшем этот тип перерастет в ремесленника, который будет уже создавать глиняные сосуды, керамические предметы быта, ткать льняное или шерстяное полотно, шить одежду и прочее. Родовая община сменяется на соседское первобытное обществ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 когда человек узнал, что такое металл, то на этом каменный век закончился и начался следующий – «медный век» (век неолита).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ина</dc:creator>
  <dc:description/>
  <dc:language>en-US</dc:language>
  <cp:lastModifiedBy>k302</cp:lastModifiedBy>
  <dcterms:modified xsi:type="dcterms:W3CDTF">2018-12-07T14:21:42Z</dcterms:modified>
  <cp:revision>50</cp:revision>
  <dc:subject/>
  <dc:title>Качество проточной воды города Лянтор и наше здоровье</dc:title>
</cp:coreProperties>
</file>