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5D7-535E-425A-9AEE-8F718239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5D5-C028-465E-88C3-7C9E9FF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E56-1D8B-482C-87EE-99F2E13F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010-6571-4EBB-ADD7-05655504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99A-262A-44B9-917D-045E1BF3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6F8-49C5-4D0F-B9AD-8EA4272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B61-7BC5-429B-9F5F-410B8398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D5D-02F8-46FF-AB65-FBF9AEE3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408-B6A2-41FD-850B-74D8D0B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2CB-EE85-45AA-A445-96A4A4D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E47-101E-49C2-AFC2-D999F036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FE7-6F2E-4B0B-9DC8-0AFE5EE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14BD-9612-4502-8D23-C0F95ACF2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8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7900"/>
                </a:solidFill>
                <a:latin typeface="Monotype Corsiva"/>
              </a:rPr>
              <a:t>Самым дорогим посвящается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03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Мамочка, милая, нежная, славная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Добрая, умная и лучезарная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В ладонях я счастье тебе подарю.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Спасибо за все я тебе говорю.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Живи, улыбайся невзгодам-годам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Заботы разделим с тобой пополам.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Забудь о болезнях, о тревогах забудь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Любовью осветим твой жизненный пут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5256360" cy="52563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50920" y="5805360"/>
            <a:ext cx="872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Рафаэль Санти. «Сикстинская мадонна. Мария и Христос». 1512-15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Мама – по-русски</a:t>
            </a:r>
            <a:br>
              <a:rPr sz="4400"/>
            </a:br>
            <a:r>
              <a:rPr b="1" i="1" lang="tt-RU" sz="4400" spc="-1" strike="noStrike">
                <a:solidFill>
                  <a:srgbClr val="a50021"/>
                </a:solidFill>
                <a:latin typeface="Verdana"/>
              </a:rPr>
              <a:t>Әни – </a:t>
            </a: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по-татарски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Анай – по-удмуртски 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mother – по-английски 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Mutter – по-немец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70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35280" y="274320"/>
            <a:ext cx="3251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Б.Кустодиев«Сирень». Фрагмент. 19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632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Б.Урманче. «Сара-ханум с Ильдаром».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1565" t="15346" r="40548" b="21669"/>
          <a:stretch/>
        </p:blipFill>
        <p:spPr>
          <a:xfrm>
            <a:off x="1403280" y="404640"/>
            <a:ext cx="6480360" cy="5288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11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51640" y="1989000"/>
            <a:ext cx="31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орреджо. «Поклонение младенцу Христу». Ок.15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6119640" cy="50151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330920" y="5589720"/>
            <a:ext cx="61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Б.Кустодиева. «Утро». 19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13368" b="0"/>
          <a:stretch/>
        </p:blipFill>
        <p:spPr>
          <a:xfrm>
            <a:off x="0" y="0"/>
            <a:ext cx="5456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1989000"/>
            <a:ext cx="30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Афэуорк Тэкле. «Мать Эфиопия». 19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5:21:42Z</dcterms:created>
  <dc:creator>Алия</dc:creator>
  <dc:description/>
  <dc:language>en-US</dc:language>
  <cp:lastModifiedBy>Алия</cp:lastModifiedBy>
  <dcterms:modified xsi:type="dcterms:W3CDTF">2008-11-29T10:17:57Z</dcterms:modified>
  <cp:revision>6</cp:revision>
  <dc:subject/>
  <dc:title>Самым дорогим посвящается…</dc:title>
</cp:coreProperties>
</file>