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AF3-11E1-4CD3-8C5E-41C566DE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5EA-49BF-4930-B98A-0F47EFBA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AAF-E5C3-4677-A369-C1EE5D64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A9B-371F-4660-A677-DFB416CD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4E8-2E22-4F88-B953-123136D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8E1-065C-44AB-B854-9BFF309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7B2-707B-4AED-910E-7A54452D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E03-B98D-4F5D-B386-7917EC2C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1C1-2D9E-4452-9D3D-9DA45D7C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0D1-16D1-416F-9D1D-885488C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51F-555D-473B-8878-8778FC4C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F9D-8F83-4286-9067-EF5855F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90DC-2B06-46F5-A1BC-7F1E0EA98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820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cc7900"/>
                </a:solidFill>
                <a:latin typeface="Monotype Corsiva"/>
              </a:rPr>
              <a:t>Самым дорогим посвящается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033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Мамочка, милая, нежная, славная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Добрая, умная и лучезарная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В ладонях я счастье тебе подарю.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Спасибо за все я тебе говорю.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Живи, улыбайся невзгодам-годам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Заботы разделим с тобой пополам.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Забудь о болезнях, о тревогах забудь,</a:t>
            </a:r>
            <a:br>
              <a:rPr sz="3200"/>
            </a:b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Любовью осветим твой жизненный пут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5256360" cy="525636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50920" y="5805360"/>
            <a:ext cx="872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Рафаэль Санти. «Сикстинская мадонна. Мария и Христос». 1512-15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Мама – по-русски</a:t>
            </a:r>
            <a:br>
              <a:rPr sz="4400"/>
            </a:br>
            <a:r>
              <a:rPr b="1" i="1" lang="tt-RU" sz="4400" spc="-1" strike="noStrike">
                <a:solidFill>
                  <a:srgbClr val="a50021"/>
                </a:solidFill>
                <a:latin typeface="Verdana"/>
              </a:rPr>
              <a:t>Әни – </a:t>
            </a: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по-татарски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Анай – по-удмуртски 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mother – по-английски 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Verdana"/>
              </a:rPr>
              <a:t>Mutter – по-немец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70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35280" y="274320"/>
            <a:ext cx="3251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Arial"/>
              </a:rPr>
              <a:t>Б.Кустодиев«Сирень». Фрагмент. 19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632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Б.Урманче. «Сара-ханум с Ильдаром».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1565" t="15346" r="40548" b="21669"/>
          <a:stretch/>
        </p:blipFill>
        <p:spPr>
          <a:xfrm>
            <a:off x="1403280" y="404640"/>
            <a:ext cx="6480360" cy="5288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11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51640" y="1989000"/>
            <a:ext cx="313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орреджо. «Поклонение младенцу Христу». Ок.15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6119640" cy="50151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330920" y="5589720"/>
            <a:ext cx="61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Б.Кустодиева. «Утро». 19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13368" b="0"/>
          <a:stretch/>
        </p:blipFill>
        <p:spPr>
          <a:xfrm>
            <a:off x="0" y="0"/>
            <a:ext cx="54561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1989000"/>
            <a:ext cx="30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Афэуорк Тэкле. «Мать Эфиопия». 19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5:21:42Z</dcterms:created>
  <dc:creator>Алия</dc:creator>
  <dc:description/>
  <dc:language>en-US</dc:language>
  <cp:lastModifiedBy>Алия</cp:lastModifiedBy>
  <dcterms:modified xsi:type="dcterms:W3CDTF">2008-11-29T10:17:57Z</dcterms:modified>
  <cp:revision>6</cp:revision>
  <dc:subject/>
  <dc:title>Самым дорогим посвящается…</dc:title>
</cp:coreProperties>
</file>