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74B-62EF-432C-A998-B71CA8AB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29A-1A5C-490B-B333-908A13E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DF6-A929-4CC6-9F96-2C9C232B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2D7-ECD1-40D7-A54E-52AC1AB9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073-ECAD-4D6A-8C52-E9915E7D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E80-E270-4B6D-B560-4E234D23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3C3-6239-4A6A-9301-47C7AFF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ED3-FD19-4F28-B45E-492A9F7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8BE-99E8-41B0-B478-E27F296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68F-565E-4DF7-94FA-C50A6AD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4C9-5C56-42C4-BED6-F2D07D6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4EE-39DD-4A6F-BA2B-2DDC8F4B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F623-2782-408F-AD12-106D654B0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3995640" y="1197000"/>
            <a:ext cx="5426280" cy="2531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ИХАИЛ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(1711 – 17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MCj02900630000[1]"/>
          <p:cNvPicPr/>
          <p:nvPr/>
        </p:nvPicPr>
        <p:blipFill>
          <a:blip r:embed="rId2"/>
          <a:stretch/>
        </p:blipFill>
        <p:spPr>
          <a:xfrm>
            <a:off x="5715000" y="4076640"/>
            <a:ext cx="196992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Рисунок3"/>
          <p:cNvPicPr/>
          <p:nvPr/>
        </p:nvPicPr>
        <p:blipFill>
          <a:blip r:embed="rId3"/>
          <a:stretch/>
        </p:blipFill>
        <p:spPr>
          <a:xfrm>
            <a:off x="277920" y="763560"/>
            <a:ext cx="444492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84360" y="5445000"/>
            <a:ext cx="801360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55 по инициативе Ломоносова и по его проекту был основан Московский университет, «открытый для всех лиц, способных к наукам», а не только для двор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89800" y="260280"/>
            <a:ext cx="70462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СКОВСКИЙ УНИВЕРС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6264360" cy="432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rcRect l="0" t="0" r="13860" b="0"/>
          <a:stretch/>
        </p:blipFill>
        <p:spPr>
          <a:xfrm>
            <a:off x="468360" y="1052640"/>
            <a:ext cx="177804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68360" y="515880"/>
            <a:ext cx="396072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4788000" y="2133720"/>
            <a:ext cx="4103640" cy="1181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р Ломоносов в Петербурге 4 апреля 17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9640" y="5589720"/>
            <a:ext cx="3889440" cy="10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ила Ломоносова в Александро-Невской лав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ломоносов"/>
          <p:cNvPicPr/>
          <p:nvPr/>
        </p:nvPicPr>
        <p:blipFill>
          <a:blip r:embed="rId2"/>
          <a:stretch/>
        </p:blipFill>
        <p:spPr>
          <a:xfrm>
            <a:off x="4859280" y="765000"/>
            <a:ext cx="403236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250920" y="260280"/>
            <a:ext cx="4427280" cy="6337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Истори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ритор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еханик, художник и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тихотворец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н всё испыта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и всё прошёл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78520" y="260280"/>
            <a:ext cx="2296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lide0003_image008"/>
          <p:cNvPicPr/>
          <p:nvPr/>
        </p:nvPicPr>
        <p:blipFill>
          <a:blip r:embed="rId2"/>
          <a:stretch/>
        </p:blipFill>
        <p:spPr>
          <a:xfrm>
            <a:off x="1403280" y="981000"/>
            <a:ext cx="6407280" cy="4125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11280" y="5229360"/>
            <a:ext cx="8064360" cy="1373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лся 21 ноября 1711 года в Архангельской губернии в д. Денисовка близ Холмогор в семье крестья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929040" y="341280"/>
            <a:ext cx="4897440" cy="6129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моте Михаила обучил дьячок местной церкви. Страсть к знаниям, тяжёлая обстановка в семье заставили Ломоносова принять решение - оставить родной дом и отправиться в Моск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в москву"/>
          <p:cNvPicPr/>
          <p:nvPr/>
        </p:nvPicPr>
        <p:blipFill>
          <a:blip r:embed="rId2"/>
          <a:srcRect l="2953" t="2362" r="2953" b="2362"/>
          <a:stretch/>
        </p:blipFill>
        <p:spPr>
          <a:xfrm>
            <a:off x="108000" y="2060640"/>
            <a:ext cx="350532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772000" y="189000"/>
            <a:ext cx="335664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ДЫ УЧЁ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5280" y="3141720"/>
            <a:ext cx="4824360" cy="3506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730 году поступил в Славяно-греко-латинскую академию в Москве, где он не только приобрёл вкус к научным занятиям, но изучил латинский язык, ознакомился с науками и учебными дисципли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исунок1"/>
          <p:cNvPicPr/>
          <p:nvPr/>
        </p:nvPicPr>
        <p:blipFill>
          <a:blip r:embed="rId2"/>
          <a:stretch/>
        </p:blipFill>
        <p:spPr>
          <a:xfrm>
            <a:off x="5580000" y="981000"/>
            <a:ext cx="3246480" cy="558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ломоносов"/>
          <p:cNvPicPr/>
          <p:nvPr/>
        </p:nvPicPr>
        <p:blipFill>
          <a:blip r:embed="rId3"/>
          <a:stretch/>
        </p:blipFill>
        <p:spPr>
          <a:xfrm>
            <a:off x="395280" y="333360"/>
            <a:ext cx="21906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95280" y="260280"/>
            <a:ext cx="8497800" cy="2653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ачале 1736 как один из лучших студентов Ломоносов был направлен в университет при Петербургской академии наук. Несмотря на тяжёлые условия жизни, любознательный юноша с первых дней прибытия в Академию проявил огромный интерес к нау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187280" y="3033720"/>
            <a:ext cx="6193080" cy="3728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012000" y="1263600"/>
            <a:ext cx="2952720" cy="448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осенью 1736 г. трое лучших студентов, в том числе Ломоносов, были отправлены Академией Наук в Германию, для обучения математике, физике, химии философии и металлург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6720" y="189000"/>
            <a:ext cx="23356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А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5"/>
          <p:cNvPicPr/>
          <p:nvPr/>
        </p:nvPicPr>
        <p:blipFill>
          <a:blip r:embed="rId2"/>
          <a:stretch/>
        </p:blipFill>
        <p:spPr>
          <a:xfrm>
            <a:off x="2843280" y="2421000"/>
            <a:ext cx="2957400" cy="427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slide0012_image024"/>
          <p:cNvPicPr/>
          <p:nvPr/>
        </p:nvPicPr>
        <p:blipFill>
          <a:blip r:embed="rId3"/>
          <a:stretch/>
        </p:blipFill>
        <p:spPr>
          <a:xfrm>
            <a:off x="468360" y="333360"/>
            <a:ext cx="251928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327960" y="4797360"/>
            <a:ext cx="235836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ент немец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24000" y="1197000"/>
            <a:ext cx="8602560" cy="1557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41 г. Ломоносов вернулся в Россию. Научные интересы Ломоносова были поистине всеохватывающими. Ему принадлежат работы в области физики, химии, астрономии, географии, фил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565440" y="260280"/>
            <a:ext cx="177336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lomonosov"/>
          <p:cNvPicPr/>
          <p:nvPr/>
        </p:nvPicPr>
        <p:blipFill>
          <a:blip r:embed="rId2"/>
          <a:stretch/>
        </p:blipFill>
        <p:spPr>
          <a:xfrm rot="21192000">
            <a:off x="755280" y="3068640"/>
            <a:ext cx="24922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9" descr="Рисунок6"/>
          <p:cNvPicPr/>
          <p:nvPr/>
        </p:nvPicPr>
        <p:blipFill>
          <a:blip r:embed="rId3"/>
          <a:srcRect l="2377" t="2535" r="2377" b="0"/>
          <a:stretch/>
        </p:blipFill>
        <p:spPr>
          <a:xfrm>
            <a:off x="4456080" y="2936880"/>
            <a:ext cx="3976560" cy="3232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862880" y="6237360"/>
            <a:ext cx="33264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плом профессора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6160" y="260280"/>
            <a:ext cx="56959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ЗАИЧНЫЕ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ломоносов и екатерина"/>
          <p:cNvPicPr/>
          <p:nvPr/>
        </p:nvPicPr>
        <p:blipFill>
          <a:blip r:embed="rId2"/>
          <a:stretch/>
        </p:blipFill>
        <p:spPr>
          <a:xfrm>
            <a:off x="1042920" y="1125360"/>
            <a:ext cx="7129440" cy="4824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3400" y="6165720"/>
            <a:ext cx="77259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В.Ломоносов показывает свои работы импер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54:22Z</dcterms:created>
  <dc:creator>Qweds</dc:creator>
  <dc:description/>
  <dc:language>en-US</dc:language>
  <cp:lastModifiedBy>Ангелина</cp:lastModifiedBy>
  <dcterms:modified xsi:type="dcterms:W3CDTF">2022-10-30T12:07:07Z</dcterms:modified>
  <cp:revision>15</cp:revision>
  <dc:subject/>
  <dc:title>МИХАИЛ ВАСИЛЬЕВИЧ ЛОМОНСОВ</dc:title>
</cp:coreProperties>
</file>