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62A-219D-48CD-89FD-B0FEFCDB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E62-1873-43A4-BB8B-1A907C8A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54D-C907-4790-9C47-35BF5162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422-D610-4868-8EED-9FE7A745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F47-7EC7-44F2-942B-E70A97EB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F11-C73E-4C53-AF6A-C524886D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D10-D580-4A5D-8E7D-622098B9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BE1-7116-4A8B-AF15-95A0CCF0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279-11C6-4A9B-BF1B-40A0A18C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557-4DCC-493B-A62D-3E265A47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60E-5722-4FEE-8C66-293DF1F7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4FA-8FA7-4154-BEE6-F47109E8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2030-F993-4976-A116-0BCD28E8FD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iava.ru/forum/album_pic.php?pic_id=18563"/>
          <p:cNvPicPr/>
          <p:nvPr/>
        </p:nvPicPr>
        <p:blipFill>
          <a:blip r:embed="rId1"/>
          <a:srcRect l="2985" t="4923" r="3010" b="5434"/>
          <a:stretch/>
        </p:blipFill>
        <p:spPr>
          <a:xfrm>
            <a:off x="-209520" y="0"/>
            <a:ext cx="9496440" cy="68580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469800" y="1700280"/>
            <a:ext cx="8259840" cy="1731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357280" y="4714920"/>
            <a:ext cx="450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Методическая разработ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учителя начальных классов Лицея №1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Калининск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г. Санкт – Петербур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Сырицо Т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6" descr="лебедь.gif"/>
          <p:cNvPicPr/>
          <p:nvPr/>
        </p:nvPicPr>
        <p:blipFill>
          <a:blip r:embed="rId3"/>
          <a:stretch/>
        </p:blipFill>
        <p:spPr>
          <a:xfrm>
            <a:off x="9144000" y="400068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лебедь.gif"/>
          <p:cNvPicPr/>
          <p:nvPr/>
        </p:nvPicPr>
        <p:blipFill>
          <a:blip r:embed="rId4"/>
          <a:stretch/>
        </p:blipFill>
        <p:spPr>
          <a:xfrm>
            <a:off x="9144000" y="4786200"/>
            <a:ext cx="1428840" cy="1209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лебедь.gif"/>
          <p:cNvPicPr/>
          <p:nvPr/>
        </p:nvPicPr>
        <p:blipFill>
          <a:blip r:embed="rId5"/>
          <a:stretch/>
        </p:blipFill>
        <p:spPr>
          <a:xfrm>
            <a:off x="9144000" y="3429000"/>
            <a:ext cx="14288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44509E-006 C -0.08577 -0.02497 -0.17136 -0.04971 -0.21823 -0.07907 C -0.26546 -0.10844 -0.26841 -0.13711 -0.28282 -0.17618 C -0.2974 -0.21526 -0.28386 -0.27514 -0.30556 -0.31376 C -0.32744 -0.35237 -0.37014 -0.38451 -0.41372 -0.40855 C -0.45747 -0.4326 -0.5106 -0.45179 -0.56737 -0.45826 C -0.62431 -0.46474 -0.68698 -0.46196 -0.75452 -0.44693 C -0.82188 -0.43191 -0.91685 -0.39329 -0.97275 -0.36809 C -1.02848 -0.34289 -1.05382 -0.30289 -1.08889 -0.29572 C -1.12431 -0.28855 -1.15435 -0.30682 -1.18455 -0.32509 E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31214E-006 C -0.05521 -0.00416 -0.11042 -0.00809 -0.14462 -0.0363 C -0.17865 -0.06451 -0.19653 -0.12046 -0.20521 -0.16925 C -0.21372 -0.21803 -0.21094 -0.26728 -0.19619 -0.32878 C -0.18143 -0.39052 -0.11563 -0.47977 -0.11598 -0.53896 C -0.1165 -0.59815 -0.15764 -0.65271 -0.1981 -0.68439 C -0.23837 -0.71537 -0.30365 -0.71237 -0.35851 -0.72763 C -0.41355 -0.74289 -0.47622 -0.76092 -0.52796 -0.77618 C -0.57952 -0.79052 -0.64115 -0.80231 -0.66875 -0.81665 C -0.69619 -0.83144 -0.68959 -0.8548 -0.69375 -0.86266 E">
                                      <p:cBhvr>
                                        <p:cTn id="9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7341E-007 C -0.03282 0.00092 -0.06528 0.00185 -0.0915 1.7341E-007 C -0.11771 -0.00185 -0.11563 -0.01503 -0.15747 -0.01133 C -0.19948 -0.00763 -0.28403 0.00301 -0.34375 0.02266 C -0.40365 0.04231 -0.45643 0.09156 -0.5165 0.10613 C -0.57691 0.12069 -0.64462 0.12647 -0.70487 0.11075 C -0.76528 0.09503 -0.83421 0.04509 -0.87952 0.01133 C -0.92483 -0.02243 -0.94827 -0.08578 -0.97691 -0.09249 C -1.00521 -0.09919 -1.03316 -0.05688 -1.05035 -0.02936 C -1.06754 -0.00185 -1.06112 0.05064 -1.07952 0.07237 C -1.09792 0.0941 -1.14723 0.09688 -1.16094 0.10173 E">
                                      <p:cBhvr>
                                        <p:cTn id="12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1560600" y="426960"/>
            <a:ext cx="3584520" cy="181620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лебедь.jpg"/>
          <p:cNvPicPr/>
          <p:nvPr/>
        </p:nvPicPr>
        <p:blipFill>
          <a:blip r:embed="rId2"/>
          <a:stretch/>
        </p:blipFill>
        <p:spPr>
          <a:xfrm>
            <a:off x="414360" y="2176560"/>
            <a:ext cx="5084640" cy="387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785920" y="1213920"/>
            <a:ext cx="3008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Comic Sans MS"/>
              </a:rPr>
              <a:t>Повелось так с самой древности: 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Comic Sans MS"/>
              </a:rPr>
              <a:t>Эти птицы – символ верности. 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Comic Sans MS"/>
              </a:rPr>
              <a:t>В отраженье своё глядя, 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Comic Sans MS"/>
              </a:rPr>
              <a:t>Вот скользят по водной глади, 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Comic Sans MS"/>
              </a:rPr>
              <a:t>Восхищая всех людей, 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Comic Sans MS"/>
              </a:rPr>
              <a:t>Двое белых …  </a:t>
            </a:r>
            <a:br>
              <a:rPr sz="7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5284800" y="5430960"/>
            <a:ext cx="2176560" cy="99360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6" descr="дятел.jpg"/>
          <p:cNvPicPr/>
          <p:nvPr/>
        </p:nvPicPr>
        <p:blipFill>
          <a:blip r:embed="rId2"/>
          <a:stretch/>
        </p:blipFill>
        <p:spPr>
          <a:xfrm>
            <a:off x="4389480" y="390600"/>
            <a:ext cx="3743280" cy="5218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85880" y="1000080"/>
            <a:ext cx="3008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omic Sans MS"/>
              </a:rPr>
              <a:t>Хоть я не молоток -</a:t>
            </a:r>
            <a:br>
              <a:rPr sz="2800"/>
            </a:br>
            <a:r>
              <a:rPr b="0" lang="ru-RU" sz="2800" spc="-1" strike="noStrike">
                <a:solidFill>
                  <a:srgbClr val="4f6228"/>
                </a:solidFill>
                <a:latin typeface="Comic Sans MS"/>
              </a:rPr>
              <a:t>По дереву стучу:</a:t>
            </a:r>
            <a:br>
              <a:rPr sz="2800"/>
            </a:br>
            <a:r>
              <a:rPr b="0" lang="ru-RU" sz="2800" spc="-1" strike="noStrike">
                <a:solidFill>
                  <a:srgbClr val="4f6228"/>
                </a:solidFill>
                <a:latin typeface="Comic Sans MS"/>
              </a:rPr>
              <a:t>В нем каждый уголок</a:t>
            </a:r>
            <a:br>
              <a:rPr sz="2800"/>
            </a:br>
            <a:r>
              <a:rPr b="0" lang="ru-RU" sz="2800" spc="-1" strike="noStrike">
                <a:solidFill>
                  <a:srgbClr val="4f6228"/>
                </a:solidFill>
                <a:latin typeface="Comic Sans MS"/>
              </a:rPr>
              <a:t>Обследовать хочу.</a:t>
            </a:r>
            <a:br>
              <a:rPr sz="2800"/>
            </a:br>
            <a:r>
              <a:rPr b="0" lang="ru-RU" sz="2800" spc="-1" strike="noStrike">
                <a:solidFill>
                  <a:srgbClr val="4f6228"/>
                </a:solidFill>
                <a:latin typeface="Comic Sans MS"/>
              </a:rPr>
              <a:t>Хожу я в шапке красной</a:t>
            </a:r>
            <a:br>
              <a:rPr sz="2800"/>
            </a:br>
            <a:r>
              <a:rPr b="0" lang="ru-RU" sz="2800" spc="-1" strike="noStrike">
                <a:solidFill>
                  <a:srgbClr val="4f6228"/>
                </a:solidFill>
                <a:latin typeface="Comic Sans MS"/>
              </a:rPr>
              <a:t>И акробат прекрасный</a:t>
            </a:r>
            <a:r>
              <a:rPr b="0" lang="ru-RU" sz="500" spc="-1" strike="noStrike">
                <a:solidFill>
                  <a:srgbClr val="4f6228"/>
                </a:solidFill>
                <a:latin typeface="Comic Sans MS"/>
              </a:rPr>
              <a:t>..</a:t>
            </a: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2" descr=""/>
          <p:cNvPicPr/>
          <p:nvPr/>
        </p:nvPicPr>
        <p:blipFill>
          <a:blip r:embed="rId1"/>
          <a:stretch/>
        </p:blipFill>
        <p:spPr>
          <a:xfrm>
            <a:off x="500040" y="1122480"/>
            <a:ext cx="8358120" cy="12492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857160" y="2857680"/>
            <a:ext cx="73580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mic Sans MS"/>
                <a:ea typeface="Arial"/>
              </a:rPr>
              <a:t>сорока                   лебедь          соло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mic Sans MS"/>
                <a:ea typeface="Arial"/>
              </a:rPr>
              <a:t>воробей              во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7072200" y="5000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mic Sans MS"/>
                <a:ea typeface="Arial"/>
              </a:rPr>
              <a:t>с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928800" y="4929120"/>
            <a:ext cx="18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mic Sans MS"/>
                <a:ea typeface="Arial"/>
              </a:rPr>
              <a:t>лис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3429000" y="500076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mic Sans MS"/>
                <a:ea typeface="Arial"/>
              </a:rPr>
              <a:t>орёл         дя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6929280" y="3857760"/>
            <a:ext cx="16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mic Sans MS"/>
                <a:ea typeface="Arial"/>
              </a:rPr>
              <a:t>мура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4:13:05Z</dcterms:created>
  <dc:creator>аа</dc:creator>
  <dc:description/>
  <dc:language>en-US</dc:language>
  <cp:lastModifiedBy>Taniana</cp:lastModifiedBy>
  <dcterms:modified xsi:type="dcterms:W3CDTF">2017-12-10T00:36:34Z</dcterms:modified>
  <cp:revision>147</cp:revision>
  <dc:subject/>
  <dc:title>Слайд 1</dc:title>
</cp:coreProperties>
</file>