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B48-9F92-4714-9EBE-1CE291F3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541-F017-4B51-9F48-40D84BD2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BD0-0ECC-4223-9A4C-DD92B884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241-5762-47C9-A83D-6C9C9A17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E562-9E5F-4649-A4E9-8A4522BE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0D07-0725-4B03-8611-CDA34B4E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F404-CE3A-42A3-B2E2-95166323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A2FC-4A05-46A7-A942-0904672A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EA95-AF4E-43B6-913F-78CB35A9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A86-BC80-421A-B000-36B1531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732B-AFF7-4359-BFBD-95EFD17E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674-65C4-4444-92F9-8ECC350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22C7-326F-4F2B-947D-56779CE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B31-A0FD-4374-93DC-CEE761A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047-21AC-436C-ADD7-1795E01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8CDE-04DB-473D-8FE1-C9F5542A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9B67-8E05-4EA1-8E0E-B3E15F95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FA6-17FF-4F5C-83E7-D92DE4D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7CB-E9EA-4C27-803E-B17F374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97A-1F76-4EA7-9CA7-489133C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C14-F5C2-49EF-A39C-52F250B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1AA-9CCE-4B95-A9B9-87D73FF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E87-4CD5-4DA3-B35E-DA87B878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B75-5D20-404F-BDD3-F9107749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2599-63F1-425E-B7CA-F4A7516B260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C204-906D-40BC-B19E-034BB9FA116B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2781360"/>
            <a:ext cx="57596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Проект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«Моя мама»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619280" y="115920"/>
            <a:ext cx="59770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– детский сад «Аленушка» с. Повалиха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651640" y="1413000"/>
            <a:ext cx="27367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воспитатель: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ДОУ – д/с «Аленушка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  Атякшева Т.А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012000" y="5157720"/>
            <a:ext cx="2376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лова О.П.                                                                                    Головченко Е.Б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ЗАКЛЮЧИТЕЛЬНЫ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ведение утренника как результат работы над проекто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общение положительного опы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тоотчет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539640" y="333360"/>
            <a:ext cx="727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доминирующему методу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характеру содержания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ключает ребёнка и его семь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характеру участия ребёнка в проекте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сполнитель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характеру контактов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нутри ДОУ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количеству участников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фронтальны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продолжительности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раткосрочн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Задачи: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19280" y="1844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бразовательные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формирование адекватных форм поведения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нкретизация и углубления знаний о значении семьи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учение умению выражать чувства по отношению к родному человеку, используя вербальную форму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мышления, памяти и реч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оспитательные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огащение эмоциональной сферы ребёнка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оспитание открытого проявления социальных эмоций и чувств различными социально приемлемыми способами ( словесным, творческим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оспитание любви к матер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ЛАНИРУЕМЫЕ      РЕЗУЛЬТАТЫ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 помощью разнообразных методов и приёмов оптимизировать работу с детьми по воспитанию у них любви к матер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общить и расширить знания детей о роли мамы в семье, её увлечениях, профессиях и т.д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работать систему воспитательно – образовательной рабо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55640" y="404280"/>
            <a:ext cx="7624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роки реализации проект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 11 по 22 ноябр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астники: воспитанники ДОУ, педагоги группы, музыкальный руководитель, старший воспитател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0076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Актуальность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ект посвящён актуальной проблеме – воспитанию у детей любви к матери; поддерживать традиции бережного отношения к женщине особо отметить значение в нашей жизни самого главного человека - матер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ТАПЫ ПРОЕКТ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одготовитель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рганизационная работ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произведений художественной литератур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пословиц о мам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стихов, песен о мам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фонотеки песен о мам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зработка сценария ,  занятий посвященных Дню матер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Фотогазета «Нет моей  мамы лучше на свете»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ставка «Мамочка моя»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СНОВНО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ведение музыкального утренн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тогазета «Нет моей мамы лучше     на свете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ставка «Мамочка моя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готовление подарков для ма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6:03:54Z</dcterms:created>
  <dc:creator>UserXP</dc:creator>
  <dc:description/>
  <dc:language>en-US</dc:language>
  <cp:lastModifiedBy>MAZAINT</cp:lastModifiedBy>
  <dcterms:modified xsi:type="dcterms:W3CDTF">2019-11-11T11:48:47Z</dcterms:modified>
  <cp:revision>12</cp:revision>
  <dc:subject/>
  <dc:title>Проект «Моя мама»</dc:title>
</cp:coreProperties>
</file>