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12C-7F35-49EC-826F-EE99250F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8F8-78FF-4A93-B1AF-028D588B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1DD-675F-4DA1-A8F2-24E016DC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1C2-9BE9-4B2E-AFB8-47458F74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18E6-145D-44A3-BCBF-452F4595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23FE-29B3-473B-A9BD-8BB4C65E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E07E-F164-4DA2-BD71-549E21D5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5F29-7DA5-446F-8A21-7D2B9A53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87A5-C0BD-4548-846B-23B429B6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A88B-679F-4226-A8EB-EE91A926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66DF-E30A-4C87-AB90-3E1C8718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19C-EFD3-414F-A3BF-A12B52B7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B836-E8EE-40AE-BD00-AF5E5165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9BB7-62CB-4FAC-B9D2-20097A39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DB5A-D320-4ADF-B3B7-76B9BB65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27CB-4203-4895-A431-BEA41BA7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BBE9-428B-4500-88BC-75CEF398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11A-333F-41B8-BEC9-064A7254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D81-2A6E-4490-B39C-2453749F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A6C-B603-4C0D-AE3B-6A7FEB20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502-C212-45E2-BF0F-5C09BD26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21A-9884-4B31-A2CE-58157556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330-2A86-4863-A429-8930616B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3E0-4809-4821-AC4B-A6015EAA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E8A8-580A-4083-814F-870F2977813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419B-DA9C-40F4-9678-1B3EE3B7988E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2781360"/>
            <a:ext cx="57596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Comic Sans MS"/>
              </a:rPr>
              <a:t>Проект </a:t>
            </a:r>
            <a:br>
              <a:rPr sz="6000"/>
            </a:br>
            <a:r>
              <a:rPr b="0" lang="ru-RU" sz="6000" spc="-1" strike="noStrike">
                <a:solidFill>
                  <a:srgbClr val="ffffcc"/>
                </a:solidFill>
                <a:latin typeface="Comic Sans MS"/>
              </a:rPr>
              <a:t>«Моя мама»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1619280" y="115920"/>
            <a:ext cx="59770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– детский сад «Аленушка» с. Повалиха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5651640" y="1413000"/>
            <a:ext cx="27367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воспитатель: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ДОУ – д/с «Аленушка»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  Атякшева Т.А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012000" y="5157720"/>
            <a:ext cx="2376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и: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лова О.П.                                                                                    Головченко Е.Б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ЗАКЛЮЧИТЕЛЬНЫЙ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ведение утренника как результат работы над проектом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общение положительного опыт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отоотчет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539640" y="333360"/>
            <a:ext cx="727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 доминирующему методу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творчески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 характеру содержания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включает ребёнка и его семью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 характеру участия ребёнка в проекте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исполнитель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 характеру контактов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внутри ДОУ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 количеству участников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фронтальный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 продолжительности: 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краткосрочны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Comic Sans MS"/>
              </a:rPr>
              <a:t>Задачи: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19280" y="1844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Образовательные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формирование адекватных форм поведения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онкретизация и углубления знаний о значении семьи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учение умению выражать чувства по отношению к родному человеку, используя вербальную форму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звитие мышления, памяти и речи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оспитательные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богащение эмоциональной сферы ребёнка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оспитание открытого проявления социальных эмоций и чувств различными социально приемлемыми способами ( словесным, творческим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оспитание любви к матери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ЛАНИРУЕМЫЕ      РЕЗУЛЬТАТЫ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 помощью разнообразных методов и приёмов оптимизировать работу с детьми по воспитанию у них любви к матер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бобщить и расширить знания детей о роли мамы в семье, её увлечениях, профессиях и т.д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работать систему воспитательно – образовательной работ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55640" y="404280"/>
            <a:ext cx="7624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роки реализации проект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 11 по 22 ноябр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астники: воспитанники ДОУ, педагоги группы, музыкальный руководитель, старший воспитател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0076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Актуальность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ект посвящён актуальной проблеме – воспитанию у детей любви к матери; поддерживать традиции бережного отношения к женщине особо отметить значение в нашей жизни самого главного человека - матер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105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ЭТАПЫ ПРОЕКТ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одготовитель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организационная работ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бор произведений художественной литературы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бор пословиц о маме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бор стихов, песен о маме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бор фонотеки песен о маме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зработка сценария ,  занятий посвященных Дню матер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Фотогазета «Нет моей  мамы лучше на свете»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ыставка «Мамочка моя»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ОСНОВНОЙ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оведение музыкального утренник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отогазета «Нет моей мамы лучше     на свете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ставка «Мамочка моя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зготовление подарков для мам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6:03:54Z</dcterms:created>
  <dc:creator>UserXP</dc:creator>
  <dc:description/>
  <dc:language>en-US</dc:language>
  <cp:lastModifiedBy>MAZAINT</cp:lastModifiedBy>
  <dcterms:modified xsi:type="dcterms:W3CDTF">2019-11-11T11:48:47Z</dcterms:modified>
  <cp:revision>12</cp:revision>
  <dc:subject/>
  <dc:title>Проект «Моя мама»</dc:title>
</cp:coreProperties>
</file>