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DF0-1EB8-4262-B059-ED6CEB73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D41-194A-42F9-A660-36EA955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74A-7D86-4D60-9E6D-0E18D371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FF0-93DE-4884-9491-99DD2217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A335-477C-44B9-803A-D047BDF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675-CE51-459F-89DE-2CFC31E5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B262-A0FF-425C-9147-C2303927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820-A134-4696-889D-6C280835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768C-9999-41F0-BC1E-2135A87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0E6-ABB7-4094-8D06-2752ABA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B889-F7DE-42F2-89BC-1F80C3A5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DE9-650D-4CE5-9941-31135AC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1F4-4294-4DAE-96C0-BB403AA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A3BC-E234-4448-8905-0510E66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FAED-257A-434E-B391-163AAD2D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F9B3-82DE-462F-BF27-33BBDBD9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4114-5F49-44C9-927A-4106B916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E406-FC70-43C9-AB6E-0289D8EC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5516-83D7-4E1D-A877-AFEAE70C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7A01-B69D-487A-B36C-0E387055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0AF9-3D55-4D87-8E8E-06B072E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3AD9-AA1D-4DED-8801-DD9298C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1FE-8EBE-44CF-9709-6D5978C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9DC1-AD8E-41C5-AB89-D0FEDC6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2022-B1EC-4482-848D-B799122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4F5D-3A36-4CA0-A57E-F3092153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976C-4292-4704-B364-9A9AF1E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854A-E37B-4350-87C1-E320F42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6D7D-42FB-4429-86D9-975E131C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DDC9-1B99-4436-A70A-E256DB1B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856-7048-4723-91D7-DD616B04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916-8E56-4410-815E-B03343E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41D-7FD1-4924-A14F-A7F0E1FC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CF0-9C22-40C5-8851-1DAB268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56F-0342-4E0F-8ED5-EEDF492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82C-8B2E-4166-910D-A1D10A1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F49-7180-46F6-88F6-FF86EA131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66B4-119F-44E9-86DC-B27CA8764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New Tai Lue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DFC-F622-4767-985F-C0735531D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460160"/>
            <a:ext cx="7512120" cy="18241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Microsoft New Tai Lue"/>
              </a:rPr>
              <a:t>Влияние социальных сетей на личность подростка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86200" y="3357360"/>
            <a:ext cx="49528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втор проекта: Фаразян Фариз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Сурова Г. Ф.,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43894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Instagram</a:t>
            </a: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 – </a:t>
            </a:r>
            <a:br>
              <a:rPr sz="3200"/>
            </a:b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обмен фотографиями и видео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6840" y="2072880"/>
            <a:ext cx="4040280" cy="3799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1640" y="1773000"/>
            <a:ext cx="404172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Twitter</a:t>
            </a: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овостная социальная сеть 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4" name="Picture 2" descr="https://im3-tub-ru.yandex.net/i?id=04421fc5a8c20c91a4906812b2adc402&amp;n=33&amp;h=215&amp;w=382"/>
          <p:cNvPicPr/>
          <p:nvPr/>
        </p:nvPicPr>
        <p:blipFill>
          <a:blip r:embed="rId2"/>
          <a:stretch/>
        </p:blipFill>
        <p:spPr>
          <a:xfrm>
            <a:off x="249120" y="2133720"/>
            <a:ext cx="3640320" cy="205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upcity.com/wp-content/uploads/blog/2013/12/twitter-logo.png"/>
          <p:cNvPicPr/>
          <p:nvPr/>
        </p:nvPicPr>
        <p:blipFill>
          <a:blip r:embed="rId3"/>
          <a:stretch/>
        </p:blipFill>
        <p:spPr>
          <a:xfrm>
            <a:off x="4716360" y="476280"/>
            <a:ext cx="4041720" cy="1520640"/>
          </a:xfrm>
          <a:prstGeom prst="rect">
            <a:avLst/>
          </a:prstGeom>
          <a:ln cap="sq" w="381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Общие черты социальных сетей</a:t>
            </a:r>
            <a:endParaRPr b="1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67" name="Содержимое 8" descr=""/>
          <p:cNvPicPr/>
          <p:nvPr/>
        </p:nvPicPr>
        <p:blipFill>
          <a:blip r:embed="rId1"/>
          <a:stretch/>
        </p:blipFill>
        <p:spPr>
          <a:xfrm>
            <a:off x="0" y="1414440"/>
            <a:ext cx="89679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зитивное влияние  </a:t>
            </a:r>
            <a:br>
              <a:rPr sz="4000"/>
            </a:b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ых сетей</a:t>
            </a:r>
            <a:br>
              <a:rPr sz="32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11280" y="3500280"/>
            <a:ext cx="2952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амореализ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268360" y="5661000"/>
            <a:ext cx="345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иск друзей, однокласс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знаком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5148360" y="3500280"/>
            <a:ext cx="324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иск единомышлен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6372360" y="587700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базы видеофайл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музыкальных фай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280" y="1444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егативное  влияние </a:t>
            </a:r>
            <a:br>
              <a:rPr sz="3600"/>
            </a:b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ых  сетей</a:t>
            </a:r>
            <a:endParaRPr b="1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474560"/>
            <a:ext cx="6710400" cy="4275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250920" y="2421000"/>
            <a:ext cx="2665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Сидячее полож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в течение длительног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564000" y="3284640"/>
            <a:ext cx="194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изл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6382440" y="4292640"/>
            <a:ext cx="2114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Утомление гла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нагрузка на зр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68360" y="5661000"/>
            <a:ext cx="2232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Стресс при пот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284720" y="5950080"/>
            <a:ext cx="273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05bb"/>
                </a:solidFill>
                <a:latin typeface="Calibri"/>
              </a:rPr>
              <a:t>З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ависи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b05bb"/>
                </a:solidFill>
                <a:latin typeface="Calibri"/>
              </a:rPr>
              <a:t>от виртуального ми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ризнаки зависимости от социальных сетей</a:t>
            </a:r>
            <a:br>
              <a:rPr sz="32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82" name="Содержимое 4" descr=""/>
          <p:cNvPicPr/>
          <p:nvPr/>
        </p:nvPicPr>
        <p:blipFill>
          <a:blip r:embed="rId1"/>
          <a:stretch/>
        </p:blipFill>
        <p:spPr>
          <a:xfrm>
            <a:off x="682560" y="1438200"/>
            <a:ext cx="8083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29970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ВЫЯВЛЕНИЕ ВЛИЯНИЯ СОЦИАЛЬНЫХ СЕТЕЙ НА ЛИЧНОСТЬ ПОДРОСТКА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сследовательская часть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Цель исследования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072880"/>
            <a:ext cx="40402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оценка степени влияния социальных сетей на подростков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нашей школы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4720" y="404640"/>
            <a:ext cx="4041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Участники исследования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учащиеся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7Б, 8А, 9Б классов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1. Зарегистрированы ли Вы в социальных сетях?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4720" y="259920"/>
            <a:ext cx="4041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2.Какими социальными сетями Вы пользуетесь</a:t>
            </a: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92" name="Содержимое 9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41720" cy="4097160"/>
          </a:xfrm>
          <a:prstGeom prst="rect">
            <a:avLst/>
          </a:prstGeom>
          <a:ln w="0">
            <a:noFill/>
          </a:ln>
        </p:spPr>
      </p:pic>
      <p:pic>
        <p:nvPicPr>
          <p:cNvPr id="193" name="Диаграмма 5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3962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3200"/>
            </a:br>
            <a:endParaRPr b="1" lang="en-US" sz="25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40428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3.На аватарке аккаунта ваша фотографи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4720" y="333360"/>
            <a:ext cx="4041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4. В информации о себе вы указываете правдивые сведени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97" name="Содержимое 12" descr=""/>
          <p:cNvPicPr/>
          <p:nvPr/>
        </p:nvPicPr>
        <p:blipFill>
          <a:blip r:embed="rId1"/>
          <a:stretch/>
        </p:blipFill>
        <p:spPr>
          <a:xfrm>
            <a:off x="298440" y="1341360"/>
            <a:ext cx="4065480" cy="208440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15" descr=""/>
          <p:cNvPicPr/>
          <p:nvPr/>
        </p:nvPicPr>
        <p:blipFill>
          <a:blip r:embed="rId2"/>
          <a:stretch/>
        </p:blipFill>
        <p:spPr>
          <a:xfrm>
            <a:off x="4645080" y="1487520"/>
            <a:ext cx="4041720" cy="2444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 flipV="1" rot="10800000">
            <a:off x="1979280" y="321840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Arial"/>
              </a:rPr>
              <a:t>5. Как часто Вы пользуетесь социальными сетя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Диаграмма 17" descr=""/>
          <p:cNvPicPr/>
          <p:nvPr/>
        </p:nvPicPr>
        <p:blipFill>
          <a:blip r:embed="rId3"/>
          <a:stretch/>
        </p:blipFill>
        <p:spPr>
          <a:xfrm>
            <a:off x="4645080" y="4578480"/>
            <a:ext cx="3870360" cy="1950840"/>
          </a:xfrm>
          <a:prstGeom prst="rect">
            <a:avLst/>
          </a:prstGeom>
          <a:ln w="0">
            <a:noFill/>
          </a:ln>
        </p:spPr>
      </p:pic>
      <p:pic>
        <p:nvPicPr>
          <p:cNvPr id="201" name="Диаграмма 18" descr=""/>
          <p:cNvPicPr/>
          <p:nvPr/>
        </p:nvPicPr>
        <p:blipFill>
          <a:blip r:embed="rId4"/>
          <a:stretch/>
        </p:blipFill>
        <p:spPr>
          <a:xfrm>
            <a:off x="2193840" y="4578480"/>
            <a:ext cx="4859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04028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6.Сколько времени вы проводите в социальных сетях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4720" y="1444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7. С какой целью вы пользуетесь социальными сетями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04" name="Объект 5" descr=""/>
          <p:cNvPicPr/>
          <p:nvPr/>
        </p:nvPicPr>
        <p:blipFill>
          <a:blip r:embed="rId1"/>
          <a:stretch/>
        </p:blipFill>
        <p:spPr>
          <a:xfrm>
            <a:off x="417600" y="1146240"/>
            <a:ext cx="4141800" cy="3900600"/>
          </a:xfrm>
          <a:prstGeom prst="rect">
            <a:avLst/>
          </a:prstGeom>
          <a:ln w="0">
            <a:noFill/>
          </a:ln>
        </p:spPr>
      </p:pic>
      <p:pic>
        <p:nvPicPr>
          <p:cNvPr id="205" name="Объект 6" descr=""/>
          <p:cNvPicPr/>
          <p:nvPr/>
        </p:nvPicPr>
        <p:blipFill>
          <a:blip r:embed="rId2"/>
          <a:stretch/>
        </p:blipFill>
        <p:spPr>
          <a:xfrm>
            <a:off x="4594320" y="2022480"/>
            <a:ext cx="41432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49280" y="144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нет является неоспоримым благом цивилизации и во многом упрощает нашу жизнь. Одна из сторон Интернета – социальная сеть : Одноклассники, ВКонтакте, ФэйсБук и др.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чаще в последнее время стала появляться информация в СМИ, что социальные сети вредят  здоровью молодёжи и отупляют современное поколение. И мне захотелось узнать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еть – лучший друг, тайный враг или помощник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8. Кого Вы приглашаете в друзья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3280" y="981000"/>
            <a:ext cx="4042080" cy="19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9. Какое количество людей насчитывает ваш список «друзей»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08" name="Объект 7" descr=""/>
          <p:cNvPicPr/>
          <p:nvPr/>
        </p:nvPicPr>
        <p:blipFill>
          <a:blip r:embed="rId1"/>
          <a:stretch/>
        </p:blipFill>
        <p:spPr>
          <a:xfrm>
            <a:off x="406440" y="1577880"/>
            <a:ext cx="4145040" cy="2478240"/>
          </a:xfrm>
          <a:prstGeom prst="rect">
            <a:avLst/>
          </a:prstGeom>
          <a:ln w="0">
            <a:noFill/>
          </a:ln>
        </p:spPr>
      </p:pic>
      <p:pic>
        <p:nvPicPr>
          <p:cNvPr id="209" name="Объект 8" descr=""/>
          <p:cNvPicPr/>
          <p:nvPr/>
        </p:nvPicPr>
        <p:blipFill>
          <a:blip r:embed="rId2"/>
          <a:stretch/>
        </p:blipFill>
        <p:spPr>
          <a:xfrm>
            <a:off x="4594320" y="2730600"/>
            <a:ext cx="41432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4040280" cy="20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10.  Согласны ли Вы, что социальные сети вызывают зависимость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4720" y="259920"/>
            <a:ext cx="4498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05bb"/>
                </a:solidFill>
                <a:latin typeface="Microsoft New Tai Lue"/>
              </a:rPr>
              <a:t>11.Готовы ли вы отказаться от пользования социальными сетями?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12" name="Содержимое 9" descr=""/>
          <p:cNvPicPr/>
          <p:nvPr/>
        </p:nvPicPr>
        <p:blipFill>
          <a:blip r:embed="rId1"/>
          <a:stretch/>
        </p:blipFill>
        <p:spPr>
          <a:xfrm>
            <a:off x="396720" y="1700280"/>
            <a:ext cx="4042080" cy="37987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10" descr=""/>
          <p:cNvPicPr/>
          <p:nvPr/>
        </p:nvPicPr>
        <p:blipFill>
          <a:blip r:embed="rId2"/>
          <a:stretch/>
        </p:blipFill>
        <p:spPr>
          <a:xfrm>
            <a:off x="4645080" y="1847880"/>
            <a:ext cx="4041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Вывод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сети оказывают двойственное влияние на личность подростка</a:t>
            </a:r>
            <a:endParaRPr b="1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699920"/>
            <a:ext cx="4040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New Tai Lue"/>
              </a:rPr>
              <a:t>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положительное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 algn="r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высказывать свои мысли, послушать, почитать чужие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ообщаться по переписке с друзьями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найти или послушать музыку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осто найти что-либо интересное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32640" indent="-332640" algn="r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1628640"/>
            <a:ext cx="404172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New Tai Lue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icrosoft New Tai Lue"/>
              </a:rPr>
              <a:t>отрицательное</a:t>
            </a: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енебрежение безопасностью в сети Интернет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49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b05bb"/>
                </a:solidFill>
                <a:latin typeface="Microsoft New Tai Lue"/>
              </a:rPr>
              <a:t>проявление зависимости от социальных сетей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17" name="Picture 6" descr="http://about-unicorn.ru/wp-content/uploads/2016/12/333.png"/>
          <p:cNvPicPr/>
          <p:nvPr/>
        </p:nvPicPr>
        <p:blipFill>
          <a:blip r:embed="rId1"/>
          <a:stretch/>
        </p:blipFill>
        <p:spPr>
          <a:xfrm>
            <a:off x="4552920" y="1579680"/>
            <a:ext cx="1781280" cy="2170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s://im3-tub-ru.yandex.net/i?id=94360c32c578825ca1586e8ec95ddcfb&amp;n=33&amp;h=215&amp;w=453"/>
          <p:cNvPicPr/>
          <p:nvPr/>
        </p:nvPicPr>
        <p:blipFill>
          <a:blip r:embed="rId2"/>
          <a:stretch/>
        </p:blipFill>
        <p:spPr>
          <a:xfrm>
            <a:off x="249120" y="1432080"/>
            <a:ext cx="18781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Microsoft New Tai Lue"/>
              </a:rPr>
              <a:t>Памятка </a:t>
            </a:r>
            <a:br>
              <a:rPr sz="3200"/>
            </a:br>
            <a:r>
              <a:rPr b="1" lang="ru-RU" sz="3200" spc="-1" strike="noStrike">
                <a:solidFill>
                  <a:srgbClr val="1b05bb"/>
                </a:solidFill>
                <a:latin typeface="Microsoft New Tai Lue"/>
              </a:rPr>
              <a:t>« Правила пользования социальными сетями»</a:t>
            </a:r>
            <a:endParaRPr b="1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4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4720" y="1444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6840" y="2072880"/>
            <a:ext cx="4040280" cy="3799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44720" y="2072880"/>
            <a:ext cx="40417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Microsoft New Tai Lue"/>
              </a:rPr>
              <a:t>  </a:t>
            </a:r>
            <a:r>
              <a:rPr b="1" lang="ru-RU" sz="40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Цель</a:t>
            </a: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1196640"/>
            <a:ext cx="7940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влияния социальных сетей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ичность подростка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литературу об истории создания и развития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арактеризовать виды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ить преимущества и недостатки социальных сетей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исследования среди учеников нашей школы о роли социальных сетей в их жизни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ботать полученные данные, построить сравнительные таблицы, диаграммы;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рекомендации ученикам и родителям, как избежать Интернет-зависимости и не попасть в «виртуальную реальность». 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icrosoft New Tai Lu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5192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Microsoft New Tai Lue"/>
              </a:rPr>
              <a:t>Гипотеза</a:t>
            </a: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1474560"/>
            <a:ext cx="8083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ые сети приводят к расширению круга общения подростков, положительно влияют на их развитие личности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b05bb"/>
                </a:solidFill>
                <a:latin typeface="Microsoft New Tai Lue"/>
              </a:rPr>
              <a:t>ИСТОРИЯ РАЗВИТИЯ СОЦИАЛЬНЫХ СЕТЕЙ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еоретическая часть</a:t>
            </a:r>
            <a:endParaRPr b="0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954 год</a:t>
            </a:r>
            <a:br>
              <a:rPr sz="2800"/>
            </a:b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термин «социальная сеть»</a:t>
            </a:r>
            <a:endParaRPr b="1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октября 1971год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электронная почта-первая 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социальная сеть</a:t>
            </a: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136" name="Picture 2" descr="http://sotsiologia.ru/netcat_files/Image/barnes1.jpg"/>
          <p:cNvPicPr/>
          <p:nvPr/>
        </p:nvPicPr>
        <p:blipFill>
          <a:blip r:embed="rId1"/>
          <a:stretch/>
        </p:blipFill>
        <p:spPr>
          <a:xfrm>
            <a:off x="1332000" y="1700280"/>
            <a:ext cx="2232000" cy="34210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137" name="TextBox 6"/>
          <p:cNvSpPr/>
          <p:nvPr/>
        </p:nvSpPr>
        <p:spPr>
          <a:xfrm>
            <a:off x="971640" y="5084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Джеймс Барн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http://www.webhand.ru/wp-content/uploads/images/pochtawp.jpg"/>
          <p:cNvPicPr/>
          <p:nvPr/>
        </p:nvPicPr>
        <p:blipFill>
          <a:blip r:embed="rId2"/>
          <a:stretch/>
        </p:blipFill>
        <p:spPr>
          <a:xfrm>
            <a:off x="4932360" y="333360"/>
            <a:ext cx="34099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Появление мировых гигантов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564000" y="3645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2" descr="http://seonews.com.ua/uploads/posts/2011-02/thumbs/1297628559_2010-08-24_odnoklassniki_big.gif"/>
          <p:cNvPicPr/>
          <p:nvPr/>
        </p:nvPicPr>
        <p:blipFill>
          <a:blip r:embed="rId1"/>
          <a:stretch/>
        </p:blipFill>
        <p:spPr>
          <a:xfrm>
            <a:off x="3786120" y="1719360"/>
            <a:ext cx="2870280" cy="223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poraionu.ru/images/poraionu/vk.png"/>
          <p:cNvPicPr/>
          <p:nvPr/>
        </p:nvPicPr>
        <p:blipFill>
          <a:blip r:embed="rId2"/>
          <a:stretch/>
        </p:blipFill>
        <p:spPr>
          <a:xfrm>
            <a:off x="3773520" y="3889440"/>
            <a:ext cx="3730680" cy="244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https://im1-tub-ru.yandex.net/i?id=da11614813b36d0b01cf77d413f615d9&amp;n=33&amp;h=215&amp;w=214"/>
          <p:cNvPicPr/>
          <p:nvPr/>
        </p:nvPicPr>
        <p:blipFill>
          <a:blip r:embed="rId3"/>
          <a:stretch/>
        </p:blipFill>
        <p:spPr>
          <a:xfrm>
            <a:off x="55440" y="2620800"/>
            <a:ext cx="2273400" cy="227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Классификация социальных сетей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grpSp>
        <p:nvGrpSpPr>
          <p:cNvPr id="146" name="Группа 6"/>
          <p:cNvGrpSpPr/>
          <p:nvPr/>
        </p:nvGrpSpPr>
        <p:grpSpPr>
          <a:xfrm>
            <a:off x="250920" y="5373720"/>
            <a:ext cx="3206520" cy="903240"/>
            <a:chOff x="250920" y="5373720"/>
            <a:chExt cx="3206520" cy="903240"/>
          </a:xfrm>
        </p:grpSpPr>
        <p:sp>
          <p:nvSpPr>
            <p:cNvPr id="147" name="Скругленный прямоугольник 7"/>
            <p:cNvSpPr/>
            <p:nvPr/>
          </p:nvSpPr>
          <p:spPr>
            <a:xfrm>
              <a:off x="250920" y="5373720"/>
              <a:ext cx="3206520" cy="90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Скругленный прямоугольник 4"/>
            <p:cNvSpPr/>
            <p:nvPr/>
          </p:nvSpPr>
          <p:spPr>
            <a:xfrm>
              <a:off x="295200" y="5418000"/>
              <a:ext cx="3117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региону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Группа 9"/>
          <p:cNvGrpSpPr/>
          <p:nvPr/>
        </p:nvGrpSpPr>
        <p:grpSpPr>
          <a:xfrm>
            <a:off x="5364000" y="5373720"/>
            <a:ext cx="3384720" cy="903240"/>
            <a:chOff x="5364000" y="5373720"/>
            <a:chExt cx="3384720" cy="903240"/>
          </a:xfrm>
        </p:grpSpPr>
        <p:sp>
          <p:nvSpPr>
            <p:cNvPr id="150" name="Скругленный прямоугольник 10"/>
            <p:cNvSpPr/>
            <p:nvPr/>
          </p:nvSpPr>
          <p:spPr>
            <a:xfrm>
              <a:off x="5364000" y="5373720"/>
              <a:ext cx="3384720" cy="90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5435280" y="5373720"/>
              <a:ext cx="3153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доступности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Выгнутая вправо стрелка 12"/>
          <p:cNvSpPr/>
          <p:nvPr/>
        </p:nvSpPr>
        <p:spPr>
          <a:xfrm>
            <a:off x="7236000" y="4076640"/>
            <a:ext cx="731520" cy="1216080"/>
          </a:xfrm>
          <a:custGeom>
            <a:avLst/>
            <a:gdLst>
              <a:gd name="textAreaLeft" fmla="*/ 97920 w 731520"/>
              <a:gd name="textAreaRight" fmla="*/ 633600 w 73152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Выгнутая влево стрелка 13"/>
          <p:cNvSpPr/>
          <p:nvPr/>
        </p:nvSpPr>
        <p:spPr>
          <a:xfrm>
            <a:off x="1187280" y="40766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Группа 14"/>
          <p:cNvGrpSpPr/>
          <p:nvPr/>
        </p:nvGrpSpPr>
        <p:grpSpPr>
          <a:xfrm>
            <a:off x="2843280" y="1268280"/>
            <a:ext cx="3384360" cy="903600"/>
            <a:chOff x="2843280" y="1268280"/>
            <a:chExt cx="3384360" cy="903600"/>
          </a:xfrm>
        </p:grpSpPr>
        <p:sp>
          <p:nvSpPr>
            <p:cNvPr id="155" name="Скругленный прямоугольник 15"/>
            <p:cNvSpPr/>
            <p:nvPr/>
          </p:nvSpPr>
          <p:spPr>
            <a:xfrm>
              <a:off x="2843280" y="1268280"/>
              <a:ext cx="3384360" cy="903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1b05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Скругленный прямоугольник 4"/>
            <p:cNvSpPr/>
            <p:nvPr/>
          </p:nvSpPr>
          <p:spPr>
            <a:xfrm>
              <a:off x="2843280" y="1339560"/>
              <a:ext cx="328932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ru-RU" sz="33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типу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b05bb"/>
                </a:solidFill>
                <a:latin typeface="Times New Roman"/>
                <a:ea typeface="Times New Roman"/>
              </a:rPr>
              <a:t>Наиболее популярные социальные сети</a:t>
            </a:r>
            <a:endParaRPr b="1" lang="en-US" sz="44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179280" y="4797360"/>
            <a:ext cx="273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2 милли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3276720" y="4076640"/>
            <a:ext cx="2950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миллиар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6588000" y="4941720"/>
            <a:ext cx="2318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 миллио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05:09:00Z</dcterms:created>
  <dc:creator>DNA7 X86</dc:creator>
  <dc:description/>
  <dc:language>en-US</dc:language>
  <cp:lastModifiedBy>Галина</cp:lastModifiedBy>
  <dcterms:modified xsi:type="dcterms:W3CDTF">2022-10-30T14:48:54Z</dcterms:modified>
  <cp:revision>43</cp:revision>
  <dc:subject/>
  <dc:title>Влияние социальных сетей на личность подростка</dc:title>
</cp:coreProperties>
</file>