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67E-8217-4750-BF68-0BC20561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EC2-250C-4A89-9B1C-0BF7E2E9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7EF-258B-49B0-AF49-091B421C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886-EED6-4101-934D-3657C270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8755-5E20-454D-BE50-3600E2F8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F66F-EEBB-4D4C-B8FA-F8895918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A6E3-ECAE-4605-95E3-465085B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7750-88A2-48DA-99F4-7CB2404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1617-556F-4569-BF62-A78AA443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AED1-1853-49C8-B20B-1AE9ABB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720-298F-4EA5-B217-F990B8F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384-9D53-4BC5-8115-A21450B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D5B-21F4-47C7-BB5B-49D514A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39AA-2A32-481C-BD80-D83558A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473-0FB7-4092-96A9-34706640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B07B-F4C4-4248-9DDD-4AAF5C50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82AD-CFBD-4404-9A65-CB61DFF5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5237-F059-40C5-A1DB-B15C43E7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1AFB-BF2E-45EB-B3D6-4959A5A5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7E26-4A5F-45A1-AD0A-FC89AB7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F797-04BA-4D5D-8F3B-FA3C8A8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2468-7F1F-42D8-A35D-805EEABB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BE7-593F-41C5-BA90-D1E1DFB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15C7-93B0-46F1-ACF9-89CFD7D5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35EC-31F6-4422-A4EA-6376637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1679-29AB-4986-9B31-4BAD8A8B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58E4-702B-4F32-9229-DA9B3D3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F5AB-E761-4704-B465-B2A5FBB3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0E66-1AF0-49D4-8B3B-78ACD4B8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E8E6-01D0-4B28-9D16-841418B7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81C-E7FE-4312-9D9B-CB45D8FB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BB8-AF45-4BC6-B81D-2FC6C9A3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D11-0D9D-4039-AEEB-BF617A57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EE6-9930-4C21-98D9-C758821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5DD-2DF1-437C-A8E7-56707D3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528-5623-4E13-A21D-DA6FC7F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New Tai Lu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B31D-B896-4D47-BE22-1AC563225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New Tai Lu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825B-7274-4E55-B20B-C3DA80E85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New Tai Lu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3CF4-2BA8-44CF-A69A-52C941F230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460160"/>
            <a:ext cx="7512120" cy="18241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Microsoft New Tai Lue"/>
              </a:rPr>
              <a:t>Влияние социальных сетей на личность подростка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86200" y="3357360"/>
            <a:ext cx="49528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 проекта: Фаразян Фариз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оводитель: Сурова Г. Ф., 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43894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Instagram</a:t>
            </a: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 – </a:t>
            </a:r>
            <a:br>
              <a:rPr sz="3200"/>
            </a:b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обмен фотографиями и видео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6840" y="2072880"/>
            <a:ext cx="4040280" cy="3799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1640" y="1773000"/>
            <a:ext cx="404172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Twitter</a:t>
            </a: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новостная социальная сеть 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64" name="Picture 2" descr="https://im3-tub-ru.yandex.net/i?id=04421fc5a8c20c91a4906812b2adc402&amp;n=33&amp;h=215&amp;w=382"/>
          <p:cNvPicPr/>
          <p:nvPr/>
        </p:nvPicPr>
        <p:blipFill>
          <a:blip r:embed="rId2"/>
          <a:stretch/>
        </p:blipFill>
        <p:spPr>
          <a:xfrm>
            <a:off x="249120" y="2133720"/>
            <a:ext cx="3640320" cy="205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upcity.com/wp-content/uploads/blog/2013/12/twitter-logo.png"/>
          <p:cNvPicPr/>
          <p:nvPr/>
        </p:nvPicPr>
        <p:blipFill>
          <a:blip r:embed="rId3"/>
          <a:stretch/>
        </p:blipFill>
        <p:spPr>
          <a:xfrm>
            <a:off x="4716360" y="476280"/>
            <a:ext cx="4041720" cy="1520640"/>
          </a:xfrm>
          <a:prstGeom prst="rect">
            <a:avLst/>
          </a:prstGeom>
          <a:ln cap="sq" w="381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Общие черты социальных сетей</a:t>
            </a:r>
            <a:endParaRPr b="1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67" name="Содержимое 8" descr=""/>
          <p:cNvPicPr/>
          <p:nvPr/>
        </p:nvPicPr>
        <p:blipFill>
          <a:blip r:embed="rId1"/>
          <a:stretch/>
        </p:blipFill>
        <p:spPr>
          <a:xfrm>
            <a:off x="0" y="1414440"/>
            <a:ext cx="89679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зитивное влияние  </a:t>
            </a:r>
            <a:br>
              <a:rPr sz="4000"/>
            </a:b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оциальных сетей</a:t>
            </a:r>
            <a:br>
              <a:rPr sz="32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11280" y="3500280"/>
            <a:ext cx="2952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амореализ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268360" y="5661000"/>
            <a:ext cx="345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иск друзей, одноклассн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знаком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5148360" y="3500280"/>
            <a:ext cx="324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иск единомышлен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6372360" y="587700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базы видеофайл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музыкальных фай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280" y="1444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Негативное  влияние </a:t>
            </a:r>
            <a:br>
              <a:rPr sz="3600"/>
            </a:b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оциальных  сетей</a:t>
            </a:r>
            <a:endParaRPr b="1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474560"/>
            <a:ext cx="6710400" cy="4275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250920" y="2421000"/>
            <a:ext cx="2665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Сидячее полож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в течение длительног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64000" y="3284640"/>
            <a:ext cx="194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Воз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изл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6382440" y="4292640"/>
            <a:ext cx="2114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Утомление гла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нагрузка на зр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468360" y="5661000"/>
            <a:ext cx="2232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Стресс при пот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284720" y="5950080"/>
            <a:ext cx="273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Calibri"/>
              </a:rPr>
              <a:t>З</a:t>
            </a: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ависи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от виртуального ми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ризнаки зависимости от социальных сетей</a:t>
            </a:r>
            <a:br>
              <a:rPr sz="32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82" name="Содержимое 4" descr=""/>
          <p:cNvPicPr/>
          <p:nvPr/>
        </p:nvPicPr>
        <p:blipFill>
          <a:blip r:embed="rId1"/>
          <a:stretch/>
        </p:blipFill>
        <p:spPr>
          <a:xfrm>
            <a:off x="682560" y="1438200"/>
            <a:ext cx="8083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29970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ВЫЯВЛЕНИЕ ВЛИЯНИЯ СОЦИАЛЬНЫХ СЕТЕЙ НА ЛИЧНОСТЬ ПОДРОСТКА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10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сследовательская часть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04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Цель исследования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оценка степени влияния социальных сетей на подростков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нашей школы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4720" y="404640"/>
            <a:ext cx="4041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Участники исследования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учащиеся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7Б, 8А, 9Б классов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04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1. Зарегистрированы ли Вы в социальных сетях?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4720" y="259920"/>
            <a:ext cx="4041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2.Какими социальными сетями Вы пользуетесь</a:t>
            </a: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92" name="Содержимое 9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041720" cy="4097160"/>
          </a:xfrm>
          <a:prstGeom prst="rect">
            <a:avLst/>
          </a:prstGeom>
          <a:ln w="0">
            <a:noFill/>
          </a:ln>
        </p:spPr>
      </p:pic>
      <p:pic>
        <p:nvPicPr>
          <p:cNvPr id="193" name="Диаграмма 5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39625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3200"/>
            </a:br>
            <a:endParaRPr b="1" lang="en-US" sz="25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404280"/>
            <a:ext cx="4040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3.На аватарке аккаунта ваша фотография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4720" y="333360"/>
            <a:ext cx="4041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4. В информации о себе вы указываете правдивые сведения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97" name="Содержимое 12" descr=""/>
          <p:cNvPicPr/>
          <p:nvPr/>
        </p:nvPicPr>
        <p:blipFill>
          <a:blip r:embed="rId1"/>
          <a:stretch/>
        </p:blipFill>
        <p:spPr>
          <a:xfrm>
            <a:off x="298440" y="1341360"/>
            <a:ext cx="4065480" cy="208440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15" descr=""/>
          <p:cNvPicPr/>
          <p:nvPr/>
        </p:nvPicPr>
        <p:blipFill>
          <a:blip r:embed="rId2"/>
          <a:stretch/>
        </p:blipFill>
        <p:spPr>
          <a:xfrm>
            <a:off x="4645080" y="1487520"/>
            <a:ext cx="4041720" cy="2444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 flipV="1" rot="10800000">
            <a:off x="1979280" y="3218400"/>
            <a:ext cx="41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Arial"/>
              </a:rPr>
              <a:t>5. Как часто Вы пользуетесь социальными сетя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Диаграмма 17" descr=""/>
          <p:cNvPicPr/>
          <p:nvPr/>
        </p:nvPicPr>
        <p:blipFill>
          <a:blip r:embed="rId3"/>
          <a:stretch/>
        </p:blipFill>
        <p:spPr>
          <a:xfrm>
            <a:off x="4645080" y="4578480"/>
            <a:ext cx="3870360" cy="1950840"/>
          </a:xfrm>
          <a:prstGeom prst="rect">
            <a:avLst/>
          </a:prstGeom>
          <a:ln w="0">
            <a:noFill/>
          </a:ln>
        </p:spPr>
      </p:pic>
      <p:pic>
        <p:nvPicPr>
          <p:cNvPr id="201" name="Диаграмма 18" descr=""/>
          <p:cNvPicPr/>
          <p:nvPr/>
        </p:nvPicPr>
        <p:blipFill>
          <a:blip r:embed="rId4"/>
          <a:stretch/>
        </p:blipFill>
        <p:spPr>
          <a:xfrm>
            <a:off x="2193840" y="4578480"/>
            <a:ext cx="4859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04028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6.Сколько времени вы проводите в социальных сетях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4720" y="1444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7. С какой целью вы пользуетесь социальными сетями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04" name="Объект 5" descr=""/>
          <p:cNvPicPr/>
          <p:nvPr/>
        </p:nvPicPr>
        <p:blipFill>
          <a:blip r:embed="rId1"/>
          <a:stretch/>
        </p:blipFill>
        <p:spPr>
          <a:xfrm>
            <a:off x="417600" y="1146240"/>
            <a:ext cx="4141800" cy="3900600"/>
          </a:xfrm>
          <a:prstGeom prst="rect">
            <a:avLst/>
          </a:prstGeom>
          <a:ln w="0">
            <a:noFill/>
          </a:ln>
        </p:spPr>
      </p:pic>
      <p:pic>
        <p:nvPicPr>
          <p:cNvPr id="205" name="Объект 6" descr=""/>
          <p:cNvPicPr/>
          <p:nvPr/>
        </p:nvPicPr>
        <p:blipFill>
          <a:blip r:embed="rId2"/>
          <a:stretch/>
        </p:blipFill>
        <p:spPr>
          <a:xfrm>
            <a:off x="4594320" y="2022480"/>
            <a:ext cx="41432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 является неоспоримым благом цивилизации и во многом упрощает нашу жизнь. Одна из сторон Интернета – социальная сеть : Одноклассники, ВКонтакте, ФэйсБук и др.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чаще в последнее время стала появляться информация в СМИ, что социальные сети вредят  здоровью молодёжи и отупляют современное поколение. И мне захотелось узнать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сеть – лучший друг, тайный враг или помощник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4040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8. Кого Вы приглашаете в друзья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3280" y="981000"/>
            <a:ext cx="4042080" cy="19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9. Какое количество людей насчитывает ваш список «друзей»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08" name="Объект 7" descr=""/>
          <p:cNvPicPr/>
          <p:nvPr/>
        </p:nvPicPr>
        <p:blipFill>
          <a:blip r:embed="rId1"/>
          <a:stretch/>
        </p:blipFill>
        <p:spPr>
          <a:xfrm>
            <a:off x="406440" y="1577880"/>
            <a:ext cx="4145040" cy="2478240"/>
          </a:xfrm>
          <a:prstGeom prst="rect">
            <a:avLst/>
          </a:prstGeom>
          <a:ln w="0">
            <a:noFill/>
          </a:ln>
        </p:spPr>
      </p:pic>
      <p:pic>
        <p:nvPicPr>
          <p:cNvPr id="209" name="Объект 8" descr=""/>
          <p:cNvPicPr/>
          <p:nvPr/>
        </p:nvPicPr>
        <p:blipFill>
          <a:blip r:embed="rId2"/>
          <a:stretch/>
        </p:blipFill>
        <p:spPr>
          <a:xfrm>
            <a:off x="4594320" y="2730600"/>
            <a:ext cx="41432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4040280" cy="20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10.  Согласны ли Вы, что социальные сети вызывают зависимость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4720" y="259920"/>
            <a:ext cx="4498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11.Готовы ли вы отказаться от пользования социальными сетями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12" name="Содержимое 9" descr=""/>
          <p:cNvPicPr/>
          <p:nvPr/>
        </p:nvPicPr>
        <p:blipFill>
          <a:blip r:embed="rId1"/>
          <a:stretch/>
        </p:blipFill>
        <p:spPr>
          <a:xfrm>
            <a:off x="396720" y="1700280"/>
            <a:ext cx="4042080" cy="37987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10" descr=""/>
          <p:cNvPicPr/>
          <p:nvPr/>
        </p:nvPicPr>
        <p:blipFill>
          <a:blip r:embed="rId2"/>
          <a:stretch/>
        </p:blipFill>
        <p:spPr>
          <a:xfrm>
            <a:off x="4645080" y="1847880"/>
            <a:ext cx="4041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Вывод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ые сети оказывают двойственное влияние на личность подростка</a:t>
            </a:r>
            <a:endParaRPr b="1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69992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New Tai Lue"/>
              </a:rPr>
              <a:t>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положительное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 algn="r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высказывать свои мысли, послушать, почитать чужие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ообщаться по переписке с друзьями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найти или послушать музыку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росто найти что-либо интересное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 algn="r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1628640"/>
            <a:ext cx="404172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New Tai Lue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отрицательное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ренебрежение безопасностью в сети Интернет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роявление зависимости от социальных сетей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17" name="Picture 6" descr="http://about-unicorn.ru/wp-content/uploads/2016/12/333.png"/>
          <p:cNvPicPr/>
          <p:nvPr/>
        </p:nvPicPr>
        <p:blipFill>
          <a:blip r:embed="rId1"/>
          <a:stretch/>
        </p:blipFill>
        <p:spPr>
          <a:xfrm>
            <a:off x="4552920" y="1579680"/>
            <a:ext cx="1781280" cy="2170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ttps://im3-tub-ru.yandex.net/i?id=94360c32c578825ca1586e8ec95ddcfb&amp;n=33&amp;h=215&amp;w=453"/>
          <p:cNvPicPr/>
          <p:nvPr/>
        </p:nvPicPr>
        <p:blipFill>
          <a:blip r:embed="rId2"/>
          <a:stretch/>
        </p:blipFill>
        <p:spPr>
          <a:xfrm>
            <a:off x="249120" y="1432080"/>
            <a:ext cx="187812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5bb"/>
                </a:solidFill>
                <a:latin typeface="Microsoft New Tai Lue"/>
              </a:rPr>
              <a:t>Памятка </a:t>
            </a:r>
            <a:br>
              <a:rPr sz="3200"/>
            </a:br>
            <a:r>
              <a:rPr b="1" lang="ru-RU" sz="3200" spc="-1" strike="noStrike">
                <a:solidFill>
                  <a:srgbClr val="1b05bb"/>
                </a:solidFill>
                <a:latin typeface="Microsoft New Tai Lue"/>
              </a:rPr>
              <a:t>« Правила пользования социальными сетями»</a:t>
            </a:r>
            <a:endParaRPr b="1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4720" y="1444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6840" y="2072880"/>
            <a:ext cx="4040280" cy="3799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Microsoft New Tai Lue"/>
              </a:rPr>
              <a:t>  </a:t>
            </a: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Цель</a:t>
            </a: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6920" y="1196640"/>
            <a:ext cx="7940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влияния социальных сетей 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ичность подростка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литературу об истории создания и развития социальных сетей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арактеризовать виды социальных сетей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ить преимущества и недостатки социальных сетей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исследования среди учеников нашей школы о роли социальных сетей в их жизни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ботать полученные данные, построить сравнительные таблицы, диаграммы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рекомендации ученикам и родителям, как избежать Интернет-зависимости и не попасть в «виртуальную реальность». 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icrosoft New Tai Lu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5192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Microsoft New Tai Lue"/>
              </a:rPr>
              <a:t>Гипотеза</a:t>
            </a: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1474560"/>
            <a:ext cx="8083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ые сети приводят к расширению круга общения подростков, положительно влияют на их развитие личности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2708280"/>
            <a:ext cx="77724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Microsoft New Tai Lue"/>
              </a:rPr>
              <a:t>ИСТОРИЯ РАЗВИТИЯ СОЦИАЛЬНЫХ СЕТЕЙ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еоретическая часть</a:t>
            </a:r>
            <a:endParaRPr b="0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4 год</a:t>
            </a:r>
            <a:br>
              <a:rPr sz="2800"/>
            </a:b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термин «социальная сеть»</a:t>
            </a:r>
            <a:endParaRPr b="1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октября 1971год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электронная почта-первая 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оциальная сеть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36" name="Picture 2" descr="http://sotsiologia.ru/netcat_files/Image/barnes1.jpg"/>
          <p:cNvPicPr/>
          <p:nvPr/>
        </p:nvPicPr>
        <p:blipFill>
          <a:blip r:embed="rId1"/>
          <a:stretch/>
        </p:blipFill>
        <p:spPr>
          <a:xfrm>
            <a:off x="1332000" y="1700280"/>
            <a:ext cx="2232000" cy="34210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137" name="TextBox 6"/>
          <p:cNvSpPr/>
          <p:nvPr/>
        </p:nvSpPr>
        <p:spPr>
          <a:xfrm>
            <a:off x="971640" y="5084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Джеймс Бар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http://www.webhand.ru/wp-content/uploads/images/pochtawp.jpg"/>
          <p:cNvPicPr/>
          <p:nvPr/>
        </p:nvPicPr>
        <p:blipFill>
          <a:blip r:embed="rId2"/>
          <a:stretch/>
        </p:blipFill>
        <p:spPr>
          <a:xfrm>
            <a:off x="4932360" y="333360"/>
            <a:ext cx="3409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явление мировых гигантов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3564000" y="3645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2" descr="http://seonews.com.ua/uploads/posts/2011-02/thumbs/1297628559_2010-08-24_odnoklassniki_big.gif"/>
          <p:cNvPicPr/>
          <p:nvPr/>
        </p:nvPicPr>
        <p:blipFill>
          <a:blip r:embed="rId1"/>
          <a:stretch/>
        </p:blipFill>
        <p:spPr>
          <a:xfrm>
            <a:off x="3786120" y="1719360"/>
            <a:ext cx="2870280" cy="223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poraionu.ru/images/poraionu/vk.png"/>
          <p:cNvPicPr/>
          <p:nvPr/>
        </p:nvPicPr>
        <p:blipFill>
          <a:blip r:embed="rId2"/>
          <a:stretch/>
        </p:blipFill>
        <p:spPr>
          <a:xfrm>
            <a:off x="3773520" y="3889440"/>
            <a:ext cx="3730680" cy="244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https://im1-tub-ru.yandex.net/i?id=da11614813b36d0b01cf77d413f615d9&amp;n=33&amp;h=215&amp;w=214"/>
          <p:cNvPicPr/>
          <p:nvPr/>
        </p:nvPicPr>
        <p:blipFill>
          <a:blip r:embed="rId3"/>
          <a:stretch/>
        </p:blipFill>
        <p:spPr>
          <a:xfrm>
            <a:off x="55440" y="2620800"/>
            <a:ext cx="2273400" cy="227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Классификация социальных сетей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grpSp>
        <p:nvGrpSpPr>
          <p:cNvPr id="146" name="Группа 6"/>
          <p:cNvGrpSpPr/>
          <p:nvPr/>
        </p:nvGrpSpPr>
        <p:grpSpPr>
          <a:xfrm>
            <a:off x="250920" y="5373720"/>
            <a:ext cx="3206520" cy="903240"/>
            <a:chOff x="250920" y="5373720"/>
            <a:chExt cx="3206520" cy="903240"/>
          </a:xfrm>
        </p:grpSpPr>
        <p:sp>
          <p:nvSpPr>
            <p:cNvPr id="147" name="Скругленный прямоугольник 7"/>
            <p:cNvSpPr/>
            <p:nvPr/>
          </p:nvSpPr>
          <p:spPr>
            <a:xfrm>
              <a:off x="250920" y="5373720"/>
              <a:ext cx="3206520" cy="90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1b05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Скругленный прямоугольник 4"/>
            <p:cNvSpPr/>
            <p:nvPr/>
          </p:nvSpPr>
          <p:spPr>
            <a:xfrm>
              <a:off x="295200" y="5418000"/>
              <a:ext cx="3117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ru-RU" sz="33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региону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Группа 9"/>
          <p:cNvGrpSpPr/>
          <p:nvPr/>
        </p:nvGrpSpPr>
        <p:grpSpPr>
          <a:xfrm>
            <a:off x="5364000" y="5373720"/>
            <a:ext cx="3384720" cy="903240"/>
            <a:chOff x="5364000" y="5373720"/>
            <a:chExt cx="3384720" cy="903240"/>
          </a:xfrm>
        </p:grpSpPr>
        <p:sp>
          <p:nvSpPr>
            <p:cNvPr id="150" name="Скругленный прямоугольник 10"/>
            <p:cNvSpPr/>
            <p:nvPr/>
          </p:nvSpPr>
          <p:spPr>
            <a:xfrm>
              <a:off x="5364000" y="5373720"/>
              <a:ext cx="3384720" cy="90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1b05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Скругленный прямоугольник 4"/>
            <p:cNvSpPr/>
            <p:nvPr/>
          </p:nvSpPr>
          <p:spPr>
            <a:xfrm>
              <a:off x="5435280" y="5373720"/>
              <a:ext cx="3153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ru-RU" sz="33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доступности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Выгнутая вправо стрелка 12"/>
          <p:cNvSpPr/>
          <p:nvPr/>
        </p:nvSpPr>
        <p:spPr>
          <a:xfrm>
            <a:off x="7236000" y="4076640"/>
            <a:ext cx="731520" cy="1216080"/>
          </a:xfrm>
          <a:custGeom>
            <a:avLst/>
            <a:gdLst>
              <a:gd name="textAreaLeft" fmla="*/ 97920 w 731520"/>
              <a:gd name="textAreaRight" fmla="*/ 633600 w 73152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Выгнутая влево стрелка 13"/>
          <p:cNvSpPr/>
          <p:nvPr/>
        </p:nvSpPr>
        <p:spPr>
          <a:xfrm>
            <a:off x="1187280" y="40766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Группа 14"/>
          <p:cNvGrpSpPr/>
          <p:nvPr/>
        </p:nvGrpSpPr>
        <p:grpSpPr>
          <a:xfrm>
            <a:off x="2843280" y="1268280"/>
            <a:ext cx="3384360" cy="903600"/>
            <a:chOff x="2843280" y="1268280"/>
            <a:chExt cx="3384360" cy="903600"/>
          </a:xfrm>
        </p:grpSpPr>
        <p:sp>
          <p:nvSpPr>
            <p:cNvPr id="155" name="Скругленный прямоугольник 15"/>
            <p:cNvSpPr/>
            <p:nvPr/>
          </p:nvSpPr>
          <p:spPr>
            <a:xfrm>
              <a:off x="2843280" y="1268280"/>
              <a:ext cx="3384360" cy="90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1b05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Скругленный прямоугольник 4"/>
            <p:cNvSpPr/>
            <p:nvPr/>
          </p:nvSpPr>
          <p:spPr>
            <a:xfrm>
              <a:off x="2843280" y="1339560"/>
              <a:ext cx="328932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ru-RU" sz="33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типу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Наиболее популярные социальные сети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179280" y="4797360"/>
            <a:ext cx="273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2 милли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3276720" y="4076640"/>
            <a:ext cx="2950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миллиар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6588000" y="4941720"/>
            <a:ext cx="2318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5 миллио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1T05:09:00Z</dcterms:created>
  <dc:creator>DNA7 X86</dc:creator>
  <dc:description/>
  <dc:language>en-US</dc:language>
  <cp:lastModifiedBy>Галина</cp:lastModifiedBy>
  <dcterms:modified xsi:type="dcterms:W3CDTF">2022-10-30T14:48:54Z</dcterms:modified>
  <cp:revision>43</cp:revision>
  <dc:subject/>
  <dc:title>Влияние социальных сетей на личность подростка</dc:title>
</cp:coreProperties>
</file>