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A08-2139-447C-B759-17A26468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9CE-B6F5-472F-8E61-914FCC0A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553-0A88-464B-9C5E-F3680D53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9B0-F2B5-46A7-8F42-36D1A2AF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0870-A073-47F8-83F2-00337C6C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945E-09DC-492B-AB0A-A09B10C7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6D44-5A13-4A1F-8997-EF2AAC1E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4D2C-BECC-449C-A625-A2E902C9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13D3-46AC-4793-8399-814DF6F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A4C0-655A-4EC3-9628-EB49B37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A9B4-BDE4-413C-8F29-74C515C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5F8-2524-4B59-BC35-3958B50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9306-3F3A-40AC-A935-C783C85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033-0DEE-4147-B466-17A29A7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D53E-D6BD-4D9B-8903-A765AD1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3641-9C70-4CA4-A873-2471FCFC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83E-5F53-4FD4-9A98-82D0BBDF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5320-69EC-4A01-B2AA-6FC2DD19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04CF-7D80-4538-B345-0233AEC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FC15-40FA-4563-9CC1-51BBDEE2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3C03-FEE7-42E4-9A18-A35BED0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FA79-22B4-42C1-8300-B0259A01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C74-6B20-43C0-8B9F-19449E53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26B5-937D-407E-881C-0BA7ACA9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4992-6E54-4502-87FF-C2DFE60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6918-0562-4871-B531-B12DB362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6596-CA6D-4036-9E3E-0E203CB1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8DAD-7C02-458F-92C1-8A88B3A2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C89C-849E-4F03-A596-F53A8032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ACE4-0A47-4AD6-A224-5664143A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1046-82C5-4B1B-95C8-6F342E14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326A-8FCD-4EFD-9A2A-E8459C9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C624-C6DF-45EF-8AC3-E720A4A4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28A-1076-4F07-A5EE-9B06CE63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EC4B-D3D8-4D85-B627-A3277AF9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F9C7-E139-4114-85DB-19D31C37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3FC7-99A1-4164-BC52-8814E8E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9DB5-0761-454B-9CA0-C7AC3BA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B96C-49AC-48BF-A346-93B780F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F598-F4E5-46F4-A183-05BD0CD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C12B-DD2E-4CBC-93DA-79AFB2B3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047E-A9E1-462C-9A41-598B076A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4ABD-D8F3-4777-B584-0FD79077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D874-34BA-41F8-9255-1FBDF3DD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206-C29A-4459-8E51-82906EA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7614D-E349-4A41-91E2-8DF02209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718F-555A-4E6A-81E2-C9D1A4B2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740E0-CD02-48BE-89CD-475A32F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5BB6-6BAB-43CE-91AE-C924707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5BC9-5EE2-4BF2-ADF4-5DA2DC2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504B5-611B-441E-9E88-3277C22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D5B50-EB0A-4B17-A8E9-AEAB0945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F158-A4D2-4FF6-9F6B-AA033EF2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6565F-7C26-49B6-B338-00CE527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3CD3-B815-4403-BFB2-375A2A42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25E-A715-4501-B40F-9C289BD8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FAAE-4D81-49C4-9756-0AC2F696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EFEEF-7EF7-4352-913A-1F705E9C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F08F-2F3F-40D0-A1A3-DAE3B514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4B41-70D9-4E2F-945F-005AEA97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56305-9563-40B1-8F3F-9FF81FE6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1DAE-0BDD-4272-9E72-0B238C8B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1C79-1D0B-41A4-9588-A391EC44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5DFA7-F44C-432F-8100-786ABBB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E6B68-9109-4972-AA52-4774A2C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4F19-C9F4-4478-BF07-2C04EB3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7F7-7890-4118-B51E-393EB39D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84B0-609A-447E-93ED-6CA6CA5E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C0D1-F4B7-42BD-8ADD-553B244E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3A6E-F390-4307-BE88-AD3DADFE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0F1A0-F889-4DC1-AD5D-D0ABA62D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44F55-B44C-41ED-A93C-56C1B91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8B6A-8D49-4201-88D0-00D13521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2CF55-2A74-4F95-BD7B-450ED470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70550-5D8E-4E44-B4F3-904D9FD2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42DAD-BDEA-438C-86B0-72BB51EB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FC645-7130-4DF1-B40C-0629943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3E4-B7FE-4AB0-9D76-245DF19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BC0DA-869F-4670-BD42-C61283E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C79F8-A4C4-4DB2-8BC4-D1929ECF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607FF-DDAA-4A9A-ADB4-B960BE0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6764-FF4D-495C-A0EE-5A28B241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F50A8-0265-47E0-A3CD-034C4E9C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02CD4-B969-412C-A606-9783F284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99D68-8FE3-4436-A186-F401598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BD24-12B0-47C7-9964-A7436EC4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73D07-19BC-4716-B7B9-10EA080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1BAD6-8481-4E30-B201-0F40A71B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189-CDE6-41AB-B99D-EE5E65B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40F20-C6CE-4119-8134-901AB8D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B187-B285-4709-B9C2-966A5344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A8AB5-5651-4A84-9444-2DBB715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6C969-EE83-4B1F-943F-75F5932D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F0CAB-139A-4C53-AC90-7C32763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BB992-9358-4968-80DE-4DF3EA22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E70C-FB96-4AF0-BB9A-16CF2F6E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43D-3714-4E64-8C26-DC8E6E183F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C9CF-F35C-4618-84F0-BC7C1B71E69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80B4-BF2D-44E3-8242-A412D3F2EA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934-AB4C-412C-A4E6-FEA82F7D4F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328-7D09-4A5F-94BD-46918D8565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B20E-7713-4FCD-B4E3-92902A299D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84BA-8E5D-4D61-87ED-021B1557DA95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7EF1-8849-4A69-BC5F-3A811BDF44B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0"/>
            <a:ext cx="8321760" cy="22496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345520" cy="17683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"/>
          <p:cNvSpPr/>
          <p:nvPr/>
        </p:nvSpPr>
        <p:spPr>
          <a:xfrm>
            <a:off x="3348000" y="508896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а Дарья Юр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редняя школа №12 с углубленным изучение английс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360" y="105264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Упор – положение занимающегося, при котором его плечи выше точек опор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cc0000"/>
                </a:solidFill>
                <a:latin typeface="Century Gothic"/>
              </a:rPr>
              <a:t>Простые упоры – опора только на руки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cc0000"/>
                </a:solidFill>
                <a:latin typeface="Century Gothic"/>
              </a:rPr>
              <a:t>Смешанные упоры – опора не только руками, но и еще какой либо частью тел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bbfd"/>
                </a:solidFill>
                <a:latin typeface="Century Gothic"/>
              </a:rPr>
              <a:t>Упор присев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– присед, колени вместе, руки на опоре снаружи, голова прямо. Выполняется на полу, гимнастической скамейке, на коне, козле и бревне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bbfd"/>
                </a:solidFill>
                <a:latin typeface="Century Gothic"/>
              </a:rPr>
              <a:t>Упор стоя на коленях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– опора руками и коленями, носки натянуты, или </a:t>
            </a:r>
            <a:r>
              <a:rPr b="1" lang="ru-RU" sz="1400" spc="-1" strike="noStrike">
                <a:solidFill>
                  <a:srgbClr val="17bbfd"/>
                </a:solidFill>
                <a:latin typeface="Century Gothic"/>
              </a:rPr>
              <a:t>упор стоя на одном колене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– выполнение то - же, но опора на одно колено, другую ногу назад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68360" y="2708280"/>
            <a:ext cx="1151280" cy="1295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40360" y="2708280"/>
            <a:ext cx="1081080" cy="1368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284720" y="494172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"/>
          <p:cNvPicPr/>
          <p:nvPr/>
        </p:nvPicPr>
        <p:blipFill>
          <a:blip r:embed="rId4"/>
          <a:stretch/>
        </p:blipFill>
        <p:spPr>
          <a:xfrm>
            <a:off x="6732720" y="494172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5"/>
          <a:stretch/>
        </p:blipFill>
        <p:spPr>
          <a:xfrm>
            <a:off x="1692360" y="4797360"/>
            <a:ext cx="16556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94920" y="83664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лежа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– учащийся обращен лицом к опоре.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Может выполняться на полу, гимнастической скамейке (руки или ноги на скамейке), на бревн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лежа сзади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выполняется из упора сидя сзади, спиной к опоре, разгибанием рук и выпрямлением в тазобедренных сустава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лежа боком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выполняется на полу,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имнастической скамейке, бревне, коне, пр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боковом расположении туловища к опоре с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пором на рук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1341360"/>
            <a:ext cx="1942920" cy="1289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867280" y="148428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403280" y="3141720"/>
            <a:ext cx="1871640" cy="1295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5292720" y="3284640"/>
            <a:ext cx="1871640" cy="1253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6804000" y="5300640"/>
            <a:ext cx="18734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88640" y="476280"/>
            <a:ext cx="8955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стоя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клонное положение тела стоя с опорой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ми о гимнастический снаряд (гимнастическа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тенка, конь, козел, бревно)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 максимально выпрямлены, опираютс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о опору всей ладонной поверхностью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е и ноги составляют прямую лин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а прямо. Выполняются на коне, козле, бревн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Упор на предплечья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е и ноги составляют прямую линию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а прямо. Кисть несколько смеще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кнаружи, а локоть внутрь. Между плечом 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едплечьем угол 90°. Такое расположение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едплечий позволяет избежать соскальзывани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локтей с брусьев при выполнении упражнений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56360" y="26028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451640" y="1989000"/>
            <a:ext cx="1440000" cy="2016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6012000" y="3860640"/>
            <a:ext cx="1008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4920" y="47628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Упор на рука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уловище держать прямо без провисания в плечевых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уставах. Кистями рук, незначительно согнуты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 локтевых суставах, обхватывают жерди, опираяс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 них преимущественно снаружи. Нормально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асположение плеч по отношению к жердям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оставляет угол в 45 градус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Упор сзад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з упора перемах одной в упор ноги врозь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(упор верхом) правой (левой) и перемахом другой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инять упор сзади. Руки прямые, туловище и ног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оставляют прямую линию, голова прям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Упор угло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уки выпрямлены, спина прямая, голов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ямо, ноги параллельны жердя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008000" cy="194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"/>
          <a:stretch/>
        </p:blipFill>
        <p:spPr>
          <a:xfrm>
            <a:off x="6875640" y="2637000"/>
            <a:ext cx="1009440" cy="2043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659640" y="5084640"/>
            <a:ext cx="1655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63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42920" y="83628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– положение занимающегося на снаряде, в котором плечи находятся ниже точек хват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д обучениям висам учащихся необходимо научить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технике хват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пражнения в висах выполняются хватом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сверху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, хватом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снизу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и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разным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хватом или 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смешанным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хват сверху                              хват снизу                        разноименный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71640" y="2852640"/>
            <a:ext cx="2448000" cy="107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851280" y="3429000"/>
            <a:ext cx="2592360" cy="1081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659640" y="2924280"/>
            <a:ext cx="21589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24000" y="475920"/>
            <a:ext cx="49924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bbfd"/>
                </a:solidFill>
                <a:latin typeface="Century Gothic"/>
              </a:rPr>
              <a:t>Висы сто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 на согнутых рука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зяться руками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ровне плеч хватом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верху, ноги должны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ходиться под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оекцией места хвата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 согнуты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локтевых сустава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.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Из виса стоя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тых руках, разгиба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, перейти в вис стоя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е и голову держат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ямо, угол накло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уловища к полу не более 45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003280" y="1196640"/>
            <a:ext cx="4140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 согнувшись.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согнутьс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 тазобедренн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уставах до угла 90°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 прямые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у держат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ямо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тоя сзад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овернуться кругом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отпуская одн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у, и снова взятьс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ею за снаряд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ширине плеч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хватом снизу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1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419640" y="1052640"/>
            <a:ext cx="1663560" cy="1944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2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771640" y="4941720"/>
            <a:ext cx="1314720" cy="1705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3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667640" y="1844640"/>
            <a:ext cx="1476360" cy="1871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4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451640" y="4365720"/>
            <a:ext cx="1068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404640"/>
            <a:ext cx="4716360" cy="43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присев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на согнут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х, разгибая рук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рисесть и принят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 присе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присев сзади.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сзади сделат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ебольшой шаг вперед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 присесть, не сгибая рук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00360" y="549360"/>
            <a:ext cx="4932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.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ыполняется из виса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тых руках поочередным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ли одновременным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ставлением ног вперед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Угол наклона тела к пол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менее 45°. Плечи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ертикальной плоскост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од перекладиной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согнувшись.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лежа согнутьс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 тазобедренных сустава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 принять вис леж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вшись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сзади.</a:t>
            </a: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присев сзад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двига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оги назад, принять вис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лежа сзад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836640"/>
            <a:ext cx="1152720" cy="1800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547640" y="4221000"/>
            <a:ext cx="1224000" cy="2060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885080" y="692280"/>
            <a:ext cx="147636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7524720" y="3213000"/>
            <a:ext cx="1619280" cy="1055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7380360" y="4869000"/>
            <a:ext cx="12952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88640" y="836640"/>
            <a:ext cx="8955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.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и, туловище и ноги составляют прямую линию. В положени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а тело держать прямо, мышцы плечевого пояса умеренн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пряжены, живот подтянут. Вис можно выполнять  спиной к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имнастической стенке, или лицом к ней. При выполнении вис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пиной к стенке необходимо касаться ее затылком, лопаткам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ягодицами, икроножными мышцами и пятками, а при выполнени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а лицом к стенке — грудью, животом, бедрами и носкам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на согнутых руках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на согнутых руках на гимнастической стенке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вой или второй рейке, опуская ноги, принять вис на согнут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х. На снарядах вис на согнутых руках можно принять из вис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тоя: слегка отталкиваясь ногами и сгибая руки, повиснуть на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огнутых руках и кратковременно зафиксировать это положе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bbfd"/>
                </a:solidFill>
                <a:latin typeface="Century Gothic"/>
              </a:rPr>
              <a:t>Вис согнув ноги.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присев оттолкнуться ногами, согнуть их в коленях 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кратковременно зафиксировать это положе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7451640" y="692280"/>
            <a:ext cx="558720" cy="223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8244000" y="1844640"/>
            <a:ext cx="503280" cy="180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3"/>
          <a:stretch/>
        </p:blipFill>
        <p:spPr>
          <a:xfrm>
            <a:off x="7667640" y="4149720"/>
            <a:ext cx="600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39200" y="476280"/>
            <a:ext cx="8704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согнувшис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выполняется на перекладине, брусьях, кольцах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Тело согнуто в тазобедренных суставах примерн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од углом 50-70°, спина округлена, голова слегка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наклонена к груди, руки прямые. Закончить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упражнение можно переходом в вис стоя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сзади или, опуская таз, в вис присев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углом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выполняется на гимнастической стенке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ерекладине, кольцах, брусьях. Из виса поднят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рямые ноги до горизонтального положения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Можно выполнить и следующим образом: из вис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ринять вис согнув ноги и после этого разогнуть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ноги в вис угло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прогнувшис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выполняется на гимнастической стенке,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ерекладине, кольцах, брусьях. Желательн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обучать на гимнастической стенке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Из виса стоя сзади согнувшись толчком ног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ерейти в вис прогнувшись. Руки абсолютн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прямые, затылок, спина, ноги и пятки касаю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стенки. Голова отклонена назад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1224000" cy="1557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7236000" y="198900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1871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88640" y="692280"/>
            <a:ext cx="8955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bbfd"/>
                </a:solidFill>
                <a:latin typeface="Century Gothic"/>
              </a:rPr>
              <a:t>Вис на согнутых ногах и руках (вис завесом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ыполняется на перекладине или брусьях р/в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з виса стоя толчком двух ног, сгибая их, сделат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мах двумя и принять вис на согнутых ногах 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руках (вис завесой двумя). Можно выполнить и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другим способом: из виса стоя сзади с наклоном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перед толчком двумя, через вис согнувшись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ис на согнутых ногах и руках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на одной.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Хват на ширине плеч, одна нога, согнутая в колене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кладется на перекладину, жердь, другая — пряма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и немного опущена вниз, тело немного прогнуто,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голова слегка наклонена назад. Страховать, сто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боку, одной рукой за запястье, другой за голень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оги, выполняющей завес. Выполняется из виса стоя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сзади, толчком двумя, через вис согнувшись сзади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перемахом одной ногой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на одной вне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ыполняется аналогично вису на одной (завесом),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только согнутая нога находится не между руками, а снаружи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7236000" y="692280"/>
            <a:ext cx="1584000" cy="1657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7308720" y="472428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3"/>
          <a:stretch/>
        </p:blipFill>
        <p:spPr>
          <a:xfrm>
            <a:off x="6588000" y="2781360"/>
            <a:ext cx="1729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67920" y="907560"/>
            <a:ext cx="8775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на согнутых ногах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ыполняется на перекладине и брусьях р/в. Ног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месте, согнуты в коленях, тело выпрямлено, слег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гнуто, голова наклонена назад. Страхуют, сто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боку, за голени, чтобы ноги не разгибались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ленных суставах. Выполнять упражнение из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иса на согнутых ногах и руках (виса завесом двумя)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пуская руки и выпрямляясь. Вначале руки опускаю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очередно, а затем одновременно. При переходе из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иса на согнутых ногах и руках в вис на согнутых нога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Century Gothic"/>
              </a:rPr>
              <a:t>страхуют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дной рукой за голени сверху, а другой поддерживают под спин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присев на нижней жерд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и этом положении на р/в брусьях ученица висит на в/ж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 носками согнутых ног опирается о н/ж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bbfd"/>
                </a:solidFill>
                <a:latin typeface="Century Gothic"/>
              </a:rPr>
              <a:t>Страховка и помощь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: стоя сбоку, поддерживать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дной рукой под спину, другой под ног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380360" y="260280"/>
            <a:ext cx="1439640" cy="2448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439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67920" y="404640"/>
            <a:ext cx="8775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на н/ж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висе лежа тело должно быть прямым и немног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гнутым, голова слегка наклонена назад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уки прямые, опора задней поверхностью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едер на н/ж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Century Gothic"/>
              </a:rPr>
              <a:t>Вис лежа ноги врозь одной (верхом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ис лежа ноги врозь можно выполнить различными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пособами, но с учетом последовательности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учения целесообразно использовать имеющийс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 учащихся двигательный опыт. Поэтому лучше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ть вис лежа правой (левой) на н/ж из виса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ежа перемахом одной назад или виса присев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олчком ног. В висе лежа ноги врозь тело, так же как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 в висе лежа, несколько прогнуто, руки прямые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олова наклонена назад, одна нога опирается задне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ерхностью бедра на н/ж, другая – ниже жерде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2016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358040" y="4987800"/>
            <a:ext cx="17859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03:05:00Z</dcterms:created>
  <dc:creator>1</dc:creator>
  <dc:description/>
  <dc:language>en-US</dc:language>
  <cp:lastModifiedBy>User</cp:lastModifiedBy>
  <dcterms:modified xsi:type="dcterms:W3CDTF">2022-10-28T16:26:02Z</dcterms:modified>
  <cp:revision>144</cp:revision>
  <dc:subject/>
  <dc:title>Гимнастика Методическая разработка по программе «Физическая культура»</dc:title>
</cp:coreProperties>
</file>