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13.jpeg" ContentType="image/jpeg"/>
  <Override PartName="/ppt/media/image44.png" ContentType="image/png"/>
  <Override PartName="/ppt/media/image40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2.jpeg" ContentType="image/jpeg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1F5-5CBC-41D6-9A58-3860941F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8EE-CA33-40B5-8BB3-16FE989B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10A-0489-4A42-A467-4DD720BF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5E5-A283-4587-AD55-B270029F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19B2-4BF6-4C4B-AF1E-3817BEBA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D06F-E66D-471E-B17D-B621716F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9B06-847C-4357-B410-F9EDAA8F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99F1-BBC5-4AD2-9513-F3B1C2E1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A186-EF6A-4FD6-9C7A-0D2A5F7C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F02E-276A-4EBF-852B-32249D3A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0D39-AED2-4EE6-8EFB-EA3AECA5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AD7-8C79-48C6-838B-E99B88D9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6924-4230-4416-919C-1E24082D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C75E-A29D-4758-A764-6B8B694F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2302-C197-453B-B8E9-4C9ED1EE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37B3-C9F7-41C0-8CAF-C893D9B9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EC6E-64F9-4348-A26B-1AF1E7B1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595F-D735-49FF-8465-177BDE50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85F99-2270-48CC-BF69-2150CC74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9BDCE-33D6-4C00-A180-2D166E2C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9AD0A-CD32-44E7-A55F-60421385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6D164-6BCD-44B8-8CE3-3A0C66C6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3EA-CF16-4A51-9456-EE1B5D9F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14BE-27D4-4E62-B1BC-B69D0D72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050D4-DFC3-4E97-AD53-EBC88640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9D791-D36F-4F29-88CF-FF64A945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C8D55-443A-4853-B23D-FF06CE5E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16735-D100-427A-97D9-8077E5CF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213C1-7D9D-4705-B310-60A7F360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820B8-2362-48D0-87D1-689D0E78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75BCD-7E20-46FD-9B50-DE1AE0E2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5378E-C131-4BA8-A3D6-A7891B69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322EB-685C-4952-9062-600EC9A8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A84-8B92-448B-86CB-AFC58D5A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41540-13BD-4238-A06E-E45D7DC4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8964C-9CF0-4709-A119-0758A21C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3BC12-FB60-44F1-8530-D4D2BF52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1E819-FAD8-4B0F-958F-1581D2B9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3DDEA-036D-471C-AA11-0248232D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86E73-D3BC-4E38-950B-A125A902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0BAF3-8377-4D0F-8CB3-A4D090B8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42D19-E142-49AE-B2A8-8939277A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D932E-A482-493A-A856-4DEE09CD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8F7B7-C3BD-4F9C-8BDB-652CE997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C5A-1ED5-43A0-9359-3359B8CA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4333C-8562-44AE-90A4-6609262E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62958-8973-4299-83C9-F6A6C1B7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B8E50-4885-46B6-8E16-87B56B24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7EE0A-8849-4F4C-9102-120A505C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487AA-21D4-4CCC-8A77-9F634581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FAD8F-5D91-41E0-BB6A-A568D4C7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F64AE-4784-4312-83D4-91EE0679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73A1D-8B58-4416-8941-E51D0250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B928-CF05-450B-9A2D-3CC7FA34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5B4B5-605C-4515-A2C4-1E9CC288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C48-B9DD-4F84-8ACD-FF7CB0C0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3FA95-AED1-42DE-B1A0-E0CAF231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33748-9963-4D04-A361-D95CC906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48E24-1E50-4188-94DE-6016B42D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FEE0D-0A0A-4F15-AE78-C470658F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46C86-6837-47C5-ACEE-FF88CC7A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FFDCD-FB3D-4612-A1BA-06B243DC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573BC-F0D7-4C9F-B433-63B05E04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EA506-2C4A-4D7B-97EC-62612FDF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299CA-D1BA-4E63-B67B-3A64430C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7DCE9-564E-42C2-99F2-46904A03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F75-0064-4F0D-9500-1A661BA3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768C1-22AA-4368-ACEC-4B8CE094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ED5F6-FB7B-496B-AFCD-ED2F9D44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B8AC1-BAA3-47F4-9EEA-716F856A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31C57-04F4-40B4-A591-5693DE7A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CAF99-BFB3-49DF-BF0E-33C2C70D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0F4C3-2CC9-449A-95D6-94115CF9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1F14D-4EE2-4482-AE46-276AC7DB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6E72E-6894-4D8F-A711-207AC37D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F1C68-EBA5-44C0-B7F4-4577FAA6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19E36-A715-4BF8-8B37-77156D99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B2B-1099-47D4-9E2B-FEAA084C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4BA29-192A-444D-ABC2-FB23A312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53591-358B-41F6-8EF0-0A853E98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67106-91F1-4F42-9BA6-7852D1BC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5D99F-6253-429A-9613-F798AECE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05AAC-7CBD-4425-86D9-8E9531F5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CACEF-2A03-4B57-AEED-71161521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1B50D-993D-4CFD-BC19-C3E308B5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41211-18C4-4DBF-97EB-5AC9BECD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8D70C-C4BD-4DFE-B7CF-E93C9C6E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E8136-99F8-42E6-874D-EE669B85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8E5-5798-4B67-A543-27B2E715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DC9F8-9A3F-41B7-B511-7FF4E8D3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B8EE0-EBD0-4F9F-815B-1B0A3F4D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B46D7-0018-4C37-AC9E-33F080E9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26432-96AD-497A-86B5-0F6B00A1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F0468-8D75-4A1D-930E-815C4016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342A0-720F-45F3-B286-02F3EB88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3D779-F9E6-499D-9E19-D50E0CF8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5069-04D1-4DCF-90B9-DCF2DCAC91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D267-8330-4046-8237-FB7F03AD7E4E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18B1-492B-4280-94B2-848F12B528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CF27-CBFC-4872-8C7C-E20739B57B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E639-7B10-4C71-8D9E-CA34D864F4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510D-82A5-4357-9A95-1AF7617355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DBF1-05DA-476E-9CBC-7D796A1D9168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3822-C067-406B-8935-6812AE208B6B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6400" y="0"/>
            <a:ext cx="8321760" cy="224964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243160"/>
            <a:ext cx="8345520" cy="17683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"/>
          <p:cNvSpPr/>
          <p:nvPr/>
        </p:nvSpPr>
        <p:spPr>
          <a:xfrm>
            <a:off x="3348000" y="508896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а Дарья Юр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физической культу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редняя школа №12 с углубленным изучение английского язы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-360" y="1052640"/>
            <a:ext cx="8955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Упор – положение занимающегося, при котором его плечи выше точек опор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cc0000"/>
                </a:solidFill>
                <a:latin typeface="Century Gothic"/>
              </a:rPr>
              <a:t>Простые упоры – опора только на руки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cc0000"/>
                </a:solidFill>
                <a:latin typeface="Century Gothic"/>
              </a:rPr>
              <a:t>Смешанные упоры – опора не только руками, но и еще какой либо частью тел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bbfd"/>
                </a:solidFill>
                <a:latin typeface="Century Gothic"/>
              </a:rPr>
              <a:t>Упор присев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– присед, колени вместе, руки на опоре снаружи, голова прямо. Выполняется на полу, гимнастической скамейке, на коне, козле и бревне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bbfd"/>
                </a:solidFill>
                <a:latin typeface="Century Gothic"/>
              </a:rPr>
              <a:t>Упор стоя на коленях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– опора руками и коленями, носки натянуты, или </a:t>
            </a:r>
            <a:r>
              <a:rPr b="1" lang="ru-RU" sz="1400" spc="-1" strike="noStrike">
                <a:solidFill>
                  <a:srgbClr val="17bbfd"/>
                </a:solidFill>
                <a:latin typeface="Century Gothic"/>
              </a:rPr>
              <a:t>упор стоя на одном колене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– выполнение то - же, но опора на одно колено, другую ногу назад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268360" y="2708280"/>
            <a:ext cx="1151280" cy="1295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940360" y="2708280"/>
            <a:ext cx="1081080" cy="1368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4284720" y="494172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"/>
          <p:cNvPicPr/>
          <p:nvPr/>
        </p:nvPicPr>
        <p:blipFill>
          <a:blip r:embed="rId4"/>
          <a:stretch/>
        </p:blipFill>
        <p:spPr>
          <a:xfrm>
            <a:off x="6732720" y="494172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"/>
          <p:cNvPicPr/>
          <p:nvPr/>
        </p:nvPicPr>
        <p:blipFill>
          <a:blip r:embed="rId5"/>
          <a:stretch/>
        </p:blipFill>
        <p:spPr>
          <a:xfrm>
            <a:off x="1692360" y="4797360"/>
            <a:ext cx="165564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94920" y="836640"/>
            <a:ext cx="8955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Упор лежа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– учащийся обращен лицом к опоре.</a:t>
            </a: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Может выполняться на полу, гимнастической скамейке (руки или ноги на скамейке), на бревн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Упор лежа сзади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выполняется из упора сидя сзади, спиной к опоре, разгибанием рук и выпрямлением в тазобедренных суставах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Упор лежа боком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выполняется на полу, 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гимнастической скамейке, бревне, коне, пр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боковом расположении туловища к опоре с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упором на руку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332000" y="1341360"/>
            <a:ext cx="1942920" cy="1289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867280" y="1484280"/>
            <a:ext cx="1871640" cy="1297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1403280" y="3141720"/>
            <a:ext cx="1871640" cy="1295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5292720" y="3284640"/>
            <a:ext cx="1871640" cy="1253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6804000" y="5300640"/>
            <a:ext cx="187344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88640" y="476280"/>
            <a:ext cx="8955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Упор стоя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Наклонное положение тела стоя с опорой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ами о гимнастический снаряд (гимнастическа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тенка, конь, козел, бревно)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Упоры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и максимально выпрямлены, опираются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о опору всей ладонной поверхностью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туловище и ноги составляют прямую лини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голова прямо. Выполняются на коне, козле, бревн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Упор на предплечьях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Туловище и ноги составляют прямую линию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голова прямо. Кисть несколько смеще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кнаружи, а локоть внутрь. Между плечом и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редплечьем угол 90°. Такое расположение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редплечий позволяет избежать соскальзывани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локтей с брусьев при выполнении упражнений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6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56360" y="260280"/>
            <a:ext cx="1224000" cy="18716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451640" y="1989000"/>
            <a:ext cx="1440000" cy="2016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3"/>
          <a:stretch/>
        </p:blipFill>
        <p:spPr>
          <a:xfrm>
            <a:off x="6012000" y="3860640"/>
            <a:ext cx="1008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94920" y="476280"/>
            <a:ext cx="8955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bbfd"/>
                </a:solidFill>
                <a:latin typeface="Century Gothic"/>
              </a:rPr>
              <a:t>Упор на руках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Туловище держать прямо без провисания в плечевых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уставах. Кистями рук, незначительно согнутых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в локтевых суставах, обхватывают жерди, опираяс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а них преимущественно снаружи. Нормально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расположение плеч по отношению к жердям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оставляет угол в 45 градусов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bbfd"/>
                </a:solidFill>
                <a:latin typeface="Century Gothic"/>
              </a:rPr>
              <a:t>Упор сзад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Из упора перемах одной в упор ноги врозь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(упор верхом) правой (левой) и перемахом другой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ринять упор сзади. Руки прямые, туловище и ноги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оставляют прямую линию, голова прямо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Упор угло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Руки выпрямлены, спина прямая, голов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рямо, ноги параллельны жердя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008000" cy="1943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2"/>
          <a:stretch/>
        </p:blipFill>
        <p:spPr>
          <a:xfrm>
            <a:off x="6875640" y="2637000"/>
            <a:ext cx="1009440" cy="2043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9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6659640" y="5084640"/>
            <a:ext cx="1655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631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42920" y="83628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37476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bbfd"/>
                </a:solidFill>
                <a:latin typeface="Century Gothic"/>
              </a:rPr>
              <a:t>Вис – положение занимающегося на снаряде, в котором плечи находятся ниже точек хват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еред обучениям висам учащихся необходимо научить </a:t>
            </a: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технике хвато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Упражнения в висах выполняются хватом </a:t>
            </a: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сверху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, хватом </a:t>
            </a: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снизу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и </a:t>
            </a: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разным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хватом или </a:t>
            </a: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смешанным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хват сверху                              хват снизу                        разноименный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971640" y="2852640"/>
            <a:ext cx="2448000" cy="107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851280" y="3429000"/>
            <a:ext cx="2592360" cy="1081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6659640" y="2924280"/>
            <a:ext cx="21589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24000" y="475920"/>
            <a:ext cx="49924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bbfd"/>
                </a:solidFill>
                <a:latin typeface="Century Gothic"/>
              </a:rPr>
              <a:t>Висы сто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Вис стоя на согнутых руках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зяться руками 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уровне плеч хватом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верху, ноги должны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находиться под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роекцией места хвата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и согнуты в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локтевых суставах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Вис стоя.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Из виса стоя 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огнутых руках, разгибая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и, перейти в вис стоя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Туловище и голову держат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рямо, угол накло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туловища к полу не более 45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003280" y="1196640"/>
            <a:ext cx="41403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Вис стоя согнувшись.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стоя согнутьс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 тазобедренных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уставах до угла 90°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и прямые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голову держать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рямо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Вис стоя сзади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сто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овернуться кругом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отпуская одну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у, и снова взятьс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ею за снаряд 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ширине плеч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хватом снизу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18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419640" y="1052640"/>
            <a:ext cx="1663560" cy="1944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2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771640" y="4941720"/>
            <a:ext cx="1314720" cy="1705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3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7667640" y="1844640"/>
            <a:ext cx="1476360" cy="18716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4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7451640" y="4365720"/>
            <a:ext cx="1068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-360" y="404640"/>
            <a:ext cx="4716360" cy="43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bbfd"/>
                </a:solidFill>
                <a:latin typeface="Century Gothic"/>
              </a:rPr>
              <a:t>Вис присев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стоя на согнутых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ах, разгибая руки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рисесть и принять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ис присе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присев сзади.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стоя сзади сделат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небольшой шаг вперед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 присесть, не сгибая рук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00360" y="549360"/>
            <a:ext cx="4932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лежа.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ыполняется из виса 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огнутых руках поочередным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ли одновременным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ереставлением ног вперед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Угол наклона тела к полу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менее 45°. Плечи в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ертикальной плоскости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од перекладиной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лежа согнувшись.</a:t>
            </a: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лежа согнутьс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 тазобедренных суставах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 принять вис леж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огнувшись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лежа сзади.</a:t>
            </a: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присев сзади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ередвигая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ноги назад, принять вис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лежа сзади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987640" y="836640"/>
            <a:ext cx="1152720" cy="1800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547640" y="4221000"/>
            <a:ext cx="1224000" cy="2060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7885080" y="692280"/>
            <a:ext cx="1476360" cy="1800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7524720" y="3213000"/>
            <a:ext cx="1619280" cy="10558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7380360" y="4869000"/>
            <a:ext cx="129528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88640" y="836640"/>
            <a:ext cx="8955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17bbfd"/>
                </a:solidFill>
                <a:latin typeface="Century Gothic"/>
              </a:rPr>
              <a:t>Вис.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и, туловище и ноги составляют прямую линию. В положении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иса тело держать прямо, мышцы плечевого пояса умеренно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напряжены, живот подтянут. Вис можно выполнять  спиной к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гимнастической стенке, или лицом к ней. При выполнении вис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пиной к стенке необходимо касаться ее затылком, лопатками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ягодицами, икроножными мышцами и пятками, а при выполнени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иса лицом к стенке — грудью, животом, бедрами и носками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bbfd"/>
                </a:solidFill>
                <a:latin typeface="Century Gothic"/>
              </a:rPr>
              <a:t>Вис на согнутых руках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стоя на согнутых руках на гимнастической стенке 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ервой или второй рейке, опуская ноги, принять вис на согнутых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ах. На снарядах вис на согнутых руках можно принять из вис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тоя: слегка отталкиваясь ногами и сгибая руки, повиснуть 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огнутых руках и кратковременно зафиксировать это положени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bbfd"/>
                </a:solidFill>
                <a:latin typeface="Century Gothic"/>
              </a:rPr>
              <a:t>Вис согнув ноги.</a:t>
            </a:r>
            <a:r>
              <a:rPr b="1" lang="ru-RU" sz="2400" spc="-1" strike="noStrike">
                <a:solidFill>
                  <a:srgbClr val="17bbf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присев оттолкнуться ногами, согнуть их в коленях 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кратковременно зафиксировать это положени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7451640" y="692280"/>
            <a:ext cx="558720" cy="2232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2"/>
          <a:stretch/>
        </p:blipFill>
        <p:spPr>
          <a:xfrm>
            <a:off x="8244000" y="1844640"/>
            <a:ext cx="503280" cy="1800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"/>
          <p:cNvPicPr/>
          <p:nvPr/>
        </p:nvPicPr>
        <p:blipFill>
          <a:blip r:embed="rId3"/>
          <a:stretch/>
        </p:blipFill>
        <p:spPr>
          <a:xfrm>
            <a:off x="7667640" y="4149720"/>
            <a:ext cx="6001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39200" y="476280"/>
            <a:ext cx="8704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Вис согнувшис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выполняется на перекладине, брусьях, кольцах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Тело согнуто в тазобедренных суставах примерно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под углом 50-70°, спина округлена, голова слегка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наклонена к груди, руки прямые. Закончить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упражнение можно переходом в вис стоя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сзади или, опуская таз, в вис присев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Вис углом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выполняется на гимнастической стенке,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перекладине, кольцах, брусьях. Из виса поднят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прямые ноги до горизонтального положения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Можно выполнить и следующим образом: из вис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принять вис согнув ноги и после этого разогнуть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ноги в вис угло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Вис прогнувшис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выполняется на гимнастической стенке,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перекладине, кольцах, брусьях. Желательно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обучать на гимнастической стенке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Из виса стоя сзади согнувшись толчком но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перейти в вис прогнувшись. Руки абсолютно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прямые, затылок, спина, ноги и пятки касаютс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стенки. Голова отклонена назад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1224000" cy="1557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"/>
          <p:cNvPicPr/>
          <p:nvPr/>
        </p:nvPicPr>
        <p:blipFill>
          <a:blip r:embed="rId2"/>
          <a:stretch/>
        </p:blipFill>
        <p:spPr>
          <a:xfrm>
            <a:off x="7236000" y="1989000"/>
            <a:ext cx="1441440" cy="1584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"/>
          <p:cNvPicPr/>
          <p:nvPr/>
        </p:nvPicPr>
        <p:blipFill>
          <a:blip r:embed="rId3"/>
          <a:stretch/>
        </p:blipFill>
        <p:spPr>
          <a:xfrm>
            <a:off x="5940360" y="4005360"/>
            <a:ext cx="1871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88640" y="692280"/>
            <a:ext cx="8955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Вис на согнутых ногах и руках (вис завесом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ыполняется на перекладине или брусьях р/в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стоя толчком двух ног, сгибая их, сделать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еремах двумя и принять вис на согнутых ногах 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ах (вис завесой двумя). Можно выполнить и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другим способом: из виса стоя сзади с наклоном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перед толчком двумя, через вис согнувшись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ис на согнутых ногах и руках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на одной.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Хват на ширине плеч, одна нога, согнутая в колене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кладется на перекладину, жердь, другая — пряма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 немного опущена вниз, тело немного прогнуто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голова слегка наклонена назад. Страховать, стоя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боку, одной рукой за запястье, другой за голень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ноги, выполняющей завес. Выполняется из виса стоя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зади, толчком двумя, через вис согнувшись сзади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еремахом одной ногой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на одной вне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ыполняется аналогично вису на одной (завесом)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только согнутая нога находится не между руками, а снаружи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7236000" y="692280"/>
            <a:ext cx="1584000" cy="1657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"/>
          <p:cNvPicPr/>
          <p:nvPr/>
        </p:nvPicPr>
        <p:blipFill>
          <a:blip r:embed="rId2"/>
          <a:stretch/>
        </p:blipFill>
        <p:spPr>
          <a:xfrm>
            <a:off x="7308720" y="4724280"/>
            <a:ext cx="1513080" cy="1513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"/>
          <p:cNvPicPr/>
          <p:nvPr/>
        </p:nvPicPr>
        <p:blipFill>
          <a:blip r:embed="rId3"/>
          <a:stretch/>
        </p:blipFill>
        <p:spPr>
          <a:xfrm>
            <a:off x="6588000" y="2781360"/>
            <a:ext cx="17290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67920" y="907560"/>
            <a:ext cx="8775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на согнутых ногах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ыполняется на перекладине и брусьях р/в. Ноги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месте, согнуты в коленях, тело выпрямлено, слег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гнуто, голова наклонена назад. Страхуют, сто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боку, за голени, чтобы ноги не разгибались в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оленных суставах. Выполнять упражнение из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иса на согнутых ногах и руках (виса завесом двумя),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пуская руки и выпрямляясь. Вначале руки опускают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оочередно, а затем одновременно. При переходе из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иса на согнутых ногах и руках в вис на согнутых ногах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Century Gothic"/>
              </a:rPr>
              <a:t>страхуют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дной рукой за голени сверху, а другой поддерживают под спину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присев на нижней жерд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и этом положении на р/в брусьях ученица висит на в/ж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 носками согнутых ног опирается о н/ж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bbfd"/>
                </a:solidFill>
                <a:latin typeface="Century Gothic"/>
              </a:rPr>
              <a:t>Страховка и помощь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: стоя сбоку, поддерживать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дной рукой под спину, другой под ног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7380360" y="260280"/>
            <a:ext cx="1439640" cy="2448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2"/>
          <a:stretch/>
        </p:blipFill>
        <p:spPr>
          <a:xfrm>
            <a:off x="7380360" y="4221000"/>
            <a:ext cx="143964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67920" y="404640"/>
            <a:ext cx="8775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лежа на н/ж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 висе лежа тело должно быть прямым и немного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огнутым, голова слегка наклонена назад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уки прямые, опора задней поверхностью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бедер на н/ж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лежа ноги врозь одной (верхом)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ис лежа ноги врозь можно выполнить различными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пособами, но с учетом последовательности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учения целесообразно использовать имеющийс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у учащихся двигательный опыт. Поэтому лучше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ыполнить вис лежа правой (левой) на н/ж из виса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лежа перемахом одной назад или виса присев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олчком ног. В висе лежа ноги врозь тело, так же как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и в висе лежа, несколько прогнуто, руки прямые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голова наклонена назад, одна нога опирается задней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верхностью бедра на н/ж, другая – ниже жердей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1" name="Picture 6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439640" cy="2016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358040" y="4987800"/>
            <a:ext cx="17859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03:05:00Z</dcterms:created>
  <dc:creator>1</dc:creator>
  <dc:description/>
  <dc:language>en-US</dc:language>
  <cp:lastModifiedBy>User</cp:lastModifiedBy>
  <dcterms:modified xsi:type="dcterms:W3CDTF">2022-10-28T16:26:02Z</dcterms:modified>
  <cp:revision>144</cp:revision>
  <dc:subject/>
  <dc:title>Гимнастика Методическая разработка по программе «Физическая культура»</dc:title>
</cp:coreProperties>
</file>