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382-09A2-442B-BDB9-51794B46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C33-F526-421E-AD8F-60C18DDB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77A-DF52-45D0-9E02-AB661B74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0A3-1B16-4451-80FD-A04EFF37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079-4954-4369-9CBB-8A4CAE5A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86D-E241-4D9A-95C6-BFC0D4A1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22F-5737-4DBA-83F7-426650ED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939-6266-4774-A9E3-C363E712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11F-190D-4128-A70E-3C14609C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912-1753-43DE-BC24-39B7FE71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6B8-E4FF-40F3-B8B3-B2E9DC55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B8E-5883-4A25-B8F0-9C08980B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4F0678-6388-4C04-A598-BC87796434F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для родителей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чень любим мы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труд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 «Буси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: Головченко Е.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ли мы уже большим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м не нужно помогат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и мы на стол накро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0520" y="1341360"/>
            <a:ext cx="4992840" cy="2808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3603600" y="3573360"/>
            <a:ext cx="55054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асстелим мы к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88707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и мы игрушки мо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65240" y="1052640"/>
            <a:ext cx="5503680" cy="309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443400" y="3645000"/>
            <a:ext cx="558468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цветочки полив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1680" y="1268280"/>
            <a:ext cx="5332320" cy="2962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419640" y="3490920"/>
            <a:ext cx="56322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играем, а потом – всё на место прибе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08000" y="1260360"/>
            <a:ext cx="5133960" cy="288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851280" y="3784680"/>
            <a:ext cx="5129280" cy="28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– не сонные ленивцы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ТРУДЯГАМИ растё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3487680" cy="54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324000" y="0"/>
            <a:ext cx="8064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7400" y="339372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1T05:20:27Z</dcterms:created>
  <dc:creator>Мамулька</dc:creator>
  <dc:description/>
  <dc:language>en-US</dc:language>
  <cp:lastModifiedBy>MAZAINT</cp:lastModifiedBy>
  <dcterms:modified xsi:type="dcterms:W3CDTF">2021-03-20T05:32:0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