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A53-1E22-4887-934D-D5A0CD39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289-3DFE-4703-82EA-789F3D4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844-5193-46F6-9D60-35942CA8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D68-50A3-4E5C-B532-66815951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DEF-0D83-405A-B778-87D15652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D17-F152-499E-BD9A-799C014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59F-6536-46F5-A8FF-D9D0E48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33E-35F0-4985-A29D-983BC6E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A1E-EBFA-4718-B6CB-713D9170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DA5-4D81-4BF4-9210-F5EFAC7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64B-C451-4018-88DA-8F0B7EE1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2CA-7F03-4832-BE90-ED8147F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64E2BD-3836-49EB-A39C-6A739885227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для родителей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чень любим м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труд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«Бус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Головченко Е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и мы уже большим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м не нужно помога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и мы на стол накр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520" y="1341360"/>
            <a:ext cx="4992840" cy="28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603600" y="3573360"/>
            <a:ext cx="55054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асстелим мы к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707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и мы игрушки м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5240" y="1052640"/>
            <a:ext cx="5503680" cy="309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443400" y="3645000"/>
            <a:ext cx="55846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цветочки поли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680" y="1268280"/>
            <a:ext cx="533232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419640" y="3490920"/>
            <a:ext cx="56322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граем, а потом – всё на место прибе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08000" y="1260360"/>
            <a:ext cx="5133960" cy="288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851280" y="3784680"/>
            <a:ext cx="512928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– не сонные ленивц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ТРУДЯГАМИ раст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48768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32400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400" y="3393720"/>
            <a:ext cx="8227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5:20:27Z</dcterms:created>
  <dc:creator>Мамулька</dc:creator>
  <dc:description/>
  <dc:language>en-US</dc:language>
  <cp:lastModifiedBy>MAZAINT</cp:lastModifiedBy>
  <dcterms:modified xsi:type="dcterms:W3CDTF">2021-03-20T05:32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