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DDB-C48D-42FB-B5FA-E8EB90EE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D6E-D4BA-4E0E-BDF2-08A9F384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040-8A48-4FE4-A2EE-8807AFFD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4C6-9513-46D6-B6D8-A66043B5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BFD-BA89-4C5C-976E-9AD158C7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454-796F-4F6E-B437-A7A4A846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ECE-D52A-4393-ABF1-7EF767F9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C83-6796-458D-B105-A1661A62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3AC-52AC-4C13-91B2-68AD6EBA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6FD-752D-452C-B131-26C2FA02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F7E-5019-435B-8A31-15FB02E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4A6-06D7-47AC-88C3-ECF80525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4BB4-DDBA-4411-A3A3-577289EDC910}" type="slidenum"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3"/>
          <p:cNvSpPr/>
          <p:nvPr/>
        </p:nvSpPr>
        <p:spPr>
          <a:xfrm>
            <a:off x="1908000" y="251136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зентация для детей  млад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школьного возраста на внимание, пам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02560" cy="1844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то, где живе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rcRect l="0" t="0" r="54442" b="10768"/>
          <a:stretch/>
        </p:blipFill>
        <p:spPr>
          <a:xfrm>
            <a:off x="0" y="3789360"/>
            <a:ext cx="1944720" cy="1801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"/>
          <p:cNvPicPr/>
          <p:nvPr/>
        </p:nvPicPr>
        <p:blipFill>
          <a:blip r:embed="rId2"/>
          <a:srcRect l="0" t="0" r="60130" b="0"/>
          <a:stretch/>
        </p:blipFill>
        <p:spPr>
          <a:xfrm>
            <a:off x="6732720" y="1484280"/>
            <a:ext cx="1701720" cy="2019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"/>
          <p:cNvPicPr/>
          <p:nvPr/>
        </p:nvPicPr>
        <p:blipFill>
          <a:blip r:embed="rId3"/>
          <a:srcRect l="60130" t="0" r="0" b="0"/>
          <a:stretch/>
        </p:blipFill>
        <p:spPr>
          <a:xfrm>
            <a:off x="6875640" y="4356000"/>
            <a:ext cx="1406520" cy="16686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"/>
          <p:cNvPicPr/>
          <p:nvPr/>
        </p:nvPicPr>
        <p:blipFill>
          <a:blip r:embed="rId4"/>
          <a:srcRect l="61816" t="3637" r="0" b="10768"/>
          <a:stretch/>
        </p:blipFill>
        <p:spPr>
          <a:xfrm>
            <a:off x="324000" y="620640"/>
            <a:ext cx="1628640" cy="1727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"/>
          <p:cNvPicPr/>
          <p:nvPr/>
        </p:nvPicPr>
        <p:blipFill>
          <a:blip r:embed="rId5"/>
          <a:srcRect l="6565" t="3335" r="54004" b="6669"/>
          <a:stretch/>
        </p:blipFill>
        <p:spPr>
          <a:xfrm>
            <a:off x="3851280" y="4149720"/>
            <a:ext cx="164160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8" descr=""/>
          <p:cNvPicPr/>
          <p:nvPr/>
        </p:nvPicPr>
        <p:blipFill>
          <a:blip r:embed="rId1"/>
          <a:srcRect l="60753" t="0" r="0" b="0"/>
          <a:stretch/>
        </p:blipFill>
        <p:spPr>
          <a:xfrm>
            <a:off x="6588000" y="-69840"/>
            <a:ext cx="177012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"/>
          <p:cNvPicPr/>
          <p:nvPr/>
        </p:nvPicPr>
        <p:blipFill>
          <a:blip r:embed="rId2"/>
          <a:srcRect l="60128" t="0" r="0" b="0"/>
          <a:stretch/>
        </p:blipFill>
        <p:spPr>
          <a:xfrm>
            <a:off x="250920" y="4581360"/>
            <a:ext cx="1701720" cy="2019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3"/>
          <a:srcRect l="0" t="0" r="60128" b="0"/>
          <a:stretch/>
        </p:blipFill>
        <p:spPr>
          <a:xfrm>
            <a:off x="324000" y="2565360"/>
            <a:ext cx="170172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"/>
          <p:cNvPicPr/>
          <p:nvPr/>
        </p:nvPicPr>
        <p:blipFill>
          <a:blip r:embed="rId4"/>
          <a:srcRect l="54003" t="3334" r="6564" b="6668"/>
          <a:stretch/>
        </p:blipFill>
        <p:spPr>
          <a:xfrm>
            <a:off x="6732720" y="4653000"/>
            <a:ext cx="2041560" cy="2205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"/>
          <p:cNvPicPr/>
          <p:nvPr/>
        </p:nvPicPr>
        <p:blipFill>
          <a:blip r:embed="rId5"/>
          <a:srcRect l="60128" t="0" r="4438" b="10768"/>
          <a:stretch/>
        </p:blipFill>
        <p:spPr>
          <a:xfrm>
            <a:off x="6572160" y="2133720"/>
            <a:ext cx="2176560" cy="2590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6"/>
          <a:srcRect l="0" t="0" r="54442" b="10768"/>
          <a:stretch/>
        </p:blipFill>
        <p:spPr>
          <a:xfrm>
            <a:off x="395280" y="476280"/>
            <a:ext cx="1944720" cy="18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39 -0.02315 C 0.10434 -0.03287 0.11371 -0.04097 0.12361 -0.04375 C 0.12604 -0.04584 0.12829 -0.04815 0.13073 -0.05023 C 0.13194 -0.05139 0.1342 -0.05347 0.1342 -0.05347 C 0.13767 -0.06019 0.14166 -0.06574 0.14496 -0.07246 C 0.14531 -0.15139 0.14548 -0.23009 0.14618 -0.30903 C 0.14635 -0.31852 0.14739 -0.33033 0.15329 -0.33588 C 0.15607 -0.34144 0.16111 -0.34815 0.16527 -0.35185 C 0.17135 -0.36435 0.18211 -0.36922 0.19027 -0.37871 C 0.19722 -0.38681 0.20486 -0.39445 0.21163 -0.40255 C 0.21961 -0.41204 0.21996 -0.41574 0.22951 -0.42014 C 0.24913 -0.42894 0.27083 -0.42107 0.29149 -0.42153 C 0.29687 -0.42408 0.30121 -0.42778 0.30694 -0.42963 C 0.3276 -0.44769 0.3085 -0.52732 0.31284 -0.57084 C 0.31597 -0.60139 0.34062 -0.6088 0.35694 -0.62315 C 0.36336 -0.62871 0.36458 -0.62986 0.37118 -0.63264 C 0.37361 -0.63357 0.37829 -0.63588 0.37829 -0.63588 C 0.39982 -0.63519 0.44114 -0.6382 0.46527 -0.63125 C 0.47708 -0.62037 0.47517 -0.62084 0.49027 -0.61852 C 0.4927 -0.61736 0.49496 -0.61644 0.49739 -0.61528 C 0.49861 -0.61482 0.50086 -0.61366 0.50086 -0.61366 C 0.50173 -0.61204 0.50225 -0.61019 0.50329 -0.60903 C 0.50538 -0.60648 0.50764 -0.60371 0.51041 -0.60255 C 0.55625 -0.58172 0.66284 -0.62685 0.66284 -0.59468 E">
                                      <p:cBhvr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64 -0.00393 C 0.13021 -0.00347 0.15295 -0.00439 0.17552 -0.00231 C 0.1776 -0.00208 0.1783 0.00579 0.17917 0.00718 C 0.18125 0.01065 0.18455 0.01297 0.18628 0.01667 C 0.19062 0.0257 0.19358 0.03311 0.20052 0.03889 C 0.20295 0.04838 0.2099 0.05278 0.2125 0.06274 C 0.21285 0.0882 0.21337 0.11343 0.21354 0.13889 C 0.21406 0.18704 0.21354 0.23519 0.21476 0.28334 C 0.2151 0.29445 0.22066 0.29769 0.22309 0.30718 C 0.22708 0.32292 0.23316 0.3375 0.2375 0.35325 C 0.24201 0.36968 0.24167 0.39121 0.2493 0.40556 C 0.25052 0.41065 0.25121 0.41667 0.25295 0.42153 C 0.25365 0.42315 0.25451 0.42477 0.25521 0.42639 C 0.25608 0.42848 0.25694 0.43056 0.25764 0.43264 C 0.2599 0.43959 0.26146 0.44607 0.26719 0.44862 C 0.29896 0.44815 0.33073 0.44862 0.3625 0.447 C 0.36493 0.44676 0.36962 0.44375 0.36962 0.44375 C 0.38194 0.43218 0.36476 0.44769 0.37674 0.43889 C 0.37917 0.43704 0.38385 0.43264 0.38385 0.43264 C 0.39115 0.4176 0.3967 0.40371 0.41007 0.39769 C 0.41128 0.39653 0.41233 0.39537 0.41354 0.39445 C 0.41476 0.39375 0.41615 0.39399 0.41719 0.39306 C 0.41979 0.39121 0.4243 0.38658 0.4243 0.38658 C 0.42674 0.37686 0.42587 0.36528 0.42917 0.35649 C 0.43038 0.35325 0.43125 0.35 0.43264 0.347 C 0.43403 0.34375 0.4375 0.3375 0.4375 0.3375 C 0.43941 0.32848 0.43698 0.33612 0.44219 0.3294 C 0.44323 0.32801 0.4434 0.3257 0.44462 0.32477 C 0.4467 0.32292 0.45174 0.32153 0.45174 0.32153 C 0.4559 0.3176 0.45868 0.31713 0.46354 0.31528 C 0.46597 0.31436 0.47083 0.31204 0.47083 0.31204 C 0.47465 0.30857 0.47812 0.30602 0.48264 0.30417 C 0.4849 0.30209 0.48767 0.30162 0.48976 0.29931 C 0.49687 0.29144 0.48733 0.2963 0.49583 0.29306 C 0.50139 0.28797 0.49809 0.29028 0.50642 0.28658 C 0.50885 0.28542 0.51354 0.28334 0.51354 0.28334 C 0.52587 0.2838 0.53819 0.28403 0.55052 0.28496 C 0.55642 0.28542 0.56146 0.29075 0.56719 0.29144 C 0.58264 0.29329 0.57587 0.29213 0.5875 0.29445 C 0.58871 0.29491 0.5901 0.29491 0.59097 0.29607 C 0.59236 0.29792 0.59219 0.30371 0.59219 0.29931 E">
                                      <p:cBhvr>
                                        <p:cTn id="3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6436 C 0.00261 -0.06528 0.00365 -0.06667 0.00486 -0.06736 C 0.00712 -0.06875 0.01198 -0.07061 0.01198 -0.07037 C 0.054 -0.06968 0.07257 -0.07385 0.10486 -0.06274 C 0.11059 -0.05764 0.10712 -0.06019 0.11563 -0.05625 L 0.11563 -0.05602 C 0.11997 -0.05255 0.125 -0.04908 0.12986 -0.04676 C 0.13073 -0.04514 0.13125 -0.04329 0.13229 -0.04213 C 0.13438 -0.03959 0.13941 -0.03565 0.13941 -0.03542 C 0.14028 -0.03241 0.14271 -0.02963 0.14306 -0.02616 C 0.14479 -0.00718 0.14375 0.01203 0.14531 0.03101 C 0.14584 0.03703 0.14896 0.04838 0.14896 0.04861 C 0.15156 0.07546 0.15434 0.10231 0.15729 0.12939 C 0.15834 0.15115 0.16042 0.17268 0.16198 0.19444 C 0.16233 0.19838 0.16528 0.21342 0.16563 0.21504 C 0.1665 0.21921 0.16806 0.22777 0.16806 0.22801 C 0.16841 0.24004 0.16893 0.25208 0.16927 0.26435 C 0.16962 0.27592 0.16979 0.28773 0.17031 0.2993 C 0.17448 0.38055 0.20886 0.33148 0.29775 0.33264 C 0.37344 0.34537 0.53472 0.43449 0.53472 0.33101 E">
                                      <p:cBhvr>
                                        <p:cTn id="35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rcRect l="61816" t="3637" r="0" b="10768"/>
          <a:stretch/>
        </p:blipFill>
        <p:spPr>
          <a:xfrm>
            <a:off x="7236000" y="2492280"/>
            <a:ext cx="1630080" cy="1728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2"/>
          <a:srcRect l="6749" t="0" r="54442" b="7292"/>
          <a:stretch/>
        </p:blipFill>
        <p:spPr>
          <a:xfrm>
            <a:off x="250920" y="2708280"/>
            <a:ext cx="1657080" cy="1873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"/>
          <p:cNvPicPr/>
          <p:nvPr/>
        </p:nvPicPr>
        <p:blipFill>
          <a:blip r:embed="rId3"/>
          <a:srcRect l="64127" t="7131" r="4142" b="17989"/>
          <a:stretch/>
        </p:blipFill>
        <p:spPr>
          <a:xfrm>
            <a:off x="7020000" y="4767120"/>
            <a:ext cx="1873080" cy="2090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"/>
          <p:cNvPicPr/>
          <p:nvPr/>
        </p:nvPicPr>
        <p:blipFill>
          <a:blip r:embed="rId4"/>
          <a:srcRect l="60753" t="10697" r="3813" b="17989"/>
          <a:stretch/>
        </p:blipFill>
        <p:spPr>
          <a:xfrm>
            <a:off x="7164360" y="260280"/>
            <a:ext cx="151128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"/>
          <p:cNvPicPr/>
          <p:nvPr/>
        </p:nvPicPr>
        <p:blipFill>
          <a:blip r:embed="rId5"/>
          <a:srcRect l="5062" t="3566" r="57817" b="10858"/>
          <a:stretch/>
        </p:blipFill>
        <p:spPr>
          <a:xfrm>
            <a:off x="324000" y="5129280"/>
            <a:ext cx="158400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6"/>
          <a:srcRect l="5062" t="0" r="52755" b="0"/>
          <a:stretch/>
        </p:blipFill>
        <p:spPr>
          <a:xfrm>
            <a:off x="324000" y="189000"/>
            <a:ext cx="180000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48 0.01088 C 0.11493 0.01134 0.13056 0.00903 0.14584 0.0125 C 0.14827 0.01296 0.14827 0.02199 0.14827 0.02199 C 0.14792 0.0544 0.14809 0.08657 0.14705 0.11898 C 0.14688 0.12407 0.14237 0.1331 0.14237 0.1331 C 0.14271 0.1368 0.14184 0.1412 0.14358 0.14421 C 0.14514 0.14676 0.14827 0.14629 0.1507 0.14745 C 0.15678 0.15023 0.15348 0.14838 0.16146 0.15532 C 0.16389 0.15741 0.16858 0.1618 0.16858 0.1618 C 0.1724 0.16967 0.1698 0.16551 0.17813 0.17292 C 0.17934 0.17384 0.1816 0.17592 0.1816 0.17592 C 0.18247 0.17917 0.18316 0.18241 0.18403 0.18565 C 0.18438 0.18727 0.18525 0.19028 0.18525 0.19028 C 0.1849 0.20764 0.18473 0.22523 0.18403 0.24259 C 0.18368 0.25023 0.17761 0.25903 0.1757 0.26643 C 0.17605 0.27592 0.17622 0.28565 0.17691 0.29514 C 0.1783 0.31134 0.18334 0.34329 0.19358 0.35231 C 0.22917 0.42546 0.34115 0.3787 0.37813 0.37917 C 0.38525 0.38241 0.38976 0.38449 0.39584 0.39028 C 0.39862 0.39583 0.40139 0.3993 0.40539 0.40301 C 0.40747 0.41157 0.41112 0.4243 0.41493 0.43148 C 0.41841 0.44537 0.41337 0.42384 0.41737 0.45532 C 0.41806 0.46134 0.42049 0.47014 0.42205 0.47592 C 0.4224 0.53426 0.4224 0.59236 0.42327 0.65069 C 0.42327 0.65463 0.42865 0.66389 0.42917 0.66481 C 0.43056 0.66759 0.4316 0.67454 0.4316 0.67454 C 0.43334 0.69051 0.43716 0.70278 0.44948 0.70787 C 0.45365 0.70949 0.45643 0.7118 0.46025 0.71412 C 0.4625 0.71551 0.46737 0.71736 0.46737 0.71736 C 0.54375 0.7162 0.63195 0.70278 0.7066 0.72037 C 0.71893 0.71898 0.71858 0.7243 0.71858 0.71736 E">
                                      <p:cBhvr>
                                        <p:cTn id="41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3 0.03333 C 0.10329 0.02685 0.10555 0.02292 0.11163 0.01736 C 0.11371 0.01551 0.11632 0.01505 0.11875 0.01412 C 0.11996 0.01366 0.12222 0.01273 0.12222 0.01296 C 0.13524 0.01343 0.15312 0.01204 0.16632 0.01736 C 0.17222 0.01991 0.17829 0.02269 0.1842 0.02523 C 0.18663 0.02616 0.19132 0.02847 0.19132 0.02871 C 0.2052 0.02801 0.21909 0.02778 0.23298 0.02685 C 0.23645 0.02662 0.24218 0.02037 0.24375 0.01898 C 0.24496 0.01783 0.24722 0.01574 0.24722 0.01597 C 0.25468 0.00139 0.24409 0.0206 0.25329 0.00787 C 0.25989 -0.00116 0.26128 -0.01157 0.27118 -0.01597 C 0.27604 -0.02616 0.28819 -0.03912 0.29722 -0.04282 C 0.30347 -0.04838 0.31041 -0.05069 0.31753 -0.05254 C 0.3401 -0.05208 0.36284 -0.05185 0.38541 -0.05092 C 0.40034 -0.05023 0.41371 -0.03819 0.42829 -0.03495 C 0.53993 -0.03727 0.61892 -0.03981 0.74375 -0.03981 E">
                                      <p:cBhvr>
                                        <p:cTn id="45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85 -0.00578 C 0.11927 -0.00115 0.12795 -0.00139 0.1316 -0.01528 C 0.13316 -0.02708 0.13646 -0.03842 0.13871 -0.05 C 0.13819 -0.06736 0.14184 -0.09768 0.13264 -0.11504 C 0.13229 -0.1169 0.13212 -0.11852 0.1316 -0.1199 C 0.1309 -0.12153 0.12917 -0.12268 0.12917 -0.12477 C 0.12882 -0.14236 0.12969 -0.15949 0.13038 -0.17731 C 0.1316 -0.20555 0.16962 -0.21157 0.18385 -0.21342 C 0.18785 -0.21412 0.19184 -0.21458 0.19583 -0.21528 C 0.22014 -0.21805 0.20035 -0.21551 0.22083 -0.21828 C 0.22604 -0.22037 0.23108 -0.22268 0.23628 -0.22453 C 0.2408 -0.22847 0.24566 -0.23102 0.25052 -0.23449 C 0.25677 -0.23842 0.26163 -0.24514 0.2684 -0.24861 C 0.27101 -0.2537 0.27396 -0.25671 0.27552 -0.26273 C 0.27361 -0.27546 0.27101 -0.28565 0.2625 -0.29305 C 0.26094 -0.29953 0.25903 -0.30185 0.25417 -0.30393 C 0.25121 -0.30995 0.2467 -0.3162 0.24219 -0.3199 C 0.23958 -0.32523 0.23437 -0.33217 0.23038 -0.33565 C 0.22483 -0.34699 0.22795 -0.34328 0.22205 -0.34838 C 0.2217 -0.35 0.22135 -0.35162 0.22083 -0.35324 C 0.22014 -0.35486 0.21892 -0.35625 0.2184 -0.35787 C 0.21736 -0.36088 0.21597 -0.36759 0.21597 -0.36759 C 0.21649 -0.38078 0.21215 -0.39676 0.2184 -0.4074 C 0.22396 -0.41643 0.2434 -0.4324 0.25173 -0.43565 C 0.28264 -0.46296 0.34097 -0.4669 0.37552 -0.46759 C 0.40642 -0.46828 0.4375 -0.46875 0.4684 -0.46921 C 0.47292 -0.4706 0.47708 -0.47268 0.4816 -0.47384 C 0.49531 -0.48657 0.47535 -0.46875 0.48871 -0.47893 C 0.49566 -0.48403 0.49114 -0.48217 0.49705 -0.48842 C 0.50347 -0.4949 0.50903 -0.49953 0.51371 -0.50879 C 0.51267 -0.52037 0.51423 -0.52546 0.50764 -0.53125 C 0.48646 -0.5743 0.43976 -0.56805 0.4066 -0.5706 C 0.38472 -0.57222 0.36371 -0.57801 0.34219 -0.58171 C 0.31962 -0.58565 0.29861 -0.59028 0.27673 -0.59768 C 0.26979 -0.60463 0.26094 -0.60764 0.25295 -0.61203 C 0.24479 -0.61666 0.23559 -0.62199 0.22795 -0.62778 C 0.22239 -0.63194 0.21875 -0.6375 0.21371 -0.64213 C 0.21076 -0.64768 0.20243 -0.65879 0.19826 -0.66296 C 0.19531 -0.67407 0.19722 -0.66967 0.1934 -0.67708 C 0.19028 -0.69745 0.1908 -0.69074 0.1934 -0.72778 C 0.19427 -0.73958 0.20017 -0.74815 0.20538 -0.75648 C 0.22118 -0.78194 0.25538 -0.78426 0.27795 -0.78657 C 0.28437 -0.78727 0.29062 -0.78773 0.29705 -0.78819 C 0.34114 -0.78773 0.38507 -0.78819 0.42917 -0.78657 C 0.4368 -0.78634 0.44392 -0.77731 0.45173 -0.77708 C 0.50694 -0.77523 0.48281 -0.77639 0.5243 -0.77384 C 0.53212 -0.77037 0.54028 -0.77153 0.54826 -0.76898 C 0.55382 -0.76412 0.55139 -0.76759 0.55417 -0.75648 C 0.55451 -0.75486 0.55538 -0.75162 0.55538 -0.75162 C 0.5566 -0.72662 0.55278 -0.72569 0.5684 -0.72315 C 0.58108 -0.71736 0.59358 -0.70416 0.60764 -0.70393 C 0.71996 -0.70208 0.67673 -0.70231 0.7375 -0.70231 E">
                                      <p:cBhvr>
                                        <p:cTn id="49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1"/>
          <a:srcRect l="61816" t="0" r="6125" b="7203"/>
          <a:stretch/>
        </p:blipFill>
        <p:spPr>
          <a:xfrm>
            <a:off x="468360" y="333360"/>
            <a:ext cx="1366920" cy="1873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2"/>
          <a:srcRect l="63503" t="7203" r="2750" b="10768"/>
          <a:stretch/>
        </p:blipFill>
        <p:spPr>
          <a:xfrm>
            <a:off x="7020000" y="4724280"/>
            <a:ext cx="2124000" cy="19875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"/>
          <p:cNvPicPr/>
          <p:nvPr/>
        </p:nvPicPr>
        <p:blipFill>
          <a:blip r:embed="rId3"/>
          <a:srcRect l="58441" t="7203" r="4438" b="10768"/>
          <a:stretch/>
        </p:blipFill>
        <p:spPr>
          <a:xfrm>
            <a:off x="6948360" y="2565360"/>
            <a:ext cx="199728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"/>
          <p:cNvPicPr/>
          <p:nvPr/>
        </p:nvPicPr>
        <p:blipFill>
          <a:blip r:embed="rId4"/>
          <a:srcRect l="57818" t="10699" r="0" b="14426"/>
          <a:stretch/>
        </p:blipFill>
        <p:spPr>
          <a:xfrm>
            <a:off x="179280" y="501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"/>
          <p:cNvPicPr/>
          <p:nvPr/>
        </p:nvPicPr>
        <p:blipFill>
          <a:blip r:embed="rId5"/>
          <a:srcRect l="60753" t="7131" r="3813" b="14423"/>
          <a:stretch/>
        </p:blipFill>
        <p:spPr>
          <a:xfrm>
            <a:off x="7093080" y="106200"/>
            <a:ext cx="1933560" cy="20275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"/>
          <p:cNvPicPr/>
          <p:nvPr/>
        </p:nvPicPr>
        <p:blipFill>
          <a:blip r:embed="rId6"/>
          <a:srcRect l="3375" t="3566" r="56129" b="7292"/>
          <a:stretch/>
        </p:blipFill>
        <p:spPr>
          <a:xfrm>
            <a:off x="250920" y="2637000"/>
            <a:ext cx="172872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32 C 0.04253 -0.06274 0.0809 -0.0632 0.11944 -0.06158 C 0.12465 -0.06135 0.13646 -0.05533 0.14097 -0.05047 C 0.14444 -0.04653 0.15156 -0.03936 0.15156 -0.03913 C 0.15486 -0.03264 0.16024 -0.02801 0.16232 -0.02014 C 0.16354 -0.01551 0.16528 -0.00996 0.16719 -0.00602 C 0.16927 -0.00163 0.1743 0.00671 0.1743 0.00694 C 0.17604 0.01365 0.17812 0.01851 0.18142 0.0243 C 0.18507 0.03819 0.19184 0.04884 0.19809 0.06064 C 0.19965 0.06736 0.20121 0.075 0.20399 0.08125 C 0.20555 0.08449 0.20885 0.09097 0.20885 0.0912 C 0.20955 0.09421 0.21041 0.09722 0.21111 0.10046 C 0.21146 0.10208 0.21232 0.10509 0.21232 0.10532 C 0.21163 0.21388 0.22344 0.22939 0.20885 0.29097 C 0.20729 0.29768 0.20469 0.29976 0.20156 0.30509 C 0.19114 0.32291 0.18871 0.32847 0.18142 0.34328 C 0.17847 0.3493 0.17691 0.35763 0.1743 0.36388 C 0.17291 0.36712 0.16944 0.37337 0.16944 0.37361 C 0.16614 0.3868 0.16458 0.40046 0.16354 0.41458 C 0.16441 0.48819 0.15642 0.53263 0.18976 0.58611 C 0.19375 0.59259 0.19739 0.59884 0.2026 0.60347 C 0.20729 0.61273 0.21666 0.62268 0.2243 0.62731 C 0.22847 0.6331 0.23281 0.6375 0.23854 0.64004 C 0.24427 0.64768 0.25712 0.65717 0.26476 0.66064 C 0.29531 0.68912 0.33923 0.66435 0.37656 0.66388 C 0.38958 0.66041 0.40191 0.65393 0.41476 0.64953 C 0.41962 0.64537 0.42552 0.64583 0.43021 0.64166 C 0.4342 0.63819 0.43767 0.63703 0.44219 0.63541 C 0.45555 0.62291 0.47778 0.62129 0.49323 0.61944 C 0.51545 0.6199 0.5375 0.61967 0.55989 0.62106 C 0.56753 0.62152 0.57239 0.62962 0.57778 0.63541 C 0.58351 0.64166 0.59219 0.64629 0.5993 0.64953 C 0.60312 0.65324 0.60486 0.6574 0.60885 0.66064 C 0.61041 0.66805 0.61406 0.67361 0.61719 0.67986 C 0.61788 0.68148 0.61805 0.68449 0.61944 0.68449 C 0.62465 0.68449 0.62969 0.68449 0.63489 0.68449 E">
                                      <p:cBhvr>
                                        <p:cTn id="55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01 0.00648 C 0.12379 0.00602 0.15157 0.00625 0.17935 0.00486 C 0.19653 0.00417 0.21858 -0.00069 0.23403 -0.0125 C 0.24237 -0.01875 0.24775 -0.02755 0.25435 -0.03634 C 0.2599 -0.04375 0.26632 -0.05116 0.27223 -0.05856 C 0.28438 -0.07384 0.29497 -0.10185 0.30435 -0.1206 C 0.31407 -0.18356 0.29549 -0.25185 0.31146 -0.3125 C 0.31372 -0.3368 0.31893 -0.37037 0.33525 -0.38565 C 0.34028 -0.39514 0.34844 -0.40139 0.35556 -0.40787 C 0.36389 -0.41551 0.35435 -0.41042 0.36268 -0.41412 C 0.3731 -0.42384 0.38629 -0.42755 0.39844 -0.43171 C 0.41858 -0.43102 0.44862 -0.44838 0.45313 -0.41898 C 0.4533 -0.4044 0.4323 -0.28009 0.47344 -0.2618 C 0.48126 -0.25093 0.48994 -0.24722 0.5007 -0.24282 C 0.50226 -0.24213 0.504 -0.2419 0.50556 -0.2412 C 0.50799 -0.24028 0.51025 -0.23912 0.51268 -0.23796 C 0.51389 -0.2375 0.51615 -0.23634 0.51615 -0.23634 C 0.57691 -0.23704 0.64514 -0.23333 0.70782 -0.2412 C 0.71754 -0.24444 0.72205 -0.24838 0.73056 -0.25532 C 0.74323 -0.28148 0.75105 -0.30116 0.75313 -0.3331 C 0.754 -0.3463 0.75105 -0.35579 0.76025 -0.36018 C 0.76424 -0.35833 0.76389 -0.36018 0.76389 -0.35694 E">
                                      <p:cBhvr>
                                        <p:cTn id="59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25 0.03982 C 0.10764 0.03311 0.10903 0.02477 0.11216 0.01922 C 0.11997 0.00579 0.13212 0.00116 0.14306 -0.00625 C 0.15243 -0.01273 0.16094 -0.02083 0.17049 -0.02685 C 0.18004 -0.04027 0.16841 -0.02546 0.17761 -0.03333 C 0.18143 -0.03657 0.18455 -0.04097 0.18837 -0.04444 C 0.1908 -0.04652 0.19549 -0.05069 0.19549 -0.05069 C 0.19896 -0.05787 0.20434 -0.06203 0.20851 -0.06828 C 0.21042 -0.07106 0.21129 -0.075 0.21337 -0.07777 C 0.21459 -0.07939 0.21563 -0.08078 0.21684 -0.0824 C 0.21875 -0.08981 0.22327 -0.09375 0.22518 -0.10162 C 0.22552 -0.13125 0.2257 -0.16088 0.22639 -0.19051 C 0.22674 -0.20139 0.24427 -0.21898 0.25139 -0.22523 C 0.28247 -0.25254 0.31459 -0.25555 0.35139 -0.25717 C 0.35938 -0.25671 0.38368 -0.25717 0.3967 -0.25393 C 0.40295 -0.25231 0.40851 -0.2456 0.41459 -0.24282 C 0.42032 -0.2375 0.42952 -0.22639 0.43594 -0.22384 C 0.43976 -0.22037 0.44254 -0.21527 0.4467 -0.21273 C 0.44896 -0.21134 0.45382 -0.20949 0.45382 -0.20949 C 0.46216 -0.20162 0.47327 -0.20023 0.48351 -0.19838 C 0.5033 -0.18958 0.52639 -0.1912 0.54045 -0.21111 C 0.5415 -0.21435 0.54219 -0.21736 0.54288 -0.2206 C 0.54323 -0.22222 0.54427 -0.22523 0.54427 -0.22523 C 0.54584 -0.23935 0.54948 -0.24884 0.55851 -0.25717 C 0.56146 -0.26319 0.5665 -0.26898 0.5717 -0.27129 C 0.57275 -0.27245 0.57396 -0.27384 0.575 -0.27453 C 0.57743 -0.27592 0.58229 -0.27777 0.58229 -0.27777 C 0.61528 -0.27731 0.64827 -0.27685 0.68125 -0.27615 C 0.7408 -0.275 0.7342 -0.29953 0.74063 -0.26967 C 0.74219 -0.23796 0.73959 -0.24398 0.76337 -0.24606 C 0.76441 -0.25 0.76407 -0.25486 0.76563 -0.25856 C 0.76962 -0.26805 0.76927 -0.25833 0.76927 -0.26342 E">
                                      <p:cBhvr>
                                        <p:cTn id="63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Презентацию подготовила воспитатель : Максименко Т.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0-31T03:26:08Z</dcterms:modified>
  <cp:revision>39</cp:revision>
  <dc:subject/>
  <dc:title>Слайд 1</dc:title>
</cp:coreProperties>
</file>