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02AE-C18A-4164-A8A5-077AE2F5EB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A148-F7D5-4A7E-830B-D81C87FFD2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5266-ED90-4220-A92C-811C200A3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815F-9010-45F0-8548-39578482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3890-EF6D-4B3F-8049-82C0309DA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0356-BE9B-492E-98BE-D9F8376D7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6116-CF87-4E4D-A056-43F26846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5A4F-9532-4AA2-8590-A66812A3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E466-639E-4D5F-A850-168AC261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3E7A-036B-4A0A-9DA0-C7DB2264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EB60-E9CF-4CD4-BD91-7C702F7D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7520-5E38-489D-9D1D-A75A8559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B0F3-084F-4E55-9C66-1F378956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2AB2-8968-495A-9A3C-D7B36384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fc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2AA3-F37B-4159-AC31-BAD6725FB1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450440" y="3124080"/>
            <a:ext cx="62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тематика 1 класс УМК «Школа Ро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352440" y="1171440"/>
            <a:ext cx="848664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lin ang="5400000"/>
                </a:gradFill>
                <a:latin typeface="Times New Roman"/>
              </a:rPr>
              <a:t>Урок-сказка «Волк и семеро козлят»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3" descr="изба"/>
          <p:cNvPicPr/>
          <p:nvPr/>
        </p:nvPicPr>
        <p:blipFill>
          <a:blip r:embed="rId1"/>
          <a:stretch/>
        </p:blipFill>
        <p:spPr>
          <a:xfrm>
            <a:off x="1523880" y="1219320"/>
            <a:ext cx="6019920" cy="52513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441504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403416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802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403416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48024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403416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4802400" y="457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4034160" y="490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0"/>
          <p:cNvSpPr/>
          <p:nvPr/>
        </p:nvSpPr>
        <p:spPr>
          <a:xfrm>
            <a:off x="3809880" y="4952880"/>
            <a:ext cx="1524240" cy="0"/>
          </a:xfrm>
          <a:prstGeom prst="line">
            <a:avLst/>
          </a:prstGeom>
          <a:ln w="63360">
            <a:solidFill>
              <a:srgbClr val="452e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2"/>
          <p:cNvSpPr/>
          <p:nvPr/>
        </p:nvSpPr>
        <p:spPr>
          <a:xfrm>
            <a:off x="4572000" y="2895480"/>
            <a:ext cx="0" cy="2286000"/>
          </a:xfrm>
          <a:prstGeom prst="line">
            <a:avLst/>
          </a:prstGeom>
          <a:ln w="63360">
            <a:solidFill>
              <a:srgbClr val="452e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24"/>
          <p:cNvSpPr txBox="1"/>
          <p:nvPr/>
        </p:nvSpPr>
        <p:spPr>
          <a:xfrm>
            <a:off x="2971800" y="304920"/>
            <a:ext cx="323856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Times New Roman"/>
              </a:rPr>
              <a:t>Состав числа 7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93" name="Line 25"/>
          <p:cNvSpPr/>
          <p:nvPr/>
        </p:nvSpPr>
        <p:spPr>
          <a:xfrm>
            <a:off x="3809880" y="4648320"/>
            <a:ext cx="1524240" cy="0"/>
          </a:xfrm>
          <a:prstGeom prst="line">
            <a:avLst/>
          </a:prstGeom>
          <a:ln w="63360">
            <a:solidFill>
              <a:srgbClr val="452e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6"/>
          <p:cNvSpPr/>
          <p:nvPr/>
        </p:nvSpPr>
        <p:spPr>
          <a:xfrm>
            <a:off x="3809880" y="4267080"/>
            <a:ext cx="1524240" cy="0"/>
          </a:xfrm>
          <a:prstGeom prst="line">
            <a:avLst/>
          </a:prstGeom>
          <a:ln w="63360">
            <a:solidFill>
              <a:srgbClr val="452e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7"/>
          <p:cNvSpPr/>
          <p:nvPr/>
        </p:nvSpPr>
        <p:spPr>
          <a:xfrm>
            <a:off x="3809880" y="3886200"/>
            <a:ext cx="1524240" cy="0"/>
          </a:xfrm>
          <a:prstGeom prst="line">
            <a:avLst/>
          </a:prstGeom>
          <a:ln w="63360">
            <a:solidFill>
              <a:srgbClr val="452e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8"/>
          <p:cNvSpPr/>
          <p:nvPr/>
        </p:nvSpPr>
        <p:spPr>
          <a:xfrm>
            <a:off x="3809880" y="3505320"/>
            <a:ext cx="1524240" cy="0"/>
          </a:xfrm>
          <a:prstGeom prst="line">
            <a:avLst/>
          </a:prstGeom>
          <a:ln w="63360">
            <a:solidFill>
              <a:srgbClr val="452e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9"/>
          <p:cNvSpPr/>
          <p:nvPr/>
        </p:nvSpPr>
        <p:spPr>
          <a:xfrm>
            <a:off x="3809880" y="3200400"/>
            <a:ext cx="1524240" cy="0"/>
          </a:xfrm>
          <a:prstGeom prst="line">
            <a:avLst/>
          </a:prstGeom>
          <a:ln w="63360">
            <a:solidFill>
              <a:srgbClr val="452e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0"/>
          <p:cNvSpPr/>
          <p:nvPr/>
        </p:nvSpPr>
        <p:spPr>
          <a:xfrm>
            <a:off x="3809880" y="2895480"/>
            <a:ext cx="1524240" cy="0"/>
          </a:xfrm>
          <a:prstGeom prst="line">
            <a:avLst/>
          </a:prstGeom>
          <a:ln w="63360">
            <a:solidFill>
              <a:srgbClr val="452e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6" descr="рад м"/>
          <p:cNvPicPr/>
          <p:nvPr/>
        </p:nvPicPr>
        <p:blipFill>
          <a:blip r:embed="rId1"/>
          <a:stretch/>
        </p:blipFill>
        <p:spPr>
          <a:xfrm>
            <a:off x="304920" y="309600"/>
            <a:ext cx="8534160" cy="62388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3886200" y="44136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2666880" y="190512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4876920" y="152388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2286000" y="464832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1219320" y="297180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5638680" y="51768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1905120" y="342900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817720" y="358920"/>
            <a:ext cx="3372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Ждёт урок сегодня в кла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Волк и семеро козля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умаю, что интересн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удет он для всех реб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в и  7 к"/>
          <p:cNvPicPr/>
          <p:nvPr/>
        </p:nvPicPr>
        <p:blipFill>
          <a:blip r:embed="rId1"/>
          <a:stretch/>
        </p:blipFill>
        <p:spPr>
          <a:xfrm>
            <a:off x="2209680" y="1933560"/>
            <a:ext cx="4572000" cy="44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120840" y="1501920"/>
            <a:ext cx="30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а цифра – кочерг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 неё одна н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секрету скажем вс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ноножка цифр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коч"/>
          <p:cNvPicPr/>
          <p:nvPr/>
        </p:nvPicPr>
        <p:blipFill>
          <a:blip r:embed="rId1"/>
          <a:stretch/>
        </p:blipFill>
        <p:spPr>
          <a:xfrm>
            <a:off x="4267080" y="3276720"/>
            <a:ext cx="459000" cy="2971800"/>
          </a:xfrm>
          <a:prstGeom prst="rect">
            <a:avLst/>
          </a:prstGeom>
          <a:ln w="0">
            <a:noFill/>
          </a:ln>
        </p:spPr>
      </p:pic>
      <p:sp>
        <p:nvSpPr>
          <p:cNvPr id="54" name="WordArt 11"/>
          <p:cNvSpPr txBox="1"/>
          <p:nvPr/>
        </p:nvSpPr>
        <p:spPr>
          <a:xfrm>
            <a:off x="1343160" y="457200"/>
            <a:ext cx="604836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lin ang="5400000"/>
                </a:gradFill>
                <a:latin typeface="Times New Roman"/>
              </a:rPr>
              <a:t>Тема урока: «Число семь»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3204000" y="160020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знай всё о циф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201480" y="28195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учись её пис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897280" y="4114800"/>
            <a:ext cx="33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редели состав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53880" y="5410080"/>
            <a:ext cx="83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и примеры и задачи, в которых встречается эта циф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9"/>
          <p:cNvSpPr txBox="1"/>
          <p:nvPr/>
        </p:nvSpPr>
        <p:spPr>
          <a:xfrm>
            <a:off x="762120" y="380880"/>
            <a:ext cx="7619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lin ang="5400000"/>
                </a:gradFill>
                <a:latin typeface="Times New Roman"/>
              </a:rPr>
              <a:t>Алгоритм работы знакомства с цифрой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коз с коз"/>
          <p:cNvPicPr/>
          <p:nvPr/>
        </p:nvPicPr>
        <p:blipFill>
          <a:blip r:embed="rId1"/>
          <a:stretch/>
        </p:blipFill>
        <p:spPr>
          <a:xfrm>
            <a:off x="609480" y="990720"/>
            <a:ext cx="78487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волк  с козл"/>
          <p:cNvPicPr/>
          <p:nvPr/>
        </p:nvPicPr>
        <p:blipFill>
          <a:blip r:embed="rId1"/>
          <a:stretch/>
        </p:blipFill>
        <p:spPr>
          <a:xfrm>
            <a:off x="2090880" y="519120"/>
            <a:ext cx="4962240" cy="581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"/>
          <p:cNvSpPr/>
          <p:nvPr/>
        </p:nvSpPr>
        <p:spPr>
          <a:xfrm>
            <a:off x="2298600" y="276120"/>
            <a:ext cx="46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лесу просторный светлый д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бят пушистых много в н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м пишут и чита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исуют и счит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лес шк"/>
          <p:cNvPicPr/>
          <p:nvPr/>
        </p:nvPicPr>
        <p:blipFill>
          <a:blip r:embed="rId1"/>
          <a:stretch/>
        </p:blipFill>
        <p:spPr>
          <a:xfrm>
            <a:off x="1447920" y="2008080"/>
            <a:ext cx="6172200" cy="431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7 богатырей"/>
          <p:cNvPicPr/>
          <p:nvPr/>
        </p:nvPicPr>
        <p:blipFill>
          <a:blip r:embed="rId1"/>
          <a:stretch/>
        </p:blipFill>
        <p:spPr>
          <a:xfrm>
            <a:off x="406440" y="1143000"/>
            <a:ext cx="2609640" cy="3886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7 гномов 1"/>
          <p:cNvPicPr/>
          <p:nvPr/>
        </p:nvPicPr>
        <p:blipFill>
          <a:blip r:embed="rId2"/>
          <a:stretch/>
        </p:blipFill>
        <p:spPr>
          <a:xfrm>
            <a:off x="6135840" y="3657600"/>
            <a:ext cx="2627280" cy="28195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0"/>
          <p:cNvSpPr/>
          <p:nvPr/>
        </p:nvSpPr>
        <p:spPr>
          <a:xfrm>
            <a:off x="3812400" y="1676520"/>
            <a:ext cx="33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меро одного не жд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3814920" y="2209680"/>
            <a:ext cx="48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мь раз отмерь, один раз отреж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планеты"/>
          <p:cNvPicPr/>
          <p:nvPr/>
        </p:nvPicPr>
        <p:blipFill>
          <a:blip r:embed="rId3"/>
          <a:stretch/>
        </p:blipFill>
        <p:spPr>
          <a:xfrm>
            <a:off x="3200400" y="3276720"/>
            <a:ext cx="2743200" cy="2001600"/>
          </a:xfrm>
          <a:prstGeom prst="rect">
            <a:avLst/>
          </a:prstGeom>
          <a:ln w="0">
            <a:noFill/>
          </a:ln>
        </p:spPr>
      </p:pic>
      <p:sp>
        <p:nvSpPr>
          <p:cNvPr id="69" name="WordArt 14"/>
          <p:cNvSpPr txBox="1"/>
          <p:nvPr/>
        </p:nvSpPr>
        <p:spPr>
          <a:xfrm>
            <a:off x="2286000" y="304920"/>
            <a:ext cx="4809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lin ang="5400000"/>
                </a:gradFill>
                <a:latin typeface="Times New Roman"/>
              </a:rPr>
              <a:t>Магическая цифра 7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5"/>
          <p:cNvSpPr/>
          <p:nvPr/>
        </p:nvSpPr>
        <p:spPr>
          <a:xfrm>
            <a:off x="2595240" y="1752480"/>
            <a:ext cx="404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 попробую сейч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мёрку написать семь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асиво и прилич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7"/>
          <p:cNvSpPr txBox="1"/>
          <p:nvPr/>
        </p:nvSpPr>
        <p:spPr>
          <a:xfrm>
            <a:off x="2971800" y="457200"/>
            <a:ext cx="329580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lin ang="5400000"/>
                </a:gradFill>
                <a:latin typeface="Times New Roman"/>
              </a:rPr>
              <a:t>Чистописание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3352680" y="3809880"/>
            <a:ext cx="2590920" cy="23623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9"/>
          <p:cNvSpPr/>
          <p:nvPr/>
        </p:nvSpPr>
        <p:spPr>
          <a:xfrm>
            <a:off x="4648320" y="3809880"/>
            <a:ext cx="0" cy="23623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0"/>
          <p:cNvSpPr/>
          <p:nvPr/>
        </p:nvSpPr>
        <p:spPr>
          <a:xfrm flipH="1">
            <a:off x="3352320" y="495288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2"/>
          <p:cNvSpPr/>
          <p:nvPr/>
        </p:nvSpPr>
        <p:spPr>
          <a:xfrm>
            <a:off x="457200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rc 15"/>
          <p:cNvSpPr/>
          <p:nvPr/>
        </p:nvSpPr>
        <p:spPr>
          <a:xfrm rot="7876800">
            <a:off x="5014440" y="3290400"/>
            <a:ext cx="992160" cy="811080"/>
          </a:xfrm>
          <a:custGeom>
            <a:avLst/>
            <a:gdLst/>
            <a:ahLst/>
            <a:rect l="l" t="t" r="r" b="b"/>
            <a:pathLst>
              <a:path fill="none" w="21593" h="20189">
                <a:moveTo>
                  <a:pt x="7678" y="0"/>
                </a:moveTo>
                <a:cubicBezTo>
                  <a:pt x="15871" y="3116"/>
                  <a:pt x="21368" y="10874"/>
                  <a:pt x="21592" y="19637"/>
                </a:cubicBezTo>
              </a:path>
              <a:path stroke="0" w="21593" h="20189">
                <a:moveTo>
                  <a:pt x="7678" y="0"/>
                </a:moveTo>
                <a:cubicBezTo>
                  <a:pt x="15871" y="3116"/>
                  <a:pt x="21368" y="10874"/>
                  <a:pt x="21592" y="19637"/>
                </a:cubicBezTo>
                <a:lnTo>
                  <a:pt x="0" y="20189"/>
                </a:lnTo>
                <a:lnTo>
                  <a:pt x="7678" y="0"/>
                </a:lnTo>
                <a:close/>
              </a:path>
            </a:pathLst>
          </a:custGeom>
          <a:noFill/>
          <a:ln w="88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 flipH="1">
            <a:off x="4800240" y="3809880"/>
            <a:ext cx="1143000" cy="2362320"/>
          </a:xfrm>
          <a:prstGeom prst="line">
            <a:avLst/>
          </a:prstGeom>
          <a:ln w="1015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5105520" y="4952880"/>
            <a:ext cx="609480" cy="0"/>
          </a:xfrm>
          <a:prstGeom prst="line">
            <a:avLst/>
          </a:prstGeom>
          <a:ln w="101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3"/>
          <p:cNvSpPr/>
          <p:nvPr/>
        </p:nvSpPr>
        <p:spPr>
          <a:xfrm flipV="1">
            <a:off x="4648320" y="3809880"/>
            <a:ext cx="304560" cy="533520"/>
          </a:xfrm>
          <a:prstGeom prst="line">
            <a:avLst/>
          </a:prstGeom>
          <a:ln w="101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3"/>
          <p:cNvSpPr/>
          <p:nvPr/>
        </p:nvSpPr>
        <p:spPr>
          <a:xfrm flipV="1">
            <a:off x="6858000" y="4952880"/>
            <a:ext cx="152280" cy="152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59958E-006 L -0.24167 -0.11103 E">
                                      <p:cBhvr>
                                        <p:cTn id="171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166 -0.11103 L -0.21666 -0.17765 E">
                                      <p:cBhvr>
                                        <p:cTn id="180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666 -0.17765 C -0.21423 -0.17557 -0.21111 -0.17303 -0.20711 -0.17141 C -0.20295 -0.16956 -0.19809 -0.16701 -0.19323 -0.16586 C -0.18854 -0.16447 -0.18281 -0.16262 -0.17777 -0.16215 C -0.17152 -0.16146 -0.16614 -0.15915 -0.15989 -0.16146 C -0.15347 -0.16146 -0.14635 -0.16262 -0.13993 -0.16424 C -0.13455 -0.16516 -0.13003 -0.16771 -0.12413 -0.17002 C -0.11944 -0.17303 -0.1118 -0.17881 -0.10833 -0.17881 E">
                                      <p:cBhvr>
                                        <p:cTn id="189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833 -0.17881 L -0.225 0.15545 E">
                                      <p:cBhvr>
                                        <p:cTn id="198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 -0.0222 L -0.13333 -0.0222 E">
                                      <p:cBhvr>
                                        <p:cTn id="207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2-10-31T13:27:28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