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7A2C-3128-4BAC-BCC1-070294CDE6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E25A-2589-4F95-A5E7-32A32BE735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661-DC76-49BA-95D6-B215C15A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FB3-20D5-46D7-9071-ED19AA0C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511-5D4A-4685-9C32-25811897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E80-1259-47D2-A6E5-45E31444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683-98DF-45C7-82AB-2C1DF41B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CFC-F767-491E-B23F-559C04A0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F58-9946-42E1-9B42-329B2F4D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7197-A95E-4395-BC0D-9FAFF5C3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F03-1F61-4150-92E6-29F57FAF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929-1062-4BB0-8521-F5DF87D8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5D4-B426-4D6C-926B-4E82F0B1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1B4-2C0A-445B-9F98-88125565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fc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3F01-42D0-465B-A240-0582A46DB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450440" y="3124080"/>
            <a:ext cx="62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ематика 1 класс УМК 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52440" y="1171440"/>
            <a:ext cx="84866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5400000"/>
                </a:gradFill>
                <a:latin typeface="Times New Roman"/>
              </a:rPr>
              <a:t>Урок-сказка «Волк и семеро козлят»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3" descr="изба"/>
          <p:cNvPicPr/>
          <p:nvPr/>
        </p:nvPicPr>
        <p:blipFill>
          <a:blip r:embed="rId1"/>
          <a:stretch/>
        </p:blipFill>
        <p:spPr>
          <a:xfrm>
            <a:off x="1523880" y="1219320"/>
            <a:ext cx="6019920" cy="5251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441504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03416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8024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03416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802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03416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48024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034160" y="490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0"/>
          <p:cNvSpPr/>
          <p:nvPr/>
        </p:nvSpPr>
        <p:spPr>
          <a:xfrm>
            <a:off x="3809880" y="4952880"/>
            <a:ext cx="1524240" cy="0"/>
          </a:xfrm>
          <a:prstGeom prst="line">
            <a:avLst/>
          </a:prstGeom>
          <a:ln w="633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4572000" y="2895480"/>
            <a:ext cx="0" cy="2286000"/>
          </a:xfrm>
          <a:prstGeom prst="line">
            <a:avLst/>
          </a:prstGeom>
          <a:ln w="633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24"/>
          <p:cNvSpPr txBox="1"/>
          <p:nvPr/>
        </p:nvSpPr>
        <p:spPr>
          <a:xfrm>
            <a:off x="2971800" y="304920"/>
            <a:ext cx="32385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Состав числа 7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3809880" y="4648320"/>
            <a:ext cx="1524240" cy="0"/>
          </a:xfrm>
          <a:prstGeom prst="line">
            <a:avLst/>
          </a:prstGeom>
          <a:ln w="633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6"/>
          <p:cNvSpPr/>
          <p:nvPr/>
        </p:nvSpPr>
        <p:spPr>
          <a:xfrm>
            <a:off x="3809880" y="4267080"/>
            <a:ext cx="1524240" cy="0"/>
          </a:xfrm>
          <a:prstGeom prst="line">
            <a:avLst/>
          </a:prstGeom>
          <a:ln w="633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7"/>
          <p:cNvSpPr/>
          <p:nvPr/>
        </p:nvSpPr>
        <p:spPr>
          <a:xfrm>
            <a:off x="3809880" y="3886200"/>
            <a:ext cx="1524240" cy="0"/>
          </a:xfrm>
          <a:prstGeom prst="line">
            <a:avLst/>
          </a:prstGeom>
          <a:ln w="633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"/>
          <p:cNvSpPr/>
          <p:nvPr/>
        </p:nvSpPr>
        <p:spPr>
          <a:xfrm>
            <a:off x="3809880" y="3505320"/>
            <a:ext cx="1524240" cy="0"/>
          </a:xfrm>
          <a:prstGeom prst="line">
            <a:avLst/>
          </a:prstGeom>
          <a:ln w="633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3809880" y="3200400"/>
            <a:ext cx="1524240" cy="0"/>
          </a:xfrm>
          <a:prstGeom prst="line">
            <a:avLst/>
          </a:prstGeom>
          <a:ln w="633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0"/>
          <p:cNvSpPr/>
          <p:nvPr/>
        </p:nvSpPr>
        <p:spPr>
          <a:xfrm>
            <a:off x="3809880" y="2895480"/>
            <a:ext cx="1524240" cy="0"/>
          </a:xfrm>
          <a:prstGeom prst="line">
            <a:avLst/>
          </a:prstGeom>
          <a:ln w="633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6" descr="рад м"/>
          <p:cNvPicPr/>
          <p:nvPr/>
        </p:nvPicPr>
        <p:blipFill>
          <a:blip r:embed="rId1"/>
          <a:stretch/>
        </p:blipFill>
        <p:spPr>
          <a:xfrm>
            <a:off x="304920" y="309600"/>
            <a:ext cx="8534160" cy="6238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886200" y="44136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666880" y="190512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876920" y="15238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286000" y="464832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219320" y="297180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5638680" y="5176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905120" y="342900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817720" y="358920"/>
            <a:ext cx="337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дёт урок сегодня в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Волк и семеро козля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умаю, что интерес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дет он для всех реб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в и  7 к"/>
          <p:cNvPicPr/>
          <p:nvPr/>
        </p:nvPicPr>
        <p:blipFill>
          <a:blip r:embed="rId1"/>
          <a:stretch/>
        </p:blipFill>
        <p:spPr>
          <a:xfrm>
            <a:off x="2209680" y="1933560"/>
            <a:ext cx="4572000" cy="44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120840" y="1501920"/>
            <a:ext cx="30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 цифра – кочерг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 неё одна н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екрету скажем вс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ножка цифр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коч"/>
          <p:cNvPicPr/>
          <p:nvPr/>
        </p:nvPicPr>
        <p:blipFill>
          <a:blip r:embed="rId1"/>
          <a:stretch/>
        </p:blipFill>
        <p:spPr>
          <a:xfrm>
            <a:off x="4267080" y="3276720"/>
            <a:ext cx="459000" cy="2971800"/>
          </a:xfrm>
          <a:prstGeom prst="rect">
            <a:avLst/>
          </a:prstGeom>
          <a:ln w="0">
            <a:noFill/>
          </a:ln>
        </p:spPr>
      </p:pic>
      <p:sp>
        <p:nvSpPr>
          <p:cNvPr id="54" name="WordArt 11"/>
          <p:cNvSpPr txBox="1"/>
          <p:nvPr/>
        </p:nvSpPr>
        <p:spPr>
          <a:xfrm>
            <a:off x="1343160" y="457200"/>
            <a:ext cx="6048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5400000"/>
                </a:gradFill>
                <a:latin typeface="Times New Roman"/>
              </a:rPr>
              <a:t>Тема урока: «Число семь»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204000" y="160020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знай всё о циф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201480" y="28195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чись её пис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897280" y="411480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и состав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53880" y="5410080"/>
            <a:ext cx="83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и примеры и задачи, в которых встречается эта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762120" y="380880"/>
            <a:ext cx="7619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5400000"/>
                </a:gradFill>
                <a:latin typeface="Times New Roman"/>
              </a:rPr>
              <a:t>Алгоритм работы знакомства с цифрой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коз с коз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волк  с козл"/>
          <p:cNvPicPr/>
          <p:nvPr/>
        </p:nvPicPr>
        <p:blipFill>
          <a:blip r:embed="rId1"/>
          <a:stretch/>
        </p:blipFill>
        <p:spPr>
          <a:xfrm>
            <a:off x="2090880" y="519120"/>
            <a:ext cx="4962240" cy="581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298600" y="276120"/>
            <a:ext cx="46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лесу просторный светлый д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бят пушистых много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м пишут и чит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исуют и счит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лес шк"/>
          <p:cNvPicPr/>
          <p:nvPr/>
        </p:nvPicPr>
        <p:blipFill>
          <a:blip r:embed="rId1"/>
          <a:stretch/>
        </p:blipFill>
        <p:spPr>
          <a:xfrm>
            <a:off x="1447920" y="2008080"/>
            <a:ext cx="6172200" cy="43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7 богатырей"/>
          <p:cNvPicPr/>
          <p:nvPr/>
        </p:nvPicPr>
        <p:blipFill>
          <a:blip r:embed="rId1"/>
          <a:stretch/>
        </p:blipFill>
        <p:spPr>
          <a:xfrm>
            <a:off x="406440" y="1143000"/>
            <a:ext cx="2609640" cy="388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7 гномов 1"/>
          <p:cNvPicPr/>
          <p:nvPr/>
        </p:nvPicPr>
        <p:blipFill>
          <a:blip r:embed="rId2"/>
          <a:stretch/>
        </p:blipFill>
        <p:spPr>
          <a:xfrm>
            <a:off x="6135840" y="3657600"/>
            <a:ext cx="2627280" cy="2819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3812400" y="1676520"/>
            <a:ext cx="33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еро одного не жд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814920" y="220968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 раз отмерь, один раз отреж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планеты"/>
          <p:cNvPicPr/>
          <p:nvPr/>
        </p:nvPicPr>
        <p:blipFill>
          <a:blip r:embed="rId3"/>
          <a:stretch/>
        </p:blipFill>
        <p:spPr>
          <a:xfrm>
            <a:off x="3200400" y="3276720"/>
            <a:ext cx="2743200" cy="2001600"/>
          </a:xfrm>
          <a:prstGeom prst="rect">
            <a:avLst/>
          </a:prstGeom>
          <a:ln w="0">
            <a:noFill/>
          </a:ln>
        </p:spPr>
      </p:pic>
      <p:sp>
        <p:nvSpPr>
          <p:cNvPr id="69" name="WordArt 14"/>
          <p:cNvSpPr txBox="1"/>
          <p:nvPr/>
        </p:nvSpPr>
        <p:spPr>
          <a:xfrm>
            <a:off x="2286000" y="304920"/>
            <a:ext cx="4809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5400000"/>
                </a:gradFill>
                <a:latin typeface="Times New Roman"/>
              </a:rPr>
              <a:t>Магическая цифра 7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2595240" y="1752480"/>
            <a:ext cx="40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попробую сей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ёрку написать семь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сиво и прилич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2971800" y="457200"/>
            <a:ext cx="329580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5400000"/>
                </a:gradFill>
                <a:latin typeface="Times New Roman"/>
              </a:rPr>
              <a:t>Чистописание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3352680" y="3809880"/>
            <a:ext cx="2590920" cy="2362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4648320" y="3809880"/>
            <a:ext cx="0" cy="2362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H="1">
            <a:off x="3352320" y="495288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457200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rc 15"/>
          <p:cNvSpPr/>
          <p:nvPr/>
        </p:nvSpPr>
        <p:spPr>
          <a:xfrm rot="7876800">
            <a:off x="5014440" y="3290400"/>
            <a:ext cx="992160" cy="811080"/>
          </a:xfrm>
          <a:custGeom>
            <a:avLst/>
            <a:gdLst/>
            <a:ahLst/>
            <a:rect l="l" t="t" r="r" b="b"/>
            <a:pathLst>
              <a:path fill="none" w="21593" h="20189">
                <a:moveTo>
                  <a:pt x="7678" y="0"/>
                </a:moveTo>
                <a:cubicBezTo>
                  <a:pt x="15871" y="3116"/>
                  <a:pt x="21368" y="10874"/>
                  <a:pt x="21592" y="19637"/>
                </a:cubicBezTo>
              </a:path>
              <a:path stroke="0" w="21593" h="20189">
                <a:moveTo>
                  <a:pt x="7678" y="0"/>
                </a:moveTo>
                <a:cubicBezTo>
                  <a:pt x="15871" y="3116"/>
                  <a:pt x="21368" y="10874"/>
                  <a:pt x="21592" y="19637"/>
                </a:cubicBezTo>
                <a:lnTo>
                  <a:pt x="0" y="20189"/>
                </a:lnTo>
                <a:lnTo>
                  <a:pt x="7678" y="0"/>
                </a:lnTo>
                <a:close/>
              </a:path>
            </a:pathLst>
          </a:custGeom>
          <a:noFill/>
          <a:ln w="88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H="1">
            <a:off x="4800240" y="3809880"/>
            <a:ext cx="1143000" cy="2362320"/>
          </a:xfrm>
          <a:prstGeom prst="line">
            <a:avLst/>
          </a:prstGeom>
          <a:ln w="1015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5105520" y="4952880"/>
            <a:ext cx="609480" cy="0"/>
          </a:xfrm>
          <a:prstGeom prst="line">
            <a:avLst/>
          </a:prstGeom>
          <a:ln w="101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 flipV="1">
            <a:off x="4648320" y="3809880"/>
            <a:ext cx="304560" cy="533520"/>
          </a:xfrm>
          <a:prstGeom prst="line">
            <a:avLst/>
          </a:prstGeom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3"/>
          <p:cNvSpPr/>
          <p:nvPr/>
        </p:nvSpPr>
        <p:spPr>
          <a:xfrm flipV="1">
            <a:off x="6858000" y="4952880"/>
            <a:ext cx="15228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59958E-006 L -0.24167 -0.11103 E">
                                      <p:cBhvr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166 -0.11103 L -0.21666 -0.17765 E">
                                      <p:cBhvr>
                                        <p:cTn id="180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66 -0.17765 C -0.21423 -0.17557 -0.21111 -0.17303 -0.20711 -0.17141 C -0.20295 -0.16956 -0.19809 -0.16701 -0.19323 -0.16586 C -0.18854 -0.16447 -0.18281 -0.16262 -0.17777 -0.16215 C -0.17152 -0.16146 -0.16614 -0.15915 -0.15989 -0.16146 C -0.15347 -0.16146 -0.14635 -0.16262 -0.13993 -0.16424 C -0.13455 -0.16516 -0.13003 -0.16771 -0.12413 -0.17002 C -0.11944 -0.17303 -0.1118 -0.17881 -0.10833 -0.17881 E">
                                      <p:cBhvr>
                                        <p:cTn id="189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3 -0.17881 L -0.225 0.15545 E">
                                      <p:cBhvr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 -0.0222 L -0.13333 -0.0222 E">
                                      <p:cBhvr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10-31T13:27:28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