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7CD-1F0C-4289-B1D3-D4BDF26A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E12-812A-4545-98D2-D77D159B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1B69D-322F-4CBC-93BC-800E0931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28FF7-2474-42C8-A493-8D187C81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7C155-5B82-4A47-B1E1-FD4AFFA5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8E8F-5F6D-4DC5-AC09-B3F1870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6F520-595B-4848-9F2A-CA03A2C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04AD-FB31-49E0-9251-F25EE64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B1C22-9688-4D0A-95C7-DD297BED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E3C47-9B1D-4D3A-9C59-8997282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6496D-2DE3-4AEF-A230-100AEC23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B339F-CBAF-4B98-847C-E269A43E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026-2117-41AE-9B8E-A22D7FED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C071A-17FB-4A80-8FC7-A4B8DB12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267F3-8E94-48BF-8FA0-F611EEF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57AD4-08DA-4CFB-9802-3A4681AF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5853A-1D63-44DF-8C04-B0B6D0B3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E2F39-866B-454B-8C00-08BFC36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2569A-5DC4-4BB0-9ECE-C068803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0064E-2F16-4FC4-8437-D37F0E97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6174C-E0EB-4955-9F4B-937DBA55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B7505-E1DA-404A-A0A0-6CA78694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1211B-3A33-41D4-80E7-5BAA3F1C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D29-9816-4326-8997-3B463718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01095-C2EB-44AB-BE2E-D6EEEBC9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80E34-2FD4-42FE-9AC4-AE4A0E14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7A569-45F4-4425-8617-657F9060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FEAD9-31C0-468A-BA47-C7EDB54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0EE25-C707-4096-AA90-D872C07E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EABD3-FA1B-4A62-A00D-7A57D989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0E24-8BBC-4EFD-958F-71B4B03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DFBE7-8B0E-409C-A8CF-24CFF1A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650A4-CDC2-471B-86A0-F74ECC8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DCEC-354E-4C3D-83A8-7C36654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A5CC-4881-402C-BFB3-D9093BA1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A7309-EAB4-4EB5-A63C-DE82985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4271-FD88-4F63-A05A-29FBE3E0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F4A7-F21C-49E3-BF1B-68E0A8C8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B28E0-E65B-4771-882E-7F146EE7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75F56-C5C6-423D-957B-393A82F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6FB4B-6FD7-4F30-85C9-18B17BA0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BFE98-5BE7-4815-9721-BC3B3C97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96BE6-D122-41B0-A68C-DAD87DE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59CF9-9494-477C-A05D-2F8750F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E219A-4E9C-40C0-9419-480993CD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D5B8-B695-439B-A2E5-2914E2B0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650E6-9BF9-40CE-8A87-0145CE8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8C67C-5044-4BBA-A52B-128AA5B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8A1AE-B269-4BE7-99AB-D7DE17B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05733-3CA5-4E4D-A1EE-027633FF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1E811-9D40-4CBC-9E99-639BA31C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55A4E-9C28-4AE9-854B-6F60455C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39F11-2DB1-48CA-A093-A8287BF1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16A0B-21EE-4586-982B-D4280FF4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BEA83-A738-4419-BD6D-34C7B85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C7716-DA0A-4CF3-9E49-E40EBEEE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923F-509F-434C-B7F4-3709A53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65F74-C5AB-4E59-A840-B8ADEEBF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7DBA9-D3D2-4C71-8AB5-F160B2F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78E62-DE25-4271-9804-595B28F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2B72A-18FA-4499-A3AD-EB813E7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B1E08-54E5-48AD-8688-97A3A91A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5A4E7-504F-407A-A016-33A85BF0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FAFE9-E524-40F5-9EFB-B932CC58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80692-DF40-41FF-88CE-A3A65128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B41CA-F8FC-44F0-B377-215E1C0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751EF-A76A-46CF-9557-98653478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67F9-085F-4E90-8F6B-33C08D8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6ED84-61B1-41AA-950B-AC2E3D5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12F54-0BE0-4206-9FC2-CF5B7F06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C2CF1-4805-44FD-935A-7A588F91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D1E0A-5438-4252-9972-225C308E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9492E-B34F-4251-A3D4-E76DC6E9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A65B7-17FA-480B-B92E-253BAB9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C5FA5-F280-4B30-9E39-3A135312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C6785-6202-45EA-A137-BC74530F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B1DC2-9091-4BB8-9D49-C94A7AC9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9EB9A-51B4-4656-B89E-898F98A5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C00-A5A5-49B0-8563-3F5D37E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AD6F1-537B-4031-B361-119D180B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D7293-DAF5-4E22-BC14-178FD8A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6BACE-5525-4063-9534-EE6C159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F1A29-F3B3-466C-A66F-E3BAF4CF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DDD9D-1D81-4D09-9EDF-6A66EAB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7907C-FD7D-4921-9FFF-05A32A4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9AE3A-8462-4235-9798-4874532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03FBE-729A-4894-9438-F1C554E4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0DB85-0E38-49D1-BEC6-F16E4DAE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B18D5-65E5-4A99-80D6-64023D49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47A8-5C68-40AF-A95B-90FE6862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8F57E-5178-4E16-B8A5-E4225C4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AB5F7-823F-4913-92AC-5B47520D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3181C-2DF3-4FF0-96D5-BB2EE98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EE161-C930-41AC-9F63-F9A1D2B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E0E6E-A14C-4D59-A9E3-BFD62FD5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22A09-569A-4977-9D30-EF1FC49C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3C11B-4760-4E3D-937F-6E9CFBE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5C9D7-2874-485E-9870-5B49396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DF230-98C6-4F80-AA00-7E41C841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983B7-63B1-44CA-92BF-F3703F14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ECB-758E-4CC0-BC5D-EBB856B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521D5-549F-4E60-A74C-58A6374C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D738B-9DC9-4DF0-BBF4-CB8B9B08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7FC96-4FAE-475D-9A0A-8015A769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5F4CD-DB35-45FF-9C2F-F70E3EDE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EA8F7-9854-4A58-8AB5-6242BE0C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BFF8B-4358-472B-B57F-A2D1ECCE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37454-22CD-46F7-B0D3-FF39F40C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3F021-0F6C-4DA5-AE0F-FF857F1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8D95B-5C4B-4B9E-A45E-C89DD234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E3C79-F6AF-4CC3-80FF-C950706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AE4-B2FA-4198-8AEE-533CF537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2896-1D4D-4618-B944-BA0E6E1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622C1-5740-41E2-BF02-2E000D0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26907-112C-46AF-8BB8-DE27F57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0C260-7A41-42A2-9318-57B157E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A90C8-A088-4CBB-94B6-658ABE5A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E0CDA-44E7-47D0-A6A4-568E471D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38824-090E-4AD8-B655-F1541C12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BC0AF-C8E9-4323-BFD0-3755D1FA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3C24A-8AB7-4F1A-9521-F1765EAC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1131A-8B8B-4397-81B6-9287241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F4ECB-CB40-4E25-B569-CD1450E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0383-B6D5-4AEE-BEA9-B188B3F0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7EE94-F833-4591-8C67-239CEE8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DCED3-3761-47A6-A823-3624158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0C242-1FFF-4892-BD2E-A3B0897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BA65E-19EC-4590-A4EA-D3EB2726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87959-6F6E-4E34-9D39-9BFBFAE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31540F-B407-4B8E-B1E5-7E34C3F0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3C4F77-04A1-4584-A6B1-F7A0308C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5906B-9E0D-4FB2-9191-168C8A21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06E5C-EFB0-4379-9C33-83D5BB10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144B67-3BF0-4129-BAE1-E01AA31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124F-1A42-4F07-A3D9-BE20E0D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023E2-203F-4E3C-9B44-6CC78F6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912AA-007F-43D4-957B-E512C54F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D1C4B-2ABF-4BF4-BB6C-AC5B192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1E2C6-4B3E-46D2-AC21-2276DFA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31272-AFF7-4302-AF6B-F4AA193A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1CEDD-E7CE-4025-9EE8-4A154A9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54E5C-E959-47C1-8EE8-818680C6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F73E5-8CE7-4847-9566-E405F43A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AC643-4C1F-4A79-AD3E-35FCB7F0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03889-53DD-4DA7-9C74-B80297F9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975E-4C01-4BA5-B332-5F1E5BC1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E7C60-255E-4A4E-9467-A375047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20B12-E34F-483E-B9AB-7728A566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F7C63-51D7-4677-9DBB-581E1D50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DF404-7454-42AC-9253-0391D69E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42BFF-AEE3-4CFB-9C5F-1D5884C5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4D441-AAD9-45A4-AA1C-3078A2C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31A02-1602-412D-B2BF-A8B3B34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E58DED-D39E-482C-9A08-532325C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43F83-2531-49C4-B32C-D77B01C9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1D4CF-0E6D-48A4-AFCD-111FF3F6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C552-9596-4918-80AC-FF8EB3CA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B0231-2E61-4BCC-878B-40B38F3E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9AFA7-472C-43E3-A264-0339EFF4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5711E0-D0EF-4240-98B3-D8C15679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29EFC-921C-462D-B5BC-623ADAC9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CB970-6EAB-4DF7-8848-2A9C6DA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CD4E0-25FB-4DB8-9582-D3CF474E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B26D92-C037-4A56-B587-D43ABFEA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963D5-F350-47BB-983E-C993B73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80DDA3-7E50-4B7E-B577-BD38AA4F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6CBBB-7C34-4598-AFF2-3F8A3C7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12AF-A123-49B3-A81A-32E22B28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1C77F-02BD-464D-8807-A9DE59DB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B17DB-3A7C-4D0D-BD20-B8BA6A1E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A55CA8-761E-40BB-B893-63318E53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4BF5C-2E25-45B5-B99E-B6A9AF2C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FC15B-B748-454E-9657-66A54B4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C7D904-612C-4869-8B07-CCFBEB9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DFCBF-E494-4201-B1A2-3FFE9503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C13DA-205E-4663-972A-E2CB4D8C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7FCA58-88BD-49CC-A366-B6EEC9B3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2020A1-B44D-4C96-B6F3-4B6E1CF8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2FF8-2ED0-4E4C-9156-3CA2F281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1DD745-FF75-469B-AA20-0267C27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A8524-7903-4112-9137-DBE16FA1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84028-02D9-4F7D-A9EE-B4EE393C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CB610E-6E15-47BC-90A6-AB56EEFF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9D82D-FCF1-4569-BD22-224794AC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FB1E7-DB27-41A5-82FC-FBBC0293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FCA79A-6EE1-4442-B258-8E124C2C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6250B-1C37-4E71-B23C-8EE91F0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099EAC-68E9-44F6-ADC6-F566DFB1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960D42-F08A-4D23-BB5B-AA87EE47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0509-FD88-4CF0-B01A-DB0AC7EA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43942-0942-4702-806B-F331C2A9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3B3CB-D25C-4AE2-9524-1936E2A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DF9F2-C5D6-4683-ADAC-5805494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F454AF-0123-492A-A8D3-6683C5D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DF5F9C-64C2-4E5C-B4A8-33F9694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0B580-915B-49C1-A716-AED197D7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28561-2879-4847-86E2-0124484C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F0F771-816D-4C03-85B3-3487D07D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FEFE64-05A3-47BF-85D2-C2F058AD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216010-33AA-4FA2-8CF8-A37C3A49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6EA7-EBDE-403E-96EC-13CC597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81C131-AF28-45C2-A148-8E561FD2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2D621-6C18-4896-848E-9BCEBD6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51BA45-1669-4D05-9A08-ACBB3FDE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9047C3-A64E-4C5C-AFE6-D0A00F2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59C3E4-9BC1-4C8B-BF35-46843D2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5D828-2074-4CD8-A01A-D5AC4AD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98496E-7E5C-4266-830D-709455B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A9F08-80E9-4C33-983C-734362E6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DC314A-7168-4774-8BF8-3BC0FD99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AD891E-F398-40CA-93C5-FE8B5ABC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B7E3-37C9-4240-B427-7392CFD8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133B4C-171E-4479-80A1-7510C71A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7A97D7-BBC8-4C9A-ACD5-8364303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018652-6002-4DF9-B291-D9B8904B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E8858C-BA72-4A5E-9E19-2EC0A72C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3314DC-3139-43FE-AE00-1E1A1941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CCE431-7173-4204-A332-B4C3E1F5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CFB982-7293-4304-AF6F-1F1C65B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5EA68E-9247-4B2F-80E0-6AE1D83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6E113C-C542-4BA0-AF0B-91FF5086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16C290-FA2B-44F1-912D-BE3CFC5F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F79-9FF6-47F0-AF6E-1C4255C8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BD8C-FFD8-4054-88BC-DC85400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3C27FA-43D6-4AA9-AA4B-B17D669D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DF5890-30E1-443F-B01D-493944A5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03796-6A0A-4FF5-BF87-86CB87A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F5E220-E484-4478-BE43-4916981D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34E276-D662-4CF5-ADBF-96FE687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2C7E6B-F8F7-48D0-9A33-4212D1A6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78F9BE-5827-4995-B01F-2646E9B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798E81-26DC-4A6C-BB49-E572B1F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2D8587-AC73-48E6-ACCB-D60046A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6ED650-089F-45D5-97D3-5C37B8F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4316-B067-4F3D-A1D8-2CEAAF4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179F2B-48AA-4C1E-99D0-98F337D9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BE6E39-DD1E-45D4-A999-74AB9F94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8CF94-1215-44CB-B03E-4DF121DC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6C6D79-4C2A-41A8-ACD7-D8343ECA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C41D99-113B-40A6-A2EF-46F7AE11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7E3120-CDB2-443C-87CB-56B1B3E0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5B807F-4BC7-4F07-B75B-75B1DC5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FB3D98-6D31-46AD-B242-A37DE53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D37E3E-C1A9-4917-8696-8103E4FC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A5729F-9C53-4E3E-BDF8-D78DC37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E135-CE3C-4E13-9911-AD70421B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556C6E-AD6B-4D6E-A4BF-6388786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EED471-545C-432D-A7A8-66AD212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965822-59EC-4CBF-9F57-AF993861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3D997A-929C-4B7C-8457-0C155204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BE2BB-CCB3-486D-B3A8-FADAA148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64E426-5F8E-4341-A049-8DB429E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7C8004-1569-495E-B8DB-AB1ACE7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4DE4B5-643F-4EF9-84F9-71F737A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E0F60C-49EF-4CE6-927C-15581B18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665525-45BC-4568-BABA-B4E0140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7138-0A18-4CED-9F97-7C61D16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87E307-04DF-4421-8C31-0D09AF48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2975E8-6477-429A-AD61-719B8F1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EAE7CE-E0CE-4682-9639-1DEAFEAF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19639E-41D8-41B7-A726-95B1966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C74B8A-9F30-455B-9ADF-0B825C02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A233CB-E9D5-498B-854F-F3A265B5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4AFB1F-DCA6-4EC6-B7C3-CD8BE79B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F9F85B-2ECB-450C-8F06-6D4CE6D9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60412C-DFDA-4BC5-9B02-B2CDE905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F74BB5-ECF9-4035-A878-2FF502A0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90B6-D7BE-4559-9E85-61886A1F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8D697C-ECE0-4667-B0F3-A6012D2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632B57-0790-480E-B6CB-C628224A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E927F1-FBD5-4403-94C5-368585E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F8C2D4-575F-4E98-AD36-86A82DE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811C27-19F0-42ED-BD86-9A0BF7B6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989B31-610E-43F1-9C7C-F9CB4B8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328D2B-0658-49F5-B24A-EF4AB4C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37BBBB-C6C2-4FA3-BFCD-25EA6FD4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877A0A-10F0-4B60-9D52-BFFB80EB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14416A-234F-4FD2-80CA-8D4AE1C0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0182-EDFC-4F53-8AD7-005D60B3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674722-F565-4732-91F0-73EDA4F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FDA17E-D3FC-46BA-B371-5D54EDAE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B98956-C7C0-42BB-8C3B-417A7A6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E0086A-3D8A-4D5F-8554-20CF5D3C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FA8468-88A7-485F-9C36-CFB34363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F4B2FE-886F-40A8-996B-C471C30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6A49F7-75BC-474C-89C3-9065F67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6E302F-82CF-40F2-AAD8-1CD4C8F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6F8E3D-C957-4104-A919-A9284C6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AB2430-49E7-4463-A5A6-B784E5A7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DB8A-5A80-459C-809D-665CD743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27666A-F34C-44D7-A0FE-910FBA94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38D457-F40A-4549-842A-EAFABF10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8972EB-407B-48D1-8793-88451AE9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9DFCE9-E459-475F-A8CB-C55711AE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041DD8-6207-4BB6-8E8D-AAD88F6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18956B-07AE-4649-AB5F-E9DF93F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99AA15-1C0B-4A0F-8A9E-C481D13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09534-BBE5-4772-BA64-CCD91D4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F3E773-2E1D-4C35-962F-0B89607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CA9279-720C-4465-8388-78CD3DA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64AF-8B42-4A11-87C1-5DF2CDF8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CEB943-1242-41A5-87F5-0CF4770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93CC8D-43A9-4F79-8235-EB758CDA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43B89E-7601-4D6D-97F5-079B130A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0F429F-8343-4C57-8284-0C9B506A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914304-A65C-43F5-9DEB-D4C4E8D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30FFF8-9BC1-4099-AFE0-37AB4D5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903C42-5CD4-4B33-AE35-B57B9B3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CCFE4C-7C61-43C0-98D6-A737313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41E994-F513-4E0F-80C9-6DE997B7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59D335-9C9A-4678-AED3-09A602E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8DEE-98C4-4531-88B8-9E0E098E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726535-3539-4F27-9F8C-DEDF6D5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520765-6D11-4B0A-88BE-C93B208B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23E9D9-0689-43A0-BF3F-CDB8761E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67E44D-4E24-414A-81E5-8FD68902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D65FBD-B29D-449D-AEC8-28DD4CD7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5239AE-8FD8-4F4F-8FC7-94FD46A7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BC99D2-45C9-4C80-AC35-1B04064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2B140A-8150-4366-BF74-B40015E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A89EE7-5803-4533-9A96-2F9F1D9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298DA5-B297-4373-A564-02D730C0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8443-3315-483C-8881-D807A9F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596E7D-0479-4B0F-8C46-6B4112E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E9861F-9EFB-4C22-A4D9-EF70A2E9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0DE1DD-3C41-4BE1-8E67-953D7C8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73EF00-B649-41C6-A891-851C4C04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957373-C999-4732-A78E-8F6C825D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68BD76-A24E-45A1-82D5-67947737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EB73E6-672C-4124-93D6-57CE4C25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9BDECD-C09E-4E1F-8BFC-FD770CB3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DDC2CA-2924-4690-8BDE-2B9CC65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3E8166-BC74-4606-9285-013B1ADB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76B-F167-4A0C-89AA-66871DA7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FF48-9BB1-4307-BA70-FA6EEE9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47CD5A-05B8-4BCF-AE0D-15D57441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35401A-18DE-4051-B2A9-94EC24F5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79993C-73F4-4CCF-B1D0-C6DBE30C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899ABB-45F8-4B54-A6EE-4F3E984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AE469A-5D8C-40EF-8DCF-19168704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195024-1113-4157-9A32-272BAB7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8DCF29-DC1C-4E74-BE9F-BBBFA0B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3D407F-24C5-4604-AE5A-65AF890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984850-879A-490C-82A3-49DA128E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EC5DD6-CEAF-4261-B67C-9838CADC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58AB-BB20-4C18-A013-AAF5A9F3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BE7C93-2667-4D5F-A9E6-DEE92252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9F43F3-E25F-4F73-A3F1-339B345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0CD60C-A24D-4A5F-8048-EFD5CF6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676797-6E07-4A60-BFFE-714331F6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23FC8C-FC00-4B5E-A6B5-A48DCB11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FC6E47-C107-41F4-BFF8-12C5EBA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66037A-6F21-4201-A0EC-590813F8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5A33AA5-D3BB-42E9-AAAA-24AEDFE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39D2B5-50C5-49A8-91F2-CA92699E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042ABFC-6776-47FD-98FF-E0CF509E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7F85E-BD76-4DD8-A1B4-1791144F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333A2F-1DB5-4F59-8B00-0429788B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FFB0B4-77AC-47FD-AAF1-88700FC6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5E136C-468C-48FA-8C41-490803DA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04F7E9-742A-481C-86F9-A109A4D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8A74C5-EE9F-4643-8A0E-A1520344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5911BD-492E-4619-9D6E-13239EF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BB50C1-8F8F-4934-8A36-ED467EB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335318-E700-4688-A532-4027A32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8A4BBF-AEFF-42AC-8AE8-0E9F2EC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0DB8F0-3260-4A9E-AFB5-46DB1E9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6381-50A2-4BD7-9651-D244840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C42A9A-C162-4638-91EC-BC1A7D7A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F4DF1E-EC81-4EEB-ACC8-E7FB0049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D12BCA-00B4-4119-A233-BC7027C3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AAC228-520E-4219-89EE-EBC000E6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635DD6-EE54-4C15-9BED-67D6E995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7E191C-BDC2-4D8A-BD5B-B73B8AA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E5993A-9606-4523-9531-322AC7F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364233-058A-4B52-8C90-ECD60C2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54052E-D79B-4F00-BB84-68B971C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2FE8AF-EE01-4ACB-A3C0-79E7134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E20E-1986-4A6C-9011-188EE98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1415B6-384B-4018-98DF-9FEEC74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BCC5A7-99B3-4455-9702-66ED53F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4A1D78-C361-45DC-AAE0-A6727A2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EA329E-C504-4896-863E-467732DC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E2F24C-22AE-4E61-8346-B9FEC1BE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D3914AF-3650-42AE-B24E-8C307FBE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926807-E1A8-4531-A9A7-D2D6E469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3E0753-E0DE-43AA-8227-E0856289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0B6AB7-00B4-4566-9EA3-3397478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E06202-A6D1-4CDB-B11F-8E197F97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EAB1-C501-46D8-B302-D004037E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C6C0D2-8444-4E90-8AC9-97EA6528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565F1E-3F12-4791-B32E-6AD6D56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203144-C794-480C-B364-E556048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4955F4-BA16-43C6-A6C0-0712BD6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3B481F-0F8F-4A5E-82DA-847060F3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A918BD-8B73-4FC9-9E53-8BB2D5D5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2CF902-CA1A-444E-B89F-7D39EB17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16B7D9-B491-4AB8-9D4C-0A1A20D4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8324F7-4841-4D89-95B4-6EE107B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44C13F-9282-4954-AA7A-B0CA1AE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6CC3-B096-472A-99AF-B021F785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B76000-CC39-4B78-8916-BA9717A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8FBDBD-2D94-4747-8720-1050DB37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329168-3BF7-48B3-92D8-4FE61F02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B40A48-98C0-461B-B267-3FF9FDA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293B9B-98B6-40E0-8EF4-2871E13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A9C61D-DC16-4599-BDFE-E80852B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8FF3C3-18FA-4EA0-BEA4-FD4588FD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08B4CB-008E-4F31-B9E4-56CC001C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E62A93-376C-4544-B354-DE3A3239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1BF7D5-6DBC-49AA-9EA5-C0A8C475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45E2-C542-4A6A-8076-4D6C1264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3FCDED-4B47-4407-BAB4-9B83D086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7B1E11-1EF6-4879-95EF-A00A955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242D94-6C3A-4481-9ED8-CC5CC6F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D397EA-7840-4572-93C6-8323F945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BD36A9-E0C2-41E3-AAAA-0102F863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BADDD0-F87F-472C-BBCB-1E97389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BA241C-23BA-4E96-89E4-074D21B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090A54-AEF8-4091-B9DE-960F1D2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C903AD-BF6E-447E-92C4-A9ADD02D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7D6C02-C81B-4EF5-BD6D-356D5FB9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2068-24FA-40B8-A87F-1FA3B586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EFF774-32ED-46D3-A76A-CCE1741F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AFB076-DDA9-4CE2-AB17-8946C135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EA45F0-8E0A-4D57-947F-D671E3C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1D7AF0-4A89-4F0A-A1E3-A0B63F6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97395C-73AA-46DD-83AF-F315BAD9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7058EA-FCD0-409C-8BA1-AFDAC89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6138C5-5F98-4DBA-8715-FCFA220B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8F8B94-6949-46BB-A0CA-AEE418C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4C93C9-5A42-4BEB-9098-8165BCF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F5E022-3590-4193-BC47-C82AD69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E14C-9909-4210-9C42-7A129F52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D36F79-61B8-4530-8B69-2B4B1D26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A362B6-53BA-4D75-9E50-A07B19D1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51B1C7-9B9A-40F2-82A7-574DDAAA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24E582-2F13-4732-9B3C-DA55CEB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84CCFF-DA5B-4426-9010-1BB1757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634FBA-F6BB-4FA9-920F-61C3762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4EE4B1-83F1-4FE6-A4A4-1BB0B43D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4FCE85-855F-4312-80DF-DA753624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C41AAD-C99D-4AA6-A049-C4A65D75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135DD2-33E9-4FCC-8198-1897E101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D56-0158-43C0-89AF-1A6BE793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78000-FF51-4EE1-92B8-8275349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82DF19-64C6-4E81-9344-AA08441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FA9DAC-3DF9-4CBC-9F7D-EC723EA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70117B-8019-4705-B400-AF06E6E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66C277-DABD-49A5-9AEF-BE657E29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5C8737-7515-476C-82C6-23FCBE61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ABB330-D366-47EF-80E6-9F99400A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5F56C9-B11E-4D7F-9D25-0E626EA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2AC523-B85D-460B-8E87-CD73FEFA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F89C286-3BA9-4C1E-8D68-828BDDC3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CFC17C-0ACA-4A41-89C8-D2ADC4E2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A2A87-0E29-49C4-A7DE-A562615E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4B1AD7-E0B7-4ACB-A10D-DFFB2A1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844877F-925C-443F-9B46-B3F4969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31AD0F-E485-4119-9032-6BD7097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1E4A08-4C6B-4057-922F-B54616B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E4C226-AB56-4BDC-87AE-CF51C1DA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484121-95EC-4C7D-940F-7CB62494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99061E-AA1E-40A2-8AFF-A046FF8A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9DC7B6-71B6-4981-B7D6-7A2429C8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D19B78-8A72-41DA-A0CF-66BB5BC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B8571A-8585-4A21-A474-D7FFE66E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F6C7-19C6-49F5-8C99-23E821EB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3271C5-4DF1-46EB-9A98-0B9686F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217BA0-A974-4EC3-9FBD-FDF1A76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DE6BB3-36BD-450F-9414-C049633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422CD3-3840-4A58-A879-7B5F84CA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19E91B-EAFD-4862-8481-5957E0E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9220109-E4B5-4C20-9861-AF4E87D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CA8E86-543F-4E1D-8274-FBE6C958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7C2D57-405A-431F-9F47-49BB33B3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1D69D2-375D-4827-9A55-AACF6AE9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24B010-0D10-450E-A4BC-FD6126B4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889DD-ACC4-4A38-BD83-9535182D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99668D-41AA-4B2C-B515-D444099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B0E7C5-C454-4F34-9E03-69B9BC50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33436FE-8F99-4D5B-ACBA-D1AF71B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83FEEC-0259-4122-9C52-1F29105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730AAF-7167-40A9-9E57-172B8F9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9CF495-F63D-4CC5-BE09-0F03778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22A7F8-C0B4-46F8-80A7-5DFA1383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C09CE8-81BB-41B3-A3E3-7613297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4D3BBC-3BD6-4D17-9575-CA098290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7FC4D1-1177-497A-9751-88D74D48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D9A1-1AD7-4855-ADED-48E38F5D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9BFE26-9AA7-4763-AFB8-B4CB5E8D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0EC904-C335-4230-B6EE-59A46707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B0F675-9D5A-42DA-8F1B-17EC9E6F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B06181-EB39-4CD1-A6F3-52E1CB3C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2E5A2B-E288-4D68-9446-B4A07DB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C8318E-383A-4568-BA6F-A26BE4C0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9CF492-4B64-4402-98B7-60B58F26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35EE53-9BB6-4E2A-AA8E-ABB34F6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839596-721B-45AA-B301-0CF1D1E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769201-F132-4301-8008-B2B606E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B36AE-3E79-4394-92BC-F2F2E80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5A4551-7F83-4271-8122-3CE9C011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758D5C-D58B-48AB-96E5-70EE5D1E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F5D187-AFF0-4A15-A8A1-2FD067AF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C8E208-B441-4ED0-8C83-291E68D5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2522CF-FA87-42DB-8966-12F93EC8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371BF7-9D23-4FD0-8001-70A2A8F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9B862D-3C2E-45AB-918D-F684350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B18598-C9CA-4083-B254-8AE54CD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F045FF-29B3-440D-8FA3-75854545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907250-9B0B-4687-9BBA-645E6C7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A200-DC09-424A-B2C1-7099B93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C03203-6FE9-4546-A56D-DFC5DC9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3E7C0C-71D1-4D50-BA04-F133F60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8D60EE-AA4B-4065-B0B4-FD4242C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E738E5-1938-44BD-9A46-CBC6B1C4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861A51-2A48-4A99-9D34-1E408424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66D279-663B-4489-8E8D-EFA7B83E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EEA080-3A2E-4F87-9FC7-1983A0D8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80640F-9AB8-4386-AB17-6B07E59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2BE9D8-3B38-42C3-B69A-D9C8B1E0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C96720-8B97-4DC8-8BFA-62790AE1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08DB-14F4-444D-BDC8-A2A13AB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C5E593-931D-427D-A453-06E5889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D54F4C-D5C8-4510-A5AB-BDE6BA7A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3A0E36D-A3B6-4043-83D0-551A90F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63EBC7-E0F0-40D4-BDC0-140854F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4F1480-5492-4D83-83F2-8A8CFD80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C975B0-2D8A-42E4-8465-5DC0BE1C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15C872-EA40-4CD2-8FFB-934D6C1E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6B4FA0-70A0-4409-B66A-B22C7376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3108DA-B5E9-47AA-86D3-EB25C0D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45321E-D26A-4ED9-96B4-E301C6FF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EAFA-B307-4F6D-8575-D613DFA7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CCA7B4-166B-4C79-B0A6-69FBE1B0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E86D4AC-103F-4BD6-B094-8A804E1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DC297A-60CE-4C76-82E4-2804412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298B99A-281E-48C7-A93A-52A04C2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6A9972F-2835-4478-8793-D62CECF3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26E107-369D-4823-B817-E58FF57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D1D9FE-D862-494B-991E-C70CC4D8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4E9304-5FA4-4DFB-9BBB-5ABAD275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F98E8C-95B3-42F9-8045-4692EB12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ED744D6-E21D-4B32-BA51-358A9436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7879-2F5E-4B84-98E8-1421ADA7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D45FFA-C82F-4463-9D40-E0DA71EC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1679B5-2E9C-4F05-A379-B087082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1FB924-671E-47BA-A7F7-C587EE0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F99377-B416-42F7-B728-AB067EC8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F55DFA-219F-4673-A4CB-E3F8BDEB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6EFB80-4847-4624-A0E5-86F20624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1CF911-6F91-4070-8F45-91285F94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86F67DC-80B2-41B5-9D5F-BD8AEFA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465F2A-940C-4B86-81C3-438DC19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0A5935-7996-402F-A76E-33F99621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271-91DD-4C48-85FE-C67BA7D1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B08D-561E-48D2-A6D1-FD1DE6C3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CCBC62-58B5-4391-8EF5-C6C253D4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370F0C-1F62-45AA-AA18-D1EDCC29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310659-3079-486E-8ACD-055AD63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ABDA974-8464-4F39-9CFB-A93F502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F20240F-D31D-4654-975D-7A985C18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1470BD-2490-4CAF-A38A-EC7592B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A5288B-48E0-4910-B096-00195FF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CB07B8-ABAD-4A70-ACD8-582DD576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1189DD-4A00-4B28-A9D8-7AE6A8C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E6BAF75-1C2A-4326-8A97-C1A1C64E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8F947-E8A6-4F08-856D-801DC68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4F28A5C-E1FF-4A5F-A201-1E52E3D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D2FCCD-95DA-413F-94B5-A3E30B60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79761E-80BC-4428-86D9-243B2CC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7742683-1B0F-4C10-86B5-1DF54CBD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3F17237-4930-469E-B914-B7B100C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0BDA9E-A90F-481C-B62C-F026885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689C24A-BACD-4E70-B929-5055ABA3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8FDD23A-AFE3-464D-B5D0-5FC45FCF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EB10C1-F953-40C9-82BC-3C8F7A4D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9113EC-AC18-435D-9367-D2E4B82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F8B7-E1B5-4DCB-9579-38E8C90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64C1A4-B98A-4EB4-A2A7-173F021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890DF38-4530-4995-919E-D54FFCC4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7A6710-42A3-4D48-B5FE-FA527084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8E70DEC-8DA6-4EF0-ACDC-95A16253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C3D7FC-BA56-484E-9557-C810CC6B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719D86-C6AD-430A-8ADE-350A515D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CEE34B-0743-4897-A666-6DA61B5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375266C-9BD6-4DFC-9713-BD7CD490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30CEA30-D889-4E6C-9264-3E4AAFAF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B0655B-2FAA-442F-A3EC-B6290403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DA87B-1244-4CD4-808C-BB1F2E2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006FCF-9307-4754-9AE8-5EF149D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B1369F-C21A-4B0B-BC17-C9E6839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B401D26-BF2D-4F56-9BA2-69F22234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CFD043-E1D5-4747-B3C9-480047B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E517B02-00DE-4B92-ABB6-E744F3F2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F40E8FB-A27E-4FE4-A982-AFC303C4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4429C17-3A93-4C5E-A7D6-8256F3FF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2B97D1-50D8-4CE7-A9B4-943285B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6F82A41-CD63-4569-AAC8-95E3FCB7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E0CBC3-4A60-4C91-87ED-FD2B634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3F01-EC02-46A3-A421-6BE2F8A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C0A9EC-43A0-42A9-8B47-861621C4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6267B3-E53E-48E5-9A77-C7E09A9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69ED72-495A-409F-814F-1821F45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BDFE23B-7FBD-4E48-AAAC-33F420F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3DB4A5-2017-47F7-98B1-80E9986E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5ED702-91EF-4B48-889B-720274F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9AACA7-5DF2-4AA4-AC7C-E20E123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9A7693-C40F-483F-9804-742B8786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9714734-CCEB-4BFD-8314-53E71107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6F5101D-0E39-4E93-A39D-9E5F5844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33EFF-C7EF-4E9D-9411-311788CA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30D861-486B-407D-9E39-FC0FC60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446A9D-9826-4DF1-B4CC-679C3B9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2BA760-AA71-418E-AF0C-8A417C7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E0D1FD-D575-4A90-992D-ED73BE07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C13FF90-7B7B-4E6B-9E3B-1100E0D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B1B4729-C3C7-4625-B457-01D12CB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176425E-11F2-4DEF-9976-4AE5872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392D6C-0C49-4B93-BBCA-4915D74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49A6DFE-5945-4DA6-AE7A-A809D069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F020A0F-7A27-4055-A158-88CCECD5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D193-8DA8-4A73-8537-243CD0BC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70F826-AC44-4158-87D2-6332D7E8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7E98E30-D9AC-4065-BCA3-ADBB6303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0432045-F65C-4EAF-B198-CC3939FF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D6990C-E098-4FF0-9F4F-1195B16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057454-9997-4F96-BAD4-82DFB14A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84353A-5347-42EC-9DDE-B1AF05F5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6F6F473-819E-4ACA-9977-46681549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3DC2F63-1DF8-482F-87E3-7FAF431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1D9A259-E5C7-4AE0-9CD2-3E59EB7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9E6E7C8-0019-4DC2-B2A8-3375B9E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D308-6630-43DA-8581-DAFE4F8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BFFFF6E-583B-44C6-8565-EFDA72E2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9DC063F-65B6-430B-BEEA-9E3B1FE3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2FA44FF-4A92-4571-B5C6-F6BDB4C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33237B-A1C3-43B0-B2EC-273F290B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DFE5F9C-2C34-4251-81CC-0429CF37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1D0D3C-B69E-4A8C-88F4-8EFC7797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F92B804-1083-47D9-9B20-37D0E4AF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370B40-6F75-41A1-B9C1-AE7953D4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C69A0BA-B3D6-4CB9-A8CC-54A4FBDA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25D66F-55CE-430D-8E64-8525128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4C05-AE6F-4557-A6A4-0F4CE99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0C2CFBA-76E8-45F4-9708-36713BD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3F47A04-EFA8-4000-9CFB-3DA73DA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228992-CC1B-439F-B107-FFC5EB9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4B68756-73FC-4498-8A78-68068F64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18D8C7F-6E1E-4042-B45F-5E8E191E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FF13DA-716B-41A2-9466-4E02315E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94DE28A-F0E6-46E4-8A13-6B75A13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EA972BA-C440-40F1-A6C9-5CAAD06E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7E5B375-F792-4803-A289-B1CF2AA2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A715DE-4809-40E2-9877-A28204D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7C92C-ABF4-4AEC-94C6-0AA7CB5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B2A3F1-B460-4FA8-AEA3-FF24740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1A54643-95A1-4598-A68F-38E7518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9D0BDA2-D49B-4724-A25B-A44DF6C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A9B3407-0034-41CE-A5FC-4BB4C611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42372FD-3296-4719-8E89-88E50449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A85F549-0BDD-4203-9EB3-EBEFB54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508738-5D65-44D4-ABB6-A0BF54F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23D590B-BBA5-44E5-9EE0-E76086BB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8C095FD-A196-4AD8-ADD8-A9963A01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6838251-FFF8-4979-90F0-52A562BE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473-1EC5-4222-8655-323B2FD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D36B-A2CD-4399-ADAB-DE904E8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1A9445-C2BF-4DA8-9F93-362BC843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9576303-D8FB-46A0-9733-3DA198FA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C0ADE1A-1B79-49FC-917F-EC357809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E5CE9BD-A747-422B-9FFD-8C2930C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B767645-6B2A-4968-85E8-ABDA45E0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C09EF1-5502-41E4-A10C-AAE7011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9C0DBE3-0D6C-47E3-A8D6-8982E43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342DCAD-DE2F-46E3-AE98-4B0E2F72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AD8EBD2-AEBD-45E5-B015-2F5F2C51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C1420B6-8EFB-418C-A4DA-516B36D3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2913-F340-4FD9-AE21-E4859ACD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D4CF68C-4929-467C-9367-C8512CE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167A902-AE5C-4E8B-B562-69364AC8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669DC8-8F62-4C8B-83F5-D2BEA9DD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DAA86FC-E039-4FDB-9B34-134CEDD9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A6DFBF9-CA55-4CAD-A179-1589E22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914D97E-95BF-488B-B0E4-7DB61BD7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663D4A-2DEB-475A-8404-A00D2DF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848C0A3-7CD9-46AB-9E7F-FE2EB108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F4FC0C8-8DFC-44D0-AC60-55A6FD63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0B74316-645E-4AD7-9666-613F141E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FD3C-3138-4A89-AD74-F5472821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9A95693-FD3A-454B-A0FE-88027C18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14614-DE30-49D8-AA6F-F8772EFC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73B6-005A-414F-8F2D-84FA1F8E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FCDDF-8066-4490-AC39-F33BF1A2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BCC7-426B-45BB-A973-1DF652D4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CBD4-C050-4012-8C6E-AD5683B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B134-9337-41EC-941C-DBFF8C9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1F68-2D4B-4E27-B7EA-BDA93053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C1A-6B35-4BBC-BCFC-2C85F1B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3D76-AB36-49E8-BB05-1589F875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58EE3-EE3E-4EAB-87CC-CA41544D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DB40C-8FF3-4FBF-95A5-1027A8D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FECA7-6AD0-4F50-85D1-D8CB058A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B675-E1A4-40B1-8EDF-49F58023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E81A-ABC8-4235-ABCD-70DE7634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199D-BE5B-4DF7-AEA6-A4A7E7B8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7706-E852-4558-9671-7E7894BA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C56A-D797-4D77-A90C-EB79370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8C0B-AB1B-4E43-95C9-27711D8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005-0D4D-4D4E-9D0E-6714406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F62AB-D240-47E4-82D8-EF475000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AEE54-6CB4-415B-85BE-D598831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511E3-816C-4BA4-9512-3F8AFC6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7C63-515F-4110-AD3C-BD5F79A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B9518-BF7D-42D6-8DD1-7F4CA3A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9A22-618E-4FFF-B38A-27C1562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C211-7EBD-4504-88B1-48D077CD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3D666-B7E7-4816-9D5A-DAC86095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D7364-2FED-4B61-8248-FA1751B3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7AAE2-F633-4532-9093-95DCEA81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13.xml"/><Relationship Id="rId9" Type="http://schemas.openxmlformats.org/officeDocument/2006/relationships/slideLayout" Target="../slideLayouts/slideLayout314.xml"/><Relationship Id="rId10" Type="http://schemas.openxmlformats.org/officeDocument/2006/relationships/slideLayout" Target="../slideLayouts/slideLayout315.xml"/><Relationship Id="rId11" Type="http://schemas.openxmlformats.org/officeDocument/2006/relationships/slideLayout" Target="../slideLayouts/slideLayout316.xml"/><Relationship Id="rId12" Type="http://schemas.openxmlformats.org/officeDocument/2006/relationships/slideLayout" Target="../slideLayouts/slideLayout317.xml"/><Relationship Id="rId13" Type="http://schemas.openxmlformats.org/officeDocument/2006/relationships/slideLayout" Target="../slideLayouts/slideLayout318.xml"/><Relationship Id="rId14" Type="http://schemas.openxmlformats.org/officeDocument/2006/relationships/slideLayout" Target="../slideLayouts/slideLayout319.xml"/><Relationship Id="rId15" Type="http://schemas.openxmlformats.org/officeDocument/2006/relationships/slideLayout" Target="../slideLayouts/slideLayout320.xml"/><Relationship Id="rId16" Type="http://schemas.openxmlformats.org/officeDocument/2006/relationships/slideLayout" Target="../slideLayouts/slideLayout321.xml"/><Relationship Id="rId17" Type="http://schemas.openxmlformats.org/officeDocument/2006/relationships/slideLayout" Target="../slideLayouts/slideLayout322.xml"/><Relationship Id="rId18" Type="http://schemas.openxmlformats.org/officeDocument/2006/relationships/slideLayout" Target="../slideLayouts/slideLayout323.xml"/><Relationship Id="rId19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37.xml"/><Relationship Id="rId9" Type="http://schemas.openxmlformats.org/officeDocument/2006/relationships/slideLayout" Target="../slideLayouts/slideLayout338.xml"/><Relationship Id="rId10" Type="http://schemas.openxmlformats.org/officeDocument/2006/relationships/slideLayout" Target="../slideLayouts/slideLayout339.xml"/><Relationship Id="rId11" Type="http://schemas.openxmlformats.org/officeDocument/2006/relationships/slideLayout" Target="../slideLayouts/slideLayout340.xml"/><Relationship Id="rId12" Type="http://schemas.openxmlformats.org/officeDocument/2006/relationships/slideLayout" Target="../slideLayouts/slideLayout341.xml"/><Relationship Id="rId13" Type="http://schemas.openxmlformats.org/officeDocument/2006/relationships/slideLayout" Target="../slideLayouts/slideLayout342.xml"/><Relationship Id="rId14" Type="http://schemas.openxmlformats.org/officeDocument/2006/relationships/slideLayout" Target="../slideLayouts/slideLayout343.xml"/><Relationship Id="rId15" Type="http://schemas.openxmlformats.org/officeDocument/2006/relationships/slideLayout" Target="../slideLayouts/slideLayout344.xml"/><Relationship Id="rId16" Type="http://schemas.openxmlformats.org/officeDocument/2006/relationships/slideLayout" Target="../slideLayouts/slideLayout345.xml"/><Relationship Id="rId17" Type="http://schemas.openxmlformats.org/officeDocument/2006/relationships/slideLayout" Target="../slideLayouts/slideLayout346.xml"/><Relationship Id="rId18" Type="http://schemas.openxmlformats.org/officeDocument/2006/relationships/slideLayout" Target="../slideLayouts/slideLayout347.xml"/><Relationship Id="rId19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49.xml"/><Relationship Id="rId9" Type="http://schemas.openxmlformats.org/officeDocument/2006/relationships/slideLayout" Target="../slideLayouts/slideLayout350.xml"/><Relationship Id="rId10" Type="http://schemas.openxmlformats.org/officeDocument/2006/relationships/slideLayout" Target="../slideLayouts/slideLayout351.xml"/><Relationship Id="rId11" Type="http://schemas.openxmlformats.org/officeDocument/2006/relationships/slideLayout" Target="../slideLayouts/slideLayout352.xml"/><Relationship Id="rId12" Type="http://schemas.openxmlformats.org/officeDocument/2006/relationships/slideLayout" Target="../slideLayouts/slideLayout353.xml"/><Relationship Id="rId13" Type="http://schemas.openxmlformats.org/officeDocument/2006/relationships/slideLayout" Target="../slideLayouts/slideLayout354.xml"/><Relationship Id="rId14" Type="http://schemas.openxmlformats.org/officeDocument/2006/relationships/slideLayout" Target="../slideLayouts/slideLayout355.xml"/><Relationship Id="rId15" Type="http://schemas.openxmlformats.org/officeDocument/2006/relationships/slideLayout" Target="../slideLayouts/slideLayout356.xml"/><Relationship Id="rId16" Type="http://schemas.openxmlformats.org/officeDocument/2006/relationships/slideLayout" Target="../slideLayouts/slideLayout357.xml"/><Relationship Id="rId17" Type="http://schemas.openxmlformats.org/officeDocument/2006/relationships/slideLayout" Target="../slideLayouts/slideLayout358.xml"/><Relationship Id="rId18" Type="http://schemas.openxmlformats.org/officeDocument/2006/relationships/slideLayout" Target="../slideLayouts/slideLayout359.xml"/><Relationship Id="rId19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61.xml"/><Relationship Id="rId9" Type="http://schemas.openxmlformats.org/officeDocument/2006/relationships/slideLayout" Target="../slideLayouts/slideLayout362.xml"/><Relationship Id="rId10" Type="http://schemas.openxmlformats.org/officeDocument/2006/relationships/slideLayout" Target="../slideLayouts/slideLayout363.xml"/><Relationship Id="rId11" Type="http://schemas.openxmlformats.org/officeDocument/2006/relationships/slideLayout" Target="../slideLayouts/slideLayout364.xml"/><Relationship Id="rId12" Type="http://schemas.openxmlformats.org/officeDocument/2006/relationships/slideLayout" Target="../slideLayouts/slideLayout365.xml"/><Relationship Id="rId13" Type="http://schemas.openxmlformats.org/officeDocument/2006/relationships/slideLayout" Target="../slideLayouts/slideLayout366.xml"/><Relationship Id="rId14" Type="http://schemas.openxmlformats.org/officeDocument/2006/relationships/slideLayout" Target="../slideLayouts/slideLayout367.xml"/><Relationship Id="rId15" Type="http://schemas.openxmlformats.org/officeDocument/2006/relationships/slideLayout" Target="../slideLayouts/slideLayout368.xml"/><Relationship Id="rId16" Type="http://schemas.openxmlformats.org/officeDocument/2006/relationships/slideLayout" Target="../slideLayouts/slideLayout369.xml"/><Relationship Id="rId17" Type="http://schemas.openxmlformats.org/officeDocument/2006/relationships/slideLayout" Target="../slideLayouts/slideLayout370.xml"/><Relationship Id="rId18" Type="http://schemas.openxmlformats.org/officeDocument/2006/relationships/slideLayout" Target="../slideLayouts/slideLayout371.xml"/><Relationship Id="rId19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3.xml"/><Relationship Id="rId9" Type="http://schemas.openxmlformats.org/officeDocument/2006/relationships/slideLayout" Target="../slideLayouts/slideLayout374.xml"/><Relationship Id="rId10" Type="http://schemas.openxmlformats.org/officeDocument/2006/relationships/slideLayout" Target="../slideLayouts/slideLayout375.xml"/><Relationship Id="rId11" Type="http://schemas.openxmlformats.org/officeDocument/2006/relationships/slideLayout" Target="../slideLayouts/slideLayout376.xml"/><Relationship Id="rId12" Type="http://schemas.openxmlformats.org/officeDocument/2006/relationships/slideLayout" Target="../slideLayouts/slideLayout377.xml"/><Relationship Id="rId13" Type="http://schemas.openxmlformats.org/officeDocument/2006/relationships/slideLayout" Target="../slideLayouts/slideLayout378.xml"/><Relationship Id="rId14" Type="http://schemas.openxmlformats.org/officeDocument/2006/relationships/slideLayout" Target="../slideLayouts/slideLayout379.xml"/><Relationship Id="rId15" Type="http://schemas.openxmlformats.org/officeDocument/2006/relationships/slideLayout" Target="../slideLayouts/slideLayout380.xml"/><Relationship Id="rId16" Type="http://schemas.openxmlformats.org/officeDocument/2006/relationships/slideLayout" Target="../slideLayouts/slideLayout381.xml"/><Relationship Id="rId17" Type="http://schemas.openxmlformats.org/officeDocument/2006/relationships/slideLayout" Target="../slideLayouts/slideLayout382.xml"/><Relationship Id="rId18" Type="http://schemas.openxmlformats.org/officeDocument/2006/relationships/slideLayout" Target="../slideLayouts/slideLayout383.xml"/><Relationship Id="rId19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85.xml"/><Relationship Id="rId9" Type="http://schemas.openxmlformats.org/officeDocument/2006/relationships/slideLayout" Target="../slideLayouts/slideLayout386.xml"/><Relationship Id="rId10" Type="http://schemas.openxmlformats.org/officeDocument/2006/relationships/slideLayout" Target="../slideLayouts/slideLayout387.xml"/><Relationship Id="rId11" Type="http://schemas.openxmlformats.org/officeDocument/2006/relationships/slideLayout" Target="../slideLayouts/slideLayout388.xml"/><Relationship Id="rId12" Type="http://schemas.openxmlformats.org/officeDocument/2006/relationships/slideLayout" Target="../slideLayouts/slideLayout389.xml"/><Relationship Id="rId13" Type="http://schemas.openxmlformats.org/officeDocument/2006/relationships/slideLayout" Target="../slideLayouts/slideLayout390.xml"/><Relationship Id="rId14" Type="http://schemas.openxmlformats.org/officeDocument/2006/relationships/slideLayout" Target="../slideLayouts/slideLayout391.xml"/><Relationship Id="rId15" Type="http://schemas.openxmlformats.org/officeDocument/2006/relationships/slideLayout" Target="../slideLayouts/slideLayout392.xml"/><Relationship Id="rId16" Type="http://schemas.openxmlformats.org/officeDocument/2006/relationships/slideLayout" Target="../slideLayouts/slideLayout393.xml"/><Relationship Id="rId17" Type="http://schemas.openxmlformats.org/officeDocument/2006/relationships/slideLayout" Target="../slideLayouts/slideLayout394.xml"/><Relationship Id="rId18" Type="http://schemas.openxmlformats.org/officeDocument/2006/relationships/slideLayout" Target="../slideLayouts/slideLayout395.xml"/><Relationship Id="rId19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97.xml"/><Relationship Id="rId9" Type="http://schemas.openxmlformats.org/officeDocument/2006/relationships/slideLayout" Target="../slideLayouts/slideLayout398.xml"/><Relationship Id="rId10" Type="http://schemas.openxmlformats.org/officeDocument/2006/relationships/slideLayout" Target="../slideLayouts/slideLayout399.xml"/><Relationship Id="rId11" Type="http://schemas.openxmlformats.org/officeDocument/2006/relationships/slideLayout" Target="../slideLayouts/slideLayout400.xml"/><Relationship Id="rId12" Type="http://schemas.openxmlformats.org/officeDocument/2006/relationships/slideLayout" Target="../slideLayouts/slideLayout401.xml"/><Relationship Id="rId13" Type="http://schemas.openxmlformats.org/officeDocument/2006/relationships/slideLayout" Target="../slideLayouts/slideLayout402.xml"/><Relationship Id="rId14" Type="http://schemas.openxmlformats.org/officeDocument/2006/relationships/slideLayout" Target="../slideLayouts/slideLayout403.xml"/><Relationship Id="rId15" Type="http://schemas.openxmlformats.org/officeDocument/2006/relationships/slideLayout" Target="../slideLayouts/slideLayout404.xml"/><Relationship Id="rId16" Type="http://schemas.openxmlformats.org/officeDocument/2006/relationships/slideLayout" Target="../slideLayouts/slideLayout405.xml"/><Relationship Id="rId17" Type="http://schemas.openxmlformats.org/officeDocument/2006/relationships/slideLayout" Target="../slideLayouts/slideLayout406.xml"/><Relationship Id="rId18" Type="http://schemas.openxmlformats.org/officeDocument/2006/relationships/slideLayout" Target="../slideLayouts/slideLayout407.xml"/><Relationship Id="rId19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09.xml"/><Relationship Id="rId9" Type="http://schemas.openxmlformats.org/officeDocument/2006/relationships/slideLayout" Target="../slideLayouts/slideLayout410.xml"/><Relationship Id="rId10" Type="http://schemas.openxmlformats.org/officeDocument/2006/relationships/slideLayout" Target="../slideLayouts/slideLayout411.xml"/><Relationship Id="rId11" Type="http://schemas.openxmlformats.org/officeDocument/2006/relationships/slideLayout" Target="../slideLayouts/slideLayout412.xml"/><Relationship Id="rId12" Type="http://schemas.openxmlformats.org/officeDocument/2006/relationships/slideLayout" Target="../slideLayouts/slideLayout413.xml"/><Relationship Id="rId13" Type="http://schemas.openxmlformats.org/officeDocument/2006/relationships/slideLayout" Target="../slideLayouts/slideLayout414.xml"/><Relationship Id="rId14" Type="http://schemas.openxmlformats.org/officeDocument/2006/relationships/slideLayout" Target="../slideLayouts/slideLayout415.xml"/><Relationship Id="rId15" Type="http://schemas.openxmlformats.org/officeDocument/2006/relationships/slideLayout" Target="../slideLayouts/slideLayout416.xml"/><Relationship Id="rId16" Type="http://schemas.openxmlformats.org/officeDocument/2006/relationships/slideLayout" Target="../slideLayouts/slideLayout417.xml"/><Relationship Id="rId17" Type="http://schemas.openxmlformats.org/officeDocument/2006/relationships/slideLayout" Target="../slideLayouts/slideLayout418.xml"/><Relationship Id="rId18" Type="http://schemas.openxmlformats.org/officeDocument/2006/relationships/slideLayout" Target="../slideLayouts/slideLayout419.xml"/><Relationship Id="rId19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21.xml"/><Relationship Id="rId9" Type="http://schemas.openxmlformats.org/officeDocument/2006/relationships/slideLayout" Target="../slideLayouts/slideLayout422.xml"/><Relationship Id="rId10" Type="http://schemas.openxmlformats.org/officeDocument/2006/relationships/slideLayout" Target="../slideLayouts/slideLayout423.xml"/><Relationship Id="rId11" Type="http://schemas.openxmlformats.org/officeDocument/2006/relationships/slideLayout" Target="../slideLayouts/slideLayout424.xml"/><Relationship Id="rId12" Type="http://schemas.openxmlformats.org/officeDocument/2006/relationships/slideLayout" Target="../slideLayouts/slideLayout425.xml"/><Relationship Id="rId13" Type="http://schemas.openxmlformats.org/officeDocument/2006/relationships/slideLayout" Target="../slideLayouts/slideLayout426.xml"/><Relationship Id="rId14" Type="http://schemas.openxmlformats.org/officeDocument/2006/relationships/slideLayout" Target="../slideLayouts/slideLayout427.xml"/><Relationship Id="rId15" Type="http://schemas.openxmlformats.org/officeDocument/2006/relationships/slideLayout" Target="../slideLayouts/slideLayout428.xml"/><Relationship Id="rId16" Type="http://schemas.openxmlformats.org/officeDocument/2006/relationships/slideLayout" Target="../slideLayouts/slideLayout429.xml"/><Relationship Id="rId17" Type="http://schemas.openxmlformats.org/officeDocument/2006/relationships/slideLayout" Target="../slideLayouts/slideLayout430.xml"/><Relationship Id="rId18" Type="http://schemas.openxmlformats.org/officeDocument/2006/relationships/slideLayout" Target="../slideLayouts/slideLayout431.xml"/><Relationship Id="rId19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33.xml"/><Relationship Id="rId9" Type="http://schemas.openxmlformats.org/officeDocument/2006/relationships/slideLayout" Target="../slideLayouts/slideLayout434.xml"/><Relationship Id="rId10" Type="http://schemas.openxmlformats.org/officeDocument/2006/relationships/slideLayout" Target="../slideLayouts/slideLayout435.xml"/><Relationship Id="rId11" Type="http://schemas.openxmlformats.org/officeDocument/2006/relationships/slideLayout" Target="../slideLayouts/slideLayout436.xml"/><Relationship Id="rId12" Type="http://schemas.openxmlformats.org/officeDocument/2006/relationships/slideLayout" Target="../slideLayouts/slideLayout437.xml"/><Relationship Id="rId13" Type="http://schemas.openxmlformats.org/officeDocument/2006/relationships/slideLayout" Target="../slideLayouts/slideLayout438.xml"/><Relationship Id="rId14" Type="http://schemas.openxmlformats.org/officeDocument/2006/relationships/slideLayout" Target="../slideLayouts/slideLayout439.xml"/><Relationship Id="rId15" Type="http://schemas.openxmlformats.org/officeDocument/2006/relationships/slideLayout" Target="../slideLayouts/slideLayout440.xml"/><Relationship Id="rId16" Type="http://schemas.openxmlformats.org/officeDocument/2006/relationships/slideLayout" Target="../slideLayouts/slideLayout441.xml"/><Relationship Id="rId17" Type="http://schemas.openxmlformats.org/officeDocument/2006/relationships/slideLayout" Target="../slideLayouts/slideLayout442.xml"/><Relationship Id="rId18" Type="http://schemas.openxmlformats.org/officeDocument/2006/relationships/slideLayout" Target="../slideLayouts/slideLayout443.xml"/><Relationship Id="rId19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45.xml"/><Relationship Id="rId9" Type="http://schemas.openxmlformats.org/officeDocument/2006/relationships/slideLayout" Target="../slideLayouts/slideLayout446.xml"/><Relationship Id="rId10" Type="http://schemas.openxmlformats.org/officeDocument/2006/relationships/slideLayout" Target="../slideLayouts/slideLayout447.xml"/><Relationship Id="rId11" Type="http://schemas.openxmlformats.org/officeDocument/2006/relationships/slideLayout" Target="../slideLayouts/slideLayout448.xml"/><Relationship Id="rId12" Type="http://schemas.openxmlformats.org/officeDocument/2006/relationships/slideLayout" Target="../slideLayouts/slideLayout449.xml"/><Relationship Id="rId13" Type="http://schemas.openxmlformats.org/officeDocument/2006/relationships/slideLayout" Target="../slideLayouts/slideLayout450.xml"/><Relationship Id="rId14" Type="http://schemas.openxmlformats.org/officeDocument/2006/relationships/slideLayout" Target="../slideLayouts/slideLayout451.xml"/><Relationship Id="rId15" Type="http://schemas.openxmlformats.org/officeDocument/2006/relationships/slideLayout" Target="../slideLayouts/slideLayout452.xml"/><Relationship Id="rId16" Type="http://schemas.openxmlformats.org/officeDocument/2006/relationships/slideLayout" Target="../slideLayouts/slideLayout453.xml"/><Relationship Id="rId17" Type="http://schemas.openxmlformats.org/officeDocument/2006/relationships/slideLayout" Target="../slideLayouts/slideLayout454.xml"/><Relationship Id="rId18" Type="http://schemas.openxmlformats.org/officeDocument/2006/relationships/slideLayout" Target="../slideLayouts/slideLayout455.xml"/><Relationship Id="rId19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57.xml"/><Relationship Id="rId9" Type="http://schemas.openxmlformats.org/officeDocument/2006/relationships/slideLayout" Target="../slideLayouts/slideLayout458.xml"/><Relationship Id="rId10" Type="http://schemas.openxmlformats.org/officeDocument/2006/relationships/slideLayout" Target="../slideLayouts/slideLayout459.xml"/><Relationship Id="rId11" Type="http://schemas.openxmlformats.org/officeDocument/2006/relationships/slideLayout" Target="../slideLayouts/slideLayout460.xml"/><Relationship Id="rId12" Type="http://schemas.openxmlformats.org/officeDocument/2006/relationships/slideLayout" Target="../slideLayouts/slideLayout461.xml"/><Relationship Id="rId13" Type="http://schemas.openxmlformats.org/officeDocument/2006/relationships/slideLayout" Target="../slideLayouts/slideLayout462.xml"/><Relationship Id="rId14" Type="http://schemas.openxmlformats.org/officeDocument/2006/relationships/slideLayout" Target="../slideLayouts/slideLayout463.xml"/><Relationship Id="rId15" Type="http://schemas.openxmlformats.org/officeDocument/2006/relationships/slideLayout" Target="../slideLayouts/slideLayout464.xml"/><Relationship Id="rId16" Type="http://schemas.openxmlformats.org/officeDocument/2006/relationships/slideLayout" Target="../slideLayouts/slideLayout465.xml"/><Relationship Id="rId17" Type="http://schemas.openxmlformats.org/officeDocument/2006/relationships/slideLayout" Target="../slideLayouts/slideLayout466.xml"/><Relationship Id="rId18" Type="http://schemas.openxmlformats.org/officeDocument/2006/relationships/slideLayout" Target="../slideLayouts/slideLayout467.xml"/><Relationship Id="rId19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69.xml"/><Relationship Id="rId9" Type="http://schemas.openxmlformats.org/officeDocument/2006/relationships/slideLayout" Target="../slideLayouts/slideLayout470.xml"/><Relationship Id="rId10" Type="http://schemas.openxmlformats.org/officeDocument/2006/relationships/slideLayout" Target="../slideLayouts/slideLayout471.xml"/><Relationship Id="rId11" Type="http://schemas.openxmlformats.org/officeDocument/2006/relationships/slideLayout" Target="../slideLayouts/slideLayout472.xml"/><Relationship Id="rId12" Type="http://schemas.openxmlformats.org/officeDocument/2006/relationships/slideLayout" Target="../slideLayouts/slideLayout473.xml"/><Relationship Id="rId13" Type="http://schemas.openxmlformats.org/officeDocument/2006/relationships/slideLayout" Target="../slideLayouts/slideLayout474.xml"/><Relationship Id="rId14" Type="http://schemas.openxmlformats.org/officeDocument/2006/relationships/slideLayout" Target="../slideLayouts/slideLayout475.xml"/><Relationship Id="rId15" Type="http://schemas.openxmlformats.org/officeDocument/2006/relationships/slideLayout" Target="../slideLayouts/slideLayout476.xml"/><Relationship Id="rId16" Type="http://schemas.openxmlformats.org/officeDocument/2006/relationships/slideLayout" Target="../slideLayouts/slideLayout477.xml"/><Relationship Id="rId17" Type="http://schemas.openxmlformats.org/officeDocument/2006/relationships/slideLayout" Target="../slideLayouts/slideLayout478.xml"/><Relationship Id="rId18" Type="http://schemas.openxmlformats.org/officeDocument/2006/relationships/slideLayout" Target="../slideLayouts/slideLayout479.xml"/><Relationship Id="rId19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81.xml"/><Relationship Id="rId9" Type="http://schemas.openxmlformats.org/officeDocument/2006/relationships/slideLayout" Target="../slideLayouts/slideLayout482.xml"/><Relationship Id="rId10" Type="http://schemas.openxmlformats.org/officeDocument/2006/relationships/slideLayout" Target="../slideLayouts/slideLayout483.xml"/><Relationship Id="rId11" Type="http://schemas.openxmlformats.org/officeDocument/2006/relationships/slideLayout" Target="../slideLayouts/slideLayout484.xml"/><Relationship Id="rId12" Type="http://schemas.openxmlformats.org/officeDocument/2006/relationships/slideLayout" Target="../slideLayouts/slideLayout485.xml"/><Relationship Id="rId13" Type="http://schemas.openxmlformats.org/officeDocument/2006/relationships/slideLayout" Target="../slideLayouts/slideLayout486.xml"/><Relationship Id="rId14" Type="http://schemas.openxmlformats.org/officeDocument/2006/relationships/slideLayout" Target="../slideLayouts/slideLayout487.xml"/><Relationship Id="rId15" Type="http://schemas.openxmlformats.org/officeDocument/2006/relationships/slideLayout" Target="../slideLayouts/slideLayout488.xml"/><Relationship Id="rId16" Type="http://schemas.openxmlformats.org/officeDocument/2006/relationships/slideLayout" Target="../slideLayouts/slideLayout489.xml"/><Relationship Id="rId17" Type="http://schemas.openxmlformats.org/officeDocument/2006/relationships/slideLayout" Target="../slideLayouts/slideLayout490.xml"/><Relationship Id="rId18" Type="http://schemas.openxmlformats.org/officeDocument/2006/relationships/slideLayout" Target="../slideLayouts/slideLayout491.xml"/><Relationship Id="rId19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3.xml"/><Relationship Id="rId9" Type="http://schemas.openxmlformats.org/officeDocument/2006/relationships/slideLayout" Target="../slideLayouts/slideLayout494.xml"/><Relationship Id="rId10" Type="http://schemas.openxmlformats.org/officeDocument/2006/relationships/slideLayout" Target="../slideLayouts/slideLayout495.xml"/><Relationship Id="rId11" Type="http://schemas.openxmlformats.org/officeDocument/2006/relationships/slideLayout" Target="../slideLayouts/slideLayout496.xml"/><Relationship Id="rId12" Type="http://schemas.openxmlformats.org/officeDocument/2006/relationships/slideLayout" Target="../slideLayouts/slideLayout497.xml"/><Relationship Id="rId13" Type="http://schemas.openxmlformats.org/officeDocument/2006/relationships/slideLayout" Target="../slideLayouts/slideLayout498.xml"/><Relationship Id="rId14" Type="http://schemas.openxmlformats.org/officeDocument/2006/relationships/slideLayout" Target="../slideLayouts/slideLayout499.xml"/><Relationship Id="rId15" Type="http://schemas.openxmlformats.org/officeDocument/2006/relationships/slideLayout" Target="../slideLayouts/slideLayout500.xml"/><Relationship Id="rId16" Type="http://schemas.openxmlformats.org/officeDocument/2006/relationships/slideLayout" Target="../slideLayouts/slideLayout501.xml"/><Relationship Id="rId17" Type="http://schemas.openxmlformats.org/officeDocument/2006/relationships/slideLayout" Target="../slideLayouts/slideLayout502.xml"/><Relationship Id="rId18" Type="http://schemas.openxmlformats.org/officeDocument/2006/relationships/slideLayout" Target="../slideLayouts/slideLayout503.xml"/><Relationship Id="rId19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05.xml"/><Relationship Id="rId9" Type="http://schemas.openxmlformats.org/officeDocument/2006/relationships/slideLayout" Target="../slideLayouts/slideLayout506.xml"/><Relationship Id="rId10" Type="http://schemas.openxmlformats.org/officeDocument/2006/relationships/slideLayout" Target="../slideLayouts/slideLayout507.xml"/><Relationship Id="rId11" Type="http://schemas.openxmlformats.org/officeDocument/2006/relationships/slideLayout" Target="../slideLayouts/slideLayout508.xml"/><Relationship Id="rId12" Type="http://schemas.openxmlformats.org/officeDocument/2006/relationships/slideLayout" Target="../slideLayouts/slideLayout509.xml"/><Relationship Id="rId13" Type="http://schemas.openxmlformats.org/officeDocument/2006/relationships/slideLayout" Target="../slideLayouts/slideLayout510.xml"/><Relationship Id="rId14" Type="http://schemas.openxmlformats.org/officeDocument/2006/relationships/slideLayout" Target="../slideLayouts/slideLayout511.xml"/><Relationship Id="rId15" Type="http://schemas.openxmlformats.org/officeDocument/2006/relationships/slideLayout" Target="../slideLayouts/slideLayout512.xml"/><Relationship Id="rId16" Type="http://schemas.openxmlformats.org/officeDocument/2006/relationships/slideLayout" Target="../slideLayouts/slideLayout513.xml"/><Relationship Id="rId17" Type="http://schemas.openxmlformats.org/officeDocument/2006/relationships/slideLayout" Target="../slideLayouts/slideLayout514.xml"/><Relationship Id="rId18" Type="http://schemas.openxmlformats.org/officeDocument/2006/relationships/slideLayout" Target="../slideLayouts/slideLayout515.xml"/><Relationship Id="rId19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17.xml"/><Relationship Id="rId9" Type="http://schemas.openxmlformats.org/officeDocument/2006/relationships/slideLayout" Target="../slideLayouts/slideLayout518.xml"/><Relationship Id="rId10" Type="http://schemas.openxmlformats.org/officeDocument/2006/relationships/slideLayout" Target="../slideLayouts/slideLayout519.xml"/><Relationship Id="rId11" Type="http://schemas.openxmlformats.org/officeDocument/2006/relationships/slideLayout" Target="../slideLayouts/slideLayout520.xml"/><Relationship Id="rId12" Type="http://schemas.openxmlformats.org/officeDocument/2006/relationships/slideLayout" Target="../slideLayouts/slideLayout521.xml"/><Relationship Id="rId13" Type="http://schemas.openxmlformats.org/officeDocument/2006/relationships/slideLayout" Target="../slideLayouts/slideLayout522.xml"/><Relationship Id="rId14" Type="http://schemas.openxmlformats.org/officeDocument/2006/relationships/slideLayout" Target="../slideLayouts/slideLayout523.xml"/><Relationship Id="rId15" Type="http://schemas.openxmlformats.org/officeDocument/2006/relationships/slideLayout" Target="../slideLayouts/slideLayout524.xml"/><Relationship Id="rId16" Type="http://schemas.openxmlformats.org/officeDocument/2006/relationships/slideLayout" Target="../slideLayouts/slideLayout525.xml"/><Relationship Id="rId17" Type="http://schemas.openxmlformats.org/officeDocument/2006/relationships/slideLayout" Target="../slideLayouts/slideLayout526.xml"/><Relationship Id="rId18" Type="http://schemas.openxmlformats.org/officeDocument/2006/relationships/slideLayout" Target="../slideLayouts/slideLayout527.xml"/><Relationship Id="rId19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29.xml"/><Relationship Id="rId9" Type="http://schemas.openxmlformats.org/officeDocument/2006/relationships/slideLayout" Target="../slideLayouts/slideLayout530.xml"/><Relationship Id="rId10" Type="http://schemas.openxmlformats.org/officeDocument/2006/relationships/slideLayout" Target="../slideLayouts/slideLayout531.xml"/><Relationship Id="rId11" Type="http://schemas.openxmlformats.org/officeDocument/2006/relationships/slideLayout" Target="../slideLayouts/slideLayout532.xml"/><Relationship Id="rId12" Type="http://schemas.openxmlformats.org/officeDocument/2006/relationships/slideLayout" Target="../slideLayouts/slideLayout533.xml"/><Relationship Id="rId13" Type="http://schemas.openxmlformats.org/officeDocument/2006/relationships/slideLayout" Target="../slideLayouts/slideLayout534.xml"/><Relationship Id="rId14" Type="http://schemas.openxmlformats.org/officeDocument/2006/relationships/slideLayout" Target="../slideLayouts/slideLayout535.xml"/><Relationship Id="rId15" Type="http://schemas.openxmlformats.org/officeDocument/2006/relationships/slideLayout" Target="../slideLayouts/slideLayout536.xml"/><Relationship Id="rId16" Type="http://schemas.openxmlformats.org/officeDocument/2006/relationships/slideLayout" Target="../slideLayouts/slideLayout537.xml"/><Relationship Id="rId17" Type="http://schemas.openxmlformats.org/officeDocument/2006/relationships/slideLayout" Target="../slideLayouts/slideLayout538.xml"/><Relationship Id="rId18" Type="http://schemas.openxmlformats.org/officeDocument/2006/relationships/slideLayout" Target="../slideLayouts/slideLayout539.xml"/><Relationship Id="rId19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41.xml"/><Relationship Id="rId9" Type="http://schemas.openxmlformats.org/officeDocument/2006/relationships/slideLayout" Target="../slideLayouts/slideLayout542.xml"/><Relationship Id="rId10" Type="http://schemas.openxmlformats.org/officeDocument/2006/relationships/slideLayout" Target="../slideLayouts/slideLayout543.xml"/><Relationship Id="rId11" Type="http://schemas.openxmlformats.org/officeDocument/2006/relationships/slideLayout" Target="../slideLayouts/slideLayout544.xml"/><Relationship Id="rId12" Type="http://schemas.openxmlformats.org/officeDocument/2006/relationships/slideLayout" Target="../slideLayouts/slideLayout545.xml"/><Relationship Id="rId13" Type="http://schemas.openxmlformats.org/officeDocument/2006/relationships/slideLayout" Target="../slideLayouts/slideLayout546.xml"/><Relationship Id="rId14" Type="http://schemas.openxmlformats.org/officeDocument/2006/relationships/slideLayout" Target="../slideLayouts/slideLayout547.xml"/><Relationship Id="rId15" Type="http://schemas.openxmlformats.org/officeDocument/2006/relationships/slideLayout" Target="../slideLayouts/slideLayout548.xml"/><Relationship Id="rId16" Type="http://schemas.openxmlformats.org/officeDocument/2006/relationships/slideLayout" Target="../slideLayouts/slideLayout549.xml"/><Relationship Id="rId17" Type="http://schemas.openxmlformats.org/officeDocument/2006/relationships/slideLayout" Target="../slideLayouts/slideLayout550.xml"/><Relationship Id="rId18" Type="http://schemas.openxmlformats.org/officeDocument/2006/relationships/slideLayout" Target="../slideLayouts/slideLayout551.xml"/><Relationship Id="rId19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53.xml"/><Relationship Id="rId9" Type="http://schemas.openxmlformats.org/officeDocument/2006/relationships/slideLayout" Target="../slideLayouts/slideLayout554.xml"/><Relationship Id="rId10" Type="http://schemas.openxmlformats.org/officeDocument/2006/relationships/slideLayout" Target="../slideLayouts/slideLayout555.xml"/><Relationship Id="rId11" Type="http://schemas.openxmlformats.org/officeDocument/2006/relationships/slideLayout" Target="../slideLayouts/slideLayout556.xml"/><Relationship Id="rId12" Type="http://schemas.openxmlformats.org/officeDocument/2006/relationships/slideLayout" Target="../slideLayouts/slideLayout557.xml"/><Relationship Id="rId13" Type="http://schemas.openxmlformats.org/officeDocument/2006/relationships/slideLayout" Target="../slideLayouts/slideLayout558.xml"/><Relationship Id="rId14" Type="http://schemas.openxmlformats.org/officeDocument/2006/relationships/slideLayout" Target="../slideLayouts/slideLayout559.xml"/><Relationship Id="rId15" Type="http://schemas.openxmlformats.org/officeDocument/2006/relationships/slideLayout" Target="../slideLayouts/slideLayout560.xml"/><Relationship Id="rId16" Type="http://schemas.openxmlformats.org/officeDocument/2006/relationships/slideLayout" Target="../slideLayouts/slideLayout561.xml"/><Relationship Id="rId17" Type="http://schemas.openxmlformats.org/officeDocument/2006/relationships/slideLayout" Target="../slideLayouts/slideLayout562.xml"/><Relationship Id="rId18" Type="http://schemas.openxmlformats.org/officeDocument/2006/relationships/slideLayout" Target="../slideLayouts/slideLayout563.xml"/><Relationship Id="rId19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65.xml"/><Relationship Id="rId9" Type="http://schemas.openxmlformats.org/officeDocument/2006/relationships/slideLayout" Target="../slideLayouts/slideLayout566.xml"/><Relationship Id="rId10" Type="http://schemas.openxmlformats.org/officeDocument/2006/relationships/slideLayout" Target="../slideLayouts/slideLayout567.xml"/><Relationship Id="rId11" Type="http://schemas.openxmlformats.org/officeDocument/2006/relationships/slideLayout" Target="../slideLayouts/slideLayout568.xml"/><Relationship Id="rId12" Type="http://schemas.openxmlformats.org/officeDocument/2006/relationships/slideLayout" Target="../slideLayouts/slideLayout569.xml"/><Relationship Id="rId13" Type="http://schemas.openxmlformats.org/officeDocument/2006/relationships/slideLayout" Target="../slideLayouts/slideLayout570.xml"/><Relationship Id="rId14" Type="http://schemas.openxmlformats.org/officeDocument/2006/relationships/slideLayout" Target="../slideLayouts/slideLayout571.xml"/><Relationship Id="rId15" Type="http://schemas.openxmlformats.org/officeDocument/2006/relationships/slideLayout" Target="../slideLayouts/slideLayout572.xml"/><Relationship Id="rId16" Type="http://schemas.openxmlformats.org/officeDocument/2006/relationships/slideLayout" Target="../slideLayouts/slideLayout573.xml"/><Relationship Id="rId17" Type="http://schemas.openxmlformats.org/officeDocument/2006/relationships/slideLayout" Target="../slideLayouts/slideLayout574.xml"/><Relationship Id="rId18" Type="http://schemas.openxmlformats.org/officeDocument/2006/relationships/slideLayout" Target="../slideLayouts/slideLayout575.xml"/><Relationship Id="rId19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77.xml"/><Relationship Id="rId9" Type="http://schemas.openxmlformats.org/officeDocument/2006/relationships/slideLayout" Target="../slideLayouts/slideLayout578.xml"/><Relationship Id="rId10" Type="http://schemas.openxmlformats.org/officeDocument/2006/relationships/slideLayout" Target="../slideLayouts/slideLayout579.xml"/><Relationship Id="rId11" Type="http://schemas.openxmlformats.org/officeDocument/2006/relationships/slideLayout" Target="../slideLayouts/slideLayout580.xml"/><Relationship Id="rId12" Type="http://schemas.openxmlformats.org/officeDocument/2006/relationships/slideLayout" Target="../slideLayouts/slideLayout581.xml"/><Relationship Id="rId13" Type="http://schemas.openxmlformats.org/officeDocument/2006/relationships/slideLayout" Target="../slideLayouts/slideLayout582.xml"/><Relationship Id="rId14" Type="http://schemas.openxmlformats.org/officeDocument/2006/relationships/slideLayout" Target="../slideLayouts/slideLayout583.xml"/><Relationship Id="rId15" Type="http://schemas.openxmlformats.org/officeDocument/2006/relationships/slideLayout" Target="../slideLayouts/slideLayout584.xml"/><Relationship Id="rId16" Type="http://schemas.openxmlformats.org/officeDocument/2006/relationships/slideLayout" Target="../slideLayouts/slideLayout585.xml"/><Relationship Id="rId17" Type="http://schemas.openxmlformats.org/officeDocument/2006/relationships/slideLayout" Target="../slideLayouts/slideLayout586.xml"/><Relationship Id="rId18" Type="http://schemas.openxmlformats.org/officeDocument/2006/relationships/slideLayout" Target="../slideLayouts/slideLayout587.xml"/><Relationship Id="rId19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89.xml"/><Relationship Id="rId9" Type="http://schemas.openxmlformats.org/officeDocument/2006/relationships/slideLayout" Target="../slideLayouts/slideLayout590.xml"/><Relationship Id="rId10" Type="http://schemas.openxmlformats.org/officeDocument/2006/relationships/slideLayout" Target="../slideLayouts/slideLayout591.xml"/><Relationship Id="rId11" Type="http://schemas.openxmlformats.org/officeDocument/2006/relationships/slideLayout" Target="../slideLayouts/slideLayout592.xml"/><Relationship Id="rId12" Type="http://schemas.openxmlformats.org/officeDocument/2006/relationships/slideLayout" Target="../slideLayouts/slideLayout593.xml"/><Relationship Id="rId13" Type="http://schemas.openxmlformats.org/officeDocument/2006/relationships/slideLayout" Target="../slideLayouts/slideLayout594.xml"/><Relationship Id="rId14" Type="http://schemas.openxmlformats.org/officeDocument/2006/relationships/slideLayout" Target="../slideLayouts/slideLayout595.xml"/><Relationship Id="rId15" Type="http://schemas.openxmlformats.org/officeDocument/2006/relationships/slideLayout" Target="../slideLayouts/slideLayout596.xml"/><Relationship Id="rId16" Type="http://schemas.openxmlformats.org/officeDocument/2006/relationships/slideLayout" Target="../slideLayouts/slideLayout597.xml"/><Relationship Id="rId17" Type="http://schemas.openxmlformats.org/officeDocument/2006/relationships/slideLayout" Target="../slideLayouts/slideLayout598.xml"/><Relationship Id="rId18" Type="http://schemas.openxmlformats.org/officeDocument/2006/relationships/slideLayout" Target="../slideLayouts/slideLayout599.xml"/><Relationship Id="rId19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01.xml"/><Relationship Id="rId9" Type="http://schemas.openxmlformats.org/officeDocument/2006/relationships/slideLayout" Target="../slideLayouts/slideLayout602.xml"/><Relationship Id="rId10" Type="http://schemas.openxmlformats.org/officeDocument/2006/relationships/slideLayout" Target="../slideLayouts/slideLayout603.xml"/><Relationship Id="rId11" Type="http://schemas.openxmlformats.org/officeDocument/2006/relationships/slideLayout" Target="../slideLayouts/slideLayout604.xml"/><Relationship Id="rId12" Type="http://schemas.openxmlformats.org/officeDocument/2006/relationships/slideLayout" Target="../slideLayouts/slideLayout605.xml"/><Relationship Id="rId13" Type="http://schemas.openxmlformats.org/officeDocument/2006/relationships/slideLayout" Target="../slideLayouts/slideLayout606.xml"/><Relationship Id="rId14" Type="http://schemas.openxmlformats.org/officeDocument/2006/relationships/slideLayout" Target="../slideLayouts/slideLayout607.xml"/><Relationship Id="rId15" Type="http://schemas.openxmlformats.org/officeDocument/2006/relationships/slideLayout" Target="../slideLayouts/slideLayout608.xml"/><Relationship Id="rId16" Type="http://schemas.openxmlformats.org/officeDocument/2006/relationships/slideLayout" Target="../slideLayouts/slideLayout609.xml"/><Relationship Id="rId17" Type="http://schemas.openxmlformats.org/officeDocument/2006/relationships/slideLayout" Target="../slideLayouts/slideLayout610.xml"/><Relationship Id="rId18" Type="http://schemas.openxmlformats.org/officeDocument/2006/relationships/slideLayout" Target="../slideLayouts/slideLayout611.xml"/><Relationship Id="rId19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3.xml"/><Relationship Id="rId9" Type="http://schemas.openxmlformats.org/officeDocument/2006/relationships/slideLayout" Target="../slideLayouts/slideLayout614.xml"/><Relationship Id="rId10" Type="http://schemas.openxmlformats.org/officeDocument/2006/relationships/slideLayout" Target="../slideLayouts/slideLayout615.xml"/><Relationship Id="rId11" Type="http://schemas.openxmlformats.org/officeDocument/2006/relationships/slideLayout" Target="../slideLayouts/slideLayout616.xml"/><Relationship Id="rId12" Type="http://schemas.openxmlformats.org/officeDocument/2006/relationships/slideLayout" Target="../slideLayouts/slideLayout617.xml"/><Relationship Id="rId13" Type="http://schemas.openxmlformats.org/officeDocument/2006/relationships/slideLayout" Target="../slideLayouts/slideLayout618.xml"/><Relationship Id="rId14" Type="http://schemas.openxmlformats.org/officeDocument/2006/relationships/slideLayout" Target="../slideLayouts/slideLayout619.xml"/><Relationship Id="rId15" Type="http://schemas.openxmlformats.org/officeDocument/2006/relationships/slideLayout" Target="../slideLayouts/slideLayout620.xml"/><Relationship Id="rId16" Type="http://schemas.openxmlformats.org/officeDocument/2006/relationships/slideLayout" Target="../slideLayouts/slideLayout621.xml"/><Relationship Id="rId17" Type="http://schemas.openxmlformats.org/officeDocument/2006/relationships/slideLayout" Target="../slideLayouts/slideLayout622.xml"/><Relationship Id="rId18" Type="http://schemas.openxmlformats.org/officeDocument/2006/relationships/slideLayout" Target="../slideLayouts/slideLayout623.xml"/><Relationship Id="rId19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25.xml"/><Relationship Id="rId9" Type="http://schemas.openxmlformats.org/officeDocument/2006/relationships/slideLayout" Target="../slideLayouts/slideLayout626.xml"/><Relationship Id="rId10" Type="http://schemas.openxmlformats.org/officeDocument/2006/relationships/slideLayout" Target="../slideLayouts/slideLayout627.xml"/><Relationship Id="rId11" Type="http://schemas.openxmlformats.org/officeDocument/2006/relationships/slideLayout" Target="../slideLayouts/slideLayout628.xml"/><Relationship Id="rId12" Type="http://schemas.openxmlformats.org/officeDocument/2006/relationships/slideLayout" Target="../slideLayouts/slideLayout629.xml"/><Relationship Id="rId13" Type="http://schemas.openxmlformats.org/officeDocument/2006/relationships/slideLayout" Target="../slideLayouts/slideLayout630.xml"/><Relationship Id="rId14" Type="http://schemas.openxmlformats.org/officeDocument/2006/relationships/slideLayout" Target="../slideLayouts/slideLayout631.xml"/><Relationship Id="rId15" Type="http://schemas.openxmlformats.org/officeDocument/2006/relationships/slideLayout" Target="../slideLayouts/slideLayout632.xml"/><Relationship Id="rId16" Type="http://schemas.openxmlformats.org/officeDocument/2006/relationships/slideLayout" Target="../slideLayouts/slideLayout633.xml"/><Relationship Id="rId17" Type="http://schemas.openxmlformats.org/officeDocument/2006/relationships/slideLayout" Target="../slideLayouts/slideLayout634.xml"/><Relationship Id="rId18" Type="http://schemas.openxmlformats.org/officeDocument/2006/relationships/slideLayout" Target="../slideLayouts/slideLayout635.xml"/><Relationship Id="rId19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37.xml"/><Relationship Id="rId9" Type="http://schemas.openxmlformats.org/officeDocument/2006/relationships/slideLayout" Target="../slideLayouts/slideLayout638.xml"/><Relationship Id="rId10" Type="http://schemas.openxmlformats.org/officeDocument/2006/relationships/slideLayout" Target="../slideLayouts/slideLayout639.xml"/><Relationship Id="rId11" Type="http://schemas.openxmlformats.org/officeDocument/2006/relationships/slideLayout" Target="../slideLayouts/slideLayout640.xml"/><Relationship Id="rId12" Type="http://schemas.openxmlformats.org/officeDocument/2006/relationships/slideLayout" Target="../slideLayouts/slideLayout641.xml"/><Relationship Id="rId13" Type="http://schemas.openxmlformats.org/officeDocument/2006/relationships/slideLayout" Target="../slideLayouts/slideLayout642.xml"/><Relationship Id="rId14" Type="http://schemas.openxmlformats.org/officeDocument/2006/relationships/slideLayout" Target="../slideLayouts/slideLayout643.xml"/><Relationship Id="rId15" Type="http://schemas.openxmlformats.org/officeDocument/2006/relationships/slideLayout" Target="../slideLayouts/slideLayout644.xml"/><Relationship Id="rId16" Type="http://schemas.openxmlformats.org/officeDocument/2006/relationships/slideLayout" Target="../slideLayouts/slideLayout645.xml"/><Relationship Id="rId17" Type="http://schemas.openxmlformats.org/officeDocument/2006/relationships/slideLayout" Target="../slideLayouts/slideLayout646.xml"/><Relationship Id="rId18" Type="http://schemas.openxmlformats.org/officeDocument/2006/relationships/slideLayout" Target="../slideLayouts/slideLayout647.xml"/><Relationship Id="rId19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49.xml"/><Relationship Id="rId9" Type="http://schemas.openxmlformats.org/officeDocument/2006/relationships/slideLayout" Target="../slideLayouts/slideLayout650.xml"/><Relationship Id="rId10" Type="http://schemas.openxmlformats.org/officeDocument/2006/relationships/slideLayout" Target="../slideLayouts/slideLayout651.xml"/><Relationship Id="rId11" Type="http://schemas.openxmlformats.org/officeDocument/2006/relationships/slideLayout" Target="../slideLayouts/slideLayout652.xml"/><Relationship Id="rId12" Type="http://schemas.openxmlformats.org/officeDocument/2006/relationships/slideLayout" Target="../slideLayouts/slideLayout653.xml"/><Relationship Id="rId13" Type="http://schemas.openxmlformats.org/officeDocument/2006/relationships/slideLayout" Target="../slideLayouts/slideLayout654.xml"/><Relationship Id="rId14" Type="http://schemas.openxmlformats.org/officeDocument/2006/relationships/slideLayout" Target="../slideLayouts/slideLayout655.xml"/><Relationship Id="rId15" Type="http://schemas.openxmlformats.org/officeDocument/2006/relationships/slideLayout" Target="../slideLayouts/slideLayout656.xml"/><Relationship Id="rId16" Type="http://schemas.openxmlformats.org/officeDocument/2006/relationships/slideLayout" Target="../slideLayouts/slideLayout657.xml"/><Relationship Id="rId17" Type="http://schemas.openxmlformats.org/officeDocument/2006/relationships/slideLayout" Target="../slideLayouts/slideLayout658.xml"/><Relationship Id="rId18" Type="http://schemas.openxmlformats.org/officeDocument/2006/relationships/slideLayout" Target="../slideLayouts/slideLayout659.xml"/><Relationship Id="rId19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61.xml"/><Relationship Id="rId9" Type="http://schemas.openxmlformats.org/officeDocument/2006/relationships/slideLayout" Target="../slideLayouts/slideLayout662.xml"/><Relationship Id="rId10" Type="http://schemas.openxmlformats.org/officeDocument/2006/relationships/slideLayout" Target="../slideLayouts/slideLayout663.xml"/><Relationship Id="rId11" Type="http://schemas.openxmlformats.org/officeDocument/2006/relationships/slideLayout" Target="../slideLayouts/slideLayout664.xml"/><Relationship Id="rId12" Type="http://schemas.openxmlformats.org/officeDocument/2006/relationships/slideLayout" Target="../slideLayouts/slideLayout665.xml"/><Relationship Id="rId13" Type="http://schemas.openxmlformats.org/officeDocument/2006/relationships/slideLayout" Target="../slideLayouts/slideLayout666.xml"/><Relationship Id="rId14" Type="http://schemas.openxmlformats.org/officeDocument/2006/relationships/slideLayout" Target="../slideLayouts/slideLayout667.xml"/><Relationship Id="rId15" Type="http://schemas.openxmlformats.org/officeDocument/2006/relationships/slideLayout" Target="../slideLayouts/slideLayout668.xml"/><Relationship Id="rId16" Type="http://schemas.openxmlformats.org/officeDocument/2006/relationships/slideLayout" Target="../slideLayouts/slideLayout669.xml"/><Relationship Id="rId17" Type="http://schemas.openxmlformats.org/officeDocument/2006/relationships/slideLayout" Target="../slideLayouts/slideLayout670.xml"/><Relationship Id="rId18" Type="http://schemas.openxmlformats.org/officeDocument/2006/relationships/slideLayout" Target="../slideLayouts/slideLayout671.xml"/><Relationship Id="rId19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73.xml"/><Relationship Id="rId9" Type="http://schemas.openxmlformats.org/officeDocument/2006/relationships/slideLayout" Target="../slideLayouts/slideLayout674.xml"/><Relationship Id="rId10" Type="http://schemas.openxmlformats.org/officeDocument/2006/relationships/slideLayout" Target="../slideLayouts/slideLayout675.xml"/><Relationship Id="rId11" Type="http://schemas.openxmlformats.org/officeDocument/2006/relationships/slideLayout" Target="../slideLayouts/slideLayout676.xml"/><Relationship Id="rId12" Type="http://schemas.openxmlformats.org/officeDocument/2006/relationships/slideLayout" Target="../slideLayouts/slideLayout677.xml"/><Relationship Id="rId13" Type="http://schemas.openxmlformats.org/officeDocument/2006/relationships/slideLayout" Target="../slideLayouts/slideLayout678.xml"/><Relationship Id="rId14" Type="http://schemas.openxmlformats.org/officeDocument/2006/relationships/slideLayout" Target="../slideLayouts/slideLayout679.xml"/><Relationship Id="rId15" Type="http://schemas.openxmlformats.org/officeDocument/2006/relationships/slideLayout" Target="../slideLayouts/slideLayout680.xml"/><Relationship Id="rId16" Type="http://schemas.openxmlformats.org/officeDocument/2006/relationships/slideLayout" Target="../slideLayouts/slideLayout681.xml"/><Relationship Id="rId17" Type="http://schemas.openxmlformats.org/officeDocument/2006/relationships/slideLayout" Target="../slideLayouts/slideLayout682.xml"/><Relationship Id="rId18" Type="http://schemas.openxmlformats.org/officeDocument/2006/relationships/slideLayout" Target="../slideLayouts/slideLayout683.xml"/><Relationship Id="rId19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85.xml"/><Relationship Id="rId9" Type="http://schemas.openxmlformats.org/officeDocument/2006/relationships/slideLayout" Target="../slideLayouts/slideLayout686.xml"/><Relationship Id="rId10" Type="http://schemas.openxmlformats.org/officeDocument/2006/relationships/slideLayout" Target="../slideLayouts/slideLayout687.xml"/><Relationship Id="rId11" Type="http://schemas.openxmlformats.org/officeDocument/2006/relationships/slideLayout" Target="../slideLayouts/slideLayout688.xml"/><Relationship Id="rId12" Type="http://schemas.openxmlformats.org/officeDocument/2006/relationships/slideLayout" Target="../slideLayouts/slideLayout689.xml"/><Relationship Id="rId13" Type="http://schemas.openxmlformats.org/officeDocument/2006/relationships/slideLayout" Target="../slideLayouts/slideLayout690.xml"/><Relationship Id="rId14" Type="http://schemas.openxmlformats.org/officeDocument/2006/relationships/slideLayout" Target="../slideLayouts/slideLayout691.xml"/><Relationship Id="rId15" Type="http://schemas.openxmlformats.org/officeDocument/2006/relationships/slideLayout" Target="../slideLayouts/slideLayout692.xml"/><Relationship Id="rId16" Type="http://schemas.openxmlformats.org/officeDocument/2006/relationships/slideLayout" Target="../slideLayouts/slideLayout693.xml"/><Relationship Id="rId17" Type="http://schemas.openxmlformats.org/officeDocument/2006/relationships/slideLayout" Target="../slideLayouts/slideLayout694.xml"/><Relationship Id="rId18" Type="http://schemas.openxmlformats.org/officeDocument/2006/relationships/slideLayout" Target="../slideLayouts/slideLayout695.xml"/><Relationship Id="rId19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97.xml"/><Relationship Id="rId9" Type="http://schemas.openxmlformats.org/officeDocument/2006/relationships/slideLayout" Target="../slideLayouts/slideLayout698.xml"/><Relationship Id="rId10" Type="http://schemas.openxmlformats.org/officeDocument/2006/relationships/slideLayout" Target="../slideLayouts/slideLayout699.xml"/><Relationship Id="rId11" Type="http://schemas.openxmlformats.org/officeDocument/2006/relationships/slideLayout" Target="../slideLayouts/slideLayout700.xml"/><Relationship Id="rId12" Type="http://schemas.openxmlformats.org/officeDocument/2006/relationships/slideLayout" Target="../slideLayouts/slideLayout701.xml"/><Relationship Id="rId13" Type="http://schemas.openxmlformats.org/officeDocument/2006/relationships/slideLayout" Target="../slideLayouts/slideLayout702.xml"/><Relationship Id="rId14" Type="http://schemas.openxmlformats.org/officeDocument/2006/relationships/slideLayout" Target="../slideLayouts/slideLayout703.xml"/><Relationship Id="rId15" Type="http://schemas.openxmlformats.org/officeDocument/2006/relationships/slideLayout" Target="../slideLayouts/slideLayout704.xml"/><Relationship Id="rId16" Type="http://schemas.openxmlformats.org/officeDocument/2006/relationships/slideLayout" Target="../slideLayouts/slideLayout705.xml"/><Relationship Id="rId17" Type="http://schemas.openxmlformats.org/officeDocument/2006/relationships/slideLayout" Target="../slideLayouts/slideLayout706.xml"/><Relationship Id="rId18" Type="http://schemas.openxmlformats.org/officeDocument/2006/relationships/slideLayout" Target="../slideLayouts/slideLayout707.xml"/><Relationship Id="rId19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09.xml"/><Relationship Id="rId9" Type="http://schemas.openxmlformats.org/officeDocument/2006/relationships/slideLayout" Target="../slideLayouts/slideLayout710.xml"/><Relationship Id="rId10" Type="http://schemas.openxmlformats.org/officeDocument/2006/relationships/slideLayout" Target="../slideLayouts/slideLayout711.xml"/><Relationship Id="rId11" Type="http://schemas.openxmlformats.org/officeDocument/2006/relationships/slideLayout" Target="../slideLayouts/slideLayout712.xml"/><Relationship Id="rId12" Type="http://schemas.openxmlformats.org/officeDocument/2006/relationships/slideLayout" Target="../slideLayouts/slideLayout713.xml"/><Relationship Id="rId13" Type="http://schemas.openxmlformats.org/officeDocument/2006/relationships/slideLayout" Target="../slideLayouts/slideLayout714.xml"/><Relationship Id="rId14" Type="http://schemas.openxmlformats.org/officeDocument/2006/relationships/slideLayout" Target="../slideLayouts/slideLayout715.xml"/><Relationship Id="rId15" Type="http://schemas.openxmlformats.org/officeDocument/2006/relationships/slideLayout" Target="../slideLayouts/slideLayout716.xml"/><Relationship Id="rId16" Type="http://schemas.openxmlformats.org/officeDocument/2006/relationships/slideLayout" Target="../slideLayouts/slideLayout717.xml"/><Relationship Id="rId17" Type="http://schemas.openxmlformats.org/officeDocument/2006/relationships/slideLayout" Target="../slideLayouts/slideLayout718.xml"/><Relationship Id="rId18" Type="http://schemas.openxmlformats.org/officeDocument/2006/relationships/slideLayout" Target="../slideLayouts/slideLayout719.xml"/><Relationship Id="rId19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64D-5ED3-4245-A136-B3CC491EC5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D9CC-FE24-4937-8883-416F662C39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F0F-DFC0-40D9-89BD-6D329330AE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FEB7-E992-451B-8F8F-628BCE2071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8434-CE05-4F8E-AF4D-814EB2672D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DDA6-3645-45D0-81DD-1EF3B9CE7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D422-2DA3-4E01-A3C4-3DF472896A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3D66-59BB-4A4B-9A9A-D24DC83085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F7A-CFBE-4971-B8C9-7E9C30AFC0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B911-C49A-41B5-9C66-BAC41E7646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B54-D4F3-433F-BA3B-992540FFA6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EDF-2E90-4749-A64C-A7987BFBAC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143-7BDE-4BB6-B240-3972856B28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A540-128A-4444-969C-98C275E140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4B3-A1A2-4218-AD06-574A54F465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D0D-742F-41CD-B74F-1ACB61C790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52BD-AFE2-4A68-8AD7-EA00F53DC0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36D-CEF6-4B66-A12F-9931EE71AD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252-A789-4AD3-9B55-AA0E4C2CF1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966-3ED8-4BB9-A654-780C7746FF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8"/>
    <p:sldLayoutId id="2147483988" r:id="rId9"/>
    <p:sldLayoutId id="2147483989" r:id="rId10"/>
    <p:sldLayoutId id="2147483990" r:id="rId11"/>
    <p:sldLayoutId id="2147483991" r:id="rId12"/>
    <p:sldLayoutId id="2147483992" r:id="rId13"/>
    <p:sldLayoutId id="2147483993" r:id="rId14"/>
    <p:sldLayoutId id="2147483994" r:id="rId15"/>
    <p:sldLayoutId id="2147483995" r:id="rId16"/>
    <p:sldLayoutId id="2147483996" r:id="rId17"/>
    <p:sldLayoutId id="2147483997" r:id="rId18"/>
    <p:sldLayoutId id="2147483998" r:id="rId19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CEDF-654A-420C-90F5-B18A65F14C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92C-BB38-4D05-98E3-32D4098A48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8"/>
    <p:sldLayoutId id="2147484014" r:id="rId9"/>
    <p:sldLayoutId id="2147484015" r:id="rId10"/>
    <p:sldLayoutId id="2147484016" r:id="rId11"/>
    <p:sldLayoutId id="2147484017" r:id="rId12"/>
    <p:sldLayoutId id="2147484018" r:id="rId13"/>
    <p:sldLayoutId id="2147484019" r:id="rId14"/>
    <p:sldLayoutId id="2147484020" r:id="rId15"/>
    <p:sldLayoutId id="2147484021" r:id="rId16"/>
    <p:sldLayoutId id="2147484022" r:id="rId17"/>
    <p:sldLayoutId id="2147484023" r:id="rId18"/>
    <p:sldLayoutId id="2147484024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D21F-5A52-437C-843D-D63AB18484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4D7-F130-4133-96ED-1D92FAE18B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8"/>
    <p:sldLayoutId id="2147484027" r:id="rId9"/>
    <p:sldLayoutId id="2147484028" r:id="rId10"/>
    <p:sldLayoutId id="2147484029" r:id="rId11"/>
    <p:sldLayoutId id="2147484030" r:id="rId12"/>
    <p:sldLayoutId id="2147484031" r:id="rId13"/>
    <p:sldLayoutId id="2147484032" r:id="rId14"/>
    <p:sldLayoutId id="2147484033" r:id="rId15"/>
    <p:sldLayoutId id="2147484034" r:id="rId16"/>
    <p:sldLayoutId id="2147484035" r:id="rId17"/>
    <p:sldLayoutId id="2147484036" r:id="rId18"/>
    <p:sldLayoutId id="2147484037" r:id="rId19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F32D-0683-4AC4-AD59-67B57DB929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8"/>
    <p:sldLayoutId id="2147484040" r:id="rId9"/>
    <p:sldLayoutId id="2147484041" r:id="rId10"/>
    <p:sldLayoutId id="2147484042" r:id="rId11"/>
    <p:sldLayoutId id="2147484043" r:id="rId12"/>
    <p:sldLayoutId id="2147484044" r:id="rId13"/>
    <p:sldLayoutId id="2147484045" r:id="rId14"/>
    <p:sldLayoutId id="2147484046" r:id="rId15"/>
    <p:sldLayoutId id="2147484047" r:id="rId16"/>
    <p:sldLayoutId id="2147484048" r:id="rId17"/>
    <p:sldLayoutId id="2147484049" r:id="rId18"/>
    <p:sldLayoutId id="2147484050" r:id="rId19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7A20-84BE-4A9B-98DB-50F98A5277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8"/>
    <p:sldLayoutId id="2147484053" r:id="rId9"/>
    <p:sldLayoutId id="2147484054" r:id="rId10"/>
    <p:sldLayoutId id="2147484055" r:id="rId11"/>
    <p:sldLayoutId id="2147484056" r:id="rId12"/>
    <p:sldLayoutId id="2147484057" r:id="rId13"/>
    <p:sldLayoutId id="2147484058" r:id="rId14"/>
    <p:sldLayoutId id="2147484059" r:id="rId15"/>
    <p:sldLayoutId id="2147484060" r:id="rId16"/>
    <p:sldLayoutId id="2147484061" r:id="rId17"/>
    <p:sldLayoutId id="2147484062" r:id="rId18"/>
    <p:sldLayoutId id="2147484063" r:id="rId19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112E-7993-4E2D-9D27-F9C2873C6F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8"/>
    <p:sldLayoutId id="2147484066" r:id="rId9"/>
    <p:sldLayoutId id="2147484067" r:id="rId10"/>
    <p:sldLayoutId id="2147484068" r:id="rId11"/>
    <p:sldLayoutId id="2147484069" r:id="rId12"/>
    <p:sldLayoutId id="2147484070" r:id="rId13"/>
    <p:sldLayoutId id="2147484071" r:id="rId14"/>
    <p:sldLayoutId id="2147484072" r:id="rId15"/>
    <p:sldLayoutId id="2147484073" r:id="rId16"/>
    <p:sldLayoutId id="2147484074" r:id="rId17"/>
    <p:sldLayoutId id="2147484075" r:id="rId18"/>
    <p:sldLayoutId id="2147484076" r:id="rId19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DEDE-963D-46A6-A27A-0FEFD597AC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8"/>
    <p:sldLayoutId id="2147484079" r:id="rId9"/>
    <p:sldLayoutId id="2147484080" r:id="rId10"/>
    <p:sldLayoutId id="2147484081" r:id="rId11"/>
    <p:sldLayoutId id="2147484082" r:id="rId12"/>
    <p:sldLayoutId id="2147484083" r:id="rId13"/>
    <p:sldLayoutId id="2147484084" r:id="rId14"/>
    <p:sldLayoutId id="2147484085" r:id="rId15"/>
    <p:sldLayoutId id="2147484086" r:id="rId16"/>
    <p:sldLayoutId id="2147484087" r:id="rId17"/>
    <p:sldLayoutId id="2147484088" r:id="rId18"/>
    <p:sldLayoutId id="2147484089" r:id="rId19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86F-5832-435C-8DCA-A1473BC269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8"/>
    <p:sldLayoutId id="2147484092" r:id="rId9"/>
    <p:sldLayoutId id="2147484093" r:id="rId10"/>
    <p:sldLayoutId id="2147484094" r:id="rId11"/>
    <p:sldLayoutId id="2147484095" r:id="rId12"/>
    <p:sldLayoutId id="2147484096" r:id="rId13"/>
    <p:sldLayoutId id="2147484097" r:id="rId14"/>
    <p:sldLayoutId id="2147484098" r:id="rId15"/>
    <p:sldLayoutId id="2147484099" r:id="rId16"/>
    <p:sldLayoutId id="2147484100" r:id="rId17"/>
    <p:sldLayoutId id="2147484101" r:id="rId18"/>
    <p:sldLayoutId id="2147484102" r:id="rId19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06A-8EAC-4BEA-9055-7E2BE30EA3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8"/>
    <p:sldLayoutId id="2147484105" r:id="rId9"/>
    <p:sldLayoutId id="2147484106" r:id="rId10"/>
    <p:sldLayoutId id="2147484107" r:id="rId11"/>
    <p:sldLayoutId id="2147484108" r:id="rId12"/>
    <p:sldLayoutId id="2147484109" r:id="rId13"/>
    <p:sldLayoutId id="2147484110" r:id="rId14"/>
    <p:sldLayoutId id="2147484111" r:id="rId15"/>
    <p:sldLayoutId id="2147484112" r:id="rId16"/>
    <p:sldLayoutId id="2147484113" r:id="rId17"/>
    <p:sldLayoutId id="2147484114" r:id="rId18"/>
    <p:sldLayoutId id="2147484115" r:id="rId19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4F63-0FC9-4FB9-9DC9-808D912723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8"/>
    <p:sldLayoutId id="2147484118" r:id="rId9"/>
    <p:sldLayoutId id="2147484119" r:id="rId10"/>
    <p:sldLayoutId id="2147484120" r:id="rId11"/>
    <p:sldLayoutId id="2147484121" r:id="rId12"/>
    <p:sldLayoutId id="2147484122" r:id="rId13"/>
    <p:sldLayoutId id="2147484123" r:id="rId14"/>
    <p:sldLayoutId id="2147484124" r:id="rId15"/>
    <p:sldLayoutId id="2147484125" r:id="rId16"/>
    <p:sldLayoutId id="2147484126" r:id="rId17"/>
    <p:sldLayoutId id="2147484127" r:id="rId18"/>
    <p:sldLayoutId id="2147484128" r:id="rId19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52B-31DB-47B2-BBCD-FA2B00B7B8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8"/>
    <p:sldLayoutId id="2147484131" r:id="rId9"/>
    <p:sldLayoutId id="2147484132" r:id="rId10"/>
    <p:sldLayoutId id="2147484133" r:id="rId11"/>
    <p:sldLayoutId id="2147484134" r:id="rId12"/>
    <p:sldLayoutId id="2147484135" r:id="rId13"/>
    <p:sldLayoutId id="2147484136" r:id="rId14"/>
    <p:sldLayoutId id="2147484137" r:id="rId15"/>
    <p:sldLayoutId id="2147484138" r:id="rId16"/>
    <p:sldLayoutId id="2147484139" r:id="rId17"/>
    <p:sldLayoutId id="2147484140" r:id="rId18"/>
    <p:sldLayoutId id="2147484141" r:id="rId19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3588-12E8-4BEF-A7D9-AA167EEE34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8"/>
    <p:sldLayoutId id="2147484144" r:id="rId9"/>
    <p:sldLayoutId id="2147484145" r:id="rId10"/>
    <p:sldLayoutId id="2147484146" r:id="rId11"/>
    <p:sldLayoutId id="2147484147" r:id="rId12"/>
    <p:sldLayoutId id="2147484148" r:id="rId13"/>
    <p:sldLayoutId id="2147484149" r:id="rId14"/>
    <p:sldLayoutId id="2147484150" r:id="rId15"/>
    <p:sldLayoutId id="2147484151" r:id="rId16"/>
    <p:sldLayoutId id="2147484152" r:id="rId17"/>
    <p:sldLayoutId id="2147484153" r:id="rId18"/>
    <p:sldLayoutId id="2147484154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AA7-3690-4BA1-AADD-3F62788C4B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989-D3FB-4377-A8E5-D22A8DF609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8"/>
    <p:sldLayoutId id="2147484157" r:id="rId9"/>
    <p:sldLayoutId id="2147484158" r:id="rId10"/>
    <p:sldLayoutId id="2147484159" r:id="rId11"/>
    <p:sldLayoutId id="2147484160" r:id="rId12"/>
    <p:sldLayoutId id="2147484161" r:id="rId13"/>
    <p:sldLayoutId id="2147484162" r:id="rId14"/>
    <p:sldLayoutId id="2147484163" r:id="rId15"/>
    <p:sldLayoutId id="2147484164" r:id="rId16"/>
    <p:sldLayoutId id="2147484165" r:id="rId17"/>
    <p:sldLayoutId id="2147484166" r:id="rId18"/>
    <p:sldLayoutId id="2147484167" r:id="rId19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88F-B7EB-45A6-BB7D-95D9B59AB3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8"/>
    <p:sldLayoutId id="2147484170" r:id="rId9"/>
    <p:sldLayoutId id="2147484171" r:id="rId10"/>
    <p:sldLayoutId id="2147484172" r:id="rId11"/>
    <p:sldLayoutId id="2147484173" r:id="rId12"/>
    <p:sldLayoutId id="2147484174" r:id="rId13"/>
    <p:sldLayoutId id="2147484175" r:id="rId14"/>
    <p:sldLayoutId id="2147484176" r:id="rId15"/>
    <p:sldLayoutId id="2147484177" r:id="rId16"/>
    <p:sldLayoutId id="2147484178" r:id="rId17"/>
    <p:sldLayoutId id="2147484179" r:id="rId18"/>
    <p:sldLayoutId id="2147484180" r:id="rId19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AB5-19C4-47BB-B108-7A1BB99454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8"/>
    <p:sldLayoutId id="2147484183" r:id="rId9"/>
    <p:sldLayoutId id="2147484184" r:id="rId10"/>
    <p:sldLayoutId id="2147484185" r:id="rId11"/>
    <p:sldLayoutId id="2147484186" r:id="rId12"/>
    <p:sldLayoutId id="2147484187" r:id="rId13"/>
    <p:sldLayoutId id="2147484188" r:id="rId14"/>
    <p:sldLayoutId id="2147484189" r:id="rId15"/>
    <p:sldLayoutId id="2147484190" r:id="rId16"/>
    <p:sldLayoutId id="2147484191" r:id="rId17"/>
    <p:sldLayoutId id="2147484192" r:id="rId18"/>
    <p:sldLayoutId id="2147484193" r:id="rId19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43D5-F64C-4C87-AD2C-0AD7F8401F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8"/>
    <p:sldLayoutId id="2147484196" r:id="rId9"/>
    <p:sldLayoutId id="2147484197" r:id="rId10"/>
    <p:sldLayoutId id="2147484198" r:id="rId11"/>
    <p:sldLayoutId id="2147484199" r:id="rId12"/>
    <p:sldLayoutId id="2147484200" r:id="rId13"/>
    <p:sldLayoutId id="2147484201" r:id="rId14"/>
    <p:sldLayoutId id="2147484202" r:id="rId15"/>
    <p:sldLayoutId id="2147484203" r:id="rId16"/>
    <p:sldLayoutId id="2147484204" r:id="rId17"/>
    <p:sldLayoutId id="2147484205" r:id="rId18"/>
    <p:sldLayoutId id="2147484206" r:id="rId19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 type="dt" idx="1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AFF-BC53-403B-90FA-07A2127854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8"/>
    <p:sldLayoutId id="2147484209" r:id="rId9"/>
    <p:sldLayoutId id="2147484210" r:id="rId10"/>
    <p:sldLayoutId id="2147484211" r:id="rId11"/>
    <p:sldLayoutId id="2147484212" r:id="rId12"/>
    <p:sldLayoutId id="2147484213" r:id="rId13"/>
    <p:sldLayoutId id="2147484214" r:id="rId14"/>
    <p:sldLayoutId id="2147484215" r:id="rId15"/>
    <p:sldLayoutId id="2147484216" r:id="rId16"/>
    <p:sldLayoutId id="2147484217" r:id="rId17"/>
    <p:sldLayoutId id="2147484218" r:id="rId18"/>
    <p:sldLayoutId id="2147484219" r:id="rId19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5829-5956-4CF8-B02D-3A3C90448E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8"/>
    <p:sldLayoutId id="2147484222" r:id="rId9"/>
    <p:sldLayoutId id="2147484223" r:id="rId10"/>
    <p:sldLayoutId id="2147484224" r:id="rId11"/>
    <p:sldLayoutId id="2147484225" r:id="rId12"/>
    <p:sldLayoutId id="2147484226" r:id="rId13"/>
    <p:sldLayoutId id="2147484227" r:id="rId14"/>
    <p:sldLayoutId id="2147484228" r:id="rId15"/>
    <p:sldLayoutId id="2147484229" r:id="rId16"/>
    <p:sldLayoutId id="2147484230" r:id="rId17"/>
    <p:sldLayoutId id="2147484231" r:id="rId18"/>
    <p:sldLayoutId id="2147484232" r:id="rId19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 type="dt" idx="13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1867-2666-482C-9C5D-9AA151C2B1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8"/>
    <p:sldLayoutId id="2147484235" r:id="rId9"/>
    <p:sldLayoutId id="2147484236" r:id="rId10"/>
    <p:sldLayoutId id="2147484237" r:id="rId11"/>
    <p:sldLayoutId id="2147484238" r:id="rId12"/>
    <p:sldLayoutId id="2147484239" r:id="rId13"/>
    <p:sldLayoutId id="2147484240" r:id="rId14"/>
    <p:sldLayoutId id="2147484241" r:id="rId15"/>
    <p:sldLayoutId id="2147484242" r:id="rId16"/>
    <p:sldLayoutId id="2147484243" r:id="rId17"/>
    <p:sldLayoutId id="2147484244" r:id="rId18"/>
    <p:sldLayoutId id="2147484245" r:id="rId19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 type="dt" idx="13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91D-0A82-4466-9555-F858C210CF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8"/>
    <p:sldLayoutId id="2147484248" r:id="rId9"/>
    <p:sldLayoutId id="2147484249" r:id="rId10"/>
    <p:sldLayoutId id="2147484250" r:id="rId11"/>
    <p:sldLayoutId id="2147484251" r:id="rId12"/>
    <p:sldLayoutId id="2147484252" r:id="rId13"/>
    <p:sldLayoutId id="2147484253" r:id="rId14"/>
    <p:sldLayoutId id="2147484254" r:id="rId15"/>
    <p:sldLayoutId id="2147484255" r:id="rId16"/>
    <p:sldLayoutId id="2147484256" r:id="rId17"/>
    <p:sldLayoutId id="2147484257" r:id="rId18"/>
    <p:sldLayoutId id="2147484258" r:id="rId19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 type="dt" idx="1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35C3-46A9-426D-9996-69F1F13D3E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8"/>
    <p:sldLayoutId id="2147484261" r:id="rId9"/>
    <p:sldLayoutId id="2147484262" r:id="rId10"/>
    <p:sldLayoutId id="2147484263" r:id="rId11"/>
    <p:sldLayoutId id="2147484264" r:id="rId12"/>
    <p:sldLayoutId id="2147484265" r:id="rId13"/>
    <p:sldLayoutId id="2147484266" r:id="rId14"/>
    <p:sldLayoutId id="2147484267" r:id="rId15"/>
    <p:sldLayoutId id="2147484268" r:id="rId16"/>
    <p:sldLayoutId id="2147484269" r:id="rId17"/>
    <p:sldLayoutId id="2147484270" r:id="rId18"/>
    <p:sldLayoutId id="2147484271" r:id="rId19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5C0-6445-4937-934E-BE87AE911A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8"/>
    <p:sldLayoutId id="2147484274" r:id="rId9"/>
    <p:sldLayoutId id="2147484275" r:id="rId10"/>
    <p:sldLayoutId id="2147484276" r:id="rId11"/>
    <p:sldLayoutId id="2147484277" r:id="rId12"/>
    <p:sldLayoutId id="2147484278" r:id="rId13"/>
    <p:sldLayoutId id="2147484279" r:id="rId14"/>
    <p:sldLayoutId id="2147484280" r:id="rId15"/>
    <p:sldLayoutId id="2147484281" r:id="rId16"/>
    <p:sldLayoutId id="2147484282" r:id="rId17"/>
    <p:sldLayoutId id="2147484283" r:id="rId18"/>
    <p:sldLayoutId id="2147484284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2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E16-9EA9-42D9-A095-A3027481DF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7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0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 type="dt" idx="14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3E0-90F6-4C07-B7EF-869392C88A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8"/>
    <p:sldLayoutId id="2147484287" r:id="rId9"/>
    <p:sldLayoutId id="2147484288" r:id="rId10"/>
    <p:sldLayoutId id="2147484289" r:id="rId11"/>
    <p:sldLayoutId id="2147484290" r:id="rId12"/>
    <p:sldLayoutId id="2147484291" r:id="rId13"/>
    <p:sldLayoutId id="2147484292" r:id="rId14"/>
    <p:sldLayoutId id="2147484293" r:id="rId15"/>
    <p:sldLayoutId id="2147484294" r:id="rId16"/>
    <p:sldLayoutId id="2147484295" r:id="rId17"/>
    <p:sldLayoutId id="2147484296" r:id="rId18"/>
    <p:sldLayoutId id="2147484297" r:id="rId19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 type="dt" idx="15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33E-21F4-4197-B158-0097F8AB6FB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8"/>
    <p:sldLayoutId id="2147484300" r:id="rId9"/>
    <p:sldLayoutId id="2147484301" r:id="rId10"/>
    <p:sldLayoutId id="2147484302" r:id="rId11"/>
    <p:sldLayoutId id="2147484303" r:id="rId12"/>
    <p:sldLayoutId id="2147484304" r:id="rId13"/>
    <p:sldLayoutId id="2147484305" r:id="rId14"/>
    <p:sldLayoutId id="2147484306" r:id="rId15"/>
    <p:sldLayoutId id="2147484307" r:id="rId16"/>
    <p:sldLayoutId id="2147484308" r:id="rId17"/>
    <p:sldLayoutId id="2147484309" r:id="rId18"/>
    <p:sldLayoutId id="2147484310" r:id="rId19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 type="dt" idx="1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233-6342-47B4-81AB-B7CDC26FD5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8"/>
    <p:sldLayoutId id="2147484313" r:id="rId9"/>
    <p:sldLayoutId id="2147484314" r:id="rId10"/>
    <p:sldLayoutId id="2147484315" r:id="rId11"/>
    <p:sldLayoutId id="2147484316" r:id="rId12"/>
    <p:sldLayoutId id="2147484317" r:id="rId13"/>
    <p:sldLayoutId id="2147484318" r:id="rId14"/>
    <p:sldLayoutId id="2147484319" r:id="rId15"/>
    <p:sldLayoutId id="2147484320" r:id="rId16"/>
    <p:sldLayoutId id="2147484321" r:id="rId17"/>
    <p:sldLayoutId id="2147484322" r:id="rId18"/>
    <p:sldLayoutId id="2147484323" r:id="rId19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 type="dt" idx="15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F8B-B86F-42B8-BDD3-CC89861175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8"/>
    <p:sldLayoutId id="2147484326" r:id="rId9"/>
    <p:sldLayoutId id="2147484327" r:id="rId10"/>
    <p:sldLayoutId id="2147484328" r:id="rId11"/>
    <p:sldLayoutId id="2147484329" r:id="rId12"/>
    <p:sldLayoutId id="2147484330" r:id="rId13"/>
    <p:sldLayoutId id="2147484331" r:id="rId14"/>
    <p:sldLayoutId id="2147484332" r:id="rId15"/>
    <p:sldLayoutId id="2147484333" r:id="rId16"/>
    <p:sldLayoutId id="2147484334" r:id="rId17"/>
    <p:sldLayoutId id="2147484335" r:id="rId18"/>
    <p:sldLayoutId id="2147484336" r:id="rId19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 type="dt" idx="16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CEB5-7F23-4FEB-A92B-8C10DC0722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8"/>
    <p:sldLayoutId id="2147484339" r:id="rId9"/>
    <p:sldLayoutId id="2147484340" r:id="rId10"/>
    <p:sldLayoutId id="2147484341" r:id="rId11"/>
    <p:sldLayoutId id="2147484342" r:id="rId12"/>
    <p:sldLayoutId id="2147484343" r:id="rId13"/>
    <p:sldLayoutId id="2147484344" r:id="rId14"/>
    <p:sldLayoutId id="2147484345" r:id="rId15"/>
    <p:sldLayoutId id="2147484346" r:id="rId16"/>
    <p:sldLayoutId id="2147484347" r:id="rId17"/>
    <p:sldLayoutId id="2147484348" r:id="rId18"/>
    <p:sldLayoutId id="2147484349" r:id="rId19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 type="dt" idx="16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561-C9D9-4D9A-A901-03EB96BEEF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8"/>
    <p:sldLayoutId id="2147484352" r:id="rId9"/>
    <p:sldLayoutId id="2147484353" r:id="rId10"/>
    <p:sldLayoutId id="2147484354" r:id="rId11"/>
    <p:sldLayoutId id="2147484355" r:id="rId12"/>
    <p:sldLayoutId id="2147484356" r:id="rId13"/>
    <p:sldLayoutId id="2147484357" r:id="rId14"/>
    <p:sldLayoutId id="2147484358" r:id="rId15"/>
    <p:sldLayoutId id="2147484359" r:id="rId16"/>
    <p:sldLayoutId id="2147484360" r:id="rId17"/>
    <p:sldLayoutId id="2147484361" r:id="rId18"/>
    <p:sldLayoutId id="2147484362" r:id="rId19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 type="dt" idx="16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A092-68A1-4A46-AEDE-D440F5A7CD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8"/>
    <p:sldLayoutId id="2147484365" r:id="rId9"/>
    <p:sldLayoutId id="2147484366" r:id="rId10"/>
    <p:sldLayoutId id="2147484367" r:id="rId11"/>
    <p:sldLayoutId id="2147484368" r:id="rId12"/>
    <p:sldLayoutId id="2147484369" r:id="rId13"/>
    <p:sldLayoutId id="2147484370" r:id="rId14"/>
    <p:sldLayoutId id="2147484371" r:id="rId15"/>
    <p:sldLayoutId id="2147484372" r:id="rId16"/>
    <p:sldLayoutId id="2147484373" r:id="rId17"/>
    <p:sldLayoutId id="2147484374" r:id="rId18"/>
    <p:sldLayoutId id="2147484375" r:id="rId19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dt" idx="16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6BD-1BD3-43F3-BD00-6169699AB2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8"/>
    <p:sldLayoutId id="2147484378" r:id="rId9"/>
    <p:sldLayoutId id="2147484379" r:id="rId10"/>
    <p:sldLayoutId id="2147484380" r:id="rId11"/>
    <p:sldLayoutId id="2147484381" r:id="rId12"/>
    <p:sldLayoutId id="2147484382" r:id="rId13"/>
    <p:sldLayoutId id="2147484383" r:id="rId14"/>
    <p:sldLayoutId id="2147484384" r:id="rId15"/>
    <p:sldLayoutId id="2147484385" r:id="rId16"/>
    <p:sldLayoutId id="2147484386" r:id="rId17"/>
    <p:sldLayoutId id="2147484387" r:id="rId18"/>
    <p:sldLayoutId id="2147484388" r:id="rId19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dt" idx="17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378F-823A-4431-85DA-C0B0263CE1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8"/>
    <p:sldLayoutId id="2147484391" r:id="rId9"/>
    <p:sldLayoutId id="2147484392" r:id="rId10"/>
    <p:sldLayoutId id="2147484393" r:id="rId11"/>
    <p:sldLayoutId id="2147484394" r:id="rId12"/>
    <p:sldLayoutId id="2147484395" r:id="rId13"/>
    <p:sldLayoutId id="2147484396" r:id="rId14"/>
    <p:sldLayoutId id="2147484397" r:id="rId15"/>
    <p:sldLayoutId id="2147484398" r:id="rId16"/>
    <p:sldLayoutId id="2147484399" r:id="rId17"/>
    <p:sldLayoutId id="2147484400" r:id="rId18"/>
    <p:sldLayoutId id="2147484401" r:id="rId19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 type="dt" idx="17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7A46-AC46-4048-99C6-1C6F0D7E04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8"/>
    <p:sldLayoutId id="2147484404" r:id="rId9"/>
    <p:sldLayoutId id="2147484405" r:id="rId10"/>
    <p:sldLayoutId id="2147484406" r:id="rId11"/>
    <p:sldLayoutId id="2147484407" r:id="rId12"/>
    <p:sldLayoutId id="2147484408" r:id="rId13"/>
    <p:sldLayoutId id="2147484409" r:id="rId14"/>
    <p:sldLayoutId id="2147484410" r:id="rId15"/>
    <p:sldLayoutId id="2147484411" r:id="rId16"/>
    <p:sldLayoutId id="2147484412" r:id="rId17"/>
    <p:sldLayoutId id="2147484413" r:id="rId18"/>
    <p:sldLayoutId id="2147484414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4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350C-EC62-421D-938D-2E1696427F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 type="dt" idx="17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7EE-233A-43A7-B8CB-1FECF49491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8"/>
    <p:sldLayoutId id="2147484417" r:id="rId9"/>
    <p:sldLayoutId id="2147484418" r:id="rId10"/>
    <p:sldLayoutId id="2147484419" r:id="rId11"/>
    <p:sldLayoutId id="2147484420" r:id="rId12"/>
    <p:sldLayoutId id="2147484421" r:id="rId13"/>
    <p:sldLayoutId id="2147484422" r:id="rId14"/>
    <p:sldLayoutId id="2147484423" r:id="rId15"/>
    <p:sldLayoutId id="2147484424" r:id="rId16"/>
    <p:sldLayoutId id="2147484425" r:id="rId17"/>
    <p:sldLayoutId id="2147484426" r:id="rId18"/>
    <p:sldLayoutId id="2147484427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B30-5918-41CF-819E-840DECB0A8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17AA-9FAA-4E9E-B915-47457C193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86AC-CD5A-492A-9E45-BC5981BB5E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04872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70ff"/>
                </a:solidFill>
                <a:latin typeface="Arial"/>
              </a:rPr>
              <a:t>Использование </a:t>
            </a:r>
            <a:r>
              <a:rPr b="1" i="1" lang="ru-RU" sz="3600" spc="-1" strike="noStrike">
                <a:solidFill>
                  <a:srgbClr val="e5daf6"/>
                </a:solidFill>
                <a:latin typeface="Arial"/>
              </a:rPr>
              <a:t>степ-платформы</a:t>
            </a:r>
            <a:r>
              <a:rPr b="1" i="1" lang="ru-RU" sz="3600" spc="-1" strike="noStrike">
                <a:solidFill>
                  <a:srgbClr val="7070ff"/>
                </a:solidFill>
                <a:latin typeface="Arial"/>
              </a:rPr>
              <a:t>  для оздоровления детей дошкольного возраста</a:t>
            </a:r>
            <a:br>
              <a:rPr sz="3600"/>
            </a:br>
            <a:br>
              <a:rPr sz="36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 type="subTitle"/>
          </p:nvPr>
        </p:nvSpPr>
        <p:spPr>
          <a:xfrm>
            <a:off x="2556000" y="4508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2aa6"/>
                </a:solidFill>
                <a:latin typeface="Arial"/>
                <a:ea typeface="Arial"/>
              </a:rPr>
              <a:t>Подготовил инструктор по физической культуре д/с № 233 ОАО «РЖД» Ковеня Галин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8" name="Рисунок 3" descr="F:\степ\фото кружок 2019\20191205_115905.jpg"/>
          <p:cNvPicPr/>
          <p:nvPr/>
        </p:nvPicPr>
        <p:blipFill>
          <a:blip r:embed="rId2"/>
          <a:stretch/>
        </p:blipFill>
        <p:spPr>
          <a:xfrm>
            <a:off x="1116000" y="1052640"/>
            <a:ext cx="705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0" name="Рисунок 4" descr="F:\фото работа\23 февраля 2019г. старш. гр\IMG_7834.JPG"/>
          <p:cNvPicPr/>
          <p:nvPr/>
        </p:nvPicPr>
        <p:blipFill>
          <a:blip r:embed="rId2"/>
          <a:stretch/>
        </p:blipFill>
        <p:spPr>
          <a:xfrm>
            <a:off x="1187280" y="797040"/>
            <a:ext cx="712980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"/>
          <p:cNvSpPr txBox="1"/>
          <p:nvPr/>
        </p:nvSpPr>
        <p:spPr>
          <a:xfrm>
            <a:off x="250920" y="620640"/>
            <a:ext cx="8321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Прямоугольник 1"/>
          <p:cNvSpPr/>
          <p:nvPr/>
        </p:nvSpPr>
        <p:spPr>
          <a:xfrm>
            <a:off x="611280" y="4064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еп - аэробика, наверное, один из самых простых и эффективных стилей и направлений в большом семействе аэробики. «Степ» - в переводе с английского означает шаг. Пусть это будет  первый  шаг ребенка на пути к здоров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3" name="Рисунок 3" descr="C:\Users\user\Desktop\835453994-612x612.jpg"/>
          <p:cNvPicPr/>
          <p:nvPr/>
        </p:nvPicPr>
        <p:blipFill>
          <a:blip r:embed="rId2"/>
          <a:stretch/>
        </p:blipFill>
        <p:spPr>
          <a:xfrm>
            <a:off x="4356000" y="314172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"/>
          <p:cNvSpPr txBox="1"/>
          <p:nvPr/>
        </p:nvSpPr>
        <p:spPr>
          <a:xfrm>
            <a:off x="250920" y="620640"/>
            <a:ext cx="8321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Прямоугольник 1"/>
          <p:cNvSpPr/>
          <p:nvPr/>
        </p:nvSpPr>
        <p:spPr>
          <a:xfrm>
            <a:off x="1042920" y="1628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6" name="Рисунок 3" descr="C:\Users\user\Desktop\835453994-612x612.jpg"/>
          <p:cNvPicPr/>
          <p:nvPr/>
        </p:nvPicPr>
        <p:blipFill>
          <a:blip r:embed="rId2"/>
          <a:stretch/>
        </p:blipFill>
        <p:spPr>
          <a:xfrm>
            <a:off x="2879640" y="256536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subTitle"/>
          </p:nvPr>
        </p:nvSpPr>
        <p:spPr>
          <a:xfrm>
            <a:off x="-28440" y="76500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 настоящее время в связи с тревожной тенденцией ухудшения здоровья детей существует потребность в оздоровительных  технологиях в ДОУ . Современная система оздоровительных тренировок степ – аэробика известна во всем мире как одна из наиболее эффективных и востребованных технолог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"/>
          <p:cNvSpPr txBox="1"/>
          <p:nvPr/>
        </p:nvSpPr>
        <p:spPr>
          <a:xfrm>
            <a:off x="357120" y="221436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форме полных занятий оздоровительно-тренирующего характера с детьми старшего дошкольного возраста, продолжительностью 25—30 мин.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 часть занятия (продолжительность от 10 до 15 мин.) в виде ОРУ с предметами и без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показательных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ыступлениях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детей на праздн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 утренней гимнасти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Rectangle 7"/>
          <p:cNvSpPr/>
          <p:nvPr/>
        </p:nvSpPr>
        <p:spPr>
          <a:xfrm>
            <a:off x="468360" y="404640"/>
            <a:ext cx="822960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1aff"/>
                </a:solidFill>
                <a:latin typeface="Arial"/>
              </a:rPr>
              <a:t>В детском саду мы используем следующие варианты  степ - аэроб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66ff"/>
                </a:solidFill>
                <a:latin typeface="Arial"/>
                <a:ea typeface="Arial"/>
              </a:rPr>
              <a:t>Степ - платформа используется </a:t>
            </a:r>
            <a:r>
              <a:rPr b="0" i="1" lang="ru-RU" sz="3200" spc="-1" strike="noStrike">
                <a:solidFill>
                  <a:srgbClr val="6666ff"/>
                </a:solidFill>
                <a:latin typeface="Arial"/>
                <a:ea typeface="Arial"/>
              </a:rPr>
              <a:t>разнообраз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142920" y="1700280"/>
            <a:ext cx="8786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 качестве оборудования для формирования основных видов движений: бег, ходьба, прыжки, полз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подвижных игр как для детей старшего, так и младшего возрас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проведения эстаф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выполнения ритмических композиций, танцевальных движ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индивидуальной и самостоятельной двигательной акт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9e5"/>
                </a:solidFill>
                <a:latin typeface="Arial"/>
                <a:ea typeface="Arial"/>
              </a:rPr>
              <a:t>Польза степ – платформы</a:t>
            </a:r>
            <a:r>
              <a:rPr b="0" lang="ru-RU" sz="5400" spc="-1" strike="noStrike">
                <a:solidFill>
                  <a:srgbClr val="0039e5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subTitle"/>
          </p:nvPr>
        </p:nvSpPr>
        <p:spPr>
          <a:xfrm>
            <a:off x="213840" y="1642680"/>
            <a:ext cx="8929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바탕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ервы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это огромный интерес ребятишек к занятиям степ – аэробикой, не иссякающий на протяжении всего учебного г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Второ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у детей формируется устойчивое равновесие, потому, что они занимаются на уменьшенной площади опоры</a:t>
            </a:r>
            <a:r>
              <a:rPr b="0" lang="ru-RU" sz="2600" spc="-1" strike="noStrike">
                <a:solidFill>
                  <a:srgbClr val="86d1ec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рети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это развитие у ребёнка уверенности, ориентировки в пространстве, общей выносливости, совершенствование точности движ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Четвёртый плюс </a:t>
            </a:r>
            <a:r>
              <a:rPr b="0" lang="ru-RU" sz="2600" spc="-1" strike="noStrike">
                <a:solidFill>
                  <a:srgbClr val="5a2aa6"/>
                </a:solidFill>
                <a:latin typeface="Arial"/>
                <a:ea typeface="Arial"/>
              </a:rPr>
              <a:t>– воспитание физических качеств: ловкости, быстроты, силы и д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a1aff"/>
                </a:solidFill>
                <a:latin typeface="Arial"/>
              </a:rPr>
              <a:t>Организуя степ-аэробику, нельзя забывать о технике безопасност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"/>
          <p:cNvSpPr txBox="1"/>
          <p:nvPr/>
        </p:nvSpPr>
        <p:spPr>
          <a:xfrm>
            <a:off x="272880" y="1628640"/>
            <a:ext cx="889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ыполнять шаги в центр степ - платфор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Ставить на степ-платформу всю подошву ступни при подъёме, а, спускаясь, ставить ногу с носка на пятку, прежде чем сделать следующий ша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Опускаясь со степ - платформы, оставаться стоять достаточно близко к ней. Не отступать от степ - платформы больше, чем на длину ступ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Не начинать обучение детей работе рук, пока они не овладеют в совершенстве, движениями но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2" name="Рисунок 3" descr="F:\степ\фото кружок 2019\20191001_154939.jpg"/>
          <p:cNvPicPr/>
          <p:nvPr/>
        </p:nvPicPr>
        <p:blipFill>
          <a:blip r:embed="rId2"/>
          <a:stretch/>
        </p:blipFill>
        <p:spPr>
          <a:xfrm>
            <a:off x="684360" y="1052640"/>
            <a:ext cx="7488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 txBox="1"/>
          <p:nvPr/>
        </p:nvSpPr>
        <p:spPr>
          <a:xfrm>
            <a:off x="250920" y="620640"/>
            <a:ext cx="83217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4" name="Рисунок 2" descr="F:\степ\фото кружок 2019\20191015_155627.jpg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323640" y="142560"/>
            <a:ext cx="82486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c984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6" name="Рисунок 4" descr="F:\степ\фото кружок 2019\20191108_114000.jpg"/>
          <p:cNvPicPr/>
          <p:nvPr/>
        </p:nvPicPr>
        <p:blipFill>
          <a:blip r:embed="rId2"/>
          <a:stretch/>
        </p:blipFill>
        <p:spPr>
          <a:xfrm>
            <a:off x="1116000" y="857160"/>
            <a:ext cx="71280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7:05:20Z</dcterms:created>
  <dc:creator>IvanSt</dc:creator>
  <dc:description/>
  <dc:language>en-US</dc:language>
  <cp:lastModifiedBy>Галина Николаевна</cp:lastModifiedBy>
  <dcterms:modified xsi:type="dcterms:W3CDTF">2021-11-24T08:37:12Z</dcterms:modified>
  <cp:revision>67</cp:revision>
  <dc:subject/>
  <dc:title>Оздоровительная  аэроб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90000000000010292010207f7000400038000</vt:lpwstr>
  </property>
</Properties>
</file>