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722-6D64-4517-A4DD-4DB742AB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DDF-F83A-4763-A150-83A69607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DBF-1276-4DBF-B5CA-0BAAE7DF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523-2CCD-4324-A6A6-363DCFDC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265-19DD-4C52-81DA-36DC093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258-6A7F-4538-B148-3A506532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795-E632-4482-BEA9-0B46CD7D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B02-37CA-4D53-A4EB-36081B2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13B-63A7-402C-B6A7-5641C9DF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E51-0387-4A37-AFD2-D34E0E8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567-5F18-4406-B62A-F7D75B9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147-3384-4071-87B7-2FCFE73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D916-BECC-4AE4-8EA5-B360F2F2C65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57A-1BA2-4B66-90C9-D1A014A2F65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1"/>
          <a:stretch/>
        </p:blipFill>
        <p:spPr>
          <a:xfrm>
            <a:off x="392040" y="789120"/>
            <a:ext cx="4357800" cy="42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2960" y="1206360"/>
            <a:ext cx="468000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УЧИМСЯ БЫТЬ ТЕРПИМЫМИ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49D6-B54B-4811-A8C3-5E5BD193CB3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6E87-7BDE-40CE-A4BC-48401FFA574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41080" y="5461560"/>
            <a:ext cx="370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e0000"/>
                </a:solidFill>
                <a:latin typeface="Arial"/>
              </a:rPr>
              <a:t>Социальный педагог</a:t>
            </a:r>
            <a:r>
              <a:rPr b="1" lang="en-US" sz="1600" spc="-1" strike="noStrike">
                <a:solidFill>
                  <a:srgbClr val="8e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e0000"/>
                </a:solidFill>
                <a:latin typeface="Arial"/>
              </a:rPr>
              <a:t>МБОУ «СШ № 27» а. Новая Адыгея</a:t>
            </a:r>
            <a:endParaRPr b="0" lang="en-US" sz="16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e0000"/>
                </a:solidFill>
                <a:latin typeface="Arial"/>
              </a:rPr>
              <a:t>Дробжева Ольга Федоровна</a:t>
            </a:r>
            <a:endParaRPr b="0" lang="en-US" sz="16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e0000"/>
                </a:solidFill>
                <a:latin typeface="Arial"/>
              </a:rPr>
              <a:t>  </a:t>
            </a:r>
            <a:r>
              <a:rPr b="1" lang="ru-RU" sz="8800" spc="-1" strike="noStrike">
                <a:solidFill>
                  <a:srgbClr val="8e0000"/>
                </a:solidFill>
                <a:latin typeface="Arial"/>
              </a:rPr>
              <a:t>Спасибо за       внимание!</a:t>
            </a:r>
            <a:endParaRPr b="0" lang="en-US" sz="88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 Black"/>
              </a:rPr>
              <a:t>Терпимость – c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 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2CD9-A08D-4D9F-8EBB-80D966682AA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502E-926F-4492-B8CB-D3807EF7082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68360" y="3282120"/>
            <a:ext cx="59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Терпимость – это форма поведения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Ученик, который  хочет жить в мире со своими одноклассниками, должен сам себя ограничивать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Лишнее слово не сказать, проглотить, если кто-то ему сказал что-то. Потому что, если он ответит таким же образом, ему еще хуже ответят и начнётся ссора. А когда уже  начинается выяснение отношений, тогда никакой терпимости не будет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36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Терпимость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e0000"/>
                </a:solidFill>
                <a:latin typeface="Arial"/>
              </a:rPr>
              <a:t>-</a:t>
            </a:r>
            <a:r>
              <a:rPr b="0" i="1" lang="ru-RU" sz="3200" spc="-1" strike="noStrike">
                <a:solidFill>
                  <a:srgbClr val="8e0000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0280" y="2073240"/>
            <a:ext cx="834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tolerancia (испанский) – Способность признавать отличные от своих собственных идеи или мнения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tolerance (французский) – Отношение, при котором допускается, что другие могут думать или действовать иначе, нежели ты сам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tolerance (английский) – Готовность быть терпимым, снисходительность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kuan rong (китайский) – Позволять, принимать, быть по отношению к другим великодушным.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tasamul’ ( арабский) – Прощение, снисходительность, мягкость, милосердие, сострадание, благосклонность, терпение, расположенность к другим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</a:rPr>
              <a:t>Определение толерантности, данное в «Декларации принципов толерантности» (подписана 16 ноября 1995 года в Париже 185 государствами членами ЮНЕСКО, включая и Россию):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Толерантность означает «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Ей способствуют знания, открытость, общение и свобода мысли, совести и убеждений. </a:t>
            </a:r>
            <a:r>
              <a:rPr b="0" lang="ru-RU" sz="2100" spc="-1" strike="noStrike">
                <a:solidFill>
                  <a:srgbClr val="254061"/>
                </a:solidFill>
                <a:latin typeface="Arial"/>
              </a:rPr>
              <a:t>Толерантность – это свобода в многообразии. Это не только моральный долг, но и политическая, и правовая потребность. </a:t>
            </a:r>
            <a:r>
              <a:rPr b="0" lang="ru-RU" sz="2100" spc="-1" strike="noStrike">
                <a:solidFill>
                  <a:srgbClr val="984807"/>
                </a:solidFill>
                <a:latin typeface="Arial"/>
              </a:rPr>
              <a:t>Толерантность – это добродетель, которая делает возможным достижение мира и способствует замене культуры войны культурой мира».</a:t>
            </a:r>
            <a:r>
              <a:rPr b="0" lang="ru-RU" sz="21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ченик может выразить свое отношение к одноклассникам пятью способами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: великодушием, учтивостью, доброжелательностью, отношением к ним, как к себе и верностью своему слову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е делай другим того, чего не хотел бы от других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е делай другому того, от чего больно тебе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 радости и в горе мы должны относиться ко всем людям, как относимся к самим себе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е делай своему однокласснику того, от чего плохо тебе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Как ты думаешь о себе, так думай и о других. 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читай успех соседа своим успехом, а потерю соседа своей потерей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о всем, как хотите, чтобы с вами поступали одноклассники, так поступайте и вы с ними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8e0000"/>
                </a:solidFill>
                <a:latin typeface="Arial"/>
              </a:rPr>
              <a:t>МУДРЕЦЫ И СЛОН</a:t>
            </a:r>
            <a:br>
              <a:rPr sz="4000"/>
            </a:b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</a:rPr>
              <a:t>Давным-давно в маленьком городе жили-были шесть слепых мудрецов. Однажды в город привели слона. Мудрецы захотели увидеть его. Но как? «Я знаю, — сказал один мудрец, — мы ощупаем его». – «Хорошая идея, — сказали другие, — тогда мы будем знать, какой он — слон». Итак, шесть человек пошли смотреть слона. Первый ощупал большое плоское ухо. Оно медленно двигалось вперед-назад. «Слон похож на веер!» — закричал первый мудрец. Второй мудрец потрогал ноги слона. «Он похож на дерево!» — воскликнул он. «Вы оба неправы, — сказал третий, — он похож на веревку». Этот человек нащупал слоновий хвост. «Слон похож на копье», — воскликнул четвертый. «Нет, нет, — закричал пятый, — слон как высокая стена!» Он говорил так, ощупывая бок слона. Шестой мудрец дергал слоновий хобот. «Вы все неправы, — сказал он, — слон похож на змею». – «Нет, на веревку!» – «Змея!» – «Стена!» – «Вы ошибаетесь!» – «Я прав!» Шестеро слепых кричали друг на друга целый час. И они никогда не узнали, как выглядит слон</a:t>
            </a: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    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О чём эта сказка?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    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Почему они так и не узнали, как выглядит слон</a:t>
            </a:r>
            <a:r>
              <a:rPr b="1" lang="ru-RU" sz="1800" spc="-1" strike="noStrike">
                <a:solidFill>
                  <a:srgbClr val="8e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2920" y="2491560"/>
            <a:ext cx="52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Были ли мудрецы действительно мудрыми?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68360" y="2002320"/>
            <a:ext cx="6588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Как мудрецы могли бы узнать, как на самом деле выглядит слон.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e1c11"/>
                </a:solidFill>
                <a:latin typeface="Arial"/>
              </a:rPr>
              <a:t>!!!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У каждого человека своя точка зрения на тот или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иной </a:t>
            </a:r>
            <a:r>
              <a:rPr b="1" lang="en-US" sz="2800" spc="-1" strike="noStrike">
                <a:solidFill>
                  <a:srgbClr val="47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70000"/>
                </a:solidFill>
                <a:latin typeface="Arial"/>
              </a:rPr>
              <a:t>предмет, так как все одну и ту же вещь видят и слышат по-разному.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e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Что же нужно для того, чтобы налаживалось взаимопонимание</a:t>
            </a:r>
            <a:r>
              <a:rPr b="0" lang="ru-RU" sz="2000" spc="-1" strike="noStrike">
                <a:solidFill>
                  <a:srgbClr val="8e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e0000"/>
                </a:solidFill>
                <a:latin typeface="Arial"/>
              </a:rPr>
              <a:t>Взаимопонимание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определяется способностью наблюдать за людьми, умением по малейшим движениям лица, позы понимать душевное состояние окружающих, их стремления и желания.</a:t>
            </a:r>
            <a:endParaRPr b="0" lang="en-US" sz="1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68360" y="2781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</a:rPr>
              <a:t>З а д а н и е учащимся «О чем говорят глаза»: 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смотрите на своего соседа по парте. Попробуйте определить, в каком настроении ваш товарищ, как он себя чувствует, о чем думает, чем озабочен. Обменяйтесь своими наблюдениями, выводами.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Arial"/>
              </a:rPr>
              <a:t>Ты живешь среди людей. Не забывай, что каждый твой поступок, каждое твое желание отражаются на окружающих тебя людях. Проверяй свои поступки вопросом к самому себе: не делаешь ли ты зла, неудобства людям? Делай все так, чтобы людям, окружающим тебя, было хорошо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4:30:49Z</dcterms:created>
  <dc:creator>Admin</dc:creator>
  <dc:description>http://aida.ucoz.ru</dc:description>
  <dc:language>en-US</dc:language>
  <cp:lastModifiedBy>Дробжева</cp:lastModifiedBy>
  <dcterms:modified xsi:type="dcterms:W3CDTF">2022-10-31T10:05:21Z</dcterms:modified>
  <cp:revision>11</cp:revision>
  <dc:subject/>
  <dc:title>УЧИМСЯ БЫТЬ ТЕРПИМЫМИ</dc:title>
</cp:coreProperties>
</file>