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0DD-4F75-4CCE-BBBC-2EA246FD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3F4-8503-48DD-9C13-BDD00C76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01A2-4C48-4556-8E5D-EF8255E7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AF1-EB2A-4DB4-9D4E-3B239B81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CCE-A5AC-46A8-A2F1-29943D3A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750-EA2B-4081-AE69-FAE986E4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279-B785-432F-894F-96836696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166-3743-4C2A-832F-5820EB98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70A-0DD3-4D13-9F4B-F53507C2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505-A8CA-4332-B08B-06F78AFD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A9A-4A7E-401C-8F42-D2F0E59F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EC7-F474-4202-A753-9CC1E8D7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E3C7-E01A-4F7C-99BE-66AA946A1174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D247-0319-4E3F-B7BC-91F9DB03500E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Documents and Settings\Aida\Рабочий стол\НОвая ГРАФИКА сборник\детские рисунки\0370010237.jpg"/>
          <p:cNvPicPr/>
          <p:nvPr/>
        </p:nvPicPr>
        <p:blipFill>
          <a:blip r:embed="rId1"/>
          <a:stretch/>
        </p:blipFill>
        <p:spPr>
          <a:xfrm>
            <a:off x="392040" y="789120"/>
            <a:ext cx="4357800" cy="421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82960" y="1206360"/>
            <a:ext cx="4680000" cy="19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Arial"/>
              </a:rPr>
              <a:t>УЧИМСЯ БЫТЬ ТЕРПИМЫМИ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3" name="Овал 3"/>
          <p:cNvSpPr/>
          <p:nvPr/>
        </p:nvSpPr>
        <p:spPr>
          <a:xfrm>
            <a:off x="5572080" y="285840"/>
            <a:ext cx="357120" cy="357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4" name="Овал 6"/>
          <p:cNvSpPr/>
          <p:nvPr/>
        </p:nvSpPr>
        <p:spPr>
          <a:xfrm>
            <a:off x="214200" y="6215040"/>
            <a:ext cx="357480" cy="357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2428920" y="285840"/>
            <a:ext cx="357120" cy="357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6" name="Овал 8"/>
          <p:cNvSpPr/>
          <p:nvPr/>
        </p:nvSpPr>
        <p:spPr>
          <a:xfrm>
            <a:off x="8429760" y="6357960"/>
            <a:ext cx="357120" cy="357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7" name="Овал 9"/>
          <p:cNvSpPr/>
          <p:nvPr/>
        </p:nvSpPr>
        <p:spPr>
          <a:xfrm>
            <a:off x="8572680" y="428760"/>
            <a:ext cx="357120" cy="3571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8" name="Овал 10"/>
          <p:cNvSpPr/>
          <p:nvPr/>
        </p:nvSpPr>
        <p:spPr>
          <a:xfrm>
            <a:off x="1071720" y="285840"/>
            <a:ext cx="357120" cy="3571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9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B556-A4AA-49CD-BF2E-741688AEF91A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0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DC92-6ED9-4387-AEAA-5CFD0851787B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1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541080" y="5461560"/>
            <a:ext cx="370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e0000"/>
                </a:solidFill>
                <a:latin typeface="Arial"/>
              </a:rPr>
              <a:t>Социальный педагог</a:t>
            </a:r>
            <a:r>
              <a:rPr b="1" lang="en-US" sz="1600" spc="-1" strike="noStrike">
                <a:solidFill>
                  <a:srgbClr val="8e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e0000"/>
                </a:solidFill>
                <a:latin typeface="Arial"/>
              </a:rPr>
              <a:t>МБОУ «СШ № 27» а. Новая Адыгея</a:t>
            </a:r>
            <a:endParaRPr b="0" lang="en-US" sz="16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e0000"/>
                </a:solidFill>
                <a:latin typeface="Arial"/>
              </a:rPr>
              <a:t>Дробжева Ольга Федоровна</a:t>
            </a:r>
            <a:endParaRPr b="0" lang="en-US" sz="16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e0000"/>
                </a:solidFill>
                <a:latin typeface="Arial"/>
              </a:rPr>
              <a:t>  </a:t>
            </a:r>
            <a:r>
              <a:rPr b="1" lang="ru-RU" sz="8800" spc="-1" strike="noStrike">
                <a:solidFill>
                  <a:srgbClr val="8e0000"/>
                </a:solidFill>
                <a:latin typeface="Arial"/>
              </a:rPr>
              <a:t>Спасибо за       внимание!</a:t>
            </a:r>
            <a:endParaRPr b="0" lang="en-US" sz="88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0000"/>
                </a:solidFill>
                <a:latin typeface="Arial Black"/>
              </a:rPr>
              <a:t>Терпимость – cпособность терпеть что-то или кого-то, быть выдержанным, выносливым, стойким, уметь мириться с существованием чего-либо, кого-либо, считаться с мнением других, быть снисходительным.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499F-C1E4-42D2-B2E6-C8868D4D8BF6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1A8F-3B0B-4656-B851-0A87F46BE1C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68360" y="3282120"/>
            <a:ext cx="59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Терпимость – это форма поведения. 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Ученик, который  хочет жить в мире со своими одноклассниками, должен сам себя ограничивать.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Лишнее слово не сказать, проглотить, если кто-то ему сказал что-то. Потому что, если он ответит таким же образом, ему еще хуже ответят и начнётся ссора. А когда уже  начинается выяснение отношений, тогда никакой терпимости не будет.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362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Arial"/>
              </a:rPr>
              <a:t>Терпимость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e0000"/>
                </a:solidFill>
                <a:latin typeface="Arial"/>
              </a:rPr>
              <a:t>-</a:t>
            </a:r>
            <a:r>
              <a:rPr b="0" i="1" lang="ru-RU" sz="3200" spc="-1" strike="noStrike">
                <a:solidFill>
                  <a:srgbClr val="8e0000"/>
                </a:solidFill>
                <a:latin typeface="Arial"/>
              </a:rPr>
              <a:t>Толерантность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60280" y="2073240"/>
            <a:ext cx="834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"/>
              </a:rPr>
              <a:t>tolerancia (испанский) – Способность признавать отличные от своих собственных идеи или мнения. 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tolerance (французский) – Отношение, при котором допускается, что другие могут думать или действовать иначе, нежели ты сам 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tolerance (английский) – Готовность быть терпимым, снисходительность</a:t>
            </a: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kuan rong (китайский) – Позволять, принимать, быть по отношению к другим великодушным. 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tasamul’ ( арабский) – Прощение, снисходительность, мягкость, милосердие, сострадание, благосклонность, терпение, расположенность к другим.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15968"/>
                </a:solidFill>
                <a:latin typeface="Arial"/>
              </a:rPr>
              <a:t>Определение толерантности, данное в «Декларации принципов толерантности» (подписана 16 ноября 1995 года в Париже 185 государствами членами ЮНЕСКО, включая и Россию):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0000"/>
                </a:solidFill>
                <a:latin typeface="Arial"/>
              </a:rPr>
              <a:t>Толерантность означает «уважение, принятие и правильное понимание богатого многообразия культур нашего мира, наших форм самовыражения и способов проявлений человеческой индивидуальности.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Ей способствуют знания, открытость, общение и свобода мысли, совести и убеждений. </a:t>
            </a:r>
            <a:r>
              <a:rPr b="0" lang="ru-RU" sz="2100" spc="-1" strike="noStrike">
                <a:solidFill>
                  <a:srgbClr val="254061"/>
                </a:solidFill>
                <a:latin typeface="Arial"/>
              </a:rPr>
              <a:t>Толерантность – это свобода в многообразии. Это не только моральный долг, но и политическая, и правовая потребность. </a:t>
            </a:r>
            <a:r>
              <a:rPr b="0" lang="ru-RU" sz="2100" spc="-1" strike="noStrike">
                <a:solidFill>
                  <a:srgbClr val="984807"/>
                </a:solidFill>
                <a:latin typeface="Arial"/>
              </a:rPr>
              <a:t>Толерантность – это добродетель, которая делает возможным достижение мира и способствует замене культуры войны культурой мира».</a:t>
            </a:r>
            <a:r>
              <a:rPr b="0" lang="ru-RU" sz="2100" spc="-1" strike="noStrike">
                <a:solidFill>
                  <a:srgbClr val="984807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Ученик может выразить свое отношение к одноклассникам пятью способами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: великодушием, учтивостью, доброжелательностью, отношением к ним, как к себе и верностью своему слову. 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Не делай другим того, чего не хотел бы от других.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Не делай другому того, от чего больно тебе. 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В радости и в горе мы должны относиться ко всем людям, как относимся к самим себе. 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Не делай своему однокласснику того, от чего плохо тебе. 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Как ты думаешь о себе, так думай и о других. 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Считай успех соседа своим успехом, а потерю соседа своей потерей.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Во всем, как хотите, чтобы с вами поступали одноклассники, так поступайте и вы с ними.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8e0000"/>
                </a:solidFill>
                <a:latin typeface="Arial"/>
              </a:rPr>
              <a:t>МУДРЕЦЫ И СЛОН</a:t>
            </a:r>
            <a:br>
              <a:rPr sz="4000"/>
            </a:b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</a:rPr>
              <a:t>Давным-давно в маленьком городе жили-были шесть слепых мудрецов. Однажды в город привели слона. Мудрецы захотели увидеть его. Но как? «Я знаю, — сказал один мудрец, — мы ощупаем его». – «Хорошая идея, — сказали другие, — тогда мы будем знать, какой он — слон». Итак, шесть человек пошли смотреть слона. Первый ощупал большое плоское ухо. Оно медленно двигалось вперед-назад. «Слон похож на веер!» — закричал первый мудрец. Второй мудрец потрогал ноги слона. «Он похож на дерево!» — воскликнул он. «Вы оба неправы, — сказал третий, — он похож на веревку». Этот человек нащупал слоновий хвост. «Слон похож на копье», — воскликнул четвертый. «Нет, нет, — закричал пятый, — слон как высокая стена!» Он говорил так, ощупывая бок слона. Шестой мудрец дергал слоновий хобот. «Вы все неправы, — сказал он, — слон похож на змею». – «Нет, на веревку!» – «Змея!» – «Стена!» – «Вы ошибаетесь!» – «Я прав!» Шестеро слепых кричали друг на друга целый час. И они никогда не узнали, как выглядит слон</a:t>
            </a:r>
            <a:r>
              <a:rPr b="0" lang="ru-RU" sz="2000" spc="-1" strike="noStrike">
                <a:solidFill>
                  <a:srgbClr val="8e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     – </a:t>
            </a: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О чём эта сказка?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     – </a:t>
            </a: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Почему они так и не узнали, как выглядит слон</a:t>
            </a:r>
            <a:r>
              <a:rPr b="1" lang="ru-RU" sz="1800" spc="-1" strike="noStrike">
                <a:solidFill>
                  <a:srgbClr val="8e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82920" y="2491560"/>
            <a:ext cx="52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Были ли мудрецы действительно мудрыми? 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68360" y="2002320"/>
            <a:ext cx="65880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Как мудрецы могли бы узнать, как на самом деле выглядит слон..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e1c11"/>
                </a:solidFill>
                <a:latin typeface="Arial"/>
              </a:rPr>
              <a:t>!!!</a:t>
            </a:r>
            <a:r>
              <a:rPr b="1" lang="ru-RU" sz="2800" spc="-1" strike="noStrike">
                <a:solidFill>
                  <a:srgbClr val="470000"/>
                </a:solidFill>
                <a:latin typeface="Arial"/>
              </a:rPr>
              <a:t>У каждого человека своя точка зрения на тот или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7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47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70000"/>
                </a:solidFill>
                <a:latin typeface="Arial"/>
              </a:rPr>
              <a:t>иной </a:t>
            </a:r>
            <a:r>
              <a:rPr b="1" lang="en-US" sz="2800" spc="-1" strike="noStrike">
                <a:solidFill>
                  <a:srgbClr val="47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70000"/>
                </a:solidFill>
                <a:latin typeface="Arial"/>
              </a:rPr>
              <a:t>предмет, так как все одну и ту же вещь видят и слышат по-разному.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e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8e0000"/>
                </a:solidFill>
                <a:latin typeface="Arial"/>
              </a:rPr>
              <a:t>Что же нужно для того, чтобы налаживалось взаимопонимание</a:t>
            </a:r>
            <a:r>
              <a:rPr b="0" lang="ru-RU" sz="2000" spc="-1" strike="noStrike">
                <a:solidFill>
                  <a:srgbClr val="8e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e0000"/>
                </a:solidFill>
                <a:latin typeface="Arial"/>
              </a:rPr>
              <a:t>Взаимопонимание</a:t>
            </a: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 определяется способностью наблюдать за людьми, умением по малейшим движениям лица, позы понимать душевное состояние окружающих, их стремления и желания.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68360" y="2781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Arial"/>
              </a:rPr>
              <a:t>З а д а н и е учащимся «О чем говорят глаза»: 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осмотрите на своего соседа по парте. Попробуйте определить, в каком настроении ваш товарищ, как он себя чувствует, о чем думает, чем озабочен. Обменяйтесь своими наблюдениями, выводами.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Arial"/>
              </a:rPr>
              <a:t>Ты живешь среди людей. Не забывай, что каждый твой поступок, каждое твое желание отражаются на окружающих тебя людях. Проверяй свои поступки вопросом к самому себе: не делаешь ли ты зла, неудобства людям? Делай все так, чтобы людям, окружающим тебя, было хорошо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4:30:49Z</dcterms:created>
  <dc:creator>Admin</dc:creator>
  <dc:description>http://aida.ucoz.ru</dc:description>
  <dc:language>en-US</dc:language>
  <cp:lastModifiedBy>Дробжева</cp:lastModifiedBy>
  <dcterms:modified xsi:type="dcterms:W3CDTF">2022-10-31T10:05:21Z</dcterms:modified>
  <cp:revision>11</cp:revision>
  <dc:subject/>
  <dc:title>УЧИМСЯ БЫТЬ ТЕРПИМЫМИ</dc:title>
</cp:coreProperties>
</file>