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4F4-0B38-492A-A6E9-392E809B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0A5-C1FE-42F4-9826-A75CEE21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3F6-F532-42CD-86AD-D1D7AB88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64B-188F-4AA5-9D04-A5B2F69F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AB1E-700F-4C09-908D-520F5D62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8F1A-7495-4679-AC75-30F19978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D843-B3EB-459B-96AA-2AB4E515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C9B7-92A4-470E-A4F0-4F85B4D0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B80C-62DD-489B-9546-285317B7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084D-FBE1-4EB6-A805-7A8ED812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CA5E-3449-4A53-9089-45774A7E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03D-8DDE-4AF4-A59A-C8C055AA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39EC-9387-4E1A-84E2-E2AB7384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E157-6DB5-4AB0-BBF3-3E974D70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55C4-9CC6-4C90-9046-4B2D06C7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5C00-C6CF-4E60-B464-89BFB3C9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057B-C289-42BE-8F49-F415394A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30DF-A894-43F9-BB84-5140DB2D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769D6-D5DB-45D1-A4C3-E9EE5C09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BFB0-436C-4A44-873C-E5000A27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E5424-E2C3-4618-A3CF-40B97E43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D6C48-3700-4082-95E6-95A2522E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9EB-F438-466E-89E9-7485FC7D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0A17-08AE-4E9A-BA6F-918E267B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9BA04-FCD1-4DB8-80D0-0AF563C6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7B05-2F84-4FE7-828A-4D508483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21B5E-0172-4CD2-ACD5-5B46BA67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E9C9-4EFC-48E2-AA61-033BE475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1C8E4-7B8C-418B-B1D4-977D51E0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8D53-A1D0-4CEC-95BC-24CAE289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82B4C-2745-488B-ABA6-CF26F148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319EF-E1DF-4B7D-B5C1-775C6139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6BFA0-38FC-4290-8470-DD7AC423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C3C-94A6-4CC0-9242-E88C0CF6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E475C-C2CF-4038-9C88-3E5ABA66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E41A8-A17D-4499-B11A-10352377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AE8AD-3931-4C40-BEE7-9347D42C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D772D-6F0C-4F23-B4A7-B8568150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3B03F-D497-4D72-AB33-FD579EF8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77446-C278-4646-973D-72DC5C23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860C-E568-4E1F-9D54-8B535220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D0254-6A70-4540-B215-3AD85546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907F-8DCF-4A49-8B74-70E0603F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B63-6A84-4352-B28A-EE26B3D1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C3E-22AC-43EB-919F-FC347438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768-F755-49CA-93DC-9ECE36DD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186-D24D-47D7-831B-DAE0B969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F78-2661-409C-A092-58148164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B2D7-5234-45A9-9C01-06C0FD11861F}" type="slidenum">
              <a:rPr b="0" lang="en-US" sz="11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87FE-24C9-4100-8D8E-D20042340553}" type="slidenum">
              <a:rPr b="0" lang="en-US" sz="11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FF3D-588D-4D7B-91DD-6A2021B21A22}" type="slidenum">
              <a:rPr b="0" lang="en-US" sz="11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5EEB-EE24-4205-AD4F-4AE1B516D9B2}" type="slidenum">
              <a:rPr b="0" lang="en-US" sz="11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8080" y="914400"/>
            <a:ext cx="7467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лассный ча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Проект нашего "МЫ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Классный руководитель Трофимова М.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28600" y="160020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Arial Narrow"/>
              </a:rPr>
              <a:t>Мы быстрые как…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0" name="Picture 3" descr="G:\раньше\KINGSTON\normal_ulitka.jpg"/>
          <p:cNvPicPr/>
          <p:nvPr/>
        </p:nvPicPr>
        <p:blipFill>
          <a:blip r:embed="rId1"/>
          <a:stretch/>
        </p:blipFill>
        <p:spPr>
          <a:xfrm>
            <a:off x="3657600" y="2057400"/>
            <a:ext cx="51786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6767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09480" y="16002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смелые как…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2" descr="G:\раньше\KINGSTON\6ivsl6m62e8nc11gmbwv00cju.jpg"/>
          <p:cNvPicPr/>
          <p:nvPr/>
        </p:nvPicPr>
        <p:blipFill>
          <a:blip r:embed="rId1"/>
          <a:stretch/>
        </p:blipFill>
        <p:spPr>
          <a:xfrm>
            <a:off x="3657600" y="1752480"/>
            <a:ext cx="5084640" cy="381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217520" y="404640"/>
            <a:ext cx="6767640" cy="7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-360" y="1599840"/>
            <a:ext cx="38098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красивые как…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761160" cy="704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G:\раньше\KINGSTON\upload-db09fdde2820a577dfcb051e8421b8ed.jpeg"/>
          <p:cNvPicPr/>
          <p:nvPr/>
        </p:nvPicPr>
        <p:blipFill>
          <a:blip r:embed="rId2"/>
          <a:stretch/>
        </p:blipFill>
        <p:spPr>
          <a:xfrm>
            <a:off x="3639960" y="1905120"/>
            <a:ext cx="5315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52280" y="160020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храбрые как…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1206360" y="404640"/>
            <a:ext cx="6767640" cy="70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G:\раньше\KINGSTON\218868652.jpg"/>
          <p:cNvPicPr/>
          <p:nvPr/>
        </p:nvPicPr>
        <p:blipFill>
          <a:blip r:embed="rId2"/>
          <a:stretch/>
        </p:blipFill>
        <p:spPr>
          <a:xfrm>
            <a:off x="3505320" y="2666880"/>
            <a:ext cx="54259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09120" y="160020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веселые как…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2" descr="G:\раньше\KINGSTON\i.jpeg"/>
          <p:cNvPicPr/>
          <p:nvPr/>
        </p:nvPicPr>
        <p:blipFill>
          <a:blip r:embed="rId1"/>
          <a:stretch/>
        </p:blipFill>
        <p:spPr>
          <a:xfrm>
            <a:off x="4419720" y="1484280"/>
            <a:ext cx="4120920" cy="5014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1258920" y="270000"/>
            <a:ext cx="6767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1600200"/>
            <a:ext cx="40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способные как…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2" descr="G:\раньше\KINGSTON\image1241.jpg"/>
          <p:cNvPicPr/>
          <p:nvPr/>
        </p:nvPicPr>
        <p:blipFill>
          <a:blip r:embed="rId1"/>
          <a:stretch/>
        </p:blipFill>
        <p:spPr>
          <a:xfrm>
            <a:off x="4067280" y="1341360"/>
            <a:ext cx="4483080" cy="4391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767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5320" y="3962160"/>
            <a:ext cx="737568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МЯГКИЕ И ПУШИСТЫЕ КАК…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767640" cy="701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G:\раньше\KINGSTON\98.jpg"/>
          <p:cNvPicPr/>
          <p:nvPr/>
        </p:nvPicPr>
        <p:blipFill>
          <a:blip r:embed="rId2"/>
          <a:stretch/>
        </p:blipFill>
        <p:spPr>
          <a:xfrm>
            <a:off x="2057400" y="1349280"/>
            <a:ext cx="62769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МЫ ОЧЕНЬ РАЗНЫЕ, НО МЫ ВМЕСТЕ</a:t>
            </a:r>
            <a:endParaRPr b="0" lang="en-US" sz="9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Номер слайда 4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A873-562B-4FE3-80C6-747579EDB203}" type="slidenum">
              <a:rPr b="0" lang="en-US" sz="11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онова Н.И.</dc:creator>
  <dc:description/>
  <dc:language>en-US</dc:language>
  <cp:lastModifiedBy>школа</cp:lastModifiedBy>
  <dcterms:modified xsi:type="dcterms:W3CDTF">2011-03-09T11:06:36Z</dcterms:modified>
  <cp:revision>351</cp:revision>
  <dc:subject>Толерантность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