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4E0-F51D-47FA-A2E3-B7C8F56A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7C6-C68B-481F-8AC9-E5ABCB9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523-CEF8-45F6-BEEA-92E674F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341-7E1B-46AA-9158-DC25B903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02DF-083F-4D75-B99C-2320EC41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0DC-96A6-4721-8703-90597A42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70FB-1545-456B-A829-AE00DE4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E3D-904D-464A-9D12-C994561E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BAA5-4DAE-488C-82FC-88D4578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F694-6737-4508-8EE7-CB18B732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5ACC-B3A4-4917-BFC4-FF2B31B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6B3-0DB6-4C4C-9068-C4C093D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41F-0D38-4565-B983-198BA5E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7BD-9134-4DAE-A324-7E63B89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8C0-46EF-452B-B78C-6A79873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B3C-3BDF-43ED-923B-BBD60853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0078-E801-4A84-904A-549E2351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03A6-257C-43F7-8B45-F51387F3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AF46-88FB-4228-9A03-EDAE6E9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CE02-6556-45D4-88C0-5D63EFE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0025-4107-4CAC-9333-A336EB3E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3AB1-E880-4BC5-A808-A369E972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2A9-DC0A-4F61-827C-B5C6830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A411-6C5B-4230-BEC0-5FA8BFD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665D-F7AA-4C79-8DA3-52CF7E2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6604-F316-4D67-ABF2-E71A74B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C192-A721-4F54-8DC8-EDB8251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504E-E732-498B-9C13-73EB5B24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3223-18EF-46D0-B8E5-4C2CB62E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6586-478D-4E91-8A70-3326A5B4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7514-A227-482D-8AF0-A7C68109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BF03-1AFE-41B0-8972-78C3C1C6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D8A8-5A21-44B6-B99C-E7A813BA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348-6559-46D1-8E6D-DCC13C33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8AF4-0F42-436C-AEF6-9044EA6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5761-F9A7-44E5-9908-B4B24E8A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430F-A72E-454F-9161-FA7ED12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FAA2-2291-438F-9611-77C1BA5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D0A5-E507-45CF-A2B6-5073FEB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EBA1-F1D9-455C-B624-4951CA5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4D50-9FB5-4374-B628-CB91F16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98DC-5864-446E-A6BF-E6DC5B4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F9CC1-A9E9-44C7-AB8E-B133F795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1A7-55FD-4CF1-9685-64EED8F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820-FDD3-4D5E-9F07-16B8F72E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316-B39D-49C3-BAB6-5D4087FD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4CD-26DD-445D-B49B-97AAB13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67F-F132-4CBD-91E2-93DD482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E3F-337A-4762-BF00-EE685A5E9E07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F2F-B8AB-474B-8B82-6DF9162D1687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020-ADE6-44D9-9F41-DEB196F11B15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FCD4-269F-44D9-A778-8AB588AB80E2}" type="slidenum">
              <a:rPr b="0" lang="en-US" sz="11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914400"/>
            <a:ext cx="7467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ассный ча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Проект нашего "М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Классный руководитель Трофимова М.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8600" y="16002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 Narrow"/>
              </a:rPr>
              <a:t>Мы быстр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3" descr="G:\раньше\KINGSTON\normal_ulitka.jpg"/>
          <p:cNvPicPr/>
          <p:nvPr/>
        </p:nvPicPr>
        <p:blipFill>
          <a:blip r:embed="rId1"/>
          <a:stretch/>
        </p:blipFill>
        <p:spPr>
          <a:xfrm>
            <a:off x="3657600" y="2057400"/>
            <a:ext cx="51786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767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94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мел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2" descr="G:\раньше\KINGSTON\6ivsl6m62e8nc11gmbwv00cju.jpg"/>
          <p:cNvPicPr/>
          <p:nvPr/>
        </p:nvPicPr>
        <p:blipFill>
          <a:blip r:embed="rId1"/>
          <a:stretch/>
        </p:blipFill>
        <p:spPr>
          <a:xfrm>
            <a:off x="3657600" y="1752480"/>
            <a:ext cx="5084640" cy="381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217520" y="404640"/>
            <a:ext cx="676764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1599840"/>
            <a:ext cx="38098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красив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76116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G:\раньше\KINGSTON\upload-db09fdde2820a577dfcb051e8421b8ed.jpeg"/>
          <p:cNvPicPr/>
          <p:nvPr/>
        </p:nvPicPr>
        <p:blipFill>
          <a:blip r:embed="rId2"/>
          <a:stretch/>
        </p:blipFill>
        <p:spPr>
          <a:xfrm>
            <a:off x="3639960" y="1905120"/>
            <a:ext cx="531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52280" y="16002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храбр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206360" y="404640"/>
            <a:ext cx="6767640" cy="70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G:\раньше\KINGSTON\218868652.jpg"/>
          <p:cNvPicPr/>
          <p:nvPr/>
        </p:nvPicPr>
        <p:blipFill>
          <a:blip r:embed="rId2"/>
          <a:stretch/>
        </p:blipFill>
        <p:spPr>
          <a:xfrm>
            <a:off x="3505320" y="2666880"/>
            <a:ext cx="5425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9120" y="160020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есел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2" descr="G:\раньше\KINGSTON\i.jpeg"/>
          <p:cNvPicPr/>
          <p:nvPr/>
        </p:nvPicPr>
        <p:blipFill>
          <a:blip r:embed="rId1"/>
          <a:stretch/>
        </p:blipFill>
        <p:spPr>
          <a:xfrm>
            <a:off x="4419720" y="1484280"/>
            <a:ext cx="4120920" cy="5014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1258920" y="270000"/>
            <a:ext cx="6767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60020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пособные как…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2" descr="G:\раньше\KINGSTON\image1241.jpg"/>
          <p:cNvPicPr/>
          <p:nvPr/>
        </p:nvPicPr>
        <p:blipFill>
          <a:blip r:embed="rId1"/>
          <a:stretch/>
        </p:blipFill>
        <p:spPr>
          <a:xfrm>
            <a:off x="4067280" y="1341360"/>
            <a:ext cx="4483080" cy="439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767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5320" y="3962160"/>
            <a:ext cx="7375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МЯГКИЕ И ПУШИСТЫЕ КАК…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767640" cy="70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G:\раньше\KINGSTON\98.jpg"/>
          <p:cNvPicPr/>
          <p:nvPr/>
        </p:nvPicPr>
        <p:blipFill>
          <a:blip r:embed="rId2"/>
          <a:stretch/>
        </p:blipFill>
        <p:spPr>
          <a:xfrm>
            <a:off x="2057400" y="1349280"/>
            <a:ext cx="6276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МЫ ОЧЕНЬ РАЗНЫЕ, НО МЫ ВМЕСТЕ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A23-45D4-46A2-A55F-EDCADBE687AA}" type="slidenum">
              <a:rPr b="0" lang="en-US" sz="11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школа</cp:lastModifiedBy>
  <dcterms:modified xsi:type="dcterms:W3CDTF">2011-03-09T11:06:36Z</dcterms:modified>
  <cp:revision>351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