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32A-E4C5-48FE-85C1-80FBA27A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3D7-CBD0-4789-8C19-56D6F3B1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D30A-C922-46D8-B0B5-7B5805DF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EFEF-55C5-4571-8265-17253F71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3A1-99F7-494C-9593-F29BAC6B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A92-FE44-4C0E-BE79-BE38C835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D98-BEC1-499B-84D1-2667AA6D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1C6-F227-4288-9A98-6A356E14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6E7C-77C7-4E63-B46D-A190E1AA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2E3-EA6B-471F-AF3B-4B14BBBF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54F0-8C34-4547-9120-40F5E18B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7B6-AB54-4DBB-BC5C-1C6C457E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9795-6659-463B-9E54-F5B37044C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000"/>
                </a:solidFill>
                <a:latin typeface="Times New Roman"/>
              </a:rPr>
              <a:t>Н.А. Некрасов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Picture 4" descr="Картинка 19 из 19217"/>
          <p:cNvPicPr/>
          <p:nvPr/>
        </p:nvPicPr>
        <p:blipFill>
          <a:blip r:embed="rId2"/>
          <a:stretch/>
        </p:blipFill>
        <p:spPr>
          <a:xfrm>
            <a:off x="468360" y="2060640"/>
            <a:ext cx="3456000" cy="45352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43" name="Прямоугольник 6"/>
          <p:cNvSpPr/>
          <p:nvPr/>
        </p:nvSpPr>
        <p:spPr>
          <a:xfrm>
            <a:off x="4140360" y="2997360"/>
            <a:ext cx="4824360" cy="277524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Гениальнейший и благороднейший из всех русских  поэтов…</a:t>
            </a:r>
            <a:br>
              <a:rPr sz="2800"/>
            </a:b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</a:rPr>
              <a:t>Н.Г. Чернышевский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Картинка 5 из 17204"/>
          <p:cNvPicPr/>
          <p:nvPr/>
        </p:nvPicPr>
        <p:blipFill>
          <a:blip r:embed="rId1"/>
          <a:stretch/>
        </p:blipFill>
        <p:spPr>
          <a:xfrm>
            <a:off x="611280" y="260280"/>
            <a:ext cx="7993080" cy="489744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63" name="Прямоугольник 2"/>
          <p:cNvSpPr/>
          <p:nvPr/>
        </p:nvSpPr>
        <p:spPr>
          <a:xfrm>
            <a:off x="539640" y="5300640"/>
            <a:ext cx="8280360" cy="126324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Не имея постоянного заработка, часто отправлялся на Сенную площадь, где за пять копеек или кусок хлеба писал неграмотным крестьянам прошения, жалобы, пись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Картинка 6 из 47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45356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900000" y="692280"/>
            <a:ext cx="7775640" cy="97092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Сенной Некрасов был свидетелем  жестокого обращения с крепостными крестьянами,  которых по требованию господ прилюдно поро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900000" y="4869000"/>
            <a:ext cx="7561440" cy="192348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"/>
              </a:rPr>
              <a:t>Вчерашний день, часу в шестом, зашёл я на Сенну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"/>
              </a:rPr>
              <a:t>Там били женщину кнутом, крестьянку молод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"/>
              </a:rPr>
              <a:t>Ни звука из её груд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"/>
              </a:rPr>
              <a:t>Лишь бич свистал, играя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"/>
              </a:rPr>
              <a:t>И Музе я сказал: «Гляди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"/>
              </a:rPr>
              <a:t>Сестра твоя родная!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0" descr="Н"/>
          <p:cNvPicPr/>
          <p:nvPr/>
        </p:nvPicPr>
        <p:blipFill>
          <a:blip r:embed="rId1"/>
          <a:stretch/>
        </p:blipFill>
        <p:spPr>
          <a:xfrm>
            <a:off x="611280" y="549360"/>
            <a:ext cx="3456000" cy="468000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pic>
        <p:nvPicPr>
          <p:cNvPr id="68" name="Picture 6" descr="img247мв1"/>
          <p:cNvPicPr/>
          <p:nvPr/>
        </p:nvPicPr>
        <p:blipFill>
          <a:blip r:embed="rId2"/>
          <a:stretch/>
        </p:blipFill>
        <p:spPr>
          <a:xfrm>
            <a:off x="4859280" y="549360"/>
            <a:ext cx="3441600" cy="468000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  <p:sp>
        <p:nvSpPr>
          <p:cNvPr id="69" name="Прямоугольник 3"/>
          <p:cNvSpPr/>
          <p:nvPr/>
        </p:nvSpPr>
        <p:spPr>
          <a:xfrm>
            <a:off x="1332000" y="5445000"/>
            <a:ext cx="6480000" cy="82548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Arial"/>
              </a:rPr>
              <a:t>Учитель! Перед именем тво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Arial"/>
              </a:rPr>
              <a:t>Позволь смиренно преклонить кол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465440" cy="439272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  <p:sp>
        <p:nvSpPr>
          <p:cNvPr id="71" name="Прямоугольник 4"/>
          <p:cNvSpPr/>
          <p:nvPr/>
        </p:nvSpPr>
        <p:spPr>
          <a:xfrm>
            <a:off x="4859280" y="476280"/>
            <a:ext cx="4033800" cy="502956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В 1841 году состоялось знакомство с В. Г. Белинским, который, прочитав стихотворение «В дороге», сказал Некрасову: «Да знаете ли Вы, что Вы поэт и поэт истинный!» Встреча с В.Г.Белинским определила жизненный и творческий путь Некрасова. Великий критик помог молодому поэту направить его творчество на верный пу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Белинский перед смертью (Некрасов и Панаев у больного Белинского)"/>
          <p:cNvPicPr/>
          <p:nvPr/>
        </p:nvPicPr>
        <p:blipFill>
          <a:blip r:embed="rId1"/>
          <a:stretch/>
        </p:blipFill>
        <p:spPr>
          <a:xfrm>
            <a:off x="430200" y="333360"/>
            <a:ext cx="8318520" cy="532764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73" name="Прямоугольник 2"/>
          <p:cNvSpPr/>
          <p:nvPr/>
        </p:nvSpPr>
        <p:spPr>
          <a:xfrm>
            <a:off x="971640" y="5732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Некрасов и Панаев у больного Белинск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4211640" y="333360"/>
            <a:ext cx="4537080" cy="631188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Для Некрасова смерть Белинского была тяжелым ударом. Некрасова связывала с Белинским тесная дружба. После смерти Белинского работа в «Современнике» становится для Некрасова не только поэтическим и гражданским долгом, но и выражением его любви к учителю и другу, для которого «Современник» был самым дорогим детищем. Журнал стал трибуной, с которой к русскому обществу обращались лучшие люди того време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NANekrasov"/>
          <p:cNvPicPr/>
          <p:nvPr/>
        </p:nvPicPr>
        <p:blipFill>
          <a:blip r:embed="rId1"/>
          <a:stretch/>
        </p:blipFill>
        <p:spPr>
          <a:xfrm>
            <a:off x="826920" y="765000"/>
            <a:ext cx="3240360" cy="489600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392px-OtechZapisky"/>
          <p:cNvPicPr/>
          <p:nvPr/>
        </p:nvPicPr>
        <p:blipFill>
          <a:blip r:embed="rId1"/>
          <a:stretch/>
        </p:blipFill>
        <p:spPr>
          <a:xfrm>
            <a:off x="395280" y="333360"/>
            <a:ext cx="3457440" cy="504036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77" name="Прямоугольник 2"/>
          <p:cNvSpPr/>
          <p:nvPr/>
        </p:nvSpPr>
        <p:spPr>
          <a:xfrm>
            <a:off x="539640" y="5445000"/>
            <a:ext cx="7993080" cy="9709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1868 – издание журнала «Отечественные записк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Новый журнал продолжает традиции «Современник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3456000" cy="367200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imes New Roman"/>
              </a:rPr>
              <a:t>Произведения Некрасова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1000655133"/>
          <p:cNvPicPr/>
          <p:nvPr/>
        </p:nvPicPr>
        <p:blipFill>
          <a:blip r:embed="rId1"/>
          <a:stretch/>
        </p:blipFill>
        <p:spPr>
          <a:xfrm>
            <a:off x="611280" y="1916280"/>
            <a:ext cx="2881080" cy="41050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81" name="Прямоугольник 3"/>
          <p:cNvSpPr/>
          <p:nvPr/>
        </p:nvSpPr>
        <p:spPr>
          <a:xfrm>
            <a:off x="324000" y="5967360"/>
            <a:ext cx="3456000" cy="4597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«Мороз, Красный нос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0" descr="1014954"/>
          <p:cNvPicPr/>
          <p:nvPr/>
        </p:nvPicPr>
        <p:blipFill>
          <a:blip r:embed="rId2"/>
          <a:stretch/>
        </p:blipFill>
        <p:spPr>
          <a:xfrm>
            <a:off x="4211640" y="1844640"/>
            <a:ext cx="3384720" cy="453564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Картинка 1 из 14"/>
          <p:cNvPicPr/>
          <p:nvPr/>
        </p:nvPicPr>
        <p:blipFill>
          <a:blip r:embed="rId1"/>
          <a:stretch/>
        </p:blipFill>
        <p:spPr>
          <a:xfrm>
            <a:off x="324000" y="620640"/>
            <a:ext cx="4032000" cy="510552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84" name="Прямоугольник 2"/>
          <p:cNvSpPr/>
          <p:nvPr/>
        </p:nvSpPr>
        <p:spPr>
          <a:xfrm>
            <a:off x="4356000" y="1052640"/>
            <a:ext cx="4392720" cy="228852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Зинаида Николаевна Некрасо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1851-19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вторая жена Н.А. Некрасова, с которой он обвенчался уже тяжело больн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755640" y="5445000"/>
            <a:ext cx="7488360" cy="1081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8 января 1878  года Некрасов скончался. Тысячи людей провожали Некрасова в последний пу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6767640" cy="482472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imes New Roman"/>
              </a:rPr>
              <a:t>Детство поэта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468360" y="3933720"/>
            <a:ext cx="8424720" cy="265428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Родился 28 ноября (10 декабря)1821 на Украине, где располагался полк его от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Когда Некрасову исполнилось три года отец вышел в отставку и поселились с семьёй в родовом имении Грешнево, Ярославской губернии, на берегу Вол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Картинка 4 из 113"/>
          <p:cNvPicPr/>
          <p:nvPr/>
        </p:nvPicPr>
        <p:blipFill>
          <a:blip r:embed="rId1"/>
          <a:stretch/>
        </p:blipFill>
        <p:spPr>
          <a:xfrm>
            <a:off x="1763640" y="1125360"/>
            <a:ext cx="5616720" cy="31672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Картинка 8 из 19217"/>
          <p:cNvPicPr/>
          <p:nvPr/>
        </p:nvPicPr>
        <p:blipFill>
          <a:blip r:embed="rId1"/>
          <a:stretch/>
        </p:blipFill>
        <p:spPr>
          <a:xfrm>
            <a:off x="468360" y="404640"/>
            <a:ext cx="5040360" cy="609624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88" name="Прямоугольник 2"/>
          <p:cNvSpPr/>
          <p:nvPr/>
        </p:nvSpPr>
        <p:spPr>
          <a:xfrm>
            <a:off x="6084720" y="2276640"/>
            <a:ext cx="2668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«Я лиру посвятил народу своему..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img245"/>
          <p:cNvPicPr/>
          <p:nvPr/>
        </p:nvPicPr>
        <p:blipFill>
          <a:blip r:embed="rId1"/>
          <a:stretch/>
        </p:blipFill>
        <p:spPr>
          <a:xfrm>
            <a:off x="1476360" y="363600"/>
            <a:ext cx="6264360" cy="381636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48" name="Прямоугольник 2"/>
          <p:cNvSpPr/>
          <p:nvPr/>
        </p:nvSpPr>
        <p:spPr>
          <a:xfrm>
            <a:off x="1187280" y="4179960"/>
            <a:ext cx="7345440" cy="265428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Сельцо Грешнево стоит на низовой Ярославско-Костромской дороге,  называемой   Сибиркой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Во всём остальном грешневская усадьба   ничем  не  отличалась от    обыкновенного    ти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тогдашних помещичьих усадеб… 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</a:rPr>
              <a:t>Воспоминания поэ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4788000" y="1628640"/>
            <a:ext cx="4103640" cy="192276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Картину своего детства Некрасов, будучи взрослы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нарисовал в стихотворении «Родина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nekrasov"/>
          <p:cNvPicPr/>
          <p:nvPr/>
        </p:nvPicPr>
        <p:blipFill>
          <a:blip r:embed="rId1"/>
          <a:stretch/>
        </p:blipFill>
        <p:spPr>
          <a:xfrm>
            <a:off x="1116000" y="620640"/>
            <a:ext cx="3052800" cy="403236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  <p:sp>
        <p:nvSpPr>
          <p:cNvPr id="51" name="Прямоугольник 6"/>
          <p:cNvSpPr/>
          <p:nvPr/>
        </p:nvSpPr>
        <p:spPr>
          <a:xfrm>
            <a:off x="2340000" y="4941720"/>
            <a:ext cx="6191280" cy="131364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imes New Roman"/>
              </a:rPr>
              <a:t>И вот опять, знакомые мест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imes New Roman"/>
              </a:rPr>
              <a:t>Где жизнь отцов моих, бесплодна и пуст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imes New Roman"/>
              </a:rPr>
              <a:t>Текла среди пиров, бессмысленного чванств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imes New Roman"/>
              </a:rPr>
              <a:t>Разврата грязного и мелкого тиранства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835280" y="3789360"/>
            <a:ext cx="5257800" cy="302004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Родился я в большом дом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Напоминающем тюрьм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В котором грозный властел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Свободно действовал один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Держа под страхом всю сем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И челядь жалкую свою...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                                        </a:t>
            </a:r>
            <a:r>
              <a:rPr b="1" i="1" lang="ru-RU" sz="2400" spc="-1" strike="noStrike">
                <a:solidFill>
                  <a:srgbClr val="ffc000"/>
                </a:solidFill>
                <a:latin typeface="Times New Roman"/>
              </a:rPr>
              <a:t>1867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Рисунок8_0"/>
          <p:cNvPicPr/>
          <p:nvPr/>
        </p:nvPicPr>
        <p:blipFill>
          <a:blip r:embed="rId1"/>
          <a:stretch/>
        </p:blipFill>
        <p:spPr>
          <a:xfrm>
            <a:off x="1763640" y="333360"/>
            <a:ext cx="5472360" cy="324000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Картинка 2 из 181"/>
          <p:cNvPicPr/>
          <p:nvPr/>
        </p:nvPicPr>
        <p:blipFill>
          <a:blip r:embed="rId1"/>
          <a:stretch/>
        </p:blipFill>
        <p:spPr>
          <a:xfrm>
            <a:off x="611280" y="981000"/>
            <a:ext cx="3514680" cy="49816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55" name="Прямоугольник 2"/>
          <p:cNvSpPr/>
          <p:nvPr/>
        </p:nvSpPr>
        <p:spPr>
          <a:xfrm>
            <a:off x="4284720" y="982800"/>
            <a:ext cx="4535280" cy="484884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Отец поэта-жестокий, угрюмый «крепостник», игрок, охотник-вёл праздную и «бесполезную» жизнь, протекающую «среди пиров...разврата, тиранств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Мучительна была жизнь крепостных в усадьбе отца Некрасова, где «рой подавленных и трепетных рабов завидовал житью последних барских псов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Картинка 1 из 2454"/>
          <p:cNvPicPr/>
          <p:nvPr/>
        </p:nvPicPr>
        <p:blipFill>
          <a:blip r:embed="rId1"/>
          <a:stretch/>
        </p:blipFill>
        <p:spPr>
          <a:xfrm>
            <a:off x="826920" y="476280"/>
            <a:ext cx="7632720" cy="360036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57" name="Прямоугольник 2"/>
          <p:cNvSpPr/>
          <p:nvPr/>
        </p:nvSpPr>
        <p:spPr>
          <a:xfrm>
            <a:off x="539640" y="4076640"/>
            <a:ext cx="8207640" cy="253116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 самых ранних лет любил Некрасов простор родных лугов и полей но больше всего любил Волг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imes New Roman"/>
              </a:rPr>
              <a:t>...Но вдруг я стоны услыха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imes New Roman"/>
              </a:rPr>
              <a:t>И взор мой на берег упа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imes New Roman"/>
              </a:rPr>
              <a:t>Почти пригнувшись голов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imes New Roman"/>
              </a:rPr>
              <a:t>К ногам, обвитым бечево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imes New Roman"/>
              </a:rPr>
              <a:t>Обутым в лапти, вдоль ре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imes New Roman"/>
              </a:rPr>
              <a:t>Ползли гурьбою бурлаки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focuspictures.ru/upload/reportage/59/watermark/FF2514_13.JPG"/>
          <p:cNvPicPr/>
          <p:nvPr/>
        </p:nvPicPr>
        <p:blipFill>
          <a:blip r:embed="rId1"/>
          <a:stretch/>
        </p:blipFill>
        <p:spPr>
          <a:xfrm>
            <a:off x="1258920" y="260280"/>
            <a:ext cx="6191280" cy="41338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59" name="Прямоугольник 2"/>
          <p:cNvSpPr/>
          <p:nvPr/>
        </p:nvSpPr>
        <p:spPr>
          <a:xfrm>
            <a:off x="900000" y="4508640"/>
            <a:ext cx="7056720" cy="173916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1832-1837 обучение в гимназ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«Придёшь, бывало, в клас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 знаешь: сечь начнут сейчас!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Гимназию Некрасов не закончи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Картинка 3 из 9"/>
          <p:cNvPicPr/>
          <p:nvPr/>
        </p:nvPicPr>
        <p:blipFill>
          <a:blip r:embed="rId1"/>
          <a:stretch/>
        </p:blipFill>
        <p:spPr>
          <a:xfrm>
            <a:off x="395280" y="549360"/>
            <a:ext cx="4753080" cy="590400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61" name="Прямоугольник 3"/>
          <p:cNvSpPr/>
          <p:nvPr/>
        </p:nvSpPr>
        <p:spPr>
          <a:xfrm>
            <a:off x="5364000" y="1627200"/>
            <a:ext cx="3240360" cy="371340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Отец выбрал сыну военную карьеру, а Некрасов мечтал о литературной 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В 1838 Некрасов уезжает в Петербург, где начинаются труднейшие годы его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01:15:12Z</dcterms:created>
  <dc:creator>.</dc:creator>
  <dc:description/>
  <dc:language>en-US</dc:language>
  <cp:lastModifiedBy>Виктория Кожевникова</cp:lastModifiedBy>
  <dcterms:modified xsi:type="dcterms:W3CDTF">2022-10-31T15:45:28Z</dcterms:modified>
  <cp:revision>31</cp:revision>
  <dc:subject/>
  <dc:title>Your Title Here…</dc:title>
</cp:coreProperties>
</file>