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1A2-CB37-4659-B1FD-1A39E1C2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F29-CB64-4111-BC86-F7B0A37E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2C6-7D85-4557-B1EC-00613938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446-F474-4DB6-B640-40705BE0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E402-B935-4931-84A2-62CD6BBF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4B40-2B2E-4E61-8F05-482A3CB0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A08F-4253-4EAC-A356-A940DD81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90B7-4352-4B7B-8090-E3DC37F8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CD9A-526B-4488-8A5A-6DCACF3E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E9DF-5A25-4A2B-AD67-6FEDCCCD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9782-E2D3-4EF2-8795-B517E4C8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236-8506-41B4-906C-0E3793ED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3A27-E801-4ED5-B565-65046F9C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8E88-0C90-4613-B46B-8FF59214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DB75-A224-44F7-9613-03BC29C2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1F80-929D-41DE-9997-3075F238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9E08-A038-4362-969F-E637B7D4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4FD-646A-4FB1-8C2F-0F702D5B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3CE-CE20-4BE8-ABF4-C5C87E40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6CF-6034-43A8-866B-8AFA8493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E71-1E18-4736-BCDD-57A26847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DD9-AB36-4A35-AE9A-A4717CDA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B79-E947-4501-8338-51D6428C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AF1-A241-4346-8706-A5CEA52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A632-546A-4B67-A4C7-26A2D568555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692B-E810-433C-A591-11ECC5DE3D5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619880"/>
          </a:xfrm>
          <a:prstGeom prst="rect">
            <a:avLst/>
          </a:prstGeom>
          <a:noFill/>
          <a:ln w="9360">
            <a:solidFill>
              <a:srgbClr val="6076b4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КОНФЛИКТ И ВЗАИМОДЕЙСТВИЕ </a:t>
            </a:r>
            <a:br>
              <a:rPr sz="4800"/>
            </a:b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В ПЕДАГОГИЧЕСКОМ ПРОЦЕССЕ</a:t>
            </a:r>
            <a:br>
              <a:rPr sz="4800"/>
            </a:b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589720"/>
            <a:ext cx="64008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897"/>
                </a:solidFill>
                <a:latin typeface="Palatino Linotype"/>
              </a:rPr>
              <a:t>Стиль конкуренции и соперничества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исход конфликта очень важен для вас, и вы делаете большую ставку на свое решение возникшей проблемы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обладаете достаточной властью и авторитетом, и представляется очевидным, что предлагаемое вами решение - наилучшее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чувствуете, что у вас нет иного выбора и вам нечего терять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должны принять непопулярное решение и у вас достаточно полномочий для выбора этого шага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Однако следует иметь в виду, что этот стиль, кроме чувства отчуждения, ничего больше не сможет вызвать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5897"/>
                </a:solidFill>
                <a:latin typeface="Palatino Linotype"/>
              </a:rPr>
              <a:t>Стиль сотрудничества</a:t>
            </a:r>
            <a:r>
              <a:rPr b="0" i="1" lang="ru-RU" sz="2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необходимо найти общее решение, если каждый из подходов к проблеме важен и не допускает компромиссных решений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у вас длительные, прочные и взаимозависимые отношения с другой стороной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основной целью является приобретение совместного опыта работы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тороны способны выслушать друг друга и изложить суть своих интерес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5897"/>
                </a:solidFill>
                <a:latin typeface="Palatino Linotype"/>
              </a:rPr>
              <a:t>Стиль компромисса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обе стороны имеют одинаково убедительные аргументы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удовлетворение вашего желания имеет для вас не слишком большое значение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вас может устроить временное решение, так как нет времени для выработки другого или же другие подходы к решению проблемы оказались неэффективным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5897"/>
                </a:solidFill>
                <a:latin typeface="Palatino Linotype"/>
              </a:rPr>
              <a:t>Стиль уклонения</a:t>
            </a:r>
            <a:r>
              <a:rPr b="0" lang="ru-RU" sz="2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источник разногласий несуществен для вас по сравнению с другими более важными задачами, а потому вы считаете, что не стоит тратить на него силы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знаете, что не можете или даже не хотите решить вопрос в свою пользу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у вас мало власти для решения проблемы желательным для вас способом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хотите выиграть время, чтобы изучить ситуацию и получить дополнительную информацию, прежде чем принять какое-либо решение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пытаться решить проблему немедленно опасно, так как вскрытие и открытое обсуждение конфликта могут только ухудшить ситуацию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у вас был трудный день, а решение этой проблемы может принести дополнительные неприятност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5897"/>
                </a:solidFill>
                <a:latin typeface="Palatino Linotype"/>
              </a:rPr>
              <a:t>Стиль приспособления</a:t>
            </a:r>
            <a:r>
              <a:rPr b="0" i="1" lang="ru-RU" sz="2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важнейшая задача - восстановление спокойствия и стабильности, а не разрешение конфликта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предмет разногласия не важен для вас, или вас не особенно волнует случившеес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считаете, что лучше сохранить добрые отношения с другими людьми, чем отстаивать собственную точку зре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осознаете, что правда не на вашей стороне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чувствуете, что у вас недостаточно власти или шансов победи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Психологический анализ 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Ситуация 1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«На уроке математики преподаватель несколько раз делала замечание студенту, который не занимался. На замечания преподавателя он не реагировал, продолжая мешать другим. Преподаватель прекратила урок. Группа зашумела, а виновник продолжал сидеть на своем месте. Преподаватель села за стол и стала писать в журнале. Студенты занимались своими делами. Так прошло 20 минут. Прозвенел звонок, преподаватель встала и сказала, что вся группа остается после занятий. Все зашумели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5897"/>
                </a:solidFill>
                <a:latin typeface="Palatino Linotype"/>
              </a:rPr>
              <a:t>Вопросы и задания для анализа ситуации</a:t>
            </a:r>
            <a:r>
              <a:rPr b="1" lang="ru-RU" sz="2400" spc="-1" strike="noStrike">
                <a:solidFill>
                  <a:srgbClr val="2f5897"/>
                </a:solidFill>
                <a:latin typeface="Palatino Linotype"/>
              </a:rPr>
              <a:t>: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1. Что предшествовало возникновению ситуации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2. Основные причины возникшего конфликта и его содерж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3. Личностная позиция преподавателя в возникшей ситуации (отношения его к студенту), реальные цели преподавателя во взаимодействии со студентом (чего он хочет: избавиться от студента, помочь ему или же он безразличен к студенту)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4. Определите в ситуации момент, когда преподаватель мог бы предупредить ее переход в конфликт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5. Что помешало преподавателю сделать это (эмоциональное состояние, присутствие свидетелей, растерянность, неожиданность...)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6. Какие приемы воздействия мог бы использовать преподаватель в ситуации и как он их использовал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7. Смысл конфликта для каждого из его участников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8. Варианты отношений с преподавателем после конфликта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Ситуация 2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Преподаватель  начала занятие с проверки выполнения письменного домашнего задания. У учащейся О. не оказалось домашнего задания и тетради по предмету. Преподаватель, не выявив причины невыполнения задания, начала отчитывать учащуюся, заявив, что она бездельница. В ответ О. в резкой форме ответила, что вообще не собирается заводить тетрадь поэтому предмету. Тогда преподаватель велела О. выйти из кабинета, на что учащаяся ответила: «И не подумаю». «Раз так, я сама уйду», сказала преподаватель и ушл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7704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В возбужденном состоянии преподаватель пришла к директору училища, все рассказала и заявила, что пока студентка не выйдет из кабинета, она не будет проводить занятие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Директор поступила в данной ситуации следующим образом: нашла свободный кабинет и попросила всех студентов перейти в него для продолжения занятия, а О. попросила остаться на месте. Во время занятия, которое проводилось без О., директор училища беседовала с ней и выяснила, что тетрадь  у студентки есть и домашнее задание она выполнила, но забыла тетрадь дома, а нагрубила она преподавателю из-за того, что та, не узнав причину отсутствия тетради, сразу начала ее оскорблять. Директору удалось убедить О. в том, что она была неправа, что должна принести и показать тетрадь преподавателю, извиниться перед ей и попросить разрешения присутствовать на занятиях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После занятия преподаватель зашла к директору, и они вместе пришли к выводу, что преподаватель сама вызвала учащуюся на грубост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1. </a:t>
            </a: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Какие непозволительные ошибки допустила преподаватель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2. </a:t>
            </a: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О чем свидетельствует поведение директор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ПЛА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1. Понятие конфлик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2. Виды педагогических ситуаций и конфлик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3. Особенности педагогических конфлик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4. Причины конфлик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5. Стиль поведения в конфликтной ситуаци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6. Психологический анализ конфлик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4000" y="1484280"/>
          <a:ext cx="8496000" cy="4680000"/>
        </p:xfrm>
        <a:graphic>
          <a:graphicData uri="http://schemas.openxmlformats.org/drawingml/2006/table">
            <a:tbl>
              <a:tblPr/>
              <a:tblGrid>
                <a:gridCol w="3784320"/>
                <a:gridCol w="471168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опросы к анализ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арианты отве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2340000">
                <a:tc>
                  <a:txBody>
                    <a:bodyPr lIns="0" rIns="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Palatino Linotype"/>
                        </a:rPr>
                        <a:t>Какие непозволительные ошибки допустила преподаватель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b3949"/>
                          </a:solidFill>
                          <a:latin typeface="Palatino Linotype"/>
                        </a:rPr>
                        <a:t>Не выяснив причины отсутствия тетради у учащейся, оскорбила ее, ушла из кабинета, обратилась за помощью к директору. Все эти поступки характеризуют преподавателя как педагогически и психологически неграмотного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1393920">
                <a:tc>
                  <a:txBody>
                    <a:bodyPr lIns="0" rIns="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Palatino Linotype"/>
                        </a:rPr>
                        <a:t>О чем свидетельствует поведение директор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 профессиональной компетентности, умении адекватно анализировать ситуацию, находить оптимальный путь разрешения конфли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6552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Ситуация 3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3949"/>
                </a:solidFill>
                <a:latin typeface="Century Gothic"/>
              </a:rPr>
              <a:t>Во время самостоятельной работы два студента стали переговариваться между собой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3949"/>
                </a:solidFill>
                <a:latin typeface="Century Gothic"/>
              </a:rPr>
              <a:t>Предложите свой вариант поведения в этой ситуации</a:t>
            </a: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Возможные варианты поведения преподавателя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1. – сделать студентам замечание, приостановить занятие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2. – преподаватель подходит к столу разговаривающих студентов и молча останавливаетс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Какой способ действия преподавателя предпочтителен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аем    успехов в работе</a:t>
            </a:r>
            <a:endParaRPr b="0" lang="en-US" sz="4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4271"/>
                </a:solidFill>
                <a:latin typeface="Century Gothic"/>
              </a:rPr>
              <a:t>Конфликт в педагогической деятельности часто проявляется как стремление преподавателя утвердить свою позицию и как протест студента против несправедливого наказания, неправильной оценки его деятельности, поступк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В.А. Сухомлинский так пишет о конфликтах в школе: </a:t>
            </a: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«Конфликт между педагогом и ребенком, между учителем и родителями, педагогом и коллективом - большая беда школы. Чаще всего конфликт возникает тогда, когда учитель думает о ребенке несправедливо. Думайте о ребенке справедливо - и конфликтов не будет. Умение избежать конфликта - одна из составных частей педагогической мудрости учителя. Предупреждая конфликт, педагог не только сохраняет, но и создает воспитательную силу коллектив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.</a:t>
            </a:r>
            <a:br>
              <a:rPr sz="3200"/>
            </a:br>
            <a:r>
              <a:rPr b="1" lang="ru-RU" sz="2400" spc="-1" strike="noStrike">
                <a:solidFill>
                  <a:srgbClr val="c00000"/>
                </a:solidFill>
                <a:latin typeface="Palatino Linotype"/>
              </a:rPr>
              <a:t>Виды педагогических ситуаций и конфликтов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271"/>
                </a:solidFill>
                <a:latin typeface="Century Gothic"/>
              </a:rPr>
              <a:t>1) типичная - это часто повторяющаяся при одних и тех же обстоятельствах ситуация. Она имеет сходные источники и причин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271"/>
                </a:solidFill>
                <a:latin typeface="Century Gothic"/>
              </a:rPr>
              <a:t>Например: опоздание и пропуски занятий студентами, невыполнение домашних заданий и т. д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Palatino Linotype"/>
              </a:rPr>
              <a:t>Виды педагогических ситуаций и конфликтов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271"/>
                </a:solidFill>
                <a:latin typeface="Century Gothic"/>
              </a:rPr>
              <a:t>2) Нетипичная - ситуация, нехарактерная для данного студента или групп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271"/>
                </a:solidFill>
                <a:latin typeface="Century Gothic"/>
              </a:rPr>
              <a:t>Например: совершение правонарушения, случаи воровства в группе, уход студента из училищ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Конфликтогенные ситуации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34271"/>
                </a:solidFill>
                <a:latin typeface="Century Gothic"/>
              </a:rPr>
              <a:t>ситуации (или конфликты) деятельности</a:t>
            </a:r>
            <a:r>
              <a:rPr b="0" i="1" lang="ru-RU" sz="2400" spc="-1" strike="noStrike">
                <a:solidFill>
                  <a:srgbClr val="234271"/>
                </a:solidFill>
                <a:latin typeface="Century Gothic"/>
              </a:rPr>
              <a:t>, </a:t>
            </a:r>
            <a:r>
              <a:rPr b="0" lang="ru-RU" sz="2400" spc="-1" strike="noStrike">
                <a:solidFill>
                  <a:srgbClr val="234271"/>
                </a:solidFill>
                <a:latin typeface="Century Gothic"/>
              </a:rPr>
              <a:t>возникающие по поводу выполнения студентом учебных заданий, успеваемости, вне учебной деятельност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34271"/>
                </a:solidFill>
                <a:latin typeface="Century Gothic"/>
              </a:rPr>
              <a:t>ситуации (конфликты) поведения</a:t>
            </a:r>
            <a:r>
              <a:rPr b="0" i="1" lang="ru-RU" sz="2400" spc="-1" strike="noStrike">
                <a:solidFill>
                  <a:srgbClr val="234271"/>
                </a:solidFill>
                <a:latin typeface="Century Gothic"/>
              </a:rPr>
              <a:t>, </a:t>
            </a:r>
            <a:r>
              <a:rPr b="0" lang="ru-RU" sz="2400" spc="-1" strike="noStrike">
                <a:solidFill>
                  <a:srgbClr val="234271"/>
                </a:solidFill>
                <a:latin typeface="Century Gothic"/>
              </a:rPr>
              <a:t>возникающие по поводу нарушения студентом правил поведе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34271"/>
                </a:solidFill>
                <a:latin typeface="Century Gothic"/>
              </a:rPr>
              <a:t>ситуации (конфликты) отношений</a:t>
            </a:r>
            <a:r>
              <a:rPr b="0" i="1" lang="ru-RU" sz="2400" spc="-1" strike="noStrike">
                <a:solidFill>
                  <a:srgbClr val="234271"/>
                </a:solidFill>
                <a:latin typeface="Century Gothic"/>
              </a:rPr>
              <a:t>, </a:t>
            </a:r>
            <a:r>
              <a:rPr b="0" lang="ru-RU" sz="2400" spc="-1" strike="noStrike">
                <a:solidFill>
                  <a:srgbClr val="234271"/>
                </a:solidFill>
                <a:latin typeface="Century Gothic"/>
              </a:rPr>
              <a:t>возникающие в сфере эмоционально-личностных отношений студентов и преподавателей, в сфере их общения в процессе педагогической деятель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921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897"/>
                </a:solidFill>
                <a:latin typeface="Palatino Linotype"/>
              </a:rPr>
              <a:t>3. Особенности педагогических конфликтов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Профессиональная ответственность</a:t>
            </a:r>
            <a:r>
              <a:rPr b="1" lang="ru-RU" sz="2200" spc="-1" strike="noStrike">
                <a:solidFill>
                  <a:srgbClr val="234271"/>
                </a:solidFill>
                <a:latin typeface="Century Gothic"/>
              </a:rPr>
              <a:t> педагога за педагогически правильное разрешение ситуации: ведь учебное заведение, в котором учится ребенок, - модель общества, где студентыусваивают социальные нормы и отношения между людьм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Участники конфликтов имеют различный социальный статус </a:t>
            </a:r>
            <a:r>
              <a:rPr b="1" lang="ru-RU" sz="2200" spc="-1" strike="noStrike">
                <a:solidFill>
                  <a:srgbClr val="234271"/>
                </a:solidFill>
                <a:latin typeface="Century Gothic"/>
              </a:rPr>
              <a:t>(преподаватель-студент), чем и определяется их разное поведение в конфликте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Разница возраста и жизненного опыта участников </a:t>
            </a:r>
            <a:r>
              <a:rPr b="1" lang="ru-RU" sz="2200" spc="-1" strike="noStrike">
                <a:solidFill>
                  <a:srgbClr val="234271"/>
                </a:solidFill>
                <a:latin typeface="Century Gothic"/>
              </a:rPr>
              <a:t>разводит их позиции в конфликте, порождает разную степень ответственности за ошибки при их разрешен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Различное понимание событий и их причин </a:t>
            </a:r>
            <a:r>
              <a:rPr b="1" lang="ru-RU" sz="2200" spc="-1" strike="noStrike">
                <a:solidFill>
                  <a:srgbClr val="234271"/>
                </a:solidFill>
                <a:latin typeface="Century Gothic"/>
              </a:rPr>
              <a:t>участниками (конфликт «глазами преподавателя» и «глазами студента» видится по разному), поэтому педагогу не всегда легко понять глубину переживаний студента, а студенту - справиться со своими эмоциями, подчинить их разуму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897"/>
                </a:solidFill>
                <a:latin typeface="Palatino Linotype"/>
              </a:rPr>
              <a:t>3. Особенности педагогических конфликтов</a:t>
            </a:r>
            <a:br>
              <a:rPr sz="2400"/>
            </a:b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Присутствие других студентов при конфликте делает их из свидетелей участниками, а конфликт приобретает воспитательный смысл и для них; об этом всегда приходится помнить педагогу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Профессиональная позиция педагога в конфликте обязывает его взять на себя инициативу в его разрешении и на первое место суметь поставить интересы студента как формирующейся личност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Всякая ошибка педагога при разрешении конфликта порождает новые ситуации и конфликты, в которые включаются другие студенты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Конфликт в педагогической деятельности легче предупредить, чем успешно разрешить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4T09:00:25Z</dcterms:created>
  <dc:creator>Pабота</dc:creator>
  <dc:description/>
  <dc:language>en-US</dc:language>
  <cp:lastModifiedBy>Pабота</cp:lastModifiedBy>
  <dcterms:modified xsi:type="dcterms:W3CDTF">2019-11-12T07:25:01Z</dcterms:modified>
  <cp:revision>19</cp:revision>
  <dc:subject/>
  <dc:title>КОНФЛИКТ И ВЗАИМОДЕЙСТВИЕ  В ПЕДАГОГИЧЕСКОМ ПРОЦЕССЕ</dc:title>
</cp:coreProperties>
</file>