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1E4-A309-4C8E-9B48-54C81916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93C-4554-4F8D-9CAF-25B1B8A4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5B142-45CE-40C5-B1F7-ACEA32F7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4521D-5C14-436F-95E7-6C2D80C1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16974-B78A-4434-B33D-1FEB36BF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E22FF-69D0-4BCB-8FD8-C3AA56A7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81983-D9C7-4F5A-B96A-769C759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DF847-B6A6-44FE-9ABE-0D9257A9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59853-ACB4-4FC6-AC4E-ADB3EC83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8618B-FEF1-4976-B530-E6223A04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56E90-DF9A-40B2-B620-6B957AFF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8504D-E5A7-41C4-839C-CF85942D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A36-D649-4C46-B43E-4AF57E76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6DD45-022B-444F-9091-2973E653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A286F-5DC9-4AAD-A611-5601192A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F2C04-47F9-48D0-817C-C56CDFAA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A8190-D402-4396-A4C5-C6E4CC9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F6280-01F2-4BF2-9ABB-78A726AD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49E41-2F41-4859-8801-D128F3EA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296B2-1C14-4589-B30F-D82032B5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E080D-F7D4-415B-9F41-F7722513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A76C3-4A8F-49F7-AE90-532EFF05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82F53-57E9-4A0E-98C9-920A57B1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928-E17D-4AF8-B1B5-20F132EE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71411-9F12-408F-8C81-ED5DE758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E5751-F621-45BC-A2DE-C030475A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9CCBB-B0BF-4C26-B881-C9D0F2D0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D6386-56B1-4531-9693-D349AA0C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542D3-F054-4E48-8A41-BF1E85CC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1142B-E719-4AC6-B791-959E9A04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D642D-E8A9-4F5B-8BD8-B3EF72AD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8FCB3-B6D3-47B6-AAA2-34CAA884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D005F-F401-47B7-ADF2-46955F89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FD90D-E73C-462D-B19B-66EB926C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C3E4-F3FA-4C95-9172-71F12797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70A17-BADF-4674-999B-DF13348C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9E8DA-6A1D-47C7-9D1F-3011FAE1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4C5D5-E4BF-4A58-BF2B-E44BA8AD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8E3DC-D4A0-428B-8200-421B3B4F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6DB2D-28AD-4162-977F-4C02C837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38A7A-5E33-4C2B-837F-B0A00653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EBF76-45E2-4702-8F21-0F2DA1D0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0BFE4-E814-47DA-9E6A-00D6F1C5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982E7-91E9-4748-8F08-81147703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3FAF3-BC98-449C-BDAF-FCE84602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7AB7-5A44-4743-B6FB-74643672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686A3-2D9E-4093-8792-111336FA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7EAAE-0D34-43C8-825F-114F8C1D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7E1A7-A922-4A07-9DAE-165AF6A8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BF7B2-D586-4319-8466-F88FA847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6BB56-27AA-4EC9-9CAA-992C0DF8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F9561E-2784-4DA5-A686-BBB1050A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B26FC-4F44-4F6E-A0FE-086FBFE9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DA23D-192D-477A-80C2-5BC3D3A2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164AC-1284-40D5-BFC3-4970E356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A1C86-4627-483A-A820-F53D0C2E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3D1E-14B6-4AA8-A986-17415AD8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B5E5A-F4EA-4AB6-B97B-AD0E0BB5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5428D-9582-4D8B-85D4-392B1621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BD58F-6EC1-493C-B634-AFDBE3E7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0FAE9-62FA-4B56-8092-57FFA108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E35E0-A8FD-4D6E-9D10-CB3E83A2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2D681-4C7C-42AC-8B7A-36E682F7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7A863-A5F8-479A-91F1-8FAB12A2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05207-9CEB-42DA-B663-CE83CBCB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2B986-E718-4EE1-A9CA-BD3154BB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35449-7DF2-4C95-B54E-F331EF4C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5D27-6C41-49A1-851F-8A48B339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2BEE3-713B-435B-8B98-A8BDD7E4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10948-A54C-4FDE-BD8D-3A3B3E04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1D280-ECD8-4B33-AE48-96016976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C4DCB-E744-4C7D-940A-26A01AA8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8D16A-E05B-4371-B4C8-A306EA96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61165-5833-4C5F-B359-BBF7CA7A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0F84A8-8C28-4659-9C78-7F30DA51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6CFC3-AAC6-4C21-A4CA-630D7D1F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FB738-8AAB-4837-BF1C-09CD50A0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39C71-10D9-4A54-A8B3-3E53120A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6E79-F43B-4B96-B666-F881511B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EC687-C574-4B34-B07F-B3D69FA6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AA9F0-356F-4538-BB2F-19249737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7AF90-ABC0-4C94-95BC-74336B72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A3E8D6-CE2A-406B-806F-C81FDB3B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B56F3-0EF6-49AC-8D55-90C43FCB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15932-8426-4008-989E-EFC9DC8F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EB606-9118-4632-B332-81977E22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2545E-AB0D-4B5D-AACD-3CEFA0D3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0472F-E540-4575-9A1B-133BD004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02A92-EF48-47FF-AF75-F6BE2C98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800D-5DA3-4384-BE46-AD421929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78465-4978-4651-9159-C2FF73EF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0ABD5-42EC-415B-8475-D885D43E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2D2989-3A38-4A33-A42F-37A61B6F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34C1E-49EE-4D1E-9F79-651E0D4B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A95CE-0C18-465D-BBDF-E1F7A278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58B7E4-5FFB-4AF3-ABFE-6F86BD7D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600C4-D1B4-4781-B56F-FD8F92B7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C0F23-A45C-4471-9237-043AB7C2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C214C1-421B-438C-83A2-2E307DA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B00A8-575D-4E92-A58D-E2967F1E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FF80-4096-4A93-83A6-F366E1FE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4A161-D646-4EA6-8D4E-87804C0B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7083A-F242-4C38-A76A-404A615A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9B121-C023-4B44-A958-A160564D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1011D9-4951-46F0-9DC4-CD15E168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6EB242-E564-41FA-B125-20EA6D43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32117-1492-4435-B288-6ADBAD00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606BB-95BA-41A1-8A95-97338042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9BD15-8229-4D08-B4ED-64B5A90F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FBC636-1B17-4AFA-8E81-DD4E8DE2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C335AD-D021-4C23-B940-2F834802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514-84B5-4D58-9922-035A8A9C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42B5-811C-41C8-AD54-34710B80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14E4D-693B-467D-B0C3-FC04AFFC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4D5E0E-C942-4194-8661-5FB20471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0DAAFA-C51A-4ABD-939C-AC2EC70C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81DE9-3625-4C34-B9C1-08C45D20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E58E1-2503-47B6-9BBB-14971D48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4C1F8E-E05E-459C-BE51-730EEC91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CED90D-7E5A-439E-9B02-ABCADA5C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75D720-64DE-4146-ADE0-B47AA121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F37E8B-1993-4858-A3A8-169A4087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A841D-775E-4186-B1C3-53829E56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35E8-29BB-4C3A-A286-225E64FB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B7E673-261B-4802-B5AF-9B9E4C4C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6ACED6-799B-4DBF-B3E2-927D613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837C5-A05F-4FF7-A9AE-32C210D5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38B18-2F08-4A4E-9722-32DD0307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7A89F9-7B84-4E6F-BCD8-880B620E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CBE01-1365-49B8-BC00-7B7F85BE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A4CC5A-1F48-456C-9D9F-E5D15DA7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6F10-A91A-41CD-8E81-7BF68925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D084-D952-44F1-B939-6ACBFE19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1F78-D548-45A0-AB47-E499CF29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B7C6-0EB3-4297-9715-5D18007E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E2488-9410-4000-A558-35EF73F4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A5E0-98BD-4988-B783-EBE45E38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6DD5-FFC1-4AB5-99D8-C1AC9821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DDDDD-5BE5-4990-A52B-9251B608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203-D7F7-4B77-89AB-4A32A421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D0AD9-7D73-49AE-81AA-7311B47F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3401B-2684-445F-A872-2E189F2E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C893-B9EA-4980-9DC8-D4D0E849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42B7-0669-4A56-BCFD-6E98FC6D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B508-0439-4B4F-99B0-262E0964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0FF2-93F1-4F7E-BB35-E58D63D0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CB4E-4799-4714-ACC9-C58A5AB0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1C75F-0DBB-4147-8DD5-0F6C49FE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2C022-2A7D-4B25-B151-6E8E30E1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7FBD7-16C0-4A8F-98DF-F77A6291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C95-F13F-4C4A-B1CE-45B0A9FA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0EC5D-1357-4CFF-A586-73D5D23E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DB9A5-8508-461D-BD6E-389DDAF1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0A773-7AB6-4E90-9132-FF7A526A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C1DA3-E316-432E-940C-7E50C7EE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88E55-953A-4487-9DC0-A5D830DD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B193B-B791-4037-9572-22C7F20F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B113-74C4-43DF-9B52-0D12B17A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9C56A-A20B-4BC2-BE82-C7C3AD26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E545C-CCCF-4FCB-8D34-3F4CEB2A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9A8C6-3FF6-4145-84C9-5C1AA605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CFD-1EC9-41C8-B82B-5746B734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D8C04-917F-4C61-9FBD-C369D25E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05DD-05C6-4EF5-A1DF-B4A62F53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9E023-3EF8-4E53-856D-6ED9DE00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50B8F-B9E5-4E11-8D0D-D4AD0087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B4E7B-ADE1-4271-8024-E98CF336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2A5E1-0205-4F1F-A246-F36A90BE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AE7F5-886D-433E-9C14-8E375DE9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BE9AF-2A12-4591-A6E3-B88532B0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3A734-8408-4ABD-A717-F966A3AE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1D7C-841D-4582-89E5-2D26BC12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167-BCA9-4004-B557-47CD3D31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B351C-49BB-4A4E-BBF9-020CE28B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C59C7-2D58-4D66-BD4B-5A63D0FD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328D-0E3D-48E0-BEF3-50000920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2F1CD-1B60-41F2-91D3-A54F44BA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7F3EA-F73D-4016-9710-54D90256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FC335-41CE-4A2D-9667-AB544736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9E46-8BC7-49E2-8EB7-01F9AFFF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07018-04BB-472E-B96F-EF5AE6FD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9AA22-433C-4E78-ACB7-3DAE5981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E4EEF-D4EF-47BB-AC8C-5FC3B83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D0E-084D-4190-AB5B-77E3EF03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C6863-6F34-4355-9110-9DEAB873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A8816-1067-49FD-A4DB-20305A59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3AC05-2EE2-402B-88D2-B5802BBE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94E64-5459-45DC-A440-D12ED6BE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5A641-483F-4FA2-B75C-36A5306F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E493F-0ABB-4BCD-BC94-F601170D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C6A16-0114-4103-BE5F-C9AFB12A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6705F-BB7B-41A3-9D97-7B256BE0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C6E0A-DFFE-4C9F-B09D-347E0010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24F4A-9564-47A9-A63B-AD53B24B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08B-0C43-4885-AA09-27710AF2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BA1F5-83BD-46AD-BEA3-8781F700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C5E66-FFD9-4A94-9E3D-28264D3B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9D1CD-A724-40F0-A8E1-9A352569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0C4E6-08ED-42D9-88AF-B2C114DF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10A83-7241-4B85-B940-0EA5D62C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17C5B-92AA-452A-99CE-8A5ECDC8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DA850-B909-455B-862E-16DD9663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C1CB1-5316-4189-824B-DD1591E7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82CD1-2755-4297-B2A7-A84045DE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CC440-C405-43FA-994F-134DBE38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F66-1414-4757-BFC9-33DFEF77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ED872-D272-434C-97CA-D730523D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0A5A6-3ED9-43DB-BBE2-E5E7CE58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BC9A8-C820-4513-A32E-00E9C6F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1BF77-0687-4755-8C7A-84D61FEA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D1771-87BE-40E9-9660-6A2A21ED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2CD92-CC4B-4394-91A5-9BE50AA1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A6655-DA36-4FE5-A1BC-20AD9DA6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D35BA-8CBD-42E6-8441-778CB716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008F4-1F7A-4DEB-8D5D-2F1E2391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1C6ED-D000-490A-9A96-7BA9F1EF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2E40A-19B2-434E-8AB3-5D8AA4FC58A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A759A-3C6F-49E3-B2EB-245DA679DA1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C7629-C8DA-429C-8B8E-68D70CAF2AA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807A7-F0E9-4599-87F7-4DFC6288E77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3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TextBox 11"/>
          <p:cNvSpPr/>
          <p:nvPr/>
        </p:nvSpPr>
        <p:spPr>
          <a:xfrm>
            <a:off x="584280" y="7477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TextBox 12"/>
          <p:cNvSpPr/>
          <p:nvPr/>
        </p:nvSpPr>
        <p:spPr>
          <a:xfrm>
            <a:off x="9663120" y="30337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D630E-B644-48BB-BF99-6E28B52EC08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9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0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D8044-978E-4126-AF3C-39A41ADC726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3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15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Rectangle 16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FE19F-99D1-4690-A41C-47AA4958086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E5AFA-765D-4619-A981-9F3F6749158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8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EE2A5-4D8D-4C26-82DE-24C571DD80B9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6"/>
          <p:cNvSpPr/>
          <p:nvPr/>
        </p:nvSpPr>
        <p:spPr>
          <a:xfrm rot="5400000">
            <a:off x="8115480" y="1869120"/>
            <a:ext cx="510696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Rectangle 7"/>
          <p:cNvSpPr/>
          <p:nvPr/>
        </p:nvSpPr>
        <p:spPr>
          <a:xfrm rot="5400000">
            <a:off x="9867240" y="5371920"/>
            <a:ext cx="1603440" cy="136836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2"/>
          </p:nvPr>
        </p:nvSpPr>
        <p:spPr>
          <a:xfrm>
            <a:off x="680724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3"/>
          </p:nvPr>
        </p:nvSpPr>
        <p:spPr>
          <a:xfrm>
            <a:off x="680760" y="5935680"/>
            <a:ext cx="612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54"/>
          </p:nvPr>
        </p:nvSpPr>
        <p:spPr>
          <a:xfrm>
            <a:off x="10098000" y="539892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DE1A2-747A-4ED7-8278-3CE311F3FA6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896796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9112320" y="4243320"/>
            <a:ext cx="307656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896796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9112320" y="2590920"/>
            <a:ext cx="3076560" cy="165888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255240" y="2749680"/>
            <a:ext cx="11714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F8236-F03A-4DBB-94BE-5E0797FFD6B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F08E7-89D7-4CB1-BADD-F50D5FBF41A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D-ShadowLong.png"/>
          <p:cNvPicPr/>
          <p:nvPr/>
        </p:nvPicPr>
        <p:blipFill>
          <a:blip r:embed="rId3"/>
          <a:stretch/>
        </p:blipFill>
        <p:spPr>
          <a:xfrm>
            <a:off x="0" y="4086360"/>
            <a:ext cx="10437840" cy="32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408780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0" y="272556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0585440" y="272556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10729800" y="286992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CEC94-483D-4D0F-B23B-502D99605DC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02ACC-6F94-44F4-8554-0A8EFC3B51E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1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1C676-C0C7-40C5-B502-3D1553882C7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3184D-0CAE-457C-A048-1C4935DAAB5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D-ShadowShort.png"/>
          <p:cNvPicPr/>
          <p:nvPr/>
        </p:nvPicPr>
        <p:blipFill>
          <a:blip r:embed="rId3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1B7CD-78EE-4347-80B1-6ECA449DF53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f75"/>
            </a:gs>
            <a:gs pos="100000">
              <a:srgbClr val="437527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a7d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DA74C-F826-47C0-A045-399C4809460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roomrecess.com/Tools/InteractiveClock/play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1120" y="2733840"/>
            <a:ext cx="814392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rebuchet MS"/>
              </a:rPr>
              <a:t>«Математическая грамотность»  и «Финансовая грамотность»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81120" y="4393800"/>
            <a:ext cx="814392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сновная школ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Авторы: Опрышко Т.А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Солдатенко А.С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Задани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1) Тема «My house» дает возможность изучать различные геометрические фигуры и учиться их чертить. Ученикам можно предложить следующие задания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一 </a:t>
            </a:r>
            <a:r>
              <a:rPr b="0" i="1" lang="ru-RU" sz="2400" spc="-1" strike="noStrike">
                <a:solidFill>
                  <a:srgbClr val="ffffff"/>
                </a:solidFill>
                <a:latin typeface="Trebuchet MS"/>
              </a:rPr>
              <a:t>Look at the furniture.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Match the furniture a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d the geometric figure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一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Draw a rectangle for the plan of your room. Draw the plan of your room using a triangle, a circle, a rectangle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2) Если вы на уроке любите заниматься творчеством и созданием различных аппликаций, открыток и поделок, то вам представляется отличная возможность изучать геометрические фигуры: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一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введите названия геометрических фигур, чтобы дети достаточно хорошо знали названия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一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кажите, как будет выглядеть готовая поделка и попросите выбрать, какие фигуры и какого цвета нужно будет вырезать, чтобы изготовить такую поделку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一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когда поделка будет полностью готова, попросите детей посчитать, сколько треугольников, прямоугольников и кругов они использовали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Задани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Врем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ля изучения времени я использую интерактивные часы </a:t>
            </a:r>
            <a:r>
              <a:rPr b="0" lang="en-US" sz="2400" spc="-1" strike="noStrike" u="sng">
                <a:solidFill>
                  <a:srgbClr val="cafb50"/>
                </a:solidFill>
                <a:uFillTx/>
                <a:latin typeface="Trebuchet MS"/>
                <a:hlinkClick r:id="rId1"/>
              </a:rPr>
              <a:t>https://www.roomrecess.com/Tools/InteractiveClock/play.html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, на которых дети могут самостоятельно двигать стрелки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5" name="Рисунок 3" descr=""/>
          <p:cNvPicPr/>
          <p:nvPr/>
        </p:nvPicPr>
        <p:blipFill>
          <a:blip r:embed="rId2"/>
          <a:stretch/>
        </p:blipFill>
        <p:spPr>
          <a:xfrm>
            <a:off x="2852640" y="3513240"/>
            <a:ext cx="474372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Возможный порядок действий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680760" y="2107800"/>
            <a:ext cx="10721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а) позволить детям двигать стрелками на каждые 5 минут, чтобы прочувствовать, как двигается время;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б) предложить детям в качестве подготовительной работы решать примеры такого типа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 min + 4 min = ____ min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5 min — 5 min = _____ mi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в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)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далее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идут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такие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задачи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5 min + 15 min = _____ min = _______ an hou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60 min = ______ hou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60 min + 30 min = ______ min = ___ hour _____ mi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г) далее мы начинаем решать задачи «</a:t>
            </a:r>
            <a:r>
              <a:rPr b="0" i="1" lang="ru-RU" sz="2200" spc="-1" strike="noStrike">
                <a:solidFill>
                  <a:srgbClr val="ffffff"/>
                </a:solidFill>
                <a:latin typeface="Trebuchet MS"/>
              </a:rPr>
              <a:t>What time will it be after…?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», но сначала используем только 5 и 10 минут, затем добавляю 15 минут и 25 минут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Английский и математика подружатся. </a:t>
            </a:r>
            <a:r>
              <a:rPr b="0" lang="ru-RU" sz="3600" spc="-1" strike="noStrike">
                <a:solidFill>
                  <a:srgbClr val="eaca4f"/>
                </a:solidFill>
                <a:latin typeface="Trebuchet MS"/>
              </a:rPr>
              <a:t>Главное — ученики будут развивать математическую грамотность посредством иностранного языка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eaca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rebuchet MS"/>
              </a:rPr>
              <a:t>Математическая грамотность 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– это способность человека мыслить математически, формулировать, применять и интерпретировать математику для решения задач в разнообразных практических контекстах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сновные темы, вызывающие сложности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80760" y="2336400"/>
            <a:ext cx="102092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изучение времени и определение времени по часам,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геометрические фигуры и начертание таких фигур,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запоминание чисел и вычисления в уме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Математическая грамотность – образовательные платформы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28" name="Объект 3" descr=""/>
          <p:cNvPicPr/>
          <p:nvPr/>
        </p:nvPicPr>
        <p:blipFill>
          <a:blip r:embed="rId1"/>
          <a:stretch/>
        </p:blipFill>
        <p:spPr>
          <a:xfrm>
            <a:off x="1628640" y="1913040"/>
            <a:ext cx="85471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«Просвещение»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0" name="Объект 3" descr=""/>
          <p:cNvPicPr/>
          <p:nvPr/>
        </p:nvPicPr>
        <p:blipFill>
          <a:blip r:embed="rId1"/>
          <a:stretch/>
        </p:blipFill>
        <p:spPr>
          <a:xfrm>
            <a:off x="1682640" y="2060640"/>
            <a:ext cx="86281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«Просвещение»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2" name="Объект 3" descr=""/>
          <p:cNvPicPr/>
          <p:nvPr/>
        </p:nvPicPr>
        <p:blipFill>
          <a:blip r:embed="rId1"/>
          <a:stretch/>
        </p:blipFill>
        <p:spPr>
          <a:xfrm>
            <a:off x="681120" y="2014560"/>
            <a:ext cx="108280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«Просвещение»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4" name="Объект 3" descr=""/>
          <p:cNvPicPr/>
          <p:nvPr/>
        </p:nvPicPr>
        <p:blipFill>
          <a:blip r:embed="rId1"/>
          <a:stretch/>
        </p:blipFill>
        <p:spPr>
          <a:xfrm>
            <a:off x="1001880" y="2052720"/>
            <a:ext cx="8608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«Просвещение»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6" name="Объект 3" descr=""/>
          <p:cNvPicPr/>
          <p:nvPr/>
        </p:nvPicPr>
        <p:blipFill>
          <a:blip r:embed="rId1"/>
          <a:stretch/>
        </p:blipFill>
        <p:spPr>
          <a:xfrm>
            <a:off x="1530360" y="1916280"/>
            <a:ext cx="8280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«Я Класс»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8" name="Объект 3" descr=""/>
          <p:cNvPicPr/>
          <p:nvPr/>
        </p:nvPicPr>
        <p:blipFill>
          <a:blip r:embed="rId1"/>
          <a:stretch/>
        </p:blipFill>
        <p:spPr>
          <a:xfrm>
            <a:off x="825480" y="1943280"/>
            <a:ext cx="883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31T17:59:36Z</dcterms:created>
  <dc:creator>Директор</dc:creator>
  <dc:description/>
  <dc:language>en-US</dc:language>
  <cp:lastModifiedBy>Директор</cp:lastModifiedBy>
  <dcterms:modified xsi:type="dcterms:W3CDTF">2022-11-01T13:00:19Z</dcterms:modified>
  <cp:revision>5</cp:revision>
  <dc:subject/>
  <dc:title>«Математическая грамотность»  и «Финансовая грамотность»</dc:title>
</cp:coreProperties>
</file>