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1AA-56DB-4AEB-90EB-D2676938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2BB-3ACA-4DF5-906D-702F8354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A6CB2-E662-49B1-943A-1B82223D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428B3-9564-47A1-B6F4-92502232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DC362-D048-4923-BF3A-21E9373D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A33E1-CE9B-4677-AF37-12CC906A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1BF2C-682D-4C43-B83E-3DCBF788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D3FEB-6FF0-48B3-A273-F9D737A3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CAD0F-2E97-49E3-973F-EBA57CEE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950B4-67C9-4F03-9466-32731DDD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C0C6D-10FF-4F7B-A22E-1CC3180F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D5E8F-FB19-42D3-8461-5A9D5E17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172-0129-412B-B948-00AB7509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A2F84-CCFC-4A39-838A-02788264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3D7FF-802A-4057-AFE3-DCCE57AB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4E0CA-7AE9-4C4D-A81E-635637FB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D3266-041C-4E03-9DF0-E24133AD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F50BC-4247-440E-A442-8C6D15B7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BAD28-AA1D-4B4B-A691-28CB6C0B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2FA52-C0FC-4292-9FC6-6CE215E9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FF645-E6CE-4594-9515-E916F63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7B42B-6FB5-4A27-9346-92D2E819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E8248-CEB9-4084-A138-91D949A4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FC2-D467-42CC-A7C6-607C0A30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CB394-2794-493F-9981-B567391C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8F6C1-291E-4AA0-A941-E620AC26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2F76E-8ACC-4084-A4E7-6ED088D3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13D9D-FDF8-47B5-9041-BD2BC807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6BDF1-ECEA-4783-9703-744DE0F0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99D72-7E12-46EA-9447-209C0116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43ED7-BB68-4A71-B6C4-AFDD8698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41F13-A03B-4122-B52B-8B53ABF5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E3BAD-63BE-4C0A-820E-43F96056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9653B-5311-4138-83D1-E5A3B33F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DBB8-C6EA-4146-849A-C944FFDA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3F6E-94AB-4D88-B368-B908F890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852D7-6DD8-40CC-8932-AE63C949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EF739-649B-40A4-8BEC-1386B0C8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B1BE0-35F6-4FC1-9617-0C9E9A57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D81E3-A875-4F7D-859F-F6E3C30C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B62A7-739C-4515-B2B8-18C4F8FB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8EB51-4CDF-4355-8CF9-58E9C0F6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95C03-C70F-4902-9734-9DE1066F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B6BF4-424D-4140-9C82-3E9C2D8C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634D0-6BD4-4015-9CE3-21B93C28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DF9F-8E2B-4192-8309-13FBFEAC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26557-4387-4B24-B119-3E15A31B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6A572-1028-4518-BA70-F76F97D9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DA99C-520F-4BEE-A162-F9FD76B0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6134D-69F6-4D43-941D-2D71E163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D438B-A5F3-4E16-AED7-C980EA75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83B83-C27E-4BF7-B0EE-40549DBC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44491-5275-470F-8DBB-78240EBB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ED12F-A25F-4F74-BAA9-8F2193A3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67825-7DC5-4CF4-BEB6-4583D490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A16E6-8608-4F93-A199-AF3FC28A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9D0C-360B-4C55-B20D-6D32087B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033E2-BAD9-44DC-A3A6-59563818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3478B-C9D8-4051-A8AE-A6A1199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843E8-99EA-43C7-848B-AA17E346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0A89B-768D-4F8D-AF1A-668A5229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630E6-D20D-4C77-8D04-1580B6A3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4524B-705A-4D67-B2BD-7A78C6C5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5E615-C4F8-4E99-8AFB-4EBFE2E2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810C1-AC12-4C7F-8FB8-C977CCEC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D4BC1-5BA3-4C01-890D-6F4EDEC9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27D1F-9D29-4250-BB71-298E1A02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3658-93EB-4B77-A688-4B2B0826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CA788-EA88-407E-A28B-0AF37DC6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EA1D9-E15D-4247-AB90-B8154926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9BB4D-3D22-46D3-9AD5-074C185D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B7DF2-E73D-461F-A09E-8584639C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CAB1E-6887-4B86-873F-CD998B16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B3D16-98BA-4C9E-AE7C-296052D5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4C538-0C51-4B43-AA24-CB93CA65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7981C-8197-457A-8732-8C774DD0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2355C-81CC-4AD2-8838-1740D6C1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8E988-87B2-4814-922C-E91E84C0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0179-C601-404B-8D0E-4BE9339A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CEFF1-97C6-4459-84BD-2CAE4AA7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530BA-8EFF-4959-AEA4-2A07214D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75C6D-AA5A-44D7-B37F-546BB7A9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3F8501-33A9-4346-B8FC-E2CC2336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2DCF2-DE79-4CF6-93F5-2E0A753D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007E1F-6150-460D-B555-0AA5C407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EF833-BC34-4D25-879F-461F8A53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1A226-C928-4E3C-8A61-9A4EC786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F1632-98B9-4E68-8B4E-59F6311F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87D75-F395-4DBF-89AD-F426AD9A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ED9D-0459-4A1A-8C98-DC93A0AA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111BA-7DCE-4A42-8116-F89F212B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82175-80E7-4483-8E40-94E284A8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D3216-6252-483D-A81F-A6915B96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A729A-3AAE-4FE9-B49C-6F784BF1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5C7AFD-641E-4527-A3CA-A58A38D3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E0E2A-9042-4921-AD3B-B9B0F7EF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0E6B90-7584-4261-ABC2-A8EB7703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F31C6-C42B-4403-842F-601FFFC9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A3B28-62A1-42F4-B988-E8F6A375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CAD6C-C735-464D-87C3-3CB7A2D3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FF73-BA30-4A56-95E9-A6FBE06F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00EBD-7619-4FEE-9CEC-57122A15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0C1B9-7B7D-443D-A640-8FCE3702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52320-2836-49A9-B197-BB4FCD1D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520E8-7C6C-4870-AB90-E94F69E7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66D64-27B9-4005-9A7C-9FD3FF43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74BF92-1F9B-4249-AAC2-04CEE79A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53203D-472F-4385-9B6C-EC8F9D12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16A93-AB87-4BC0-B5CF-E4FE7253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96E31-1028-4DA3-B882-D95F3978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9FC1E-49E0-45C2-B4DF-35AFB6A5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95C-32FF-4D55-B005-694B4F46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EF83-872F-49DD-BA78-FEB7EB6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F91F8-1B97-492F-9BB4-D81D3242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3FD8B-B8BB-46DE-A62E-D443CE28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37977-3B6A-4A4E-ADF1-35815F76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09EC7-87A9-4451-A8D2-26ED7CD0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E67156-D8E0-4887-8348-9B9614B7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C3B45C-30DF-482D-A64B-556EC161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7213B5-28E6-4CC2-91D3-4EDB41A0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AB608A-9426-450A-9F66-8D67DD5F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5A793-F991-43F6-ABB7-31346B23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02ED09-1C86-41D7-BEF2-1A255F1E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C44B-4E6A-4ABB-BA23-353739C4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D374F-8FC6-41C5-A05C-0CA58168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70A48-01F9-41C8-A2A4-4C8FE3EB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80C709-02EA-402F-87F7-40F6ABF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BD36F-CAF0-4599-84E8-73751A6F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739151-0E88-42B3-B2A5-51347FAD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B66B3D-AA87-4CE0-8A20-CF84AA87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084AE3-D44D-4548-9B09-32B77B21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858D-952B-41F9-A10B-9F842B45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474-B91B-4EC7-B7E7-72CC4295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B71F-E731-41E5-BABC-E5A88333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88AF1-6A08-44A5-BD74-F8C78C81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F0EB-4642-4C20-9A32-9598E1C1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D9BA-2D70-444A-8D40-7D0AD107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9446-99BD-4A7D-8112-4327EB5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639D-0864-4C85-874C-83FDBE72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77D-D13A-4BB7-8E07-5CACF1D4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32C40-0FFA-4461-98E1-3D742AD9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B168-3967-4CA4-9CF1-22B1754B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FF71-350E-4185-89DF-AE63D879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D8C39-6095-4189-AAE9-E7E9A10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1CB7-5B70-4828-A01F-EF08C46A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997B-D656-47B6-AEDC-A9548BF3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E755-499E-4D9C-A002-3275CC89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8FCE-1747-471B-8E65-68EF4D74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AF199-1CCA-496F-BC55-3C96FE89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07CD-B02B-4054-8800-3989E1A5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291-767F-4C9C-8980-3DD70C67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DCF94-709D-4FD5-B539-07AAB374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37AB1-401B-4DC7-85B9-7FC2FE1B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5DA7-5DD3-4891-9CF5-29A7D71C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0093-58F3-4601-80C0-728713DA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3288-2B07-4DEB-9A25-D62999D0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A09AE-D9A5-4DA2-9100-24186CAA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66B75-C68A-4CCE-B44D-E3AF91A8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4BEC-6081-4499-AFBB-26A52B64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34C2-8401-46EB-985E-C06E1B40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87001-AAB2-40BD-9A09-80F5C5D8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357-5DCA-4AEF-902D-CA6C82A3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FE2A8-8382-49C8-B744-89F0928D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6E31-5A6C-435C-883B-D0A50C60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5ACCE-22A6-444C-BE5F-63DEBF24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569B5-E896-4401-89B2-24177143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0BD84-DD94-4941-8493-1B8977A0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650F-97D5-4073-A393-F27BCC6A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F338F-54C6-4EAE-8868-EA66C9A4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5A413-CE81-43A7-B5BD-576E3D12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54F34-4EE3-4F4A-B39B-FC530848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DCAF-3846-4CD2-A17B-23F34FDE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EC3-E283-496C-9628-4A065B4D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E6960-5BF2-48EE-A2EC-824EE990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0758B-349D-4233-AF37-093640AF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C9EAF-52C0-48F4-97CB-5F8A8141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EC45C-43EB-4DF0-95C6-F838C2FD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14CA4-C3FD-423F-947B-4623781B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88819-F2FB-4AE7-AE91-47C01713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CACEF-1AB7-4D6C-9570-C61452F4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2F05D-4B1B-4881-89FD-549E07E9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F644B-8242-4A26-B8CE-E15FC07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CA5C7-4BD9-4DBE-A07B-FCB7A1CA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3F9-AC41-4B65-B859-C534F42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5A06A-8ED7-4A98-B7C8-B14EAA55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106AF-F351-4CBE-A38D-E6217E38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2F100-BD76-41B2-8AE1-9CD3213A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D03A1-37BE-4327-BF57-0ECE4DAF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CDA7-8CAC-49CC-942E-4F9E8C99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4C6F2-7D68-4A82-9231-DD4CB207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C67FC-2CE5-4B15-9308-74153FC5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DE6F4-499D-4C61-9137-1B33645F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C130E-FCE3-4935-B26A-C25AA135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4DCEB-CA2E-484E-B64B-72434CE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0B6-E4FE-4D68-9F53-8E5394C2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131D9-E6F6-4508-B88C-D797092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027CB-D9DE-40A0-AFD4-14F91B39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C19CF-EC8D-41EB-9306-CD7559A6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9588F-0338-4A90-ABDF-3F2D6A77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E150C-8301-4AF2-A32D-2EC0B3C2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37F02-A8A3-46B6-8D74-6525E114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F21FD-D72D-41E5-836C-272FC0E6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A9900-DEC8-40A9-A4F8-CA8EA28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7028B-CB5F-46E9-9DAC-21ABDB4B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AD6DD-92BC-4832-896B-AA34E9C7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541-D5A5-4BAA-AF22-73FF3B05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356C7-5825-48D6-B1F0-2712B89D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30263-50C8-40BB-A83E-6E1DAFE3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E20F4-808D-4805-BE19-94C34939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E1A78-BA36-4977-9FE2-FBFFA21F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1C30F-02B5-461A-A935-AA19DD4B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27393-6A0B-4F40-B427-D4549592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86065-2866-4975-98B7-4FD46095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AD902-3631-4946-8C09-512CD0B6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A0FFD-6AD8-4C9A-A05C-85A9A245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87AAE-B395-4D2A-A247-742989D6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21024-6863-486F-811D-EACB4C0C920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97774-84F0-4C24-B170-7741439B672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8F3DD-213F-4DFA-98EA-AE6F6D61DC9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4E7D0-05D4-4E43-AA69-1A410DA2382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3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TextBox 11"/>
          <p:cNvSpPr/>
          <p:nvPr/>
        </p:nvSpPr>
        <p:spPr>
          <a:xfrm>
            <a:off x="584280" y="7477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TextBox 12"/>
          <p:cNvSpPr/>
          <p:nvPr/>
        </p:nvSpPr>
        <p:spPr>
          <a:xfrm>
            <a:off x="9663120" y="30337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25621-FC44-4559-92C0-3A1B6B6DD3E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0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38F72-A1E8-409B-94A6-6BCF5EFD0A6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3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15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Rectangle 16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DC132-760E-4A52-A717-A49FF05CCAD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577AD-51BC-48D6-8ACD-11743FF8A2F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8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74B46-24EA-49D5-93DC-80DE59034A4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6"/>
          <p:cNvSpPr/>
          <p:nvPr/>
        </p:nvSpPr>
        <p:spPr>
          <a:xfrm rot="5400000">
            <a:off x="8115480" y="1869120"/>
            <a:ext cx="510696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Rectangle 7"/>
          <p:cNvSpPr/>
          <p:nvPr/>
        </p:nvSpPr>
        <p:spPr>
          <a:xfrm rot="5400000">
            <a:off x="9867240" y="5371920"/>
            <a:ext cx="1603440" cy="136836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2"/>
          </p:nvPr>
        </p:nvSpPr>
        <p:spPr>
          <a:xfrm>
            <a:off x="680724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3"/>
          </p:nvPr>
        </p:nvSpPr>
        <p:spPr>
          <a:xfrm>
            <a:off x="680760" y="5935680"/>
            <a:ext cx="612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54"/>
          </p:nvPr>
        </p:nvSpPr>
        <p:spPr>
          <a:xfrm>
            <a:off x="10098000" y="539892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AB83A-F475-4251-970D-B7C3D46BE52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896796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9112320" y="4243320"/>
            <a:ext cx="307656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896796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9112320" y="2590920"/>
            <a:ext cx="3076560" cy="165888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255240" y="2749680"/>
            <a:ext cx="11714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9426D-531E-4D32-9006-2FD0741D870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A5082-DDDD-4BA9-96BB-BA408409904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D-ShadowLong.png"/>
          <p:cNvPicPr/>
          <p:nvPr/>
        </p:nvPicPr>
        <p:blipFill>
          <a:blip r:embed="rId3"/>
          <a:stretch/>
        </p:blipFill>
        <p:spPr>
          <a:xfrm>
            <a:off x="0" y="4086360"/>
            <a:ext cx="10437840" cy="32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408780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0" y="272556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0585440" y="272556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10729800" y="286992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CE7C7-84EF-4EDA-8998-1F75AD29B13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F2534-2258-4C2C-9D2A-8EF5D3EE380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1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F5C27-5A7E-44DC-B0E3-E84C3E80AB4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921C8-97DF-4F8F-9A1C-9C81F851974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D-ShadowShort.png"/>
          <p:cNvPicPr/>
          <p:nvPr/>
        </p:nvPicPr>
        <p:blipFill>
          <a:blip r:embed="rId3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C5552-15D5-4296-86AC-F3CD28E14C3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46EF1-4289-4AA4-BF22-8B422C2186F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roomrecess.com/Tools/InteractiveClock/play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1120" y="2733840"/>
            <a:ext cx="814392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rebuchet MS"/>
              </a:rPr>
              <a:t>«Математическая грамотность»  и «Финансовая грамотность»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81120" y="4393800"/>
            <a:ext cx="814392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сновная школ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Авторы: Опрышко Т.А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Солдатенко А.С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Задани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1) Тема «My house» дает возможность изучать различные геометрические фигуры и учиться их чертить. Ученикам можно предложить следующие задания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一 </a:t>
            </a:r>
            <a:r>
              <a:rPr b="0" i="1" lang="ru-RU" sz="2400" spc="-1" strike="noStrike">
                <a:solidFill>
                  <a:srgbClr val="ffffff"/>
                </a:solidFill>
                <a:latin typeface="Trebuchet MS"/>
              </a:rPr>
              <a:t>Look at the furniture.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Match the furniture a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d the geometric figure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一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Draw a rectangle for the plan of your room. Draw the plan of your room using a triangle, a circle, a rectangl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2) Если вы на уроке любите заниматься творчеством и созданием различных аппликаций, открыток и поделок, то вам представляется отличная возможность изучать геометрические фигуры: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一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ведите названия геометрических фигур, чтобы дети достаточно хорошо знали названия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一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кажите, как будет выглядеть готовая поделка и попросите выбрать, какие фигуры и какого цвета нужно будет вырезать, чтобы изготовить такую поделку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一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когда поделка будет полностью готова, попросите детей посчитать, сколько треугольников, прямоугольников и кругов они использовали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Задани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Врем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ля изучения времени я использую интерактивные часы </a:t>
            </a:r>
            <a:r>
              <a:rPr b="0" lang="en-US" sz="2400" spc="-1" strike="noStrike" u="sng">
                <a:solidFill>
                  <a:srgbClr val="cafb50"/>
                </a:solidFill>
                <a:uFillTx/>
                <a:latin typeface="Trebuchet MS"/>
                <a:hlinkClick r:id="rId1"/>
              </a:rPr>
              <a:t>https://www.roomrecess.com/Tools/InteractiveClock/play.html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, на которых дети могут самостоятельно двигать стрелки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5" name="Рисунок 3" descr=""/>
          <p:cNvPicPr/>
          <p:nvPr/>
        </p:nvPicPr>
        <p:blipFill>
          <a:blip r:embed="rId2"/>
          <a:stretch/>
        </p:blipFill>
        <p:spPr>
          <a:xfrm>
            <a:off x="2852640" y="3513240"/>
            <a:ext cx="474372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Возможный порядок действий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680760" y="2107800"/>
            <a:ext cx="10721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) позволить детям двигать стрелками на каждые 5 минут, чтобы прочувствовать, как двигается время;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б) предложить детям в качестве подготовительной работы решать примеры такого типа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 min + 4 min = ____ min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5 min — 5 min = _____ mi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)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далее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идут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такие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задачи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5 min + 15 min = _____ min = _______ an hou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60 min = ______ hou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60 min + 30 min = ______ min = ___ hour _____ mi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г) далее мы начинаем решать задачи «</a:t>
            </a:r>
            <a:r>
              <a:rPr b="0" i="1" lang="ru-RU" sz="2200" spc="-1" strike="noStrike">
                <a:solidFill>
                  <a:srgbClr val="ffffff"/>
                </a:solidFill>
                <a:latin typeface="Trebuchet MS"/>
              </a:rPr>
              <a:t>What time will it be after…?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», но сначала используем только 5 и 10 минут, затем добавляю 15 минут и 25 минут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Английский и математика подружатся. </a:t>
            </a:r>
            <a:r>
              <a:rPr b="0" lang="ru-RU" sz="3600" spc="-1" strike="noStrike">
                <a:solidFill>
                  <a:srgbClr val="eaca4f"/>
                </a:solidFill>
                <a:latin typeface="Trebuchet MS"/>
              </a:rPr>
              <a:t>Главное — ученики будут развивать математическую грамотность посредством иностранного языка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eaca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rebuchet MS"/>
              </a:rPr>
              <a:t>Математическая грамотность 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– это способность человека мыслить математически, формулировать, применять и интерпретировать математику для решения задач в разнообразных практических контекстах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сновные темы, вызывающие сложности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80760" y="2336400"/>
            <a:ext cx="102092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изучение времени и определение времени по часам,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геометрические фигуры и начертание таких фигур,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запоминание чисел и вычисления в уме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Математическая грамотность – образовательные платформы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28" name="Объект 3" descr=""/>
          <p:cNvPicPr/>
          <p:nvPr/>
        </p:nvPicPr>
        <p:blipFill>
          <a:blip r:embed="rId1"/>
          <a:stretch/>
        </p:blipFill>
        <p:spPr>
          <a:xfrm>
            <a:off x="1628640" y="1913040"/>
            <a:ext cx="85471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«Просвещение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0" name="Объект 3" descr=""/>
          <p:cNvPicPr/>
          <p:nvPr/>
        </p:nvPicPr>
        <p:blipFill>
          <a:blip r:embed="rId1"/>
          <a:stretch/>
        </p:blipFill>
        <p:spPr>
          <a:xfrm>
            <a:off x="1682640" y="2060640"/>
            <a:ext cx="86281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«Просвещение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2" name="Объект 3" descr=""/>
          <p:cNvPicPr/>
          <p:nvPr/>
        </p:nvPicPr>
        <p:blipFill>
          <a:blip r:embed="rId1"/>
          <a:stretch/>
        </p:blipFill>
        <p:spPr>
          <a:xfrm>
            <a:off x="681120" y="2014560"/>
            <a:ext cx="108280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«Просвещение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4" name="Объект 3" descr=""/>
          <p:cNvPicPr/>
          <p:nvPr/>
        </p:nvPicPr>
        <p:blipFill>
          <a:blip r:embed="rId1"/>
          <a:stretch/>
        </p:blipFill>
        <p:spPr>
          <a:xfrm>
            <a:off x="1001880" y="2052720"/>
            <a:ext cx="8608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«Просвещение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6" name="Объект 3" descr=""/>
          <p:cNvPicPr/>
          <p:nvPr/>
        </p:nvPicPr>
        <p:blipFill>
          <a:blip r:embed="rId1"/>
          <a:stretch/>
        </p:blipFill>
        <p:spPr>
          <a:xfrm>
            <a:off x="1530360" y="1916280"/>
            <a:ext cx="8280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«Я Класс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8" name="Объект 3" descr=""/>
          <p:cNvPicPr/>
          <p:nvPr/>
        </p:nvPicPr>
        <p:blipFill>
          <a:blip r:embed="rId1"/>
          <a:stretch/>
        </p:blipFill>
        <p:spPr>
          <a:xfrm>
            <a:off x="825480" y="1943280"/>
            <a:ext cx="883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31T17:59:36Z</dcterms:created>
  <dc:creator>Директор</dc:creator>
  <dc:description/>
  <dc:language>en-US</dc:language>
  <cp:lastModifiedBy>Директор</cp:lastModifiedBy>
  <dcterms:modified xsi:type="dcterms:W3CDTF">2022-11-01T13:00:19Z</dcterms:modified>
  <cp:revision>5</cp:revision>
  <dc:subject/>
  <dc:title>«Математическая грамотность»  и «Финансовая грамотность»</dc:title>
</cp:coreProperties>
</file>