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103-367D-4B5D-B59C-64309AB9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B44-DE11-4E92-AC87-F9591551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16A-9945-4C58-9191-B8BF5335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E86-629C-49E5-A1B5-F5FBCFC7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D2D-EB25-4E7D-9531-A88BDE56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06EE-1047-4BF3-B056-AC8D0BA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3FB0-7D00-4E3A-B533-5C9B8903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D60E-A126-4075-AD11-1363EA4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C9E0-87CF-4E17-9C05-D644AD39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C9A-585F-4083-836B-627E0425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C847-D975-4161-AC8B-1E84D9C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028-3C20-49A1-B16C-36BC71A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A4F-4866-42F4-BBCB-F283C6A7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F5D-55A7-4C97-9B68-EDF22C9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4F6-F00C-4F2C-870D-7391A7C0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EEF6-13C2-4061-B0AE-AFC0761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940-7D3A-4AE5-A105-762F4689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21A-F8D9-4D4B-BAE5-37E056F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BC3-9F8B-4E4E-B6DD-54D36C9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008-07DE-4DF0-AA42-ABD40B3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3C7-9AE4-49A6-8E13-4C670E8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70A-119C-4580-BC6B-4447872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504-8230-42D1-B794-CBE70133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025-3FD1-42B5-94B0-CB1D332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6C34-9E39-4836-9140-92FB6CA9237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7EDE-794E-48F3-ABC4-0C6395EC833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5634000" cy="360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66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b54a"/>
                </a:solidFill>
                <a:latin typeface="Comic Sans MS"/>
              </a:rPr>
              <a:t>Отгадай сказку</a:t>
            </a: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Picture 4" descr="DD00121_"/>
          <p:cNvPicPr/>
          <p:nvPr/>
        </p:nvPicPr>
        <p:blipFill>
          <a:blip r:embed="rId2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D00121_"/>
          <p:cNvPicPr/>
          <p:nvPr/>
        </p:nvPicPr>
        <p:blipFill>
          <a:blip r:embed="rId3"/>
          <a:stretch/>
        </p:blipFill>
        <p:spPr>
          <a:xfrm>
            <a:off x="716436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124000" y="6308640"/>
            <a:ext cx="482436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050920" y="404640"/>
            <a:ext cx="496908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3"/>
          <p:cNvSpPr/>
          <p:nvPr/>
        </p:nvSpPr>
        <p:spPr>
          <a:xfrm>
            <a:off x="6019920" y="5410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5" descr="052_08003"/>
          <p:cNvPicPr/>
          <p:nvPr/>
        </p:nvPicPr>
        <p:blipFill>
          <a:blip r:embed="rId2"/>
          <a:stretch/>
        </p:blipFill>
        <p:spPr>
          <a:xfrm>
            <a:off x="2843280" y="1197000"/>
            <a:ext cx="566568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72907845_1301650960_03labl8m41220465486.jpg"/>
          <p:cNvPicPr/>
          <p:nvPr/>
        </p:nvPicPr>
        <p:blipFill>
          <a:blip r:embed="rId3"/>
          <a:srcRect l="7685" t="0" r="0" b="5568"/>
          <a:stretch/>
        </p:blipFill>
        <p:spPr>
          <a:xfrm>
            <a:off x="2771640" y="1197000"/>
            <a:ext cx="576108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D00121_"/>
          <p:cNvPicPr/>
          <p:nvPr/>
        </p:nvPicPr>
        <p:blipFill>
          <a:blip r:embed="rId4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349_312_normal"/>
          <p:cNvPicPr/>
          <p:nvPr/>
        </p:nvPicPr>
        <p:blipFill>
          <a:blip r:embed="rId2"/>
          <a:stretch/>
        </p:blipFill>
        <p:spPr>
          <a:xfrm>
            <a:off x="2843280" y="1197000"/>
            <a:ext cx="5403960" cy="44751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23" name="Picture 4" descr="DD00121_"/>
          <p:cNvPicPr/>
          <p:nvPr/>
        </p:nvPicPr>
        <p:blipFill>
          <a:blip r:embed="rId3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:\Таня. Работа\Писатели, сказки\Картинки\75960.jpg"/>
          <p:cNvPicPr/>
          <p:nvPr/>
        </p:nvPicPr>
        <p:blipFill>
          <a:blip r:embed="rId2"/>
          <a:srcRect l="0" t="23304" r="0" b="0"/>
          <a:stretch/>
        </p:blipFill>
        <p:spPr>
          <a:xfrm>
            <a:off x="3203640" y="1197000"/>
            <a:ext cx="4464000" cy="448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DD00121_"/>
          <p:cNvPicPr/>
          <p:nvPr/>
        </p:nvPicPr>
        <p:blipFill>
          <a:blip r:embed="rId3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195640" y="404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3"/>
          <p:cNvSpPr/>
          <p:nvPr/>
        </p:nvSpPr>
        <p:spPr>
          <a:xfrm>
            <a:off x="6019920" y="5410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4" descr="DD00121_"/>
          <p:cNvPicPr/>
          <p:nvPr/>
        </p:nvPicPr>
        <p:blipFill>
          <a:blip r:embed="rId2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http://msbook.ru/pictures/spreads/978-5-86775-144-9-3.jpg"/>
          <p:cNvPicPr/>
          <p:nvPr/>
        </p:nvPicPr>
        <p:blipFill>
          <a:blip r:embed="rId3"/>
          <a:stretch/>
        </p:blipFill>
        <p:spPr>
          <a:xfrm>
            <a:off x="2771640" y="1268280"/>
            <a:ext cx="54943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38:53Z</dcterms:created>
  <dc:creator>st1-4</dc:creator>
  <dc:description/>
  <dc:language>en-US</dc:language>
  <cp:lastModifiedBy>HP</cp:lastModifiedBy>
  <dcterms:modified xsi:type="dcterms:W3CDTF">2018-11-21T02:59:41Z</dcterms:modified>
  <cp:revision>52</cp:revision>
  <dc:subject/>
  <dc:title>Презентация PowerPoint</dc:title>
</cp:coreProperties>
</file>