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18B-06D2-44C6-AADA-E752ED3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417-5EB4-4776-9EAD-0BFBB363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A35-058D-4F91-BE47-0E61152D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F79-F165-437B-8BCC-F3EF1002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81A-3B72-47A7-A9DF-3B7F435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23B-7947-43CB-BE73-9D3ED3D4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AFA3-5648-41FA-9C38-2C7C3170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967-5B7C-41CE-8CA0-25CD42E8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4EE1-935F-4B28-B512-89CAAF0C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049-9A16-4923-90A3-03AD3F4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67D-9A82-4355-A3B2-551FCE2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CF4-0473-4F9A-A2AD-8045E75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9DE9-7597-4C2B-8B3B-C129732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C10E-9063-40A1-96C9-CB0E2DB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427D-C353-4A45-B08D-D2BA0775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196C-EF4D-4150-8596-EE3AF3F3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9B14-9AAD-4420-8F59-3FBF6F6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4C6-09D9-4F86-9F58-FE84A36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5C6-AD50-485C-9EC4-E31C8F5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2D6-39F0-4B11-A84E-A25094C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0F2-E9C8-4266-A39D-42A4C71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410-D4B3-45AC-B527-71B42AF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AD3-C130-4DFC-96C0-99BD26F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7C3-A646-49CD-93EE-98BE5FB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225-10DC-48DA-BD14-1E43C1B966D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357B-4AA9-448F-8B0F-11EAC1DE3E9A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5634000" cy="360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66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b54a"/>
                </a:solidFill>
                <a:latin typeface="Comic Sans MS"/>
              </a:rPr>
              <a:t>Отгадай сказку</a:t>
            </a: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Picture 4" descr="DD00121_"/>
          <p:cNvPicPr/>
          <p:nvPr/>
        </p:nvPicPr>
        <p:blipFill>
          <a:blip r:embed="rId2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D00121_"/>
          <p:cNvPicPr/>
          <p:nvPr/>
        </p:nvPicPr>
        <p:blipFill>
          <a:blip r:embed="rId3"/>
          <a:stretch/>
        </p:blipFill>
        <p:spPr>
          <a:xfrm>
            <a:off x="716436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124000" y="6308640"/>
            <a:ext cx="482436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050920" y="404640"/>
            <a:ext cx="496908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3"/>
          <p:cNvSpPr/>
          <p:nvPr/>
        </p:nvSpPr>
        <p:spPr>
          <a:xfrm>
            <a:off x="6019920" y="5410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Picture 5" descr="052_08003"/>
          <p:cNvPicPr/>
          <p:nvPr/>
        </p:nvPicPr>
        <p:blipFill>
          <a:blip r:embed="rId2"/>
          <a:stretch/>
        </p:blipFill>
        <p:spPr>
          <a:xfrm>
            <a:off x="2843280" y="1197000"/>
            <a:ext cx="566568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72907845_1301650960_03labl8m41220465486.jpg"/>
          <p:cNvPicPr/>
          <p:nvPr/>
        </p:nvPicPr>
        <p:blipFill>
          <a:blip r:embed="rId3"/>
          <a:srcRect l="7685" t="0" r="0" b="5568"/>
          <a:stretch/>
        </p:blipFill>
        <p:spPr>
          <a:xfrm>
            <a:off x="2771640" y="1197000"/>
            <a:ext cx="576108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D00121_"/>
          <p:cNvPicPr/>
          <p:nvPr/>
        </p:nvPicPr>
        <p:blipFill>
          <a:blip r:embed="rId4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349_312_normal"/>
          <p:cNvPicPr/>
          <p:nvPr/>
        </p:nvPicPr>
        <p:blipFill>
          <a:blip r:embed="rId2"/>
          <a:stretch/>
        </p:blipFill>
        <p:spPr>
          <a:xfrm>
            <a:off x="2843280" y="1197000"/>
            <a:ext cx="5403960" cy="44751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23" name="Picture 4" descr="DD00121_"/>
          <p:cNvPicPr/>
          <p:nvPr/>
        </p:nvPicPr>
        <p:blipFill>
          <a:blip r:embed="rId3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:\Таня. Работа\Писатели, сказки\Картинки\75960.jpg"/>
          <p:cNvPicPr/>
          <p:nvPr/>
        </p:nvPicPr>
        <p:blipFill>
          <a:blip r:embed="rId2"/>
          <a:srcRect l="0" t="23304" r="0" b="0"/>
          <a:stretch/>
        </p:blipFill>
        <p:spPr>
          <a:xfrm>
            <a:off x="3203640" y="1197000"/>
            <a:ext cx="4464000" cy="448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DD00121_"/>
          <p:cNvPicPr/>
          <p:nvPr/>
        </p:nvPicPr>
        <p:blipFill>
          <a:blip r:embed="rId3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195640" y="404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3"/>
          <p:cNvSpPr/>
          <p:nvPr/>
        </p:nvSpPr>
        <p:spPr>
          <a:xfrm>
            <a:off x="6019920" y="5410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4" descr="DD00121_"/>
          <p:cNvPicPr/>
          <p:nvPr/>
        </p:nvPicPr>
        <p:blipFill>
          <a:blip r:embed="rId2"/>
          <a:stretch/>
        </p:blipFill>
        <p:spPr>
          <a:xfrm>
            <a:off x="179280" y="333360"/>
            <a:ext cx="182880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95640" y="404640"/>
            <a:ext cx="662760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124000" y="6308640"/>
            <a:ext cx="6699240" cy="216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2" descr="http://msbook.ru/pictures/spreads/978-5-86775-144-9-3.jpg"/>
          <p:cNvPicPr/>
          <p:nvPr/>
        </p:nvPicPr>
        <p:blipFill>
          <a:blip r:embed="rId3"/>
          <a:stretch/>
        </p:blipFill>
        <p:spPr>
          <a:xfrm>
            <a:off x="2771640" y="1268280"/>
            <a:ext cx="54943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38:53Z</dcterms:created>
  <dc:creator>st1-4</dc:creator>
  <dc:description/>
  <dc:language>en-US</dc:language>
  <cp:lastModifiedBy>HP</cp:lastModifiedBy>
  <dcterms:modified xsi:type="dcterms:W3CDTF">2018-11-21T02:59:41Z</dcterms:modified>
  <cp:revision>52</cp:revision>
  <dc:subject/>
  <dc:title>Презентация PowerPoint</dc:title>
</cp:coreProperties>
</file>