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1DE-C24B-465A-B593-3E2BBFC4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5C6-C92F-4514-B41E-0994D75E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B09-81AC-4F70-929F-9AEC2BB2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3D2A-593E-4FC4-BEC8-B30D3710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5683-7353-4883-AD6C-B4BFCF8C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9B7D-216E-4942-89FC-32576C51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7488-0866-4BA5-A50A-24411F30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6989-8DE6-4072-A7D9-25C2791F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399E-E26A-4AEF-8DA0-4FF0B230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84CF-402A-4487-B1EA-9FC7296C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6EE3-C3F2-4B9C-BDD1-37075F07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DA43-40D8-4778-B6C0-0F02DC15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366F-3CC4-4B19-98B9-9445161B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D429-8FD4-4C33-9015-CF2838CE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B00C-2CD3-4F6F-8A56-BD5A9EB6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6599-744F-4CDD-B7C1-406D1BAB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94B5-7385-4DA4-B146-19A9D3B0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E9A-C11D-4E25-8C24-5BA49ACC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8C7-998B-4255-83D8-D36020A6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FBC-F474-4E1F-B659-BE86AB2B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59C-0153-4E76-A9CA-3DAD8FEF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44C-E686-454A-8A5F-CA9D8F2D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719-1317-4363-A0FA-08DA3AFA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0A13-0836-43EC-A1A6-E19F6AFD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75C3-354D-4DCF-B350-7A6EBA15B5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CF84-371D-427B-9075-3272688D87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2france.ru/online-control.imager/eiffel.air-nuit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pictures.bfrz.ru/albums/&#1043;&#1086;&#1088;&#1086;&#1076;&#1072;/Paris/576452-001.jpg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g13.nnm.ru/5/f/5/a/a/d89f9bd838c6aa396ff54bfbf41.jpg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009.radikal.ru/0908/b5/29010b6d0923.jpg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s56.radikal.ru/i153/0906/21/9d2ddc554483.jpg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img1.liveinternet.ru/images/attach/b/2/22/390/22390406_zizu.jpg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g.oboz.obozrevatel.com/files/NewsPhoto/2009/05/27/304873/160577_image_large.jpg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muzon70-80.ucoz.ru/_ph/4/2/243832281.jpg" TargetMode="External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ioneerlinens.com/images/products/table/ParisianCafeLG.jpg" TargetMode="External"/><Relationship Id="rId2" Type="http://schemas.openxmlformats.org/officeDocument/2006/relationships/image" Target="../media/image48.jpeg"/><Relationship Id="rId3" Type="http://schemas.openxmlformats.org/officeDocument/2006/relationships/hyperlink" Target="http://latin-kvartal.narod.ru/News/City_Cat/Aug_10.files/cafe3.jpeg" TargetMode="External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«Познание мира через языки»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26 сентября - Европейский день языков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учая языки, мы познаём ми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2016000" cy="16128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67120" y="2900520"/>
            <a:ext cx="1795320" cy="13460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867280" y="4581360"/>
            <a:ext cx="2789280" cy="18226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877080" y="2997360"/>
            <a:ext cx="1928880" cy="13237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95280" y="5586480"/>
            <a:ext cx="2541600" cy="12715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851280" y="5157720"/>
            <a:ext cx="1647720" cy="10987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159600" cy="40640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814560" cy="50356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00720" y="2781360"/>
            <a:ext cx="4311360" cy="29401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Они – гордость Британии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Шекспир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16360" y="1916280"/>
            <a:ext cx="3422880" cy="45766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Они – гордость Британии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Уинстон Черчил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3826080" cy="37083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Они – гордость Британии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эр Элтон Джо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эвид Бэкхе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3280" y="2565360"/>
            <a:ext cx="4324680" cy="32101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900000" y="3357720"/>
            <a:ext cx="3170520" cy="32796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Добро пожаловать во Францию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627280" y="2060640"/>
            <a:ext cx="4621320" cy="40417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Символ Париж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Картинка 6 из 91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133720"/>
            <a:ext cx="2619360" cy="3809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57" name="" descr="Картинка 47 из 91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2133720"/>
            <a:ext cx="2504880" cy="3809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Гордость Франции - Наполео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Картинка 2 из 520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492280"/>
            <a:ext cx="3076560" cy="38102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61" name="" descr="Картинка 12 из 5200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2133720"/>
            <a:ext cx="2333880" cy="3809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Они прославили свою родин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Марсель Пру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Александр Дю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16720" y="1844640"/>
            <a:ext cx="1854000" cy="24782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65" name="" descr="Картинка 3 из 1654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429000"/>
            <a:ext cx="3240000" cy="34290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182000" y="5776920"/>
            <a:ext cx="37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Александр Дю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Шарль де Гол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Франсуа Миттеран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2000160" cy="26794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148360" y="3716280"/>
            <a:ext cx="3530520" cy="28242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Добро пожаловать в Британию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761080" cy="4565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Они кумиры миллио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Жерар Депардь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атрин Денё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372360" y="1916280"/>
            <a:ext cx="2065320" cy="29476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1990440" cy="29653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О, спорт – ты Мир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Зинедин Зид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2598840" cy="34812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77" name="" descr="Картинка 15 из 673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2852640"/>
            <a:ext cx="5076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Мадмуазель поёт блю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атрисия Каа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Картинка 15 из 28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1989000"/>
            <a:ext cx="5076720" cy="38102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81" name="" descr="Картинка 21 из 28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781360"/>
            <a:ext cx="2647800" cy="3809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Столица моды - Пари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Ив Сен Лор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14640" y="2938320"/>
            <a:ext cx="4596120" cy="34308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84360" y="3573360"/>
            <a:ext cx="2417760" cy="27910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Столица моды - Пари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око Шанель – символ парижского ш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3718080" cy="29192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035840" y="2492280"/>
            <a:ext cx="2108160" cy="15670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90" name="" descr="Картинка 6 из 1376"/>
          <p:cNvPicPr/>
          <p:nvPr/>
        </p:nvPicPr>
        <p:blipFill>
          <a:blip r:embed="rId3"/>
          <a:stretch/>
        </p:blipFill>
        <p:spPr>
          <a:xfrm>
            <a:off x="3708360" y="3624120"/>
            <a:ext cx="3888000" cy="3233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500 видов сыр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Музей сы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148360" y="2492280"/>
            <a:ext cx="3530520" cy="26607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95280" y="2924280"/>
            <a:ext cx="2193840" cy="18000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771640" y="4292640"/>
            <a:ext cx="1859040" cy="20797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Кафе – излюбленное место парижа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Картинка 5 из 26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81560" y="2060640"/>
            <a:ext cx="4762440" cy="35910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99" name="" descr="Картинка 14 из 268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3213000"/>
            <a:ext cx="3886200" cy="26290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Собор Парижской Богоматер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Лув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" descr="Картинка 10 из 3830"/>
          <p:cNvPicPr/>
          <p:nvPr/>
        </p:nvPicPr>
        <p:blipFill>
          <a:blip r:embed="rId1"/>
          <a:stretch/>
        </p:blipFill>
        <p:spPr>
          <a:xfrm>
            <a:off x="5867280" y="3048120"/>
            <a:ext cx="2971800" cy="3809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202" name="" descr="Картинка 11 из 32311"/>
          <p:cNvPicPr/>
          <p:nvPr/>
        </p:nvPicPr>
        <p:blipFill>
          <a:blip r:embed="rId2"/>
          <a:stretch/>
        </p:blipFill>
        <p:spPr>
          <a:xfrm>
            <a:off x="468360" y="3573360"/>
            <a:ext cx="5076720" cy="29718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Давайте изучать языки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Чем больше языков мы знаем, тем легче нам понимать людей разных стра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" descr="Картинка 3 из 72311"/>
          <p:cNvPicPr/>
          <p:nvPr/>
        </p:nvPicPr>
        <p:blipFill>
          <a:blip r:embed="rId1"/>
          <a:stretch/>
        </p:blipFill>
        <p:spPr>
          <a:xfrm>
            <a:off x="1116000" y="3048120"/>
            <a:ext cx="2819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Страна истории и традиций</a:t>
            </a:r>
            <a:br>
              <a:rPr sz="4400"/>
            </a:b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Метр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6183360" cy="3863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МЕТР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6075360" cy="42861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Символ Лондо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6035760" cy="45262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Красный цвет- традиционны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3081240" cy="46180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3113280" cy="46782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Чёрный цвет- реалии времени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646680" cy="49849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ТАУЭР – часть истор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Картинка 2 из 234344"/>
          <p:cNvPicPr/>
          <p:nvPr/>
        </p:nvPicPr>
        <p:blipFill>
          <a:blip r:embed="rId1"/>
          <a:stretch/>
        </p:blipFill>
        <p:spPr>
          <a:xfrm>
            <a:off x="5267160" y="2060640"/>
            <a:ext cx="3876840" cy="3809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29" name="" descr="Картинка 7 из 234344"/>
          <p:cNvPicPr/>
          <p:nvPr/>
        </p:nvPicPr>
        <p:blipFill>
          <a:blip r:embed="rId2"/>
          <a:stretch/>
        </p:blipFill>
        <p:spPr>
          <a:xfrm>
            <a:off x="250920" y="3068640"/>
            <a:ext cx="3809880" cy="29145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Королева Елизавета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3641760" cy="48546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580000" y="2349360"/>
            <a:ext cx="2559240" cy="39117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08:25:58Z</dcterms:created>
  <dc:creator>U2</dc:creator>
  <dc:description/>
  <dc:language>en-US</dc:language>
  <cp:lastModifiedBy>U2</cp:lastModifiedBy>
  <dcterms:modified xsi:type="dcterms:W3CDTF">2009-11-19T07:37:38Z</dcterms:modified>
  <cp:revision>5</cp:revision>
  <dc:subject/>
  <dc:title>Слайд 1</dc:title>
</cp:coreProperties>
</file>