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4F6-6B2A-451D-944D-78BA3FCE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6FE-A4F3-47EC-8847-CF9D854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9D3-81B7-414C-9C01-83E5F11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FC9-5300-4784-A745-840BC24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856-DB4B-4B62-97C3-7AD88E19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AB0E-CE58-46F9-B559-DEC488B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BFB1-BD08-4924-8F55-938D281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B045-8041-4B76-AD7A-5E9958F6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B206-BEEC-418C-AE0D-71A2AE2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709B-6F5C-4BC2-B4D4-F8F6AD4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1443-8471-4C33-AD01-F8C0D67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303-4BE8-4EDE-BB19-0CE24451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379-F9DD-407A-88DF-13B4368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C22-2ACA-4207-A1BD-45736D5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10CE-D9EE-4E36-B305-7B2B59BD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0FF-8199-4CC0-BFB8-233F9F01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1C4-4CBC-45B9-B158-0BA58A93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99B-AA06-428C-A830-7DF139D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726-2926-4127-B741-26DB95A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F7F-84FE-4F71-9C93-9F7B59A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F38-4998-4C13-9FB1-3A301E8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A10-777F-4701-BDDC-10E95D02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F0C-A535-4302-8E0B-AF004F2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70E-E2DC-4811-96A0-1BC3F37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319-EFE1-421F-8618-96E4316090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53E-BC6F-46AC-87A6-414DF82A9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france.ru/online-control.imager/eiffel.air-nuit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pictures.bfrz.ru/albums/&#1043;&#1086;&#1088;&#1086;&#1076;&#1072;/Paris/576452-001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13.nnm.ru/5/f/5/a/a/d89f9bd838c6aa396ff54bfbf41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009.radikal.ru/0908/b5/29010b6d092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s56.radikal.ru/i153/0906/21/9d2ddc554483.jp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img1.liveinternet.ru/images/attach/b/2/22/390/22390406_zizu.jpg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.oboz.obozrevatel.com/files/NewsPhoto/2009/05/27/304873/160577_image_large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muzon70-80.ucoz.ru/_ph/4/2/243832281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ioneerlinens.com/images/products/table/ParisianCafeLG.jp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latin-kvartal.narod.ru/News/City_Cat/Aug_10.files/cafe3.jpeg" TargetMode="External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«Познание мира через языки»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26 сентября - Европейский день язык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ая языки, мы познаём ми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016000" cy="1612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67120" y="2900520"/>
            <a:ext cx="1795320" cy="13460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2789280" cy="1822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1928880" cy="1323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5586480"/>
            <a:ext cx="2541600" cy="1271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851280" y="5157720"/>
            <a:ext cx="1647720" cy="1098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59600" cy="40640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14560" cy="5035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311360" cy="29401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Шекспир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422880" cy="4576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Уинстон Черчил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26080" cy="3708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эр Элтон Дж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эвид Бэкх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324680" cy="32101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3170520" cy="3279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обро пожаловать во Францию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4621320" cy="4041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имвол Пари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Картинка 6 из 9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133720"/>
            <a:ext cx="261936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57" name="" descr="Картинка 47 из 9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133720"/>
            <a:ext cx="250488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Гордость Франции - Наполео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Картинка 2 из 5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92280"/>
            <a:ext cx="307656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1" name="" descr="Картинка 12 из 520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2133720"/>
            <a:ext cx="233388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прославили свою родин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Марсель Пру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лександр Дю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1854000" cy="2478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5" name="" descr="Картинка 3 из 165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429000"/>
            <a:ext cx="3240000" cy="3429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182000" y="57769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Александр Дю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Шарль де Гол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Франсуа Миттера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000160" cy="2679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530520" cy="2824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обро пожаловать в Британию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761080" cy="4565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кумиры миллио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Жерар Депардь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атрин Денё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72360" y="1916280"/>
            <a:ext cx="2065320" cy="2947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1990440" cy="29653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, спорт – ты Мир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Зинедин Зид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598840" cy="3481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77" name="" descr="Картинка 15 из 67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85264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адмуазель поёт блю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атрисия Каа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Картинка 15 из 28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989000"/>
            <a:ext cx="507672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1" name="" descr="Картинка 21 из 28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81360"/>
            <a:ext cx="264780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олица моды - Пари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в Сен Лор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14640" y="2938320"/>
            <a:ext cx="4596120" cy="3430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417760" cy="2791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олица моды - Пари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око Шанель – символ парижского ш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3718080" cy="2919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35840" y="2492280"/>
            <a:ext cx="2108160" cy="1567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0" name="" descr="Картинка 6 из 1376"/>
          <p:cNvPicPr/>
          <p:nvPr/>
        </p:nvPicPr>
        <p:blipFill>
          <a:blip r:embed="rId3"/>
          <a:stretch/>
        </p:blipFill>
        <p:spPr>
          <a:xfrm>
            <a:off x="3708360" y="3624120"/>
            <a:ext cx="3888000" cy="32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500 видов сыр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Музей сы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530520" cy="2660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2193840" cy="1800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1859040" cy="2079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афе – излюбленное место париж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Картинка 5 из 26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2060640"/>
            <a:ext cx="4762440" cy="3591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9" name="" descr="Картинка 14 из 26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213000"/>
            <a:ext cx="3886200" cy="26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Лув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Картинка 10 из 3830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02" name="" descr="Картинка 11 из 32311"/>
          <p:cNvPicPr/>
          <p:nvPr/>
        </p:nvPicPr>
        <p:blipFill>
          <a:blip r:embed="rId2"/>
          <a:stretch/>
        </p:blipFill>
        <p:spPr>
          <a:xfrm>
            <a:off x="468360" y="3573360"/>
            <a:ext cx="5076720" cy="2971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авайте изучать язык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Чем больше языков мы знаем, тем легче нам понимать людей разных стр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Картинка 3 из 72311"/>
          <p:cNvPicPr/>
          <p:nvPr/>
        </p:nvPicPr>
        <p:blipFill>
          <a:blip r:embed="rId1"/>
          <a:stretch/>
        </p:blipFill>
        <p:spPr>
          <a:xfrm>
            <a:off x="1116000" y="304812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рана истории и традиций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етр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6183360" cy="3863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ЕТР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075360" cy="42861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имвол Лондо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035760" cy="4526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расный цвет- традиционны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081240" cy="4618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113280" cy="4678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Чёрный цвет- реалии времен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46680" cy="4984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ТАУЭР – часть ист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2 из 234344"/>
          <p:cNvPicPr/>
          <p:nvPr/>
        </p:nvPicPr>
        <p:blipFill>
          <a:blip r:embed="rId1"/>
          <a:stretch/>
        </p:blipFill>
        <p:spPr>
          <a:xfrm>
            <a:off x="5267160" y="2060640"/>
            <a:ext cx="387684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29" name="" descr="Картинка 7 из 234344"/>
          <p:cNvPicPr/>
          <p:nvPr/>
        </p:nvPicPr>
        <p:blipFill>
          <a:blip r:embed="rId2"/>
          <a:stretch/>
        </p:blipFill>
        <p:spPr>
          <a:xfrm>
            <a:off x="250920" y="3068640"/>
            <a:ext cx="3809880" cy="29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Королева Елизавета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3641760" cy="4854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2559240" cy="3911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8:25:58Z</dcterms:created>
  <dc:creator>U2</dc:creator>
  <dc:description/>
  <dc:language>en-US</dc:language>
  <cp:lastModifiedBy>U2</cp:lastModifiedBy>
  <dcterms:modified xsi:type="dcterms:W3CDTF">2009-11-19T07:37:38Z</dcterms:modified>
  <cp:revision>5</cp:revision>
  <dc:subject/>
  <dc:title>Слайд 1</dc:title>
</cp:coreProperties>
</file>