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jpeg" ContentType="image/jpeg"/>
  <Override PartName="/ppt/media/image5.gif" ContentType="image/gif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8529-BF66-46AA-8F11-4C408AEC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CDDA-4542-479F-A454-DC702D19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BF93-6B09-44D3-BD30-B4F4C89D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C753-8B33-4B80-B1FF-137F8AFE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C19C-F35B-4FFC-A778-004F2C2E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0902-12F9-43FD-BB7B-C6605C3E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D8CF-9696-407F-B364-5EA8CD24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407E-202B-4E33-B8C8-B8F01DB6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1372-4EF4-4910-97A6-7E3C1467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6ADB-725E-4799-956D-0287362E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3ABF-AAB9-4FFF-98EF-330BFCA0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EC20-45B3-4C2B-ADA9-4BAF49AB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528B-2C33-4E15-8DEA-EA190498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8227-FBDD-422E-8F71-47CAF337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D443-C96A-4CC9-AFD7-3A3523C4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CB75-D68B-483E-8733-DA164E25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5E3E-1219-4310-81D6-86F6D1CF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382F6-B2F2-46D8-9F6C-800CFDC7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EEBF6-107F-4AC6-A099-33536472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FBAE1-BDBB-4073-985E-A5ED1456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5F8AA-8D10-4AC1-8B51-C10EDD66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683B2-D752-4475-B247-E25567DE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AF45-E61B-48A7-AFB6-D4DE9394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1224D-6DBA-4C3C-902F-D24E7319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77237-5C97-4BFB-AC94-444BB22D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D273A-065A-4A65-9442-D23964B1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C97A2-C65F-4329-8FAD-659A5CDC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C0191-6862-457C-9FC5-3BC779BA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FE749-03A7-404B-91CF-9D808CC7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293F5-3BBF-4CBE-8959-A9679C9A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407B-7E65-4E02-9C6C-4999B342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4D48-C373-41EA-951B-29089F8B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C683-D825-47B3-B767-1038820A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50B7-DC7F-4C21-BB1E-AA450F36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73BD-7D0A-4C4B-A23D-8025D55D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AA45-C21B-441D-BFF7-B84488B7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24E5-6795-463D-9686-DAD1B737F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F8E0-AE14-46E1-816C-5F36401B5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847B-385C-4472-8778-B2E2A4019D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enter.fio.ru/som" TargetMode="External"/><Relationship Id="rId2" Type="http://schemas.openxmlformats.org/officeDocument/2006/relationships/hyperlink" Target="http://pedsovet.alledu.ru/" TargetMode="External"/><Relationship Id="rId3" Type="http://schemas.openxmlformats.org/officeDocument/2006/relationships/hyperlink" Target="http://www.mtergu.ru/" TargetMode="Externa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мообразование учителя.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уктура и содержание плана индивидуальной работ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76360" y="263664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дготовил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фимова Г.В.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меститель директора по УВ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КОУ СОШ № 16 г.Бирюсинс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05.05.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D:\Картинки\Для презентаций\76873211_default.jpg.png"/>
          <p:cNvPicPr/>
          <p:nvPr/>
        </p:nvPicPr>
        <p:blipFill>
          <a:blip r:embed="rId1"/>
          <a:stretch/>
        </p:blipFill>
        <p:spPr>
          <a:xfrm>
            <a:off x="468360" y="3933720"/>
            <a:ext cx="253692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6880" y="213840"/>
            <a:ext cx="81867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1280" y="549360"/>
            <a:ext cx="85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обходимо обратить внимание на формулировку темы. Она должна отражать ответы на два вопрос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я делаю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я чего я это делаю?(Результат!!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C:\Documents and Settings\Администратор\Мои документы\Мои рисунки\картинки\CLIPART\ресурсы\Анимированные рисунки\Люди\Работа, профессии\image127.gif"/>
          <p:cNvPicPr/>
          <p:nvPr/>
        </p:nvPicPr>
        <p:blipFill>
          <a:blip r:embed="rId1"/>
          <a:stretch/>
        </p:blipFill>
        <p:spPr>
          <a:xfrm>
            <a:off x="7786800" y="5500800"/>
            <a:ext cx="928440" cy="8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меры тем по самообразованию: «+», «-». (Какие сформулированы методически грамотно, а какие нет?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Ролевые игры как средство развития коммуникативной компетенции учащих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Использование в учебной деятельности инновационных технологи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Развитие логического мышления на уроках информатики и математики с использованием Ц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Формирование умений и навыков самоконтроля как  фактор социализации личности школьн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Диалог, как успешная форма сотрудничеств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Дифференцированное обуч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Интегрированные уро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адание: пересмотрите формулировку темы самообразования, дополните или исправьте 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ема предполагае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Наличие пробл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Поиск инструмента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Диагностика (класс, учени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Гипотеза (что произойдет, если я измен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Моделирование новых уроков и т.п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. Повторная диагностика (что изменилось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38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а по самообразованию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педагогические технолог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57769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а по самообразованию должна быть связана с педагогическими технологиями (по предметной области, личностно-ориентированным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4360" y="2852640"/>
          <a:ext cx="7775280" cy="3449880"/>
        </p:xfrm>
        <a:graphic>
          <a:graphicData uri="http://schemas.openxmlformats.org/drawingml/2006/table">
            <a:tbl>
              <a:tblPr/>
              <a:tblGrid>
                <a:gridCol w="4419360"/>
                <a:gridCol w="3355920"/>
              </a:tblGrid>
              <a:tr h="824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а самообразования учителя</a:t>
                      </a:r>
                      <a:endParaRPr b="0" lang="en-US" sz="2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дущая технология</a:t>
                      </a:r>
                      <a:endParaRPr b="0" lang="en-US" sz="2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культуры познавательной компетенции на уроках истории в условиях инновационных технологий. 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ология проблемного обучения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информационной компетентности в преподавании физики 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онные технологии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ование технологии проблемного обучения-условие для развития регулятивных УУД 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ология проблемного обучения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ормулирование Цели и Зада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2222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22"/>
                </a:solidFill>
                <a:latin typeface="Times New Roman"/>
              </a:rPr>
              <a:t>Что такое цель?</a:t>
            </a:r>
            <a:r>
              <a:rPr b="0" lang="ru-RU" sz="2800" spc="-1" strike="noStrike">
                <a:solidFill>
                  <a:srgbClr val="222222"/>
                </a:solidFill>
                <a:latin typeface="Times New Roman"/>
              </a:rPr>
              <a:t> Это предполагаемый результат Вашей деятельности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2222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4" descr="https://cf2.ppt-online.org/files2/slide/v/v0Q1D5KjcNR8wyTuUgYPr3ftVk6BbhH7FoIZX4sCGe/slide-13.jpg"/>
          <p:cNvPicPr/>
          <p:nvPr/>
        </p:nvPicPr>
        <p:blipFill>
          <a:blip r:embed="rId1"/>
          <a:stretch/>
        </p:blipFill>
        <p:spPr>
          <a:xfrm>
            <a:off x="1825560" y="1981080"/>
            <a:ext cx="549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ель самообраз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ледует формулировать так, чтобы она звучала ёмко, отражала и уточняла тему самообразова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Целями самообразования могут бы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вышение уровня своей эрудиции, правовой и общей культур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зучение и внедрение новых педагогических технолог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зучение и внедрение новых форм, методов и прием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вершенствование своих знаний в области педагогическ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дачи самообразования – это шаги по достижению цели самообраз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2222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22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Формулировка цели будет похожа на формулировку методической темы, потому что цель уточняет Вашу тему. В этом ничего страшного нет, так как в грамотной формулировке темы также «виден» предполагаемый результа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тема школы звучит так: «Повышение качества образовательной деятельности через реализацию системно-деятельностного подхода в обучении, воспитании, развитии учащихся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__________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  совершенствование педагогического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ства учителя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чества образовательной деятельности и успешности учащихся через использование  системно-деятельностного подхода в обучен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Times New Roman"/>
              </a:rPr>
              <a:t>ФГОС. Раздел </a:t>
            </a:r>
            <a:r>
              <a:rPr b="0" i="1" lang="en-US" sz="4400" spc="-1" strike="noStrike">
                <a:solidFill>
                  <a:srgbClr val="7030a0"/>
                </a:solidFill>
                <a:latin typeface="Times New Roman"/>
              </a:rPr>
              <a:t>IV</a:t>
            </a:r>
            <a:r>
              <a:rPr b="0" i="1" lang="ru-RU" sz="4400" spc="-1" strike="noStrike">
                <a:solidFill>
                  <a:srgbClr val="7030a0"/>
                </a:solidFill>
                <a:latin typeface="Times New Roman"/>
              </a:rPr>
              <a:t>. п. 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9640" y="47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кадровым условиям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и ООП ООО включаю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рывность профессионального развития педагогических работников образовательного учреждения, реализующего образовательную программу основного общего образ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2222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Times New Roman"/>
              </a:rPr>
              <a:t>Затем эту цель следует </a:t>
            </a:r>
            <a:r>
              <a:rPr b="1" lang="ru-RU" sz="2400" spc="-1" strike="noStrike">
                <a:solidFill>
                  <a:srgbClr val="222222"/>
                </a:solidFill>
                <a:latin typeface="Times New Roman"/>
              </a:rPr>
              <a:t>разложить на конкретные задачи</a:t>
            </a:r>
            <a:r>
              <a:rPr b="0" lang="ru-RU" sz="2400" spc="-1" strike="noStrike">
                <a:solidFill>
                  <a:srgbClr val="222222"/>
                </a:solidFill>
                <a:latin typeface="Times New Roman"/>
              </a:rPr>
              <a:t>. Как это сделать? Необходимо задать себе </a:t>
            </a:r>
            <a:r>
              <a:rPr b="1" lang="ru-RU" sz="2400" spc="-1" strike="noStrike">
                <a:solidFill>
                  <a:srgbClr val="222222"/>
                </a:solidFill>
                <a:latin typeface="Times New Roman"/>
              </a:rPr>
              <a:t>вопросы</a:t>
            </a:r>
            <a:r>
              <a:rPr b="0" lang="ru-RU" sz="2400" spc="-1" strike="noStrike">
                <a:solidFill>
                  <a:srgbClr val="222222"/>
                </a:solidFill>
                <a:latin typeface="Times New Roman"/>
              </a:rPr>
              <a:t> (по порядку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buClr>
                <a:srgbClr val="2222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Times New Roman"/>
              </a:rPr>
              <a:t>1. Что мне поможет в достижении цели? (То есть, выбрать средства и условия, которые помогут прийти к результату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buClr>
                <a:srgbClr val="2222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Times New Roman"/>
              </a:rPr>
              <a:t>2. Как мне нужно действовать, чтобы добиться результата? (То есть, определить способы деятельнос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Times New Roman"/>
              </a:rPr>
              <a:t>Не надо писать много задач, напишите </a:t>
            </a:r>
            <a:r>
              <a:rPr b="1" lang="ru-RU" sz="2400" spc="-1" strike="noStrike">
                <a:solidFill>
                  <a:srgbClr val="222222"/>
                </a:solidFill>
                <a:latin typeface="Times New Roman"/>
              </a:rPr>
              <a:t>основные три-четыре</a:t>
            </a:r>
            <a:r>
              <a:rPr b="0" lang="ru-RU" sz="2400" spc="-1" strike="noStrike">
                <a:solidFill>
                  <a:srgbClr val="222222"/>
                </a:solidFill>
                <a:latin typeface="Times New Roman"/>
              </a:rPr>
              <a:t>. Конкретные задачи у Вас будут в план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8181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Способствовать формированию системы универсальных учебных действий средствами технологии системно- деятельностного подход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8181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Обеспечить методическое сопровождение введения Федерального государственного образовательного стандарта начального, основного и среднего  общего образов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8181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Содействовать реализации образовательной программы на основе стандартов нового поколени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8181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Этапы работы (5 лет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85800" y="1557360"/>
          <a:ext cx="7846920" cy="4997520"/>
        </p:xfrm>
        <a:graphic>
          <a:graphicData uri="http://schemas.openxmlformats.org/drawingml/2006/table">
            <a:tbl>
              <a:tblPr/>
              <a:tblGrid>
                <a:gridCol w="1962000"/>
                <a:gridCol w="2538720"/>
                <a:gridCol w="993600"/>
                <a:gridCol w="235260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держание работы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ок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а представления результата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04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Диагностико-прогностический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ализ затруднений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явление противоречий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учение литературы. Знакомство с ППО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 целей и задач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зирование результатов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та творческого роста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снование выбора методической темы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тупление на ШМО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04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Организационно-практический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ение программы, подбор методов практической части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слеживание промежуточных результатов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та творческого роста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тотека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атека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сы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ниторинг качества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тупление на педсовете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85800" y="765000"/>
          <a:ext cx="7772400" cy="5472360"/>
        </p:xfrm>
        <a:graphic>
          <a:graphicData uri="http://schemas.openxmlformats.org/drawingml/2006/table">
            <a:tbl>
              <a:tblPr/>
              <a:tblGrid>
                <a:gridCol w="1943280"/>
                <a:gridCol w="2741400"/>
                <a:gridCol w="1144800"/>
                <a:gridCol w="1942920"/>
              </a:tblGrid>
              <a:tr h="1000440"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держание работы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ок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а представления результата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70200"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Коррекционно-обобщающий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но-диагностические процедуры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тировка программы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тнесение результатов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формление результатов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года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та роста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ниторинг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 представления результатов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тупление на РМО, городских и региональных мероприятиях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701720"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Итоговый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нение наработанных материалов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пространение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формы подведения итогов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та роста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тфолио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борник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зентация опыта очно и в СМИ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самообразов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484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ачества об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ные методические пособия, статьи, программы, сценарии, исслед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новых форм, методов и приемов об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ы, выступления, публик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дидактических материалов, тес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отка методических рекоменд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открытых уроков и мероприят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тренингов, конференций, семинаров, мастер-классов, обобщение опы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формление папки (портфолио) учителя по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разовани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итульный ли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ро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(что и когда окончили, специальность и квалификация по диплому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я, аттест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 работы, в данном учрежден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овая подготов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уз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ая рабо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ды и поощр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Цели и задачи работы школы на учебный го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ормативные докумен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Документы по теме самообразования (план работы, теоретическая часть, выступления, разработки, список литературы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программы по предмет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алендарное планирова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Мониторинг зна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й индивидуальный  план по самообразовани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://soshbir16.uo-taishet.ru/metodicheskaya-kopil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1187280" y="86112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«</a:t>
            </a:r>
            <a:r>
              <a:rPr b="1" lang="ru-RU" sz="6000" spc="-1" strike="noStrike">
                <a:solidFill>
                  <a:srgbClr val="cc3300"/>
                </a:solidFill>
                <a:latin typeface="Arial"/>
              </a:rPr>
              <a:t>Нельзя научить, </a:t>
            </a:r>
            <a:endParaRPr b="0" lang="en-US" sz="6000" spc="-1" strike="noStrike">
              <a:solidFill>
                <a:srgbClr val="99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1" lang="ru-RU" sz="6000" spc="-1" strike="noStrike">
                <a:solidFill>
                  <a:srgbClr val="cc3300"/>
                </a:solidFill>
                <a:latin typeface="Arial"/>
              </a:rPr>
              <a:t>можно только </a:t>
            </a:r>
            <a:endParaRPr b="0" lang="en-US" sz="6000" spc="-1" strike="noStrike">
              <a:solidFill>
                <a:srgbClr val="99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ru-RU" sz="6000" spc="-1" strike="noStrike">
                <a:solidFill>
                  <a:srgbClr val="cc3300"/>
                </a:solidFill>
                <a:latin typeface="Arial"/>
              </a:rPr>
              <a:t>научиться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».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06" name="Picture 5" descr="дети"/>
          <p:cNvPicPr/>
          <p:nvPr/>
        </p:nvPicPr>
        <p:blipFill>
          <a:blip r:embed="rId1"/>
          <a:stretch/>
        </p:blipFill>
        <p:spPr>
          <a:xfrm>
            <a:off x="7380360" y="4365720"/>
            <a:ext cx="1315800" cy="1873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C:\Users\User\Desktop\article3405.jpg"/>
          <p:cNvPicPr/>
          <p:nvPr/>
        </p:nvPicPr>
        <p:blipFill>
          <a:blip r:embed="rId2"/>
          <a:stretch/>
        </p:blipFill>
        <p:spPr>
          <a:xfrm>
            <a:off x="755640" y="2835360"/>
            <a:ext cx="2076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самообраз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разование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целенаправленная познавательная деятельность, управляемая самой личностью; приобретение систематических знаний в какой-либо области нау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самообразования лежит интерес сочетающийся с самостоятельностью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ность самообраз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 в умении самостоятельно добывать знания из различных источников, воплощать их в практических делах, развитии личности и совершенствовании профессионального мастерств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сточники самообраз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Diagram 4"/>
          <p:cNvGrpSpPr/>
          <p:nvPr/>
        </p:nvGrpSpPr>
        <p:grpSpPr>
          <a:xfrm>
            <a:off x="574920" y="1456200"/>
            <a:ext cx="7995960" cy="4530240"/>
            <a:chOff x="574920" y="1456200"/>
            <a:chExt cx="7995960" cy="4530240"/>
          </a:xfrm>
        </p:grpSpPr>
        <p:sp>
          <p:nvSpPr>
            <p:cNvPr id="134" name="_s1028"/>
            <p:cNvSpPr/>
            <p:nvPr/>
          </p:nvSpPr>
          <p:spPr>
            <a:xfrm flipH="1" flipV="1">
              <a:off x="3158280" y="2920320"/>
              <a:ext cx="707040" cy="40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35" name="_s1029"/>
            <p:cNvSpPr/>
            <p:nvPr/>
          </p:nvSpPr>
          <p:spPr>
            <a:xfrm>
              <a:off x="1452600" y="1954080"/>
              <a:ext cx="1999440" cy="1132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993300"/>
                  </a:solidFill>
                  <a:latin typeface="Times New Roman"/>
                </a:rPr>
                <a:t>Дистанционное обучение</a:t>
              </a:r>
              <a:endParaRPr b="0" lang="en-US" sz="15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36" name="_s1030"/>
            <p:cNvSpPr/>
            <p:nvPr/>
          </p:nvSpPr>
          <p:spPr>
            <a:xfrm flipH="1">
              <a:off x="2572920" y="3721320"/>
              <a:ext cx="999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37" name="_s1031"/>
            <p:cNvSpPr/>
            <p:nvPr/>
          </p:nvSpPr>
          <p:spPr>
            <a:xfrm>
              <a:off x="574920" y="3154680"/>
              <a:ext cx="1999440" cy="113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993300"/>
                  </a:solidFill>
                  <a:latin typeface="Times New Roman"/>
                </a:rPr>
                <a:t>Изучение ресурсов сети интернет</a:t>
              </a:r>
              <a:endParaRPr b="0" lang="en-US" sz="15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38" name="_s1032"/>
            <p:cNvSpPr/>
            <p:nvPr/>
          </p:nvSpPr>
          <p:spPr>
            <a:xfrm flipH="1">
              <a:off x="3158280" y="4121280"/>
              <a:ext cx="707040" cy="40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39" name="_s1033"/>
            <p:cNvSpPr/>
            <p:nvPr/>
          </p:nvSpPr>
          <p:spPr>
            <a:xfrm>
              <a:off x="1452600" y="4355640"/>
              <a:ext cx="1999440" cy="1132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993300"/>
                  </a:solidFill>
                  <a:latin typeface="Times New Roman"/>
                </a:rPr>
                <a:t>Участие в конкурсах, проектах</a:t>
              </a:r>
              <a:endParaRPr b="0" lang="en-US" sz="15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40" name="_s1034"/>
            <p:cNvSpPr/>
            <p:nvPr/>
          </p:nvSpPr>
          <p:spPr>
            <a:xfrm>
              <a:off x="4571640" y="4287240"/>
              <a:ext cx="0" cy="56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3571920" y="4853520"/>
              <a:ext cx="1999440" cy="113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993300"/>
                  </a:solidFill>
                  <a:latin typeface="Times New Roman"/>
                </a:rPr>
                <a:t>Самотоятельная исследовательская, поисковая деятельность</a:t>
              </a:r>
              <a:endParaRPr b="0" lang="en-US" sz="1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42" name="_s1036"/>
            <p:cNvSpPr/>
            <p:nvPr/>
          </p:nvSpPr>
          <p:spPr>
            <a:xfrm>
              <a:off x="5277960" y="4121280"/>
              <a:ext cx="707040" cy="40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43" name="_s1037"/>
            <p:cNvSpPr/>
            <p:nvPr/>
          </p:nvSpPr>
          <p:spPr>
            <a:xfrm>
              <a:off x="5692680" y="4356360"/>
              <a:ext cx="1999440" cy="113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993300"/>
                  </a:solidFill>
                  <a:latin typeface="Times New Roman"/>
                </a:rPr>
                <a:t>Конференции, семинары, педчтения</a:t>
              </a:r>
              <a:endParaRPr b="0" lang="en-US" sz="15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44" name="_s1038"/>
            <p:cNvSpPr/>
            <p:nvPr/>
          </p:nvSpPr>
          <p:spPr>
            <a:xfrm>
              <a:off x="5570640" y="3721320"/>
              <a:ext cx="999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45" name="_s1039"/>
            <p:cNvSpPr/>
            <p:nvPr/>
          </p:nvSpPr>
          <p:spPr>
            <a:xfrm>
              <a:off x="6571440" y="3154680"/>
              <a:ext cx="1999440" cy="113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993300"/>
                  </a:solidFill>
                  <a:latin typeface="Times New Roman"/>
                </a:rPr>
                <a:t>Курсы повышения квалификации</a:t>
              </a:r>
              <a:endParaRPr b="0" lang="en-US" sz="15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46" name="_s1040"/>
            <p:cNvSpPr/>
            <p:nvPr/>
          </p:nvSpPr>
          <p:spPr>
            <a:xfrm flipV="1">
              <a:off x="5277960" y="2920320"/>
              <a:ext cx="707040" cy="40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47" name="_s1041"/>
            <p:cNvSpPr/>
            <p:nvPr/>
          </p:nvSpPr>
          <p:spPr>
            <a:xfrm>
              <a:off x="5692680" y="1953360"/>
              <a:ext cx="1999440" cy="113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993300"/>
                  </a:solidFill>
                  <a:latin typeface="Times New Roman"/>
                </a:rPr>
                <a:t>Литература</a:t>
              </a:r>
              <a:endParaRPr b="0" lang="en-US" sz="1300" spc="-1" strike="noStrike">
                <a:solidFill>
                  <a:srgbClr val="99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993300"/>
                  </a:solidFill>
                  <a:latin typeface="Times New Roman"/>
                </a:rPr>
                <a:t>(методическая, научно-популярная, публицистическая</a:t>
              </a:r>
              <a:r>
                <a:rPr b="1" lang="en-US" sz="1500" spc="-1" strike="noStrike">
                  <a:solidFill>
                    <a:srgbClr val="993300"/>
                  </a:solidFill>
                  <a:latin typeface="Times New Roman"/>
                </a:rPr>
                <a:t>)</a:t>
              </a:r>
              <a:endParaRPr b="0" lang="en-US" sz="15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48" name="_s1042"/>
            <p:cNvSpPr/>
            <p:nvPr/>
          </p:nvSpPr>
          <p:spPr>
            <a:xfrm flipV="1">
              <a:off x="4571640" y="2588760"/>
              <a:ext cx="0" cy="56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49" name="_s1043"/>
            <p:cNvSpPr/>
            <p:nvPr/>
          </p:nvSpPr>
          <p:spPr>
            <a:xfrm>
              <a:off x="3571920" y="1456200"/>
              <a:ext cx="1999440" cy="113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993300"/>
                  </a:solidFill>
                  <a:latin typeface="Times New Roman"/>
                </a:rPr>
                <a:t>Материалы СМИ</a:t>
              </a:r>
              <a:endParaRPr b="0" lang="en-US" sz="15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50" name="_s1044"/>
            <p:cNvSpPr/>
            <p:nvPr/>
          </p:nvSpPr>
          <p:spPr>
            <a:xfrm>
              <a:off x="3571920" y="3155400"/>
              <a:ext cx="1999440" cy="113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Источники самообразования</a:t>
              </a:r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тевые сообщест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айт Федерации Интернет Образования, Московского центра интернет-образова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http://center.fio.ru/s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ОМ-содружество методических объединений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сероссийский традиционный виртуальный педагогический совет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http://pedsovet.alledu.r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оект Интернет-государство учителей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www.mtergu.r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иртуальная Школа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ttp://www.cun.org vs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свой уровень профессионального ро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левой уровень-слабая методическая подготов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уровень-стабильные результаты при использовании трад.программ и учеб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уровень- применение новых технологий об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уровень-разработка новых форм учебных занят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уровень-разработка новых методик при частичном изменении содерж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уровень-изменение содержания курса без изменении идеологии предм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уровень-создание авторского кур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лгоритм работы по проблеме самообразов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бор направления и темы самообразования (ознакомление с литературой,НПД,ППО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улирование цели и задач самообразов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ределение круга источников информ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бор формы самообразов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ставление плана самообразов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ределение результата самообразов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нализ и оценка деятельности в процессе самообразования, подготовка отче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3276720" y="2451240"/>
            <a:ext cx="48564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3278160" y="3027240"/>
            <a:ext cx="48564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3276720" y="3733920"/>
            <a:ext cx="48564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3260880" y="4265640"/>
            <a:ext cx="48564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3279600" y="4699080"/>
            <a:ext cx="4860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2" name="AutoShape 9"/>
          <p:cNvSpPr/>
          <p:nvPr/>
        </p:nvSpPr>
        <p:spPr>
          <a:xfrm>
            <a:off x="3289320" y="5230800"/>
            <a:ext cx="48564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ма самообраз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ирается  исходя из своих потребностей и методической темы, над которой планирует работать педагогический коллектив школы. Это внешнее оформление той проблемы, которую решает педагог. МТ направлена на совершенствование системы обуч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одическая тема школы звучит так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Повышение качества образовательной деятельности через реализацию системно-деятельностного подхода в обучении, воспитании, развитии учащихся»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7:28:20Z</dcterms:created>
  <dc:creator>Sveta</dc:creator>
  <dc:description/>
  <dc:language>en-US</dc:language>
  <cp:lastModifiedBy>Пользователь</cp:lastModifiedBy>
  <dcterms:modified xsi:type="dcterms:W3CDTF">2022-05-25T02:56:39Z</dcterms:modified>
  <cp:revision>200</cp:revision>
  <dc:subject/>
  <dc:title>Слайд 1</dc:title>
</cp:coreProperties>
</file>