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gif" ContentType="image/gi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88E-9210-4B23-8915-7481B78B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616-822B-4F4B-A7CC-27EBD897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5EA-D03B-4893-972D-42D3D2DB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214-DCF7-4D83-A303-7C04606C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AA4B-6F2A-431E-8A3F-F847243E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BF15-7E45-4255-A719-DCAB023F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8E44-7044-43EB-B6F6-344147F5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0711-A063-464A-88D1-393FAB57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2831-2B49-4863-A92F-74396BB4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C20A-8389-479B-848E-7411BB40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81E0-A063-43DB-AC36-849C6D1B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1EB-A937-41E1-9DE9-6ACFE310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9A76-9873-447F-87D6-41CA7FD8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5A7C-EC72-42F4-9D41-361849E8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D685-A59A-4236-A034-16E0FC3F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0324-1B6F-4015-B3B6-F11FC941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662D-508B-41AC-AF8C-D39658CC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DCC2A-AA4F-439E-A744-C8EC87D4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AEAC-23CF-49E1-83C0-0052FADF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0E4A-27FF-4CB7-AFBB-4B7F030B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6B030-8436-4A7E-BFFB-FD39C582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B6D1-715C-469D-950A-D9D972A9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ED1-3888-4E90-ACB5-FA66C827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3B92-E27E-4E98-A125-119322AC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0549-1DA8-486A-84D5-0F4CB814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49D0-A134-4973-A6D2-8F89FEF9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D5B4B-3E38-48FD-A864-EA1BF263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7C2B1-BC06-4659-9C5B-535005F1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B876-A278-4F84-A9A5-09ECFCC1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D010-BA1A-48C3-ADE7-9877426F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115-2916-46A1-8C54-1BC0F12B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95E-5A1E-4634-9889-3E44CB0D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086-ED9B-4B46-9A6E-4BB69EAF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467-A3C2-43A1-BEB2-863FA7D3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2DE-A755-43CA-A40B-973F4DA8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334-D4BC-4C82-A536-694413D8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B231-58EE-4B43-95EE-28C19D113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C2D0-2A5A-4E08-A086-D0C5ABED2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7D6C-F792-4813-9C00-ADC36649EF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enter.fio.ru/som" TargetMode="External"/><Relationship Id="rId2" Type="http://schemas.openxmlformats.org/officeDocument/2006/relationships/hyperlink" Target="http://pedsovet.alledu.ru/" TargetMode="External"/><Relationship Id="rId3" Type="http://schemas.openxmlformats.org/officeDocument/2006/relationships/hyperlink" Target="http://www.mtergu.ru/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образование учителя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и содержание плана индивидуальной работ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263664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фимова Г.В.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меститель директора по УВ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КОУ СОШ № 16 г.Бирюсин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05.05.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D:\Картинки\Для презентаций\76873211_default.jpg.png"/>
          <p:cNvPicPr/>
          <p:nvPr/>
        </p:nvPicPr>
        <p:blipFill>
          <a:blip r:embed="rId1"/>
          <a:stretch/>
        </p:blipFill>
        <p:spPr>
          <a:xfrm>
            <a:off x="468360" y="3933720"/>
            <a:ext cx="253692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6880" y="21384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549360"/>
            <a:ext cx="85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обходимо обратить внимание на формулировку темы. Она должна отражать ответы на два вопрос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я дела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чего я это делаю?(Результат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меры тем по самообразованию: «+», «-». (Какие сформулированы методически грамотно, а какие нет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олевые игры как средство развития коммуникативной компетенции уча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Использование в учебной деятельности инновационных технолог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Развитие логического мышления на уроках информатики и математики с использованием Ц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Формирование умений и навыков самоконтроля как  фактор социализации личности школь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Диалог, как успешная форма сотрудничест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Дифференцированное обу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Интегрированные уро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ние: пересмотрите формулировку темы самообразования, дополните или исправьте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ма предполага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Наличие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иск инструмента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Диагностика (класс, учени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Гипотеза (что произойдет, если я измен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Моделирование новых уроков и т.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Повторная диагностика (что изменилос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по самообразован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едагогические 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5776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 по самообразованию должна быть связана с педагогическими технологиями (по предметной области, личностно-ориентированным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2852640"/>
          <a:ext cx="7775280" cy="3449880"/>
        </p:xfrm>
        <a:graphic>
          <a:graphicData uri="http://schemas.openxmlformats.org/drawingml/2006/table">
            <a:tbl>
              <a:tblPr/>
              <a:tblGrid>
                <a:gridCol w="4419360"/>
                <a:gridCol w="3355920"/>
              </a:tblGrid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самообразования учителя</a:t>
                      </a:r>
                      <a:endParaRPr b="0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дущая технология</a:t>
                      </a:r>
                      <a:endParaRPr b="0" lang="en-US" sz="24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культуры познавательной компетенции на уроках истории в условиях инновационных технологий. 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 проблемного обучения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информационной компетентности в преподавании физики 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ые технологии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 технологии проблемного обучения-условие для развития регулятивных УУД 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 проблемного обучения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ирование Цели и Зада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Times New Roman"/>
              </a:rPr>
              <a:t>Что такое цель?</a:t>
            </a:r>
            <a:r>
              <a:rPr b="0" lang="ru-RU" sz="2800" spc="-1" strike="noStrike">
                <a:solidFill>
                  <a:srgbClr val="222222"/>
                </a:solidFill>
                <a:latin typeface="Times New Roman"/>
              </a:rPr>
              <a:t> Это предполагаемый результат Вашей деятельности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https://cf2.ppt-online.org/files2/slide/v/v0Q1D5KjcNR8wyTuUgYPr3ftVk6BbhH7FoIZX4sCGe/slide-13.jpg"/>
          <p:cNvPicPr/>
          <p:nvPr/>
        </p:nvPicPr>
        <p:blipFill>
          <a:blip r:embed="rId1"/>
          <a:stretch/>
        </p:blipFill>
        <p:spPr>
          <a:xfrm>
            <a:off x="1825560" y="198108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ледует формулировать так, чтобы она звучала ёмко, отражала и уточняла тему самообразов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ями самообразования могут бы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вышение уровня своей эрудиции, правовой и общей культу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учение и внедрение новых педагогических технолог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учение и внедрение новых форм, методов и прием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ние своих знаний в области педагогическ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и самообразования – это шаги по достижению цели самообра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22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Формулировка цели будет похожа на формулировку методической темы, потому что цель уточняет Вашу тему. В этом ничего страшного нет, так как в грамотной формулировке темы также «виден» предполагаемый результ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тема школы звучит так: «Повышение качества образовательной деятельности через реализацию системно-деятельностного подхода в обучении, воспитании, развитии учащихс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__________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  совершенствование педагогическог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ства учителя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чества образовательной деятельности и успешности учащихся через использование  системно-деятельностного подхода в обуч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Times New Roman"/>
              </a:rPr>
              <a:t>ФГОС. Раздел </a:t>
            </a:r>
            <a:r>
              <a:rPr b="0" i="1" lang="en-US" sz="4400" spc="-1" strike="noStrike">
                <a:solidFill>
                  <a:srgbClr val="7030a0"/>
                </a:solidFill>
                <a:latin typeface="Times New Roman"/>
              </a:rPr>
              <a:t>IV</a:t>
            </a:r>
            <a:r>
              <a:rPr b="0" i="1" lang="ru-RU" sz="4400" spc="-1" strike="noStrike">
                <a:solidFill>
                  <a:srgbClr val="7030a0"/>
                </a:solidFill>
                <a:latin typeface="Times New Roman"/>
              </a:rPr>
              <a:t>. п.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47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кадровым условия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и ООП ООО включаю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 профессионального развития педагогических работников образовательного учреждения, реализующего образовательную программу основ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Затем эту цель следует 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</a:rPr>
              <a:t>разложить на конкретные задачи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. Как это сделать? Необходимо задать себе 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</a:rPr>
              <a:t>вопросы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 (по порядку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1. Что мне поможет в достижении цели? (То есть, выбрать средства и условия, которые помогут прийти к результат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2. Как мне нужно действовать, чтобы добиться результата? (То есть, определить способы деятель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Не надо писать много задач, напишите </a:t>
            </a:r>
            <a:r>
              <a:rPr b="1" lang="ru-RU" sz="2400" spc="-1" strike="noStrike">
                <a:solidFill>
                  <a:srgbClr val="222222"/>
                </a:solidFill>
                <a:latin typeface="Times New Roman"/>
              </a:rPr>
              <a:t>основные три-четыре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</a:rPr>
              <a:t>. Конкретные задачи у Вас будут в пл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181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Способствовать формированию системы универсальных учебных действий средствами технологии системно- деятельностного подх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8181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Обеспечить методическое сопровождение введения Федерального государственного образовательного стандарта начального, основного и среднего  общего обра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8181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Содействовать реализации образовательной программы на основе стандартов нового поколен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8181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апы работы (5 ле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557360"/>
          <a:ext cx="7846920" cy="4997520"/>
        </p:xfrm>
        <a:graphic>
          <a:graphicData uri="http://schemas.openxmlformats.org/drawingml/2006/table">
            <a:tbl>
              <a:tblPr/>
              <a:tblGrid>
                <a:gridCol w="1962000"/>
                <a:gridCol w="2538720"/>
                <a:gridCol w="993600"/>
                <a:gridCol w="23526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представления результат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04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Диагностико-прогностически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из затруднени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явление противоречи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ение литературы. Знакомство с ППО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 целей и задач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ирование результат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а творческого рост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ание выбора методической темы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на ШМО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04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Организационно-практически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программы, подбор методов практической части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леживание промежуточных результат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а творческого рост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отек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атек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сы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иторинг качеств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на педсовете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5800" y="765000"/>
          <a:ext cx="7772400" cy="5472360"/>
        </p:xfrm>
        <a:graphic>
          <a:graphicData uri="http://schemas.openxmlformats.org/drawingml/2006/table">
            <a:tbl>
              <a:tblPr/>
              <a:tblGrid>
                <a:gridCol w="1943280"/>
                <a:gridCol w="2741400"/>
                <a:gridCol w="1144800"/>
                <a:gridCol w="1942920"/>
              </a:tblGrid>
              <a:tr h="1000440"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представления результата</a:t>
                      </a: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0200"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Коррекционно-обобщающи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о-диагностические процедуры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 программы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есение результат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результат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год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а рост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иторинг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 представления результат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на РМО, городских и региональных мероприятиях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01720"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Итоговый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 наработанных материал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ение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формы подведения итогов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6120" rIns="9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а роста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тфолио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орник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зентация опыта очно и в СМИ</a:t>
                      </a:r>
                      <a:endParaRPr b="0" lang="en-US" sz="16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самообраз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ачества 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ые методические пособия, статьи, программы, сценарии,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новых форм, методов и приемов 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ы, выступления, публ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дидактических материалов, те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методических рекоменд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открытых уроков и меро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енингов, конференций, семинаров, мастер-классов, обобщение опы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формление папки (портфолио) учителя по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тульный ли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(что и когда окончили, специальность и квалификация по диплому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я, аттес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, в данном учрежде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овая подготов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уз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ая раб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ы и поощр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Цели и задачи работы школы на учебный г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рмативные докумен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окументы по теме самообразования (план работы, теоретическая часть, выступления, разработки, список литератур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рограммы по предме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лендарное планиров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ониторинг зн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индивидуальный  план по самообразова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soshbir16.uo-taishet.ru/metodicheskaya-kopil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1187280" y="86112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Нельзя научить, 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можно только 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научиться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».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6" name="Picture 5" descr="дети"/>
          <p:cNvPicPr/>
          <p:nvPr/>
        </p:nvPicPr>
        <p:blipFill>
          <a:blip r:embed="rId1"/>
          <a:stretch/>
        </p:blipFill>
        <p:spPr>
          <a:xfrm>
            <a:off x="7380360" y="4365720"/>
            <a:ext cx="1315800" cy="1873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Users\User\Desktop\article3405.jpg"/>
          <p:cNvPicPr/>
          <p:nvPr/>
        </p:nvPicPr>
        <p:blipFill>
          <a:blip r:embed="rId2"/>
          <a:stretch/>
        </p:blipFill>
        <p:spPr>
          <a:xfrm>
            <a:off x="755640" y="2835360"/>
            <a:ext cx="2076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ние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целенаправленная познавательная деятельность, управляемая самой личностью; приобретение систематических знаний в какой-либо области нау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самообразования лежит интерес сочетающийся с самостоятельностью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умении самостоятельно добывать знания из различных источников, воплощать их в практических делах, развитии личности и совершенствовании профессионального мастерств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точники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Diagram 4"/>
          <p:cNvGrpSpPr/>
          <p:nvPr/>
        </p:nvGrpSpPr>
        <p:grpSpPr>
          <a:xfrm>
            <a:off x="574920" y="1456200"/>
            <a:ext cx="7995960" cy="4530240"/>
            <a:chOff x="574920" y="1456200"/>
            <a:chExt cx="7995960" cy="4530240"/>
          </a:xfrm>
        </p:grpSpPr>
        <p:sp>
          <p:nvSpPr>
            <p:cNvPr id="134" name="_s1028"/>
            <p:cNvSpPr/>
            <p:nvPr/>
          </p:nvSpPr>
          <p:spPr>
            <a:xfrm flipH="1" flipV="1">
              <a:off x="3158280" y="2920320"/>
              <a:ext cx="707040" cy="40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5" name="_s1029"/>
            <p:cNvSpPr/>
            <p:nvPr/>
          </p:nvSpPr>
          <p:spPr>
            <a:xfrm>
              <a:off x="1452600" y="1954080"/>
              <a:ext cx="1999440" cy="113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Дистанционное обучение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6" name="_s1030"/>
            <p:cNvSpPr/>
            <p:nvPr/>
          </p:nvSpPr>
          <p:spPr>
            <a:xfrm flipH="1">
              <a:off x="2572920" y="3721320"/>
              <a:ext cx="99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7" name="_s1031"/>
            <p:cNvSpPr/>
            <p:nvPr/>
          </p:nvSpPr>
          <p:spPr>
            <a:xfrm>
              <a:off x="574920" y="315468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Изучение ресурсов сети интернет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8" name="_s1032"/>
            <p:cNvSpPr/>
            <p:nvPr/>
          </p:nvSpPr>
          <p:spPr>
            <a:xfrm flipH="1">
              <a:off x="3158280" y="4121280"/>
              <a:ext cx="707040" cy="40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9" name="_s1033"/>
            <p:cNvSpPr/>
            <p:nvPr/>
          </p:nvSpPr>
          <p:spPr>
            <a:xfrm>
              <a:off x="1452600" y="4355640"/>
              <a:ext cx="1999440" cy="113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Участие в конкурсах, проектах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0" name="_s1034"/>
            <p:cNvSpPr/>
            <p:nvPr/>
          </p:nvSpPr>
          <p:spPr>
            <a:xfrm>
              <a:off x="4571640" y="4287240"/>
              <a:ext cx="0" cy="56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3571920" y="485352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993300"/>
                  </a:solidFill>
                  <a:latin typeface="Times New Roman"/>
                </a:rPr>
                <a:t>Самотоятельная исследовательская, поисковая деятельность</a:t>
              </a:r>
              <a:endParaRPr b="0" lang="en-US" sz="1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2" name="_s1036"/>
            <p:cNvSpPr/>
            <p:nvPr/>
          </p:nvSpPr>
          <p:spPr>
            <a:xfrm>
              <a:off x="5277960" y="4121280"/>
              <a:ext cx="707040" cy="40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3" name="_s1037"/>
            <p:cNvSpPr/>
            <p:nvPr/>
          </p:nvSpPr>
          <p:spPr>
            <a:xfrm>
              <a:off x="5692680" y="435636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993300"/>
                  </a:solidFill>
                  <a:latin typeface="Times New Roman"/>
                </a:rPr>
                <a:t>Конференции, семинары, педчтения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4" name="_s1038"/>
            <p:cNvSpPr/>
            <p:nvPr/>
          </p:nvSpPr>
          <p:spPr>
            <a:xfrm>
              <a:off x="5570640" y="3721320"/>
              <a:ext cx="99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5" name="_s1039"/>
            <p:cNvSpPr/>
            <p:nvPr/>
          </p:nvSpPr>
          <p:spPr>
            <a:xfrm>
              <a:off x="6571440" y="315468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Курсы повышения квалификации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6" name="_s1040"/>
            <p:cNvSpPr/>
            <p:nvPr/>
          </p:nvSpPr>
          <p:spPr>
            <a:xfrm flipV="1">
              <a:off x="5277960" y="2920320"/>
              <a:ext cx="707040" cy="40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7" name="_s1041"/>
            <p:cNvSpPr/>
            <p:nvPr/>
          </p:nvSpPr>
          <p:spPr>
            <a:xfrm>
              <a:off x="5692680" y="195336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3300"/>
                  </a:solidFill>
                  <a:latin typeface="Times New Roman"/>
                </a:rPr>
                <a:t>Литература</a:t>
              </a:r>
              <a:endParaRPr b="0" lang="en-US" sz="1300" spc="-1" strike="noStrike">
                <a:solidFill>
                  <a:srgbClr val="99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3300"/>
                  </a:solidFill>
                  <a:latin typeface="Times New Roman"/>
                </a:rPr>
                <a:t>(методическая, научно-популярная, публицистическая</a:t>
              </a: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8" name="_s1042"/>
            <p:cNvSpPr/>
            <p:nvPr/>
          </p:nvSpPr>
          <p:spPr>
            <a:xfrm flipV="1">
              <a:off x="4571640" y="2588760"/>
              <a:ext cx="0" cy="56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49" name="_s1043"/>
            <p:cNvSpPr/>
            <p:nvPr/>
          </p:nvSpPr>
          <p:spPr>
            <a:xfrm>
              <a:off x="3571920" y="145620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993300"/>
                  </a:solidFill>
                  <a:latin typeface="Times New Roman"/>
                </a:rPr>
                <a:t>Материалы СМИ</a:t>
              </a:r>
              <a:endParaRPr b="0" lang="en-US" sz="15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50" name="_s1044"/>
            <p:cNvSpPr/>
            <p:nvPr/>
          </p:nvSpPr>
          <p:spPr>
            <a:xfrm>
              <a:off x="3571920" y="3155400"/>
              <a:ext cx="1999440" cy="113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Источники самообразования</a:t>
              </a: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ые сообщ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айт Федерации Интернет Образования, Московского центра интернет-образова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center.fio.ru/s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М-содружество методических объединени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ероссийский традиционный виртуальный педагогический совет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http://pedsovet.alledu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ект Интернет-государство учителей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www.mtergu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ртуальная Школа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cun.org v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свой уровень профессионального р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евой уровень-слабая методическая подгот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уровень-стабильные результаты при использовании трад.программ и учеб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уровень- применение новых технологий 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уровень-разработка новых форм учебных зан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уровень-разработка новых методик при частичном изменении содерж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уровень-изменение содержания курса без изменении идеологии предм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уровень-создание авторского кур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лгоритм работы по проблеме самообраз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ор направления и темы самообразования (ознакомление с литературой,НПД,ППО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улирование цели и задач само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ение круга источников информ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ор формы само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ление плана само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ение результата само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 и оценка деятельности в процессе самообразования, подготовка отче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276720" y="245124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278160" y="302724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3276720" y="373392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3260880" y="426564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79600" y="4699080"/>
            <a:ext cx="4860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3289320" y="523080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ма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 исходя из своих потребностей и методической темы, над которой планирует работать педагогический коллектив школы. Это внешнее оформление той проблемы, которую решает педагог. МТ направлена на совершенствование системы обуч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ическая тема школы звучит так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вышение качества образовательной деятельности через реализацию системно-деятельностного подхода в обучении, воспитании, развитии учащихся»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7:28:20Z</dcterms:created>
  <dc:creator>Sveta</dc:creator>
  <dc:description/>
  <dc:language>en-US</dc:language>
  <cp:lastModifiedBy>Пользователь</cp:lastModifiedBy>
  <dcterms:modified xsi:type="dcterms:W3CDTF">2022-05-25T02:56:39Z</dcterms:modified>
  <cp:revision>200</cp:revision>
  <dc:subject/>
  <dc:title>Слайд 1</dc:title>
</cp:coreProperties>
</file>