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E04-D716-465F-94B7-FF85CC39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920-6DFA-4CEA-AE75-261F908A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AAB692-8FAA-4E83-94F4-F349D9A37F6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B4CE6-FE67-4EFA-8B5E-3665FF5DFA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DD7F39-4E7F-4FBA-BDC2-1121AB84055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A82074-1824-4893-AE2C-98BDCC7227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FB8090-AD75-4FC3-BB2F-ABD1519F192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E81E8-9F6D-4C65-AD41-F9AE68AB78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FE79B2-AAD6-46C2-AE22-6F6E85CE6D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DF000D-C9BF-4D29-83A6-2BCCE387CC3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9AE2F-5510-4376-9853-DF47B16C9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1D4-A8FA-40C8-9C88-3E244F2B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E49-CD91-49F9-B87A-87E0E668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7EC1-E599-4E79-9902-A3FB6507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2CAD-29FD-4CFA-8F03-F0755FFE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E83C-4EB4-49D3-B2C0-8A2FE90A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1AED-BADD-4731-93F9-CB476C4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3B5F-CEEC-4024-9B51-BA018B5B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2C33-BDB6-48A0-838D-D957A9C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1A02-4EFB-40A9-9E54-E0DDFB2D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9D9-ACDA-4A97-89A1-702E1F37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46DA-F717-4138-B130-DBB3FD29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3F73-6870-4362-875D-C5FBCFF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C9D5-C64B-4491-8996-9FB34214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EA03-94D3-446D-9671-A1340397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1EA7-44B9-49CC-9364-40B5BA64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E133-61B5-4DEB-A064-A464EEC3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47D3-8D74-486E-BA8E-A16BA500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4D93-B917-4DC5-9FDB-7A4B0DF6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3333-A455-413E-B800-A53E4CEA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C14B-209F-45D9-B5BC-521D9DC3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2DD-1F24-4F0C-88BE-F0363401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A025-92BA-4E51-B0CB-4197605C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7A1E-EE5B-48FD-9ADD-A1081E6B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4F0F-AC58-409B-A26D-7A82E43B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3672-C2E0-486C-90F9-6677FFF9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8667-F06A-4D1F-9E3C-7AA5AEC6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9FEF-CC84-45FF-B12D-F00662A8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9BEE-1ACE-43C2-A434-3106F403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0A58-3262-4CD3-92CC-D8BFA3BF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32A7-BACD-46ED-A2A4-D4ADB2F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9353-77A9-4B74-8984-E0EDBC19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738-36A7-41FF-842F-6D36874C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0C738-BD5F-426A-ACDE-E05EED70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0775-367F-41FD-8BF4-3E3EB774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6862-A8F3-4D4B-90A0-8799A2F8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58AA-947D-449E-AB4A-CFBC00D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E094-5EDF-4E1B-9B79-609573D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2946-E8D6-42E2-91E8-FBA43E41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943C-578A-4ECC-9694-828D399F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5651-4F2D-4226-9665-326E1305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2C0F-7E5F-4789-ABB1-C5F6F03E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44D51-7657-489A-8046-8032048A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48F-D7D2-4391-977C-A75CF3A5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9D30-58A2-4605-91BC-92CEFF27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BE1E6-0F6A-44BA-9EBF-AFF1E163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6F829-B4CD-4B68-BE18-A5918549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4EB5-65E9-4573-9F25-A4D57719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229C6-4717-4531-B6AD-EA0BA194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D3F4-282A-4A89-950F-F045B41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93942-7779-472E-AC72-ECF30FFC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EA361-68C9-49EB-A2AC-A3B500B6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7211A-A9D9-42DE-87BF-D1E50710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A47A-066E-45E5-B7D8-91292801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58C-E54C-4514-A4E7-10D123DD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4078-3C22-4C13-B22C-FB0720E7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B8B7F-DA7A-461C-B8D0-BF398064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CBA0B-EF82-4685-BA12-1EED1097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7E92-C239-42FA-B7F4-2BE2F6FA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1E979-04FC-4B73-B9CD-AFA1228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5B497-913E-46B0-8889-35895A66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07C2-668C-435B-B88A-ACA4ABBA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974F3-28A6-4027-A3B6-CA5F16A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87739-3E85-49F8-B8A9-816CEEC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7FBC-A666-442F-970B-96D8215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B8C-1426-4F6A-A899-A2934F3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CBDB-FEA0-44F5-B757-709A8121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7DA8-6C99-4044-9C4E-F9A1C697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C0B1C-FB44-42BF-BDA9-2962124D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7D425-7039-4600-81FE-F1E81D20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5B2A1-4D1F-4F64-8EF5-FD90C761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8E4D3-E1A8-4B83-AF53-1A7E73CA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A420-EF7A-4551-A0E2-15BA1C57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27495-2835-480A-8E6F-A0872DC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1FA0-5FCF-4C21-9615-1A51EF5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614C1-9582-4799-9004-3E184073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4D8-0DFC-4F35-A543-C021B7C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9794A-563D-4084-B2B3-45490404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BFA04-B002-4D8D-BADC-44D8B46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67BEB-B825-4D21-98F4-9AFA246B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5D3F9-0FB4-48E4-B232-188D8603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7E54C-D60B-4527-94A1-3617A802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29ABD7-C6DA-4BEC-84B1-22F5DA56AC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E5B124-D5F4-445D-81F3-22E83448AB6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EE6C4-592D-479B-B565-508A309A988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FBA4B6-766A-4A0D-A9DE-9376C4656C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54514B-04C8-4204-971D-686C9D56B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E1D-FE95-4F78-A36E-EB3306B9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CBF33-25D4-44CC-B13D-75DD7892CA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CD971-4FC9-4F4E-855F-39B3F99B431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B37B82-A0F9-47CB-AA7B-1FBF3406DC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3DAF24-6451-4429-8B5A-6EBA50BDB2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C71088-A78A-4851-A760-924503B705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1AC7E4-ACA7-4A17-AC31-5DDC504DD0A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B13E75-BC99-4DEC-AD2C-08AA409EFC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3E7675-C419-4B26-829F-D5D153FF8E2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141656-1140-4A63-9FDD-A16D0C0B38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E31268-1768-4EA5-8471-833EB2FD4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3023-A2E0-4C95-BA6D-F1C3D25C43E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3746-2D81-47B1-BE76-E1D65698B95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C2F4-9FC4-4D88-9263-976510FAA08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0ECE-B1B2-4D05-B2F3-F881BB19218F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4D3-428D-4EF3-B512-12DF2EB9BA9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1EEA-E937-413B-B522-E725029039A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41E4-E92A-479E-AD6F-0EC7B643A553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Google Shape;32;p5"/>
          <p:cNvSpPr/>
          <p:nvPr/>
        </p:nvSpPr>
        <p:spPr>
          <a:xfrm>
            <a:off x="0" y="0"/>
            <a:ext cx="9144000" cy="650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oogle Shape;33;p5"/>
          <p:cNvGrpSpPr/>
          <p:nvPr/>
        </p:nvGrpSpPr>
        <p:grpSpPr>
          <a:xfrm>
            <a:off x="830160" y="1589040"/>
            <a:ext cx="746280" cy="60480"/>
            <a:chOff x="830160" y="1589040"/>
            <a:chExt cx="746280" cy="60480"/>
          </a:xfrm>
        </p:grpSpPr>
        <p:sp>
          <p:nvSpPr>
            <p:cNvPr id="306" name="Google Shape;34;p5"/>
            <p:cNvSpPr/>
            <p:nvPr/>
          </p:nvSpPr>
          <p:spPr>
            <a:xfrm rot="16200000">
              <a:off x="1359360" y="1432440"/>
              <a:ext cx="60480" cy="373320"/>
            </a:xfrm>
            <a:prstGeom prst="rect">
              <a:avLst/>
            </a:prstGeom>
            <a:solidFill>
              <a:srgbClr val="9c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Google Shape;35;p5"/>
            <p:cNvSpPr/>
            <p:nvPr/>
          </p:nvSpPr>
          <p:spPr>
            <a:xfrm rot="16200000">
              <a:off x="987840" y="1431000"/>
              <a:ext cx="60480" cy="37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2"/>
          </p:nvPr>
        </p:nvSpPr>
        <p:spPr>
          <a:xfrm>
            <a:off x="8535960" y="6332400"/>
            <a:ext cx="549360" cy="525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A526-120E-437C-BC19-314B6476A4A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Google Shape;62;p9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oogle Shape;63;p9"/>
          <p:cNvGrpSpPr/>
          <p:nvPr/>
        </p:nvGrpSpPr>
        <p:grpSpPr>
          <a:xfrm>
            <a:off x="830160" y="1589040"/>
            <a:ext cx="746280" cy="60480"/>
            <a:chOff x="830160" y="1589040"/>
            <a:chExt cx="746280" cy="60480"/>
          </a:xfrm>
        </p:grpSpPr>
        <p:sp>
          <p:nvSpPr>
            <p:cNvPr id="352" name="Google Shape;64;p9"/>
            <p:cNvSpPr/>
            <p:nvPr/>
          </p:nvSpPr>
          <p:spPr>
            <a:xfrm rot="16200000">
              <a:off x="1359360" y="1432440"/>
              <a:ext cx="60480" cy="373320"/>
            </a:xfrm>
            <a:prstGeom prst="rect">
              <a:avLst/>
            </a:prstGeom>
            <a:solidFill>
              <a:srgbClr val="9c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Google Shape;65;p9"/>
            <p:cNvSpPr/>
            <p:nvPr/>
          </p:nvSpPr>
          <p:spPr>
            <a:xfrm rot="16200000">
              <a:off x="987840" y="1431000"/>
              <a:ext cx="60480" cy="37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23"/>
          </p:nvPr>
        </p:nvSpPr>
        <p:spPr>
          <a:xfrm>
            <a:off x="8535960" y="6332400"/>
            <a:ext cx="549360" cy="525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ECE8-782B-4341-B811-4A4ED4EFF8D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7.xml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" Target="slide6.xml"/><Relationship Id="rId8" Type="http://schemas.openxmlformats.org/officeDocument/2006/relationships/image" Target="../media/image8.png"/><Relationship Id="rId9" Type="http://schemas.openxmlformats.org/officeDocument/2006/relationships/slide" Target="slide7.xm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>
                <a:alpha val="78039"/>
              </a:srgbClr>
            </a:gs>
            <a:gs pos="100000">
              <a:srgbClr val="8c8c8c">
                <a:alpha val="49019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5480" y="1499760"/>
            <a:ext cx="8001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94" name="Рисунок 4" descr="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2f024d4966b1.jpg"/>
          <p:cNvPicPr/>
          <p:nvPr/>
        </p:nvPicPr>
        <p:blipFill>
          <a:blip r:embed="rId2"/>
          <a:stretch/>
        </p:blipFill>
        <p:spPr>
          <a:xfrm>
            <a:off x="-6480" y="-6480"/>
            <a:ext cx="2799000" cy="2189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6" descr="0_c36a_449d93f4_XL.jpeg"/>
          <p:cNvPicPr/>
          <p:nvPr/>
        </p:nvPicPr>
        <p:blipFill>
          <a:blip r:embed="rId3"/>
          <a:stretch/>
        </p:blipFill>
        <p:spPr>
          <a:xfrm>
            <a:off x="5851440" y="4552920"/>
            <a:ext cx="3299040" cy="231156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7" descr="getty_rf_photo_of_fresh_fruits.jpg"/>
          <p:cNvPicPr/>
          <p:nvPr/>
        </p:nvPicPr>
        <p:blipFill>
          <a:blip r:embed="rId4"/>
          <a:stretch/>
        </p:blipFill>
        <p:spPr>
          <a:xfrm>
            <a:off x="6188040" y="-6480"/>
            <a:ext cx="2962440" cy="20113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8" descr="fruit_00150.jpg"/>
          <p:cNvPicPr/>
          <p:nvPr/>
        </p:nvPicPr>
        <p:blipFill>
          <a:blip r:embed="rId5"/>
          <a:stretch/>
        </p:blipFill>
        <p:spPr>
          <a:xfrm>
            <a:off x="-6480" y="4780080"/>
            <a:ext cx="2773440" cy="208440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5"/>
          <p:cNvSpPr/>
          <p:nvPr/>
        </p:nvSpPr>
        <p:spPr>
          <a:xfrm>
            <a:off x="1714680" y="1714680"/>
            <a:ext cx="55720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Рисуем тыкву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ко Елена Викторовна, учитель начальных классов  ГБОУ СОШ «ОЦ» с.Ворот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1">
            <a:hlinkClick r:id="rId1" action="ppaction://hlinksldjump"/>
          </p:cNvPr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Скругленный прямоугольник 2">
            <a:hlinkClick r:id="rId3" action="ppaction://hlinksldjump"/>
          </p:cNvPr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кругленный прямоугольник 3">
            <a:hlinkClick r:id="rId5" action="ppaction://hlinksldjump"/>
          </p:cNvPr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Скругленный прямоугольник 4">
            <a:hlinkClick r:id="rId7" action="ppaction://hlinksldjump"/>
          </p:cNvPr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Users\Таня\Desktop\волк\jss_toilandtrouble_pumpkin 4.png"/>
          <p:cNvPicPr/>
          <p:nvPr/>
        </p:nvPicPr>
        <p:blipFill>
          <a:blip r:embed="rId10"/>
          <a:stretch/>
        </p:blipFill>
        <p:spPr>
          <a:xfrm>
            <a:off x="3048120" y="914400"/>
            <a:ext cx="4606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sp>
        <p:nvSpPr>
          <p:cNvPr id="409" name="Скругленный прямоугольник 14">
            <a:hlinkClick r:id="rId3" action="ppaction://hlinksldjump"/>
          </p:cNvPr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5">
            <a:hlinkClick r:id="rId5" action="ppaction://hlinksldjump"/>
          </p:cNvPr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Скругленный прямоугольник 16">
            <a:hlinkClick r:id="rId7" action="ppaction://hlinksldjump"/>
          </p:cNvPr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Скругленный прямоугольник 17">
            <a:hlinkClick r:id="rId9" action="ppaction://hlinksldjump"/>
          </p:cNvPr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sp>
        <p:nvSpPr>
          <p:cNvPr id="415" name="Скругленный прямоугольник 11">
            <a:hlinkClick r:id="rId3" action="ppaction://hlinksldjump"/>
          </p:cNvPr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Скругленный прямоугольник 12"/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ый прямоугольник 13"/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Скругленный прямоугольник 14"/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sp>
        <p:nvSpPr>
          <p:cNvPr id="421" name="Скругленный прямоугольник 14"/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15"/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Скругленный прямоугольник 16"/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Скругленный прямоугольник 17"/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7"/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кругленный прямоугольник 8"/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кругленный прямоугольник 9"/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кругленный прямоугольник 14"/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Google Shape;112;p16" descr=""/>
          <p:cNvPicPr/>
          <p:nvPr/>
        </p:nvPicPr>
        <p:blipFill>
          <a:blip r:embed="rId1"/>
          <a:stretch/>
        </p:blipFill>
        <p:spPr>
          <a:xfrm>
            <a:off x="706320" y="914400"/>
            <a:ext cx="7699320" cy="18288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28640" y="2771640"/>
            <a:ext cx="377496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42920" y="2771640"/>
            <a:ext cx="37753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4" name="Google Shape;115;p16" descr=""/>
          <p:cNvPicPr/>
          <p:nvPr/>
        </p:nvPicPr>
        <p:blipFill>
          <a:blip r:embed="rId2"/>
          <a:stretch/>
        </p:blipFill>
        <p:spPr>
          <a:xfrm>
            <a:off x="728640" y="2771640"/>
            <a:ext cx="3774960" cy="3594240"/>
          </a:xfrm>
          <a:prstGeom prst="rect">
            <a:avLst/>
          </a:prstGeom>
          <a:ln w="0">
            <a:noFill/>
          </a:ln>
        </p:spPr>
      </p:pic>
      <p:pic>
        <p:nvPicPr>
          <p:cNvPr id="435" name="Google Shape;116;p16" descr=""/>
          <p:cNvPicPr/>
          <p:nvPr/>
        </p:nvPicPr>
        <p:blipFill>
          <a:blip r:embed="rId3"/>
          <a:srcRect l="0" t="0" r="0" b="4751"/>
          <a:stretch/>
        </p:blipFill>
        <p:spPr>
          <a:xfrm>
            <a:off x="4643280" y="2771640"/>
            <a:ext cx="37753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Google Shape;121;p17" descr=""/>
          <p:cNvPicPr/>
          <p:nvPr/>
        </p:nvPicPr>
        <p:blipFill>
          <a:blip r:embed="rId1"/>
          <a:stretch/>
        </p:blipFill>
        <p:spPr>
          <a:xfrm>
            <a:off x="493560" y="1432080"/>
            <a:ext cx="7699680" cy="11397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728640" y="2771640"/>
            <a:ext cx="377496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2920" y="2771640"/>
            <a:ext cx="37753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9" name="Google Shape;124;p17" descr=""/>
          <p:cNvPicPr/>
          <p:nvPr/>
        </p:nvPicPr>
        <p:blipFill>
          <a:blip r:embed="rId2"/>
          <a:stretch/>
        </p:blipFill>
        <p:spPr>
          <a:xfrm>
            <a:off x="728640" y="2771640"/>
            <a:ext cx="3774960" cy="3595680"/>
          </a:xfrm>
          <a:prstGeom prst="rect">
            <a:avLst/>
          </a:prstGeom>
          <a:ln w="0">
            <a:noFill/>
          </a:ln>
        </p:spPr>
      </p:pic>
      <p:pic>
        <p:nvPicPr>
          <p:cNvPr id="440" name="Google Shape;125;p17" descr=""/>
          <p:cNvPicPr/>
          <p:nvPr/>
        </p:nvPicPr>
        <p:blipFill>
          <a:blip r:embed="rId3"/>
          <a:stretch/>
        </p:blipFill>
        <p:spPr>
          <a:xfrm>
            <a:off x="4643280" y="2771640"/>
            <a:ext cx="37753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Google Shape;130;p18" descr=""/>
          <p:cNvPicPr/>
          <p:nvPr/>
        </p:nvPicPr>
        <p:blipFill>
          <a:blip r:embed="rId1"/>
          <a:stretch/>
        </p:blipFill>
        <p:spPr>
          <a:xfrm>
            <a:off x="566640" y="1847880"/>
            <a:ext cx="3529080" cy="2382840"/>
          </a:xfrm>
          <a:prstGeom prst="rect">
            <a:avLst/>
          </a:prstGeom>
          <a:ln w="0">
            <a:noFill/>
          </a:ln>
        </p:spPr>
      </p:pic>
      <p:pic>
        <p:nvPicPr>
          <p:cNvPr id="442" name="Google Shape;132;p18" descr=""/>
          <p:cNvPicPr/>
          <p:nvPr/>
        </p:nvPicPr>
        <p:blipFill>
          <a:blip r:embed="rId2"/>
          <a:stretch/>
        </p:blipFill>
        <p:spPr>
          <a:xfrm>
            <a:off x="4572000" y="1252440"/>
            <a:ext cx="4572000" cy="4353120"/>
          </a:xfrm>
          <a:prstGeom prst="rect">
            <a:avLst/>
          </a:prstGeom>
          <a:ln w="0">
            <a:noFill/>
          </a:ln>
        </p:spPr>
      </p:pic>
      <p:sp>
        <p:nvSpPr>
          <p:cNvPr id="443" name="Google Shape;133;p18"/>
          <p:cNvSpPr/>
          <p:nvPr/>
        </p:nvSpPr>
        <p:spPr>
          <a:xfrm>
            <a:off x="8261280" y="6359400"/>
            <a:ext cx="88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17bbfd"/>
                </a:solidFill>
                <a:uFillTx/>
                <a:latin typeface="Lato"/>
                <a:ea typeface="Lato"/>
              </a:rPr>
              <a:t>Nsportal.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2:53:08Z</dcterms:created>
  <dc:creator>Admin</dc:creator>
  <dc:description/>
  <dc:language>en-US</dc:language>
  <cp:lastModifiedBy>Пользователь</cp:lastModifiedBy>
  <dcterms:modified xsi:type="dcterms:W3CDTF">2022-11-01T18:11:03Z</dcterms:modified>
  <cp:revision>111</cp:revision>
  <dc:subject/>
  <dc:title>Слайд 1</dc:title>
</cp:coreProperties>
</file>