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6.jpeg" ContentType="image/jpe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BA5B-EBD5-474B-AFC0-BD5BED68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FA91-6845-48B3-B2BC-F8C66D20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54F1D3-59AC-4129-BF7F-CA914E7F387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6D7649-0805-4B25-9AB3-E834B959C0B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41CCB9-CDA5-40ED-ABF3-7A3F4DB2125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48F6DA-CB80-4C9F-9E32-E99062EB32E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E919E3-44E8-46B9-B7A1-4EB1AA92279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239EA9-5AC2-4D73-8B80-4F86CAE06D9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1B036E-D713-4926-B346-DE5E4291973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C529C3-7333-44C4-A022-5DAF60A9EEF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BD77E2-70DF-419E-AC8D-A67BD8863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ED5-2CC3-4EB8-9867-D9F4508A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F2CE-4CA4-4CB2-BC8E-05471BDB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4C64-E456-4487-816D-E1E6CAB5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0A02-CDFE-4D8E-91F3-77897437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4B8A-5960-4C89-8DB6-9DB391C7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2B7C-9F20-4765-8F58-D9B7C7B0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D3D4-80D3-44D1-BB2B-26184CDE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7451-7E47-4F4D-BB87-37B9CE69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E616-970E-4B93-B140-5FE5B8C2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1BEB-8FAA-4999-9DF9-A13DDFAB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32B9-50FF-45C6-9F53-664C70E8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050E-A6B9-4297-B75E-51E1A31F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F773-05C5-4C2C-A99A-8ECC100B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F80D-1727-4FB9-BB8D-851E8D95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0856-8C3B-41F4-BAE4-F737DF0C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9FC67-FB14-4EC3-8AE9-FB6BA934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D4FD8-9429-4810-8346-5F48E7EF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BF6F1-A898-4D53-A55E-824467AD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92729-5E13-4D1F-8370-0E921052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FE812-DE97-4D97-B514-A4F20D1C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9D54-24C2-4798-9C3D-0EB92867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6064B-DED0-406C-9101-3751E32B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15657-537D-4620-92DD-51313601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73586-DB79-4066-B2F5-71231617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25AC4-13FD-4C9B-AE94-220705DB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D3688-A397-445F-991E-DBB5A806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C494E-1CC7-48A8-9432-F04FD016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AB976-46E8-4C92-A22C-1EE54661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9DBFA-6620-4FA8-9EBC-2C454C2B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FADF8-BC76-4B2B-874E-87CA93EA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2A329-672F-45B9-8384-C27FA20F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3C22-FF37-4665-80AA-07E834E6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1FDFA-9C4B-470C-81F4-EC073323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CD0F0-82A9-4DFC-B05A-F64FD753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1318E-5B4F-4C55-8A7D-E0B0D5C7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B6CFA-4DC3-4BD2-A6BD-0344275A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53B0F-A8A0-421B-A869-4B1B11F8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A7C03-DD8F-49F8-92F8-5044D86F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E73B3-CA09-4403-AB97-65CADF22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5FAC8-2BB6-432E-801F-AC710FB3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52801-0EEB-404B-86B5-DDB1C3FC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DB054-029D-404E-9F41-C2DC3D3A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2DE0-C973-44E8-AE45-7F1B0B8F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91823-C34C-4279-98F8-A9407FCC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77BEE-9431-43A6-8BCC-E8C827C3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4EA10-0CCD-4816-BEAA-2EF74199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94716-7113-44B6-A0C9-B52F7A3C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08E0F-DAD3-432D-9006-595ACCFC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89566-F9AE-4179-82BE-09945895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FCE03-28C9-453E-BCA3-9F776949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F7EB4-B4B0-46EA-93A9-168FE009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47E7B-2FB1-462C-80BD-D12D6B0B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D3F30-CC2B-4B71-8FA7-2D9162B1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6A0C-B758-4189-B44E-61A7F84C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C6D4F-88E8-4745-9985-5D4E4200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454B4-D877-475A-8103-C098EC10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1D0CC-181B-43B0-ABE3-5BF70B79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F78B0-6044-4BC9-96F4-7D24BA14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7B748-4A24-4CFF-A56E-E9990D59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82AD0-910B-45F1-9EB8-AFA959E4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3E513-4795-408E-89EA-A99C7A3D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06B8F-3EE1-42BB-B026-4C06B687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01C92-4373-4BDA-B2F4-3822D0DB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CA515-C1C7-46D1-B228-0F7D98B6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9EC3-41E7-46EE-8E28-398E6F6A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2B028-325C-474B-B090-B24BC0F7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A8DC2-530A-4BFB-B4E3-0A863905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4DDF0-32A9-4624-A96E-D9489BB9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899C0-62F0-43E3-A94E-FF6A7AEF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EC784-6B17-4B87-8F71-6401FCAC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F8A59-59EB-48E6-ABA7-8629EAEC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0DC90-D679-4A13-921C-35BED185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A18CA-8EB4-4C6E-A733-D5D01F97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F8690-BF10-442B-858E-FAED3EE0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B4B20-5084-4EB0-B4A1-915E2C70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8684-5C3F-4331-88B6-2D8C61E2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BD3AE-20A9-4E7F-9898-0594F6DD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E7B37-EEF2-4627-AFC2-D58BDC72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F6D85-5A76-4E5F-AC12-9AB32DBC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87D10-9A60-4B04-B774-42837039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8F466-E113-459E-ADE2-51A2AB93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BB3B3F-6B82-467B-8ECF-D58D41A6D23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923588-E410-4D04-8C5B-741E77EBC48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D730E2-2E63-4103-80EF-B3DCCB1C81A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C4B2C1-B298-4808-8226-F35DB0A98FD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ECBD14-D09A-4397-A4B9-DB75F84C2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5A89-6D5A-474B-B5D6-01A4BB01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10C2CF-FD8D-4964-B2A1-EABC9B6FFE5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6D9026-68F0-4D6B-AC30-DCE58A5A1EB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3DA52D-1728-4864-91B5-2FDBFB8ABC9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174951-79C6-45C2-9F5F-B74A19619E4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5E7CB7-15F3-472F-8AEF-923A61B6EBB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CCD60E-F096-41A8-ADFE-6B3C0511495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BAFADD-8BC4-432A-8FC9-B527ED9816B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AFEDF5-05F0-40C2-82C1-0B2D86ACBE9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F40CF0-4BCA-4222-9B5D-CA858390BC8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8E7E3B-0DBA-4973-B400-AB78C8DB3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1F54-5255-4F7B-8DD4-67564D45B8C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F9CE-85BE-46B1-8155-8CE6907F1254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722F-31A8-4EAC-9D9A-A41817C457F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C09F-992B-4BBF-B63F-B76D6DEB7801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4391-B4AF-42EA-91CF-6FDE7C9880F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278E-5D49-4C58-B37C-9DB7F9F26107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0982-1697-48AE-809B-135984F5B7FF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Google Shape;32;p5"/>
          <p:cNvSpPr/>
          <p:nvPr/>
        </p:nvSpPr>
        <p:spPr>
          <a:xfrm>
            <a:off x="0" y="0"/>
            <a:ext cx="9144000" cy="65088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Google Shape;33;p5"/>
          <p:cNvGrpSpPr/>
          <p:nvPr/>
        </p:nvGrpSpPr>
        <p:grpSpPr>
          <a:xfrm>
            <a:off x="830160" y="1589040"/>
            <a:ext cx="746280" cy="60480"/>
            <a:chOff x="830160" y="1589040"/>
            <a:chExt cx="746280" cy="60480"/>
          </a:xfrm>
        </p:grpSpPr>
        <p:sp>
          <p:nvSpPr>
            <p:cNvPr id="306" name="Google Shape;34;p5"/>
            <p:cNvSpPr/>
            <p:nvPr/>
          </p:nvSpPr>
          <p:spPr>
            <a:xfrm rot="16200000">
              <a:off x="1359360" y="1432440"/>
              <a:ext cx="60480" cy="373320"/>
            </a:xfrm>
            <a:prstGeom prst="rect">
              <a:avLst/>
            </a:prstGeom>
            <a:solidFill>
              <a:srgbClr val="9c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Google Shape;35;p5"/>
            <p:cNvSpPr/>
            <p:nvPr/>
          </p:nvSpPr>
          <p:spPr>
            <a:xfrm rot="16200000">
              <a:off x="987840" y="1431000"/>
              <a:ext cx="60480" cy="37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22"/>
          </p:nvPr>
        </p:nvSpPr>
        <p:spPr>
          <a:xfrm>
            <a:off x="8535960" y="6332400"/>
            <a:ext cx="549360" cy="525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F6F0-AA08-4B64-963D-55A7257ACA7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Google Shape;62;p9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oogle Shape;63;p9"/>
          <p:cNvGrpSpPr/>
          <p:nvPr/>
        </p:nvGrpSpPr>
        <p:grpSpPr>
          <a:xfrm>
            <a:off x="830160" y="1589040"/>
            <a:ext cx="746280" cy="60480"/>
            <a:chOff x="830160" y="1589040"/>
            <a:chExt cx="746280" cy="60480"/>
          </a:xfrm>
        </p:grpSpPr>
        <p:sp>
          <p:nvSpPr>
            <p:cNvPr id="352" name="Google Shape;64;p9"/>
            <p:cNvSpPr/>
            <p:nvPr/>
          </p:nvSpPr>
          <p:spPr>
            <a:xfrm rot="16200000">
              <a:off x="1359360" y="1432440"/>
              <a:ext cx="60480" cy="373320"/>
            </a:xfrm>
            <a:prstGeom prst="rect">
              <a:avLst/>
            </a:prstGeom>
            <a:solidFill>
              <a:srgbClr val="9c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Google Shape;65;p9"/>
            <p:cNvSpPr/>
            <p:nvPr/>
          </p:nvSpPr>
          <p:spPr>
            <a:xfrm rot="16200000">
              <a:off x="987840" y="1431000"/>
              <a:ext cx="60480" cy="37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23"/>
          </p:nvPr>
        </p:nvSpPr>
        <p:spPr>
          <a:xfrm>
            <a:off x="8535960" y="6332400"/>
            <a:ext cx="549360" cy="525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FEE1-5C1F-4324-BDEB-8D69422AA5DA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7.png"/><Relationship Id="rId5" Type="http://schemas.openxmlformats.org/officeDocument/2006/relationships/slide" Target="slide6.xml"/><Relationship Id="rId6" Type="http://schemas.openxmlformats.org/officeDocument/2006/relationships/image" Target="../media/image8.png"/><Relationship Id="rId7" Type="http://schemas.openxmlformats.org/officeDocument/2006/relationships/slide" Target="slide7.xml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" Target="slide4.xml"/><Relationship Id="rId4" Type="http://schemas.openxmlformats.org/officeDocument/2006/relationships/image" Target="../media/image6.png"/><Relationship Id="rId5" Type="http://schemas.openxmlformats.org/officeDocument/2006/relationships/slide" Target="slide5.xml"/><Relationship Id="rId6" Type="http://schemas.openxmlformats.org/officeDocument/2006/relationships/image" Target="../media/image7.png"/><Relationship Id="rId7" Type="http://schemas.openxmlformats.org/officeDocument/2006/relationships/slide" Target="slide6.xml"/><Relationship Id="rId8" Type="http://schemas.openxmlformats.org/officeDocument/2006/relationships/image" Target="../media/image8.png"/><Relationship Id="rId9" Type="http://schemas.openxmlformats.org/officeDocument/2006/relationships/slide" Target="slide7.xml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" Target="slide4.xm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>
                <a:alpha val="78039"/>
              </a:srgbClr>
            </a:gs>
            <a:gs pos="100000">
              <a:srgbClr val="8c8c8c">
                <a:alpha val="49019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85480" y="1499760"/>
            <a:ext cx="8001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94" name="Рисунок 4" descr="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4" descr="2f024d4966b1.jpg"/>
          <p:cNvPicPr/>
          <p:nvPr/>
        </p:nvPicPr>
        <p:blipFill>
          <a:blip r:embed="rId2"/>
          <a:stretch/>
        </p:blipFill>
        <p:spPr>
          <a:xfrm>
            <a:off x="-6480" y="-6480"/>
            <a:ext cx="2799000" cy="218916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6" descr="0_c36a_449d93f4_XL.jpeg"/>
          <p:cNvPicPr/>
          <p:nvPr/>
        </p:nvPicPr>
        <p:blipFill>
          <a:blip r:embed="rId3"/>
          <a:stretch/>
        </p:blipFill>
        <p:spPr>
          <a:xfrm>
            <a:off x="5851440" y="4552920"/>
            <a:ext cx="3299040" cy="231156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7" descr="getty_rf_photo_of_fresh_fruits.jpg"/>
          <p:cNvPicPr/>
          <p:nvPr/>
        </p:nvPicPr>
        <p:blipFill>
          <a:blip r:embed="rId4"/>
          <a:stretch/>
        </p:blipFill>
        <p:spPr>
          <a:xfrm>
            <a:off x="6188040" y="-6480"/>
            <a:ext cx="2962440" cy="201132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8" descr="fruit_00150.jpg"/>
          <p:cNvPicPr/>
          <p:nvPr/>
        </p:nvPicPr>
        <p:blipFill>
          <a:blip r:embed="rId5"/>
          <a:stretch/>
        </p:blipFill>
        <p:spPr>
          <a:xfrm>
            <a:off x="-6480" y="4780080"/>
            <a:ext cx="2773440" cy="208440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оугольник 5"/>
          <p:cNvSpPr/>
          <p:nvPr/>
        </p:nvSpPr>
        <p:spPr>
          <a:xfrm>
            <a:off x="1714680" y="1714680"/>
            <a:ext cx="557208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Рисуем тыкву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ко Елена Викторовна, учитель начальных классов  ГБОУ СОШ «ОЦ» с.Воротн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Скругленный прямоугольник 1">
            <a:hlinkClick r:id="rId1" action="ppaction://hlinksldjump"/>
          </p:cNvPr>
          <p:cNvSpPr/>
          <p:nvPr/>
        </p:nvSpPr>
        <p:spPr>
          <a:xfrm>
            <a:off x="1219320" y="99072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Скругленный прямоугольник 2">
            <a:hlinkClick r:id="rId3" action="ppaction://hlinksldjump"/>
          </p:cNvPr>
          <p:cNvSpPr/>
          <p:nvPr/>
        </p:nvSpPr>
        <p:spPr>
          <a:xfrm>
            <a:off x="1219320" y="236232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Скругленный прямоугольник 3">
            <a:hlinkClick r:id="rId5" action="ppaction://hlinksldjump"/>
          </p:cNvPr>
          <p:cNvSpPr/>
          <p:nvPr/>
        </p:nvSpPr>
        <p:spPr>
          <a:xfrm>
            <a:off x="1219320" y="373392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Скругленный прямоугольник 4">
            <a:hlinkClick r:id="rId7" action="ppaction://hlinksldjump"/>
          </p:cNvPr>
          <p:cNvSpPr/>
          <p:nvPr/>
        </p:nvSpPr>
        <p:spPr>
          <a:xfrm>
            <a:off x="1219320" y="502920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Скругленный прямоугольник 5"/>
          <p:cNvSpPr/>
          <p:nvPr/>
        </p:nvSpPr>
        <p:spPr>
          <a:xfrm>
            <a:off x="2971800" y="838080"/>
            <a:ext cx="4724280" cy="4572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6" descr="C:\Users\Таня\Desktop\котишки\hello_html_721bfbff.png">
            <a:hlinkClick r:id="" action="ppaction://hlinkshowjump?jump=endshow"/>
          </p:cNvPr>
          <p:cNvPicPr/>
          <p:nvPr/>
        </p:nvPicPr>
        <p:blipFill>
          <a:blip r:embed="rId9"/>
          <a:stretch/>
        </p:blipFill>
        <p:spPr>
          <a:xfrm>
            <a:off x="7315200" y="152280"/>
            <a:ext cx="1982880" cy="12193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C:\Users\Таня\Desktop\волк\jss_toilandtrouble_pumpkin 4.png"/>
          <p:cNvPicPr/>
          <p:nvPr/>
        </p:nvPicPr>
        <p:blipFill>
          <a:blip r:embed="rId10"/>
          <a:stretch/>
        </p:blipFill>
        <p:spPr>
          <a:xfrm>
            <a:off x="3048120" y="914400"/>
            <a:ext cx="46069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Скругленный прямоугольник 5"/>
          <p:cNvSpPr/>
          <p:nvPr/>
        </p:nvSpPr>
        <p:spPr>
          <a:xfrm>
            <a:off x="2971800" y="838080"/>
            <a:ext cx="4724280" cy="4572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6" descr="C:\Users\Таня\Desktop\котишки\hello_html_721bfbff.png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315200" y="152280"/>
            <a:ext cx="1982880" cy="1219320"/>
          </a:xfrm>
          <a:prstGeom prst="rect">
            <a:avLst/>
          </a:prstGeom>
          <a:ln w="0">
            <a:noFill/>
          </a:ln>
        </p:spPr>
      </p:pic>
      <p:sp>
        <p:nvSpPr>
          <p:cNvPr id="409" name="Скругленный прямоугольник 14">
            <a:hlinkClick r:id="rId3" action="ppaction://hlinksldjump"/>
          </p:cNvPr>
          <p:cNvSpPr/>
          <p:nvPr/>
        </p:nvSpPr>
        <p:spPr>
          <a:xfrm>
            <a:off x="1219320" y="99072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Скругленный прямоугольник 15">
            <a:hlinkClick r:id="rId5" action="ppaction://hlinksldjump"/>
          </p:cNvPr>
          <p:cNvSpPr/>
          <p:nvPr/>
        </p:nvSpPr>
        <p:spPr>
          <a:xfrm>
            <a:off x="1219320" y="236232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Скругленный прямоугольник 16">
            <a:hlinkClick r:id="rId7" action="ppaction://hlinksldjump"/>
          </p:cNvPr>
          <p:cNvSpPr/>
          <p:nvPr/>
        </p:nvSpPr>
        <p:spPr>
          <a:xfrm>
            <a:off x="1219320" y="373392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Скругленный прямоугольник 17">
            <a:hlinkClick r:id="rId9" action="ppaction://hlinksldjump"/>
          </p:cNvPr>
          <p:cNvSpPr/>
          <p:nvPr/>
        </p:nvSpPr>
        <p:spPr>
          <a:xfrm>
            <a:off x="1219320" y="502920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Скругленный прямоугольник 5"/>
          <p:cNvSpPr/>
          <p:nvPr/>
        </p:nvSpPr>
        <p:spPr>
          <a:xfrm>
            <a:off x="2971800" y="838080"/>
            <a:ext cx="4724280" cy="4572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6" descr="C:\Users\Таня\Desktop\котишки\hello_html_721bfbff.png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315200" y="152280"/>
            <a:ext cx="1982880" cy="1219320"/>
          </a:xfrm>
          <a:prstGeom prst="rect">
            <a:avLst/>
          </a:prstGeom>
          <a:ln w="0">
            <a:noFill/>
          </a:ln>
        </p:spPr>
      </p:pic>
      <p:sp>
        <p:nvSpPr>
          <p:cNvPr id="415" name="Скругленный прямоугольник 11">
            <a:hlinkClick r:id="rId3" action="ppaction://hlinksldjump"/>
          </p:cNvPr>
          <p:cNvSpPr/>
          <p:nvPr/>
        </p:nvSpPr>
        <p:spPr>
          <a:xfrm>
            <a:off x="1219320" y="99072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Скругленный прямоугольник 12"/>
          <p:cNvSpPr/>
          <p:nvPr/>
        </p:nvSpPr>
        <p:spPr>
          <a:xfrm>
            <a:off x="1219320" y="236232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Скругленный прямоугольник 13"/>
          <p:cNvSpPr/>
          <p:nvPr/>
        </p:nvSpPr>
        <p:spPr>
          <a:xfrm>
            <a:off x="1219320" y="373392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Скругленный прямоугольник 14"/>
          <p:cNvSpPr/>
          <p:nvPr/>
        </p:nvSpPr>
        <p:spPr>
          <a:xfrm>
            <a:off x="1219320" y="502920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Скругленный прямоугольник 5"/>
          <p:cNvSpPr/>
          <p:nvPr/>
        </p:nvSpPr>
        <p:spPr>
          <a:xfrm>
            <a:off x="2971800" y="838080"/>
            <a:ext cx="4724280" cy="4572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6" descr="C:\Users\Таня\Desktop\котишки\hello_html_721bfbff.png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315200" y="152280"/>
            <a:ext cx="1982880" cy="1219320"/>
          </a:xfrm>
          <a:prstGeom prst="rect">
            <a:avLst/>
          </a:prstGeom>
          <a:ln w="0">
            <a:noFill/>
          </a:ln>
        </p:spPr>
      </p:pic>
      <p:sp>
        <p:nvSpPr>
          <p:cNvPr id="421" name="Скругленный прямоугольник 14"/>
          <p:cNvSpPr/>
          <p:nvPr/>
        </p:nvSpPr>
        <p:spPr>
          <a:xfrm>
            <a:off x="1219320" y="99072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Скругленный прямоугольник 15"/>
          <p:cNvSpPr/>
          <p:nvPr/>
        </p:nvSpPr>
        <p:spPr>
          <a:xfrm>
            <a:off x="1219320" y="236232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Скругленный прямоугольник 16"/>
          <p:cNvSpPr/>
          <p:nvPr/>
        </p:nvSpPr>
        <p:spPr>
          <a:xfrm>
            <a:off x="1219320" y="373392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Скругленный прямоугольник 17"/>
          <p:cNvSpPr/>
          <p:nvPr/>
        </p:nvSpPr>
        <p:spPr>
          <a:xfrm>
            <a:off x="1219320" y="502920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Скругленный прямоугольник 5"/>
          <p:cNvSpPr/>
          <p:nvPr/>
        </p:nvSpPr>
        <p:spPr>
          <a:xfrm>
            <a:off x="2971800" y="838080"/>
            <a:ext cx="4724280" cy="4572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6" descr="C:\Users\Таня\Desktop\котишки\hello_html_721bfbff.png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315200" y="152280"/>
            <a:ext cx="1982880" cy="1219320"/>
          </a:xfrm>
          <a:prstGeom prst="rect">
            <a:avLst/>
          </a:prstGeom>
          <a:ln w="0">
            <a:noFill/>
          </a:ln>
        </p:spPr>
      </p:pic>
      <p:sp>
        <p:nvSpPr>
          <p:cNvPr id="427" name="Скругленный прямоугольник 7"/>
          <p:cNvSpPr/>
          <p:nvPr/>
        </p:nvSpPr>
        <p:spPr>
          <a:xfrm>
            <a:off x="1219320" y="99072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Скругленный прямоугольник 8"/>
          <p:cNvSpPr/>
          <p:nvPr/>
        </p:nvSpPr>
        <p:spPr>
          <a:xfrm>
            <a:off x="1219320" y="236232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Скругленный прямоугольник 9"/>
          <p:cNvSpPr/>
          <p:nvPr/>
        </p:nvSpPr>
        <p:spPr>
          <a:xfrm>
            <a:off x="1219320" y="373392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Скругленный прямоугольник 14"/>
          <p:cNvSpPr/>
          <p:nvPr/>
        </p:nvSpPr>
        <p:spPr>
          <a:xfrm>
            <a:off x="1219320" y="5029200"/>
            <a:ext cx="1143000" cy="10666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Google Shape;112;p16" descr=""/>
          <p:cNvPicPr/>
          <p:nvPr/>
        </p:nvPicPr>
        <p:blipFill>
          <a:blip r:embed="rId1"/>
          <a:stretch/>
        </p:blipFill>
        <p:spPr>
          <a:xfrm>
            <a:off x="706320" y="914400"/>
            <a:ext cx="7699320" cy="18288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728640" y="2771640"/>
            <a:ext cx="377496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42920" y="2771640"/>
            <a:ext cx="377532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34" name="Google Shape;115;p16" descr=""/>
          <p:cNvPicPr/>
          <p:nvPr/>
        </p:nvPicPr>
        <p:blipFill>
          <a:blip r:embed="rId2"/>
          <a:stretch/>
        </p:blipFill>
        <p:spPr>
          <a:xfrm>
            <a:off x="728640" y="2771640"/>
            <a:ext cx="3774960" cy="3594240"/>
          </a:xfrm>
          <a:prstGeom prst="rect">
            <a:avLst/>
          </a:prstGeom>
          <a:ln w="0">
            <a:noFill/>
          </a:ln>
        </p:spPr>
      </p:pic>
      <p:pic>
        <p:nvPicPr>
          <p:cNvPr id="435" name="Google Shape;116;p16" descr=""/>
          <p:cNvPicPr/>
          <p:nvPr/>
        </p:nvPicPr>
        <p:blipFill>
          <a:blip r:embed="rId3"/>
          <a:srcRect l="0" t="0" r="0" b="4751"/>
          <a:stretch/>
        </p:blipFill>
        <p:spPr>
          <a:xfrm>
            <a:off x="4643280" y="2771640"/>
            <a:ext cx="377532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Google Shape;121;p17" descr=""/>
          <p:cNvPicPr/>
          <p:nvPr/>
        </p:nvPicPr>
        <p:blipFill>
          <a:blip r:embed="rId1"/>
          <a:stretch/>
        </p:blipFill>
        <p:spPr>
          <a:xfrm>
            <a:off x="493560" y="1432080"/>
            <a:ext cx="7699680" cy="113976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728640" y="2771640"/>
            <a:ext cx="377496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42920" y="2771640"/>
            <a:ext cx="377532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39" name="Google Shape;124;p17" descr=""/>
          <p:cNvPicPr/>
          <p:nvPr/>
        </p:nvPicPr>
        <p:blipFill>
          <a:blip r:embed="rId2"/>
          <a:stretch/>
        </p:blipFill>
        <p:spPr>
          <a:xfrm>
            <a:off x="728640" y="2771640"/>
            <a:ext cx="3774960" cy="3595680"/>
          </a:xfrm>
          <a:prstGeom prst="rect">
            <a:avLst/>
          </a:prstGeom>
          <a:ln w="0">
            <a:noFill/>
          </a:ln>
        </p:spPr>
      </p:pic>
      <p:pic>
        <p:nvPicPr>
          <p:cNvPr id="440" name="Google Shape;125;p17" descr=""/>
          <p:cNvPicPr/>
          <p:nvPr/>
        </p:nvPicPr>
        <p:blipFill>
          <a:blip r:embed="rId3"/>
          <a:stretch/>
        </p:blipFill>
        <p:spPr>
          <a:xfrm>
            <a:off x="4643280" y="2771640"/>
            <a:ext cx="377532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Google Shape;130;p18" descr=""/>
          <p:cNvPicPr/>
          <p:nvPr/>
        </p:nvPicPr>
        <p:blipFill>
          <a:blip r:embed="rId1"/>
          <a:stretch/>
        </p:blipFill>
        <p:spPr>
          <a:xfrm>
            <a:off x="566640" y="1847880"/>
            <a:ext cx="3529080" cy="2382840"/>
          </a:xfrm>
          <a:prstGeom prst="rect">
            <a:avLst/>
          </a:prstGeom>
          <a:ln w="0">
            <a:noFill/>
          </a:ln>
        </p:spPr>
      </p:pic>
      <p:pic>
        <p:nvPicPr>
          <p:cNvPr id="442" name="Google Shape;132;p18" descr=""/>
          <p:cNvPicPr/>
          <p:nvPr/>
        </p:nvPicPr>
        <p:blipFill>
          <a:blip r:embed="rId2"/>
          <a:stretch/>
        </p:blipFill>
        <p:spPr>
          <a:xfrm>
            <a:off x="4572000" y="1252440"/>
            <a:ext cx="4572000" cy="4353120"/>
          </a:xfrm>
          <a:prstGeom prst="rect">
            <a:avLst/>
          </a:prstGeom>
          <a:ln w="0">
            <a:noFill/>
          </a:ln>
        </p:spPr>
      </p:pic>
      <p:sp>
        <p:nvSpPr>
          <p:cNvPr id="443" name="Google Shape;133;p18"/>
          <p:cNvSpPr/>
          <p:nvPr/>
        </p:nvSpPr>
        <p:spPr>
          <a:xfrm>
            <a:off x="8261280" y="6359400"/>
            <a:ext cx="882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17bbfd"/>
                </a:solidFill>
                <a:uFillTx/>
                <a:latin typeface="Lato"/>
                <a:ea typeface="Lato"/>
              </a:rPr>
              <a:t>Nsportal.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2:53:08Z</dcterms:created>
  <dc:creator>Admin</dc:creator>
  <dc:description/>
  <dc:language>en-US</dc:language>
  <cp:lastModifiedBy>Пользователь</cp:lastModifiedBy>
  <dcterms:modified xsi:type="dcterms:W3CDTF">2022-11-01T18:11:03Z</dcterms:modified>
  <cp:revision>111</cp:revision>
  <dc:subject/>
  <dc:title>Слайд 1</dc:title>
</cp:coreProperties>
</file>