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D8B60-76FB-406D-8F1F-DC6E2C03DA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8B387-D4D9-4BC8-A7D9-8F99EF49C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барта хэрэглэгдэхэ угэнууд бэшэгдэжэ, шалгахалта хунгэдхэгдэнэ. Жэшээнь: Х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а, шэн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э, боро, шара, 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иг, туурхэ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19649-7D59-4B14-8C0B-FCC52C48A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дэ угэнуудые багша туруун уншажа бэшуулээд, удаань шалгаха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гшадай мэдэсэ шалгагд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67FC5-4CA3-4DE0-A846-9DBD7AE5C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э таблица анхаралтай адагалагты, дурим гаргагты г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 даабари угтэнэ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нэ таблицаар худэлхэдоо, тэмдэгэй нэрэ юумэнэй нэрэ шэнгеэр зохилдодог гэжэ тобшолол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рагшад гаргаха боло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8C212-8383-40BF-8DD1-234D3882E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дхаараа холбоотой х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г соо тэмдэгэй нэрэнуудые олож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лга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еы гэр тухай мэдэсэеэ ургэдхэл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6CBB5-F442-4BEB-9DF4-695A95F2D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ажа ба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 материалаа ойлгожо, мэдэжэ абахын практическа худэлмэ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2E2-72D8-49F0-95D0-C4206361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18E-6320-4BB1-9321-B3C726AC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343-2731-4172-A2BB-704C0699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5D1-4AF4-4A15-A60B-86AA31EA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C4BA-D8ED-45D5-A424-58235DC3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D4CF-FF4F-4103-912A-04FCDA84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FF7F-9E04-4CE7-B3E8-12B702BC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669E-83B8-4FDC-B959-155829EE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EF02-6953-42B8-8655-B82EFF26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E533-0918-4D19-ABD9-98CF66F1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5897-AF63-4555-BB6F-60BC4F4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D3B-E9D7-4E07-9C7E-802D80D8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2BE1-8B49-4756-937D-FBBF6DA9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84E2-9B4F-4D36-8338-7A233A16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0E23-46B0-4FA3-AACD-3ACCAE00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93C6-D4BF-4F7C-AC36-7DBF34EE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EEEF-BBF2-477C-A15B-DE20F369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BE00-EDB2-4B43-B640-4C6F8570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5E21-F968-490A-9FE7-E4BE25AA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0EFD-B028-4127-9794-47361A42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B449-F4FB-4C43-949D-BFDD26A2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6421-B7E0-43DE-89AC-68292751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B01-6E76-428F-B112-4F0394F4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4B6E-B708-466E-A0BB-A491381D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1EE3-7ED9-440C-8B7E-E045EC36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430E-EC09-49F2-83E9-ADB19D6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9AE0-FC2B-45C1-8950-22AA51D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0456-5F89-4664-80E3-C87162FD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B8CE-D75A-4EAE-A8CF-CFDFC83E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3375-7218-40CF-B686-12998BDB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46B7A-64D1-424B-B1E0-90E632A2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A123-067C-4C9A-AD9E-9C70A2FD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9614-206C-4E0B-8206-A63CC652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B17-792E-4B11-86D9-ED78A1CC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FC88-DC43-401B-8585-30C177C1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DC95-49E2-460D-A721-672E6187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1F71E-68C6-4BE2-A0C7-79E0B293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D81E2-70EF-4FC8-A34B-A3AEFCA9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7E95F-944B-406A-BD60-745C417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D714-84E3-474B-A324-C96E897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F8D83-A2CE-492A-B7E4-ABA11887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8A32B-8412-41F3-B97A-82DE59E6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AC35-6490-4F80-B990-1431D27B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D318D-E03F-4DE5-BBA4-6FD1B855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3AE-E4C8-4FE9-84B9-250A9AB5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90C28-9F21-4958-8128-982019B4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C72F-0CF1-4D1A-8F82-BDB14F33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CBDD-405F-40A0-9C0D-478EC0F8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BF6FD-AE89-446F-98A3-2C3E51E5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13E7-145D-4A76-937C-4801C9E8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BA15-7605-4D22-9DCF-30AA053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CC8E-E83C-407B-9D80-C471C18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1EF44-CC40-473F-83E0-3C66AFD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CC8F3-7BB2-4264-A9D9-CFA121BB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1F2B8-7375-407C-8A13-20D49B8D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AEE-A84C-4FA0-A439-A0C49044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2D1A1-DEB1-40DE-B4D2-FC03DAD9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B5C-824D-4985-AA6B-F9CA9BF1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B94-8CEC-4580-8580-59C0FCB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73E-CBBA-4A6E-A095-5174F774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4A6DF-DF7D-43E0-B4F5-2B61E0AB55C3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460D3-5551-4CFB-B0B5-89223DF37E43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2F636-FFCC-4354-9DF3-A4C56C8225C5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ED00F-51BA-4DC1-B352-DC8E7E6BEDB9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C7964-51CC-4350-8371-72C6196DF979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90;&#1072;&#1073;&#1083;&#1080;&#1094;&#1072;2" TargetMode="External"/><Relationship Id="rId2" Type="http://schemas.openxmlformats.org/officeDocument/2006/relationships/hyperlink" Target="file:///&#1090;&#1072;&#1073;&#1083;&#1080;&#1094;&#1072;2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88840" y="692280"/>
            <a:ext cx="7366320" cy="525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f888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n-Cyrl-MN" sz="1200" spc="-1" strike="noStrike">
                <a:solidFill>
                  <a:srgbClr val="757575"/>
                </a:solidFill>
                <a:latin typeface="Times New Roman Bur"/>
              </a:rPr>
              <a:t>МБОУ “Хоца Намсараевай нэрэмжэтэ Хэжэнгын дунда ћургуули”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338120" y="2782800"/>
            <a:ext cx="66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3600" spc="-1" strike="noStrike">
                <a:solidFill>
                  <a:srgbClr val="ff0066"/>
                </a:solidFill>
                <a:latin typeface="Times New Roman Bur"/>
              </a:rPr>
              <a:t>Тэмдэгэй нэрэ тухай ойлгосо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076720" y="472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800" spc="-1" strike="noStrike">
                <a:solidFill>
                  <a:srgbClr val="003399"/>
                </a:solidFill>
                <a:latin typeface="Times New Roman Bur"/>
              </a:rPr>
              <a:t>Бїридхэгшэ: Доржиева Д.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1047600"/>
            <a:ext cx="6348600" cy="587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 Bur"/>
              </a:rPr>
              <a:t>А</a:t>
            </a:r>
            <a:r>
              <a:rPr b="0" lang="mn-Cyrl-MN" sz="2400" spc="-1" strike="noStrike">
                <a:solidFill>
                  <a:srgbClr val="0000ff"/>
                </a:solidFill>
                <a:latin typeface="Times New Roman Bur"/>
              </a:rPr>
              <a:t>МАН ХЭЛЭЛГЭ ХҮГЖӨӨЛГЭ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2781360"/>
            <a:ext cx="3672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 Bur"/>
              </a:rPr>
              <a:t>Зураг адаглан хаража, «Наранай гаралга» гэ</a:t>
            </a:r>
            <a:r>
              <a:rPr b="0" lang="en-US" sz="2600" spc="-1" strike="noStrike">
                <a:solidFill>
                  <a:srgbClr val="002060"/>
                </a:solidFill>
                <a:latin typeface="Times New Roman Bur"/>
              </a:rPr>
              <a:t>h</a:t>
            </a:r>
            <a:r>
              <a:rPr b="0" lang="ru-RU" sz="2600" spc="-1" strike="noStrike">
                <a:solidFill>
                  <a:srgbClr val="002060"/>
                </a:solidFill>
                <a:latin typeface="Times New Roman Bur"/>
              </a:rPr>
              <a:t>эн богонихон аман х</a:t>
            </a:r>
            <a:r>
              <a:rPr b="0" lang="mn-Cyrl-MN" sz="2600" spc="-1" strike="noStrike">
                <a:solidFill>
                  <a:srgbClr val="002060"/>
                </a:solidFill>
                <a:latin typeface="Times New Roman Bur"/>
              </a:rPr>
              <a:t>єє</a:t>
            </a:r>
            <a:r>
              <a:rPr b="0" lang="ru-RU" sz="2600" spc="-1" strike="noStrike">
                <a:solidFill>
                  <a:srgbClr val="002060"/>
                </a:solidFill>
                <a:latin typeface="Times New Roman Bur"/>
              </a:rPr>
              <a:t>р</a:t>
            </a:r>
            <a:r>
              <a:rPr b="0" lang="mn-Cyrl-MN" sz="2600" spc="-1" strike="noStrike">
                <a:solidFill>
                  <a:srgbClr val="002060"/>
                </a:solidFill>
                <a:latin typeface="Times New Roman Bur"/>
              </a:rPr>
              <a:t>єє</a:t>
            </a:r>
            <a:r>
              <a:rPr b="0" lang="ru-RU" sz="2600" spc="-1" strike="noStrike">
                <a:solidFill>
                  <a:srgbClr val="002060"/>
                </a:solidFill>
                <a:latin typeface="Times New Roman Bur"/>
              </a:rPr>
              <a:t> бэлдэхэ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8" name="Picture 6" descr="Рассвет"/>
          <p:cNvPicPr/>
          <p:nvPr/>
        </p:nvPicPr>
        <p:blipFill>
          <a:blip r:embed="rId1"/>
          <a:stretch/>
        </p:blipFill>
        <p:spPr>
          <a:xfrm>
            <a:off x="4340160" y="2023920"/>
            <a:ext cx="4138560" cy="851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60720" y="404640"/>
            <a:ext cx="4822560" cy="865440"/>
          </a:xfrm>
          <a:prstGeom prst="rect">
            <a:avLst/>
          </a:prstGeom>
          <a:solidFill>
            <a:srgbClr val="bfeaf9"/>
          </a:solidFill>
          <a:ln w="9360">
            <a:solidFill>
              <a:srgbClr val="ff0066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rebuchet MS"/>
              </a:rPr>
              <a:t>Гэрэй даабари: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628640"/>
            <a:ext cx="7058160" cy="4104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99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Хэшээлдэ </a:t>
            </a:r>
            <a:r>
              <a:rPr b="0" lang="mn-Cyrl-MN" sz="2800" spc="-1" strike="noStrike">
                <a:solidFill>
                  <a:srgbClr val="174261"/>
                </a:solidFill>
                <a:latin typeface="Times New Roman Bur"/>
              </a:rPr>
              <a:t>ї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зэ</a:t>
            </a:r>
            <a:r>
              <a:rPr b="0" lang="en-US" sz="2800" spc="-1" strike="noStrike">
                <a:solidFill>
                  <a:srgbClr val="174261"/>
                </a:solidFill>
                <a:latin typeface="Times New Roman Bur"/>
              </a:rPr>
              <a:t>h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эн</a:t>
            </a:r>
            <a:r>
              <a:rPr b="0" lang="mn-Cyrl-MN" sz="2800" spc="-1" strike="noStrike">
                <a:solidFill>
                  <a:srgbClr val="174261"/>
                </a:solidFill>
                <a:latin typeface="Times New Roman Bur"/>
              </a:rPr>
              <a:t>єє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 дабталг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«Наранай гаралга» гэ</a:t>
            </a:r>
            <a:r>
              <a:rPr b="0" lang="en-US" sz="2800" spc="-1" strike="noStrike">
                <a:solidFill>
                  <a:srgbClr val="174261"/>
                </a:solidFill>
                <a:latin typeface="Times New Roman Bur"/>
              </a:rPr>
              <a:t>h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эн зураглал бэшэхэдээ шанарта ба харилсаата тэмдэгэй нэрэн</a:t>
            </a:r>
            <a:r>
              <a:rPr b="0" lang="mn-Cyrl-MN" sz="2800" spc="-1" strike="noStrike">
                <a:solidFill>
                  <a:srgbClr val="174261"/>
                </a:solidFill>
                <a:latin typeface="Times New Roman Bur"/>
              </a:rPr>
              <a:t>її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дые оруулха, падежн</a:t>
            </a:r>
            <a:r>
              <a:rPr b="0" lang="mn-Cyrl-MN" sz="2800" spc="-1" strike="noStrike">
                <a:solidFill>
                  <a:srgbClr val="174261"/>
                </a:solidFill>
                <a:latin typeface="Times New Roman Bur"/>
              </a:rPr>
              <a:t>її</a:t>
            </a:r>
            <a:r>
              <a:rPr b="0" lang="ru-RU" sz="2800" spc="-1" strike="noStrike">
                <a:solidFill>
                  <a:srgbClr val="174261"/>
                </a:solidFill>
                <a:latin typeface="Times New Roman Bur"/>
              </a:rPr>
              <a:t>дыень заах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60480" y="112680"/>
            <a:ext cx="783432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r>
              <a:rPr b="0" lang="ru-RU" sz="1300" spc="-1" strike="noStrike">
                <a:solidFill>
                  <a:srgbClr val="0000ff"/>
                </a:solidFill>
                <a:latin typeface="Times New Roman Bur"/>
              </a:rPr>
              <a:t> </a:t>
            </a:r>
            <a:r>
              <a:rPr b="1" lang="ru-RU" sz="1300" spc="-1" strike="noStrike">
                <a:solidFill>
                  <a:srgbClr val="ff6699"/>
                </a:solidFill>
                <a:latin typeface="Times New Roman Bur"/>
              </a:rPr>
              <a:t>Хэшээлэй темэ:  </a:t>
            </a:r>
            <a:r>
              <a:rPr b="1" lang="ru-RU" sz="1300" spc="-1" strike="noStrike">
                <a:solidFill>
                  <a:srgbClr val="003399"/>
                </a:solidFill>
                <a:latin typeface="Times New Roman Bur"/>
              </a:rPr>
              <a:t>Тэмдэгэй нэрэ тухай ойлгосо</a:t>
            </a:r>
            <a:r>
              <a:rPr b="1" lang="ru-RU" sz="1300" spc="-1" strike="noStrike">
                <a:solidFill>
                  <a:srgbClr val="5fcbef"/>
                </a:solidFill>
                <a:latin typeface="Times New Roman Bur"/>
              </a:rPr>
              <a:t>.</a:t>
            </a:r>
            <a:br>
              <a:rPr sz="1300"/>
            </a:br>
            <a:r>
              <a:rPr b="1" lang="ru-RU" sz="1300" spc="-1" strike="noStrike">
                <a:solidFill>
                  <a:srgbClr val="ff6699"/>
                </a:solidFill>
                <a:latin typeface="Times New Roman Bur"/>
              </a:rPr>
              <a:t> Зорилго: </a:t>
            </a:r>
            <a:r>
              <a:rPr b="1" lang="ru-RU" sz="1300" spc="-1" strike="noStrike">
                <a:solidFill>
                  <a:srgbClr val="006699"/>
                </a:solidFill>
                <a:latin typeface="Times New Roman Bur"/>
              </a:rPr>
              <a:t>Хэлэлгын хубинуудые гара</a:t>
            </a:r>
            <a:r>
              <a:rPr b="1" lang="en-US" sz="1300" spc="-1" strike="noStrike">
                <a:solidFill>
                  <a:srgbClr val="006699"/>
                </a:solidFill>
                <a:latin typeface="Times New Roman Bur"/>
              </a:rPr>
              <a:t>h</a:t>
            </a:r>
            <a:r>
              <a:rPr b="1" lang="ru-RU" sz="1300" spc="-1" strike="noStrike">
                <a:solidFill>
                  <a:srgbClr val="006699"/>
                </a:solidFill>
                <a:latin typeface="Times New Roman Bur"/>
              </a:rPr>
              <a:t>анаа дабталга. Тэмдэгэй нэрын шэнжэ, илгарал</a:t>
            </a:r>
            <a:r>
              <a:rPr b="1" lang="mn-Cyrl-MN" sz="1300" spc="-1" strike="noStrike">
                <a:solidFill>
                  <a:srgbClr val="006699"/>
                </a:solidFill>
                <a:latin typeface="Times New Roman Bur"/>
              </a:rPr>
              <a:t>тай танилсалга</a:t>
            </a:r>
            <a:br>
              <a:rPr sz="1700"/>
            </a:br>
            <a:r>
              <a:rPr b="1" lang="ru-RU" sz="1700" spc="-1" strike="noStrike">
                <a:solidFill>
                  <a:srgbClr val="5fcbef"/>
                </a:solidFill>
                <a:latin typeface="Trebuchet MS"/>
              </a:rPr>
              <a:t>                                                  </a:t>
            </a:r>
            <a:br>
              <a:rPr sz="1700"/>
            </a:br>
            <a:r>
              <a:rPr b="1" lang="ru-RU" sz="1200" spc="-1" strike="noStrike">
                <a:solidFill>
                  <a:srgbClr val="ff6699"/>
                </a:solidFill>
                <a:latin typeface="Times New Roman Bur"/>
              </a:rPr>
              <a:t>Хэшээлэй ябаса</a:t>
            </a:r>
            <a:endParaRPr b="0" lang="en-US" sz="1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 rot="41400">
            <a:off x="611280" y="1557000"/>
            <a:ext cx="1766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rebuchet MS"/>
              </a:rPr>
              <a:t>Дабталга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rebuchet MS"/>
              </a:rPr>
              <a:t>           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Trebuchet MS"/>
              </a:rPr>
              <a:t>                     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950920" y="1645920"/>
            <a:ext cx="5365800" cy="4249800"/>
          </a:xfrm>
          <a:prstGeom prst="rect">
            <a:avLst/>
          </a:prstGeom>
          <a:noFill/>
          <a:ln w="28440">
            <a:solidFill>
              <a:srgbClr val="ff999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Хэлэлгын хубинууд ямарнууд боложо хубаарнаб? Ямар асуудалда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 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харюусанаб? Мэд</a:t>
            </a:r>
            <a:r>
              <a:rPr b="1" lang="mn-Cyrl-MN" sz="1300" spc="-1" strike="noStrike">
                <a:solidFill>
                  <a:srgbClr val="3b3b3b"/>
                </a:solidFill>
                <a:latin typeface="Times New Roman Bur"/>
              </a:rPr>
              <a:t>үү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лэлэй гэш</a:t>
            </a:r>
            <a:r>
              <a:rPr b="1" lang="mn-Cyrl-MN" sz="1300" spc="-1" strike="noStrike">
                <a:solidFill>
                  <a:srgbClr val="3b3b3b"/>
                </a:solidFill>
                <a:latin typeface="Times New Roman Bur"/>
              </a:rPr>
              <a:t>її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н болодог</a:t>
            </a:r>
            <a:r>
              <a:rPr b="1" lang="en-US" sz="1300" spc="-1" strike="noStrike">
                <a:solidFill>
                  <a:srgbClr val="3b3b3b"/>
                </a:solidFill>
                <a:latin typeface="Times New Roman Bur"/>
              </a:rPr>
              <a:t> 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г</a:t>
            </a:r>
            <a:r>
              <a:rPr b="1" lang="mn-Cyrl-MN" sz="1300" spc="-1" strike="noStrike">
                <a:solidFill>
                  <a:srgbClr val="3b3b3b"/>
                </a:solidFill>
                <a:latin typeface="Times New Roman Bur"/>
              </a:rPr>
              <a:t>ї</a:t>
            </a:r>
            <a:r>
              <a:rPr b="1" lang="ru-RU" sz="1300" spc="-1" strike="noStrike">
                <a:solidFill>
                  <a:srgbClr val="3b3b3b"/>
                </a:solidFill>
                <a:latin typeface="Times New Roman Bur"/>
              </a:rPr>
              <a:t>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1. Юумэнэй нэр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 u="sng">
                <a:solidFill>
                  <a:srgbClr val="3fcde7"/>
                </a:solidFill>
                <a:uFillTx/>
                <a:latin typeface="Times New Roman Bur"/>
                <a:hlinkClick r:id="rId1"/>
              </a:rPr>
              <a:t>2. </a:t>
            </a:r>
            <a:r>
              <a:rPr b="0" lang="ru-RU" sz="1300" spc="-1" strike="noStrike" u="sng">
                <a:solidFill>
                  <a:srgbClr val="3fcde7"/>
                </a:solidFill>
                <a:uFillTx/>
                <a:latin typeface="Times New Roman Bur"/>
                <a:hlinkClick r:id="rId2"/>
              </a:rPr>
              <a:t>Тэмдэгэй нэр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3. Тоогой нэр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4. Т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л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єє</a:t>
            </a: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нэй нэр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5.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Үйлэ ү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6.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Дайбар ү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7.  Дахуул у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8. 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Холболто ү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9. 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Зүйр үгэ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 Bur"/>
              </a:rPr>
              <a:t>10. </a:t>
            </a:r>
            <a:r>
              <a:rPr b="0" lang="mn-Cyrl-MN" sz="1300" spc="-1" strike="noStrike">
                <a:solidFill>
                  <a:srgbClr val="404040"/>
                </a:solidFill>
                <a:latin typeface="Times New Roman Bur"/>
              </a:rPr>
              <a:t>Аянгалһан үгэнүүд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1332000" y="18079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174a35"/>
                </a:solidFill>
                <a:latin typeface="BangkokBur"/>
                <a:ea typeface="Times New Roman"/>
              </a:rPr>
              <a:t>б.д. х.х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Rectangle 17"/>
          <p:cNvSpPr/>
          <p:nvPr/>
        </p:nvSpPr>
        <p:spPr>
          <a:xfrm flipV="1" rot="10746000">
            <a:off x="5616720" y="47768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0066"/>
                </a:solidFill>
                <a:latin typeface="Times New Roman Bur"/>
              </a:rPr>
              <a:t>хубилдаг</a:t>
            </a:r>
            <a:r>
              <a:rPr b="0" lang="mn-Cyrl-MN" sz="1400" spc="-1" strike="noStrike">
                <a:solidFill>
                  <a:srgbClr val="ff0066"/>
                </a:solidFill>
                <a:latin typeface="Times New Roman Bur"/>
              </a:rPr>
              <a:t>гї</a:t>
            </a:r>
            <a:r>
              <a:rPr b="0" lang="ru-RU" sz="1400" spc="-1" strike="noStrike">
                <a:solidFill>
                  <a:srgbClr val="ff0066"/>
                </a:solidFill>
                <a:latin typeface="Times New Roman Bur"/>
              </a:rPr>
              <a:t>й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5435640" y="2458800"/>
            <a:ext cx="100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Times New Roman Bur"/>
              </a:rPr>
              <a:t>хубилдаг</a:t>
            </a:r>
            <a:r>
              <a:rPr b="0" lang="ru-RU" sz="14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1444680" y="67266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AutoShape 45"/>
          <p:cNvSpPr/>
          <p:nvPr/>
        </p:nvSpPr>
        <p:spPr>
          <a:xfrm>
            <a:off x="1476360" y="2276640"/>
            <a:ext cx="431640" cy="358560"/>
          </a:xfrm>
          <a:prstGeom prst="smileyFace">
            <a:avLst>
              <a:gd name="adj" fmla="val 9282"/>
            </a:avLst>
          </a:prstGeom>
          <a:solidFill>
            <a:srgbClr val="5fcb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Line 46"/>
          <p:cNvSpPr/>
          <p:nvPr/>
        </p:nvSpPr>
        <p:spPr>
          <a:xfrm>
            <a:off x="1692360" y="2637000"/>
            <a:ext cx="1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Line 47"/>
          <p:cNvSpPr/>
          <p:nvPr/>
        </p:nvSpPr>
        <p:spPr>
          <a:xfrm flipH="1">
            <a:off x="1476360" y="3141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1692360" y="3141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1476360" y="3284640"/>
            <a:ext cx="14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Line 50"/>
          <p:cNvSpPr/>
          <p:nvPr/>
        </p:nvSpPr>
        <p:spPr>
          <a:xfrm>
            <a:off x="1908000" y="3284640"/>
            <a:ext cx="18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Line 51"/>
          <p:cNvSpPr/>
          <p:nvPr/>
        </p:nvSpPr>
        <p:spPr>
          <a:xfrm flipH="1">
            <a:off x="1476360" y="2637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Line 52"/>
          <p:cNvSpPr/>
          <p:nvPr/>
        </p:nvSpPr>
        <p:spPr>
          <a:xfrm>
            <a:off x="1692360" y="263700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Line 53"/>
          <p:cNvSpPr/>
          <p:nvPr/>
        </p:nvSpPr>
        <p:spPr>
          <a:xfrm flipH="1" flipV="1">
            <a:off x="1258920" y="2636640"/>
            <a:ext cx="217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Line 55"/>
          <p:cNvSpPr/>
          <p:nvPr/>
        </p:nvSpPr>
        <p:spPr>
          <a:xfrm flipV="1">
            <a:off x="1908000" y="2636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Line 56"/>
          <p:cNvSpPr/>
          <p:nvPr/>
        </p:nvSpPr>
        <p:spPr>
          <a:xfrm>
            <a:off x="1187280" y="2637000"/>
            <a:ext cx="100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Line 58"/>
          <p:cNvSpPr/>
          <p:nvPr/>
        </p:nvSpPr>
        <p:spPr>
          <a:xfrm>
            <a:off x="1187280" y="2637000"/>
            <a:ext cx="180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Line 59"/>
          <p:cNvSpPr/>
          <p:nvPr/>
        </p:nvSpPr>
        <p:spPr>
          <a:xfrm>
            <a:off x="2195640" y="2637000"/>
            <a:ext cx="144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AutoShape 65"/>
          <p:cNvSpPr/>
          <p:nvPr/>
        </p:nvSpPr>
        <p:spPr>
          <a:xfrm>
            <a:off x="241128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AutoShape 66"/>
          <p:cNvSpPr/>
          <p:nvPr/>
        </p:nvSpPr>
        <p:spPr>
          <a:xfrm>
            <a:off x="1619280" y="4292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5fcb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Line 67"/>
          <p:cNvSpPr/>
          <p:nvPr/>
        </p:nvSpPr>
        <p:spPr>
          <a:xfrm flipH="1">
            <a:off x="1547640" y="465300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Line 68"/>
          <p:cNvSpPr/>
          <p:nvPr/>
        </p:nvSpPr>
        <p:spPr>
          <a:xfrm>
            <a:off x="1685880" y="4991040"/>
            <a:ext cx="71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Line 69"/>
          <p:cNvSpPr/>
          <p:nvPr/>
        </p:nvSpPr>
        <p:spPr>
          <a:xfrm>
            <a:off x="1547640" y="544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Line 71"/>
          <p:cNvSpPr/>
          <p:nvPr/>
        </p:nvSpPr>
        <p:spPr>
          <a:xfrm>
            <a:off x="176364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Line 73"/>
          <p:cNvSpPr/>
          <p:nvPr/>
        </p:nvSpPr>
        <p:spPr>
          <a:xfrm flipV="1">
            <a:off x="1763640" y="4581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Line 74"/>
          <p:cNvSpPr/>
          <p:nvPr/>
        </p:nvSpPr>
        <p:spPr>
          <a:xfrm flipV="1">
            <a:off x="1757520" y="4797360"/>
            <a:ext cx="4381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AutoShape 75"/>
          <p:cNvSpPr/>
          <p:nvPr/>
        </p:nvSpPr>
        <p:spPr>
          <a:xfrm>
            <a:off x="2411280" y="4292640"/>
            <a:ext cx="220680" cy="1368360"/>
          </a:xfrm>
          <a:custGeom>
            <a:avLst/>
            <a:gdLst>
              <a:gd name="textAreaLeft" fmla="*/ 64800 w 220680"/>
              <a:gd name="textAreaRight" fmla="*/ 221040 w 2206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Line 76"/>
          <p:cNvSpPr/>
          <p:nvPr/>
        </p:nvSpPr>
        <p:spPr>
          <a:xfrm>
            <a:off x="4734000" y="2349360"/>
            <a:ext cx="57636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Line 78"/>
          <p:cNvSpPr/>
          <p:nvPr/>
        </p:nvSpPr>
        <p:spPr>
          <a:xfrm flipH="1">
            <a:off x="4641480" y="2924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Line 83"/>
          <p:cNvSpPr/>
          <p:nvPr/>
        </p:nvSpPr>
        <p:spPr>
          <a:xfrm>
            <a:off x="4876920" y="452916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Line 84"/>
          <p:cNvSpPr/>
          <p:nvPr/>
        </p:nvSpPr>
        <p:spPr>
          <a:xfrm flipH="1">
            <a:off x="5111640" y="497664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3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3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71440"/>
            <a:ext cx="5977080" cy="442800"/>
          </a:xfrm>
          <a:prstGeom prst="rect">
            <a:avLst/>
          </a:prstGeom>
          <a:solidFill>
            <a:srgbClr val="dff5f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Шэнэ темэ: Тэмдэгэй нэрын шэнжэ, илгарал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60440" y="882360"/>
            <a:ext cx="3606840" cy="129060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Б.д.   х.х</a:t>
            </a:r>
            <a:r>
              <a:rPr b="0" lang="mn-Cyrl-MN" sz="800" spc="-1" strike="noStrike">
                <a:solidFill>
                  <a:srgbClr val="174261"/>
                </a:solidFill>
                <a:latin typeface="Times New Roman Bur"/>
              </a:rPr>
              <a:t>(бэеэ дааһан хэлэлгын хуби)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М.г.: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     </a:t>
            </a: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элирхэйлэгшэ</a:t>
            </a:r>
            <a:r>
              <a:rPr b="0" lang="mn-Cyrl-MN" sz="800" spc="-1" strike="noStrike">
                <a:solidFill>
                  <a:srgbClr val="174261"/>
                </a:solidFill>
                <a:latin typeface="Times New Roman Bur"/>
              </a:rPr>
              <a:t>, хэлэгшэ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     </a:t>
            </a: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ямар?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     </a:t>
            </a: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хэнэй?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     </a:t>
            </a:r>
            <a:r>
              <a:rPr b="0" lang="ru-RU" sz="800" spc="-1" strike="noStrike">
                <a:solidFill>
                  <a:srgbClr val="174261"/>
                </a:solidFill>
                <a:latin typeface="Times New Roman Bur"/>
              </a:rPr>
              <a:t>юунэй?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2317320" y="400608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315160" y="4612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379160" y="182484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1386000" y="1225800"/>
            <a:ext cx="2232000" cy="58140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BangkokBur"/>
                <a:ea typeface="Times New Roman"/>
              </a:rPr>
              <a:t>Тэм.н :</a:t>
            </a:r>
            <a:r>
              <a:rPr b="0" lang="ru-RU" sz="20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шанар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тэмдэг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824040" y="2069280"/>
            <a:ext cx="7184880" cy="41702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лгарал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Шанар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(анхан</a:t>
            </a: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аа бай</a:t>
            </a: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ан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р?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80000"/>
              <a:buFont typeface="BangkokBu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Б)     </a:t>
            </a: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</a:t>
            </a: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ногоон                              хүхэ                            зурлаанууд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BangkokBur"/>
                <a:ea typeface="Times New Roman"/>
              </a:rPr>
              <a:t>2. Харилсаата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ff00ff"/>
                </a:solidFill>
                <a:latin typeface="BangkokBur"/>
                <a:ea typeface="Times New Roman"/>
              </a:rPr>
              <a:t>ямар нэгэн юумэндэ хабаатай бай</a:t>
            </a:r>
            <a:r>
              <a:rPr b="0" lang="en-US" sz="1200" spc="-1" strike="noStrike">
                <a:solidFill>
                  <a:srgbClr val="ff00ff"/>
                </a:solidFill>
                <a:latin typeface="BangkokBur"/>
                <a:ea typeface="Times New Roman"/>
              </a:rPr>
              <a:t>h</a:t>
            </a:r>
            <a:r>
              <a:rPr b="0" lang="ru-RU" sz="1200" spc="-1" strike="noStrike">
                <a:solidFill>
                  <a:srgbClr val="ff00ff"/>
                </a:solidFill>
                <a:latin typeface="BangkokBur"/>
                <a:ea typeface="Times New Roman"/>
              </a:rPr>
              <a:t>ые харуулдаг)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А) юум. н – модон + шо =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                                                         </a:t>
            </a: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зохилдодог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Б) наречи – эндэ+ хи =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В) глагол – анга + ма =                                                             </a:t>
            </a:r>
            <a:r>
              <a:rPr b="0" lang="mn-Cyrl-MN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angkokBur"/>
                <a:ea typeface="Times New Roman"/>
              </a:rPr>
              <a:t>хамаададаг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Rectangle 29"/>
          <p:cNvSpPr/>
          <p:nvPr/>
        </p:nvSpPr>
        <p:spPr>
          <a:xfrm>
            <a:off x="1444680" y="67266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gkokBur"/>
                <a:ea typeface="Times New Roman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Line 94"/>
          <p:cNvSpPr/>
          <p:nvPr/>
        </p:nvSpPr>
        <p:spPr>
          <a:xfrm>
            <a:off x="3780000" y="1125360"/>
            <a:ext cx="0" cy="93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Rectangle 98"/>
          <p:cNvSpPr/>
          <p:nvPr/>
        </p:nvSpPr>
        <p:spPr>
          <a:xfrm>
            <a:off x="1547640" y="3645000"/>
            <a:ext cx="865440" cy="144360"/>
          </a:xfrm>
          <a:prstGeom prst="rect">
            <a:avLst/>
          </a:prstGeom>
          <a:solidFill>
            <a:srgbClr val="5fcb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000000"/>
                </a:solidFill>
                <a:latin typeface="Arial"/>
              </a:rPr>
              <a:t>ягаан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Rectangle 99"/>
          <p:cNvSpPr/>
          <p:nvPr/>
        </p:nvSpPr>
        <p:spPr>
          <a:xfrm>
            <a:off x="2771640" y="3645000"/>
            <a:ext cx="863640" cy="144360"/>
          </a:xfrm>
          <a:prstGeom prst="rect">
            <a:avLst/>
          </a:prstGeom>
          <a:solidFill>
            <a:srgbClr val="5fcb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000000"/>
                </a:solidFill>
                <a:latin typeface="Times New Roman Bur"/>
              </a:rPr>
              <a:t>улаан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100" descr="Rose 1"/>
          <p:cNvPicPr/>
          <p:nvPr/>
        </p:nvPicPr>
        <p:blipFill>
          <a:blip r:embed="rId1"/>
          <a:stretch/>
        </p:blipFill>
        <p:spPr>
          <a:xfrm>
            <a:off x="4356000" y="2997360"/>
            <a:ext cx="782640" cy="790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1" descr="Rose 1"/>
          <p:cNvPicPr/>
          <p:nvPr/>
        </p:nvPicPr>
        <p:blipFill>
          <a:blip r:embed="rId2"/>
          <a:stretch/>
        </p:blipFill>
        <p:spPr>
          <a:xfrm>
            <a:off x="5724360" y="2997360"/>
            <a:ext cx="720720" cy="79056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320" name="Line 103"/>
          <p:cNvSpPr/>
          <p:nvPr/>
        </p:nvSpPr>
        <p:spPr>
          <a:xfrm>
            <a:off x="1476360" y="4292640"/>
            <a:ext cx="1008000" cy="0"/>
          </a:xfrm>
          <a:prstGeom prst="line">
            <a:avLst/>
          </a:prstGeom>
          <a:ln cap="rnd" w="19080">
            <a:solidFill>
              <a:srgbClr val="42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Line 104"/>
          <p:cNvSpPr/>
          <p:nvPr/>
        </p:nvSpPr>
        <p:spPr>
          <a:xfrm>
            <a:off x="2916360" y="4292640"/>
            <a:ext cx="57600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Rectangle 105"/>
          <p:cNvSpPr/>
          <p:nvPr/>
        </p:nvSpPr>
        <p:spPr>
          <a:xfrm>
            <a:off x="3130560" y="4595760"/>
            <a:ext cx="863640" cy="34452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AutoShape 107"/>
          <p:cNvSpPr/>
          <p:nvPr/>
        </p:nvSpPr>
        <p:spPr>
          <a:xfrm>
            <a:off x="6356520" y="3292560"/>
            <a:ext cx="1622160" cy="12142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Line 108"/>
          <p:cNvSpPr/>
          <p:nvPr/>
        </p:nvSpPr>
        <p:spPr>
          <a:xfrm flipH="1" flipV="1">
            <a:off x="971640" y="4365360"/>
            <a:ext cx="79200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Rectangle 109"/>
          <p:cNvSpPr/>
          <p:nvPr/>
        </p:nvSpPr>
        <p:spPr>
          <a:xfrm>
            <a:off x="3079800" y="4927680"/>
            <a:ext cx="914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Rectangle 112"/>
          <p:cNvSpPr/>
          <p:nvPr/>
        </p:nvSpPr>
        <p:spPr>
          <a:xfrm>
            <a:off x="3132000" y="5084640"/>
            <a:ext cx="863640" cy="21600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Rectangle 113"/>
          <p:cNvSpPr/>
          <p:nvPr/>
        </p:nvSpPr>
        <p:spPr>
          <a:xfrm>
            <a:off x="3132000" y="5445000"/>
            <a:ext cx="863640" cy="217440"/>
          </a:xfrm>
          <a:prstGeom prst="rect">
            <a:avLst/>
          </a:prstGeom>
          <a:noFill/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AutoShape 114"/>
          <p:cNvSpPr/>
          <p:nvPr/>
        </p:nvSpPr>
        <p:spPr>
          <a:xfrm>
            <a:off x="4572000" y="5008680"/>
            <a:ext cx="223920" cy="936360"/>
          </a:xfrm>
          <a:custGeom>
            <a:avLst/>
            <a:gdLst>
              <a:gd name="textAreaLeft" fmla="*/ 0 w 223920"/>
              <a:gd name="textAreaRight" fmla="*/ 80640 w 223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Прямоугольник: скругленные углы 1"/>
          <p:cNvSpPr/>
          <p:nvPr/>
        </p:nvSpPr>
        <p:spPr>
          <a:xfrm>
            <a:off x="2859120" y="4998960"/>
            <a:ext cx="1135080" cy="26028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181818"/>
                </a:solidFill>
                <a:latin typeface="Times New Roman Bur"/>
              </a:rPr>
              <a:t>модошон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Прямоугольник: скругленные углы 2"/>
          <p:cNvSpPr/>
          <p:nvPr/>
        </p:nvSpPr>
        <p:spPr>
          <a:xfrm>
            <a:off x="2852640" y="5384880"/>
            <a:ext cx="1036800" cy="22860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181818"/>
                </a:solidFill>
                <a:latin typeface="Times New Roman Bur"/>
              </a:rPr>
              <a:t>эндэхи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Прямоугольник: скругленные углы 3"/>
          <p:cNvSpPr/>
          <p:nvPr/>
        </p:nvSpPr>
        <p:spPr>
          <a:xfrm>
            <a:off x="2897280" y="5724360"/>
            <a:ext cx="1006560" cy="3049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1200" spc="-1" strike="noStrike">
                <a:solidFill>
                  <a:srgbClr val="161e22"/>
                </a:solidFill>
                <a:latin typeface="Times New Roman Bur"/>
              </a:rPr>
              <a:t>ангама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 advTm="3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6348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Тэмдэгэй нэрын ондоо хэлэлгын хуби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һ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аа гаралга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208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66640" y="1685880"/>
            <a:ext cx="1873440" cy="3960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Бари…  х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б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2757e"/>
                </a:solidFill>
                <a:latin typeface="Times New Roman Bur"/>
              </a:rPr>
              <a:t>Y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лэ…   тэнгэр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Суу…  б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хэш</a:t>
            </a:r>
            <a:r>
              <a:rPr b="1" lang="mn-Cyrl-MN" sz="1600" spc="-1" strike="noStrike">
                <a:solidFill>
                  <a:srgbClr val="02757e"/>
                </a:solidFill>
                <a:latin typeface="Times New Roman Bur"/>
              </a:rPr>
              <a:t>үү</a:t>
            </a: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л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757e"/>
                </a:solidFill>
                <a:latin typeface="Times New Roman Bur"/>
              </a:rPr>
              <a:t>Тари…   мод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5" name="Picture 7" descr="Улан-Удэ"/>
          <p:cNvPicPr/>
          <p:nvPr/>
        </p:nvPicPr>
        <p:blipFill>
          <a:blip r:embed="rId1"/>
          <a:stretch/>
        </p:blipFill>
        <p:spPr>
          <a:xfrm>
            <a:off x="2789280" y="1844640"/>
            <a:ext cx="2378160" cy="15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Picture 8" descr="Awargyyd 02"/>
          <p:cNvPicPr/>
          <p:nvPr/>
        </p:nvPicPr>
        <p:blipFill>
          <a:blip r:embed="rId2"/>
          <a:stretch/>
        </p:blipFill>
        <p:spPr>
          <a:xfrm>
            <a:off x="2898720" y="4062240"/>
            <a:ext cx="201636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7" name="Picture 9" descr="Бухэнууд"/>
          <p:cNvPicPr/>
          <p:nvPr/>
        </p:nvPicPr>
        <p:blipFill>
          <a:blip r:embed="rId3"/>
          <a:stretch/>
        </p:blipFill>
        <p:spPr>
          <a:xfrm>
            <a:off x="5724360" y="1773360"/>
            <a:ext cx="251640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8" name="Picture 11" descr="После грозы"/>
          <p:cNvPicPr/>
          <p:nvPr/>
        </p:nvPicPr>
        <p:blipFill>
          <a:blip r:embed="rId4"/>
          <a:stretch/>
        </p:blipFill>
        <p:spPr>
          <a:xfrm>
            <a:off x="5796000" y="4133880"/>
            <a:ext cx="2160720" cy="14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9" name="AutoShape 12"/>
          <p:cNvSpPr/>
          <p:nvPr/>
        </p:nvSpPr>
        <p:spPr>
          <a:xfrm>
            <a:off x="1258920" y="3429000"/>
            <a:ext cx="360360" cy="1443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360"/>
              <a:gd name="textAreaBottom" fmla="*/ 51480 h 144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AutoShape 13">
            <a:hlinkClick r:id="rId5" action="ppaction://hlinksldjump"/>
          </p:cNvPr>
          <p:cNvSpPr/>
          <p:nvPr/>
        </p:nvSpPr>
        <p:spPr>
          <a:xfrm>
            <a:off x="8244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7201080" cy="432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 Bur"/>
              </a:rPr>
              <a:t>ЭДЭ МЭД</a:t>
            </a:r>
            <a:r>
              <a:rPr b="0" lang="mn-Cyrl-MN" sz="18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1800" spc="-1" strike="noStrike">
                <a:solidFill>
                  <a:srgbClr val="ff0066"/>
                </a:solidFill>
                <a:latin typeface="Times New Roman Bur"/>
              </a:rPr>
              <a:t>ЛЭЛН</a:t>
            </a:r>
            <a:r>
              <a:rPr b="0" lang="mn-Cyrl-MN" sz="18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1800" spc="-1" strike="noStrike">
                <a:solidFill>
                  <a:srgbClr val="ff0066"/>
                </a:solidFill>
                <a:latin typeface="Times New Roman Bur"/>
              </a:rPr>
              <a:t>ДТЭ  ТЭМДЭГЭЙ НЭРЭН</a:t>
            </a:r>
            <a:r>
              <a:rPr b="0" lang="mn-Cyrl-MN" sz="18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1800" spc="-1" strike="noStrike">
                <a:solidFill>
                  <a:srgbClr val="ff0066"/>
                </a:solidFill>
                <a:latin typeface="Times New Roman Bur"/>
              </a:rPr>
              <a:t>ДЫЕ ТАБИГТЫ</a:t>
            </a:r>
            <a:r>
              <a:rPr b="1" lang="ru-RU" sz="1800" spc="-1" strike="noStrike">
                <a:solidFill>
                  <a:srgbClr val="ff0066"/>
                </a:solidFill>
                <a:latin typeface="Times New Roman Bur"/>
              </a:rPr>
              <a:t>:</a:t>
            </a: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34920" y="1628640"/>
            <a:ext cx="72741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Манай нютагай  ---,  --- ой соогуур  --- шандаган,  ---</a:t>
            </a:r>
            <a:r>
              <a:rPr b="0" lang="mn-Cyrl-MN" sz="1800" spc="-1" strike="noStrike">
                <a:solidFill>
                  <a:srgbClr val="003399"/>
                </a:solidFill>
                <a:latin typeface="Times New Roman Bur"/>
              </a:rPr>
              <a:t>ү</a:t>
            </a: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нэгэн олоор амидарда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Эндэхи нютагай зон ехэнхидээ … ургамалнуудые тарида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--- аяга соо</a:t>
            </a:r>
            <a:r>
              <a:rPr b="0" lang="en-US" sz="1800" spc="-1" strike="noStrike">
                <a:solidFill>
                  <a:srgbClr val="003399"/>
                </a:solidFill>
                <a:latin typeface="Times New Roman Bur"/>
              </a:rPr>
              <a:t>h</a:t>
            </a: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оо унда уужа болохог</a:t>
            </a:r>
            <a:r>
              <a:rPr b="0" lang="mn-Cyrl-MN" sz="1800" spc="-1" strike="noStrike">
                <a:solidFill>
                  <a:srgbClr val="003399"/>
                </a:solidFill>
                <a:latin typeface="Times New Roman Bur"/>
              </a:rPr>
              <a:t>ү</a:t>
            </a:r>
            <a:r>
              <a:rPr b="0" lang="ru-RU" sz="1800" spc="-1" strike="noStrike">
                <a:solidFill>
                  <a:srgbClr val="003399"/>
                </a:solidFill>
                <a:latin typeface="Times New Roman Bur"/>
              </a:rPr>
              <a:t>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07880" y="404640"/>
            <a:ext cx="6172200" cy="648000"/>
          </a:xfrm>
          <a:prstGeom prst="rect">
            <a:avLst/>
          </a:prstGeom>
          <a:solidFill>
            <a:srgbClr val="5fcb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Тэмдэгэй нэрын удхаараа илгарал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000" y="1628640"/>
            <a:ext cx="3925800" cy="4254480"/>
          </a:xfrm>
          <a:prstGeom prst="rect">
            <a:avLst/>
          </a:prstGeom>
          <a:solidFill>
            <a:srgbClr val="fbf88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Шанарт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Улаа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Са</a:t>
            </a:r>
            <a:r>
              <a:rPr b="0" lang="en-US" sz="2000" spc="-1" strike="noStrike">
                <a:solidFill>
                  <a:srgbClr val="ff00ff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ат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 Bur"/>
              </a:rPr>
              <a:t>Y</a:t>
            </a: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ргэмэ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Нари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Сэбэр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Н</a:t>
            </a:r>
            <a:r>
              <a:rPr b="0" lang="mn-Cyrl-MN" sz="2000" spc="-1" strike="noStrike">
                <a:solidFill>
                  <a:srgbClr val="ff00ff"/>
                </a:solidFill>
                <a:latin typeface="Times New Roman Bur"/>
              </a:rPr>
              <a:t>ё</a:t>
            </a:r>
            <a:r>
              <a:rPr b="0" lang="ru-RU" sz="2000" spc="-1" strike="noStrike">
                <a:solidFill>
                  <a:srgbClr val="ff00ff"/>
                </a:solidFill>
                <a:latin typeface="Times New Roman Bur"/>
              </a:rPr>
              <a:t>дондохи</a:t>
            </a:r>
            <a:r>
              <a:rPr b="0" lang="ru-RU" sz="2000" spc="-1" strike="noStrike">
                <a:solidFill>
                  <a:srgbClr val="2e83c3"/>
                </a:solidFill>
                <a:latin typeface="Times New Roman Bur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859280" y="1628280"/>
            <a:ext cx="4005360" cy="4257720"/>
          </a:xfrm>
          <a:prstGeom prst="rect">
            <a:avLst/>
          </a:prstGeom>
          <a:solidFill>
            <a:srgbClr val="fbf88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Харилсаат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Шарама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То</a:t>
            </a:r>
            <a:r>
              <a:rPr b="0" lang="en-US" sz="2000" spc="-1" strike="noStrike">
                <a:solidFill>
                  <a:srgbClr val="174261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ош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Хатанха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Сэсэ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Бая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174261"/>
                </a:solidFill>
                <a:latin typeface="Times New Roman Bur"/>
              </a:rPr>
              <a:t>малтама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AutoShape 11">
            <a:hlinkClick r:id="rId1" action="ppaction://hlinksldjump"/>
          </p:cNvPr>
          <p:cNvSpPr/>
          <p:nvPr/>
        </p:nvSpPr>
        <p:spPr>
          <a:xfrm>
            <a:off x="824400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5fc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2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" dur="20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" dur="2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" dur="3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92360" y="1106640"/>
            <a:ext cx="5473440" cy="504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 Bur"/>
              </a:rPr>
              <a:t>Тэмдэгэй нэрын зохилдол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26920" y="2276640"/>
          <a:ext cx="7272360" cy="34747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12868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эрын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Хамаана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э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йлын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и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эбсэгэ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а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Хамтын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арала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а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5fcbef"/>
                      </a:solidFill>
                    </a:lnL>
                    <a:lnR w="5760">
                      <a:solidFill>
                        <a:srgbClr val="5fcbef"/>
                      </a:solidFill>
                    </a:lnR>
                    <a:lnT w="5760">
                      <a:solidFill>
                        <a:srgbClr val="5fcbef"/>
                      </a:solidFill>
                    </a:lnT>
                    <a:lnB w="5760">
                      <a:solidFill>
                        <a:srgbClr val="5fcbef"/>
                      </a:solidFill>
                    </a:lnB>
                    <a:solidFill>
                      <a:srgbClr val="eaf6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649440"/>
            <a:ext cx="634824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 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Текст уншагты. </a:t>
            </a: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Тэмдэгэй нэр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э</a:t>
            </a: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н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үүдые ологты,</a:t>
            </a: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 падежн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үү</a:t>
            </a:r>
            <a:r>
              <a:rPr b="0" lang="ru-RU" sz="1600" spc="-1" strike="noStrike">
                <a:solidFill>
                  <a:srgbClr val="ff0000"/>
                </a:solidFill>
                <a:latin typeface="Times New Roman Bur"/>
              </a:rPr>
              <a:t>дыень тодорхойлогты</a:t>
            </a:r>
            <a:r>
              <a:rPr b="0" lang="mn-Cyrl-MN" sz="1600" spc="-1" strike="noStrike">
                <a:solidFill>
                  <a:srgbClr val="ff0000"/>
                </a:solidFill>
                <a:latin typeface="Times New Roman Bur"/>
              </a:rPr>
              <a:t>. Энэ сэдэбээр хөөрөө эмхидхэгты</a:t>
            </a:r>
            <a:r>
              <a:rPr b="0" lang="mn-Cyrl-MN" sz="1600" spc="-1" strike="noStrike">
                <a:solidFill>
                  <a:srgbClr val="ff6699"/>
                </a:solidFill>
                <a:latin typeface="Times New Roman Bur"/>
              </a:rPr>
              <a:t>.</a:t>
            </a:r>
            <a:endParaRPr b="0" lang="en-US" sz="1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07920" y="1847880"/>
            <a:ext cx="3456000" cy="3881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8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  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Саг сагтаа ургасын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йниие шэлэжэ, малай бэлшээриин тала хаража, буряад зон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еы гэрээ абажа, иишэ тиишээ з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єє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жэ ябадаг байгаа.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аяма халууханаар 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леэ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н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лхин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ашье, хагсуухан х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йтэн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өө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шье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еы гэртээ хородог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н. Шэмэр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нээр 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леэ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н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лхин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аа талын буряадые абардаг </a:t>
            </a:r>
            <a:r>
              <a:rPr b="0" lang="en-US" sz="2000" spc="-1" strike="noStrike">
                <a:solidFill>
                  <a:srgbClr val="404040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эеы гэрнай г</a:t>
            </a:r>
            <a:r>
              <a:rPr b="0" lang="mn-Cyrl-MN" sz="2000" spc="-1" strike="noStrike">
                <a:solidFill>
                  <a:srgbClr val="404040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404040"/>
                </a:solidFill>
                <a:latin typeface="Times New Roman Bur"/>
              </a:rPr>
              <a:t>б да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55880" y="1557360"/>
            <a:ext cx="3894120" cy="4464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2" name="Picture 6" descr="юрта"/>
          <p:cNvPicPr/>
          <p:nvPr/>
        </p:nvPicPr>
        <p:blipFill>
          <a:blip r:embed="rId1"/>
          <a:stretch/>
        </p:blipFill>
        <p:spPr>
          <a:xfrm>
            <a:off x="5076720" y="2492280"/>
            <a:ext cx="3095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93400"/>
            <a:ext cx="6346800" cy="974520"/>
          </a:xfrm>
          <a:prstGeom prst="rect">
            <a:avLst/>
          </a:prstGeom>
          <a:solidFill>
            <a:srgbClr val="a9d3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 Bur"/>
              </a:rPr>
              <a:t>Бэхиж</a:t>
            </a:r>
            <a:r>
              <a:rPr b="1" lang="mn-Cyrl-MN" sz="24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3600" spc="-1" strike="noStrike">
                <a:solidFill>
                  <a:srgbClr val="ff0066"/>
                </a:solidFill>
                <a:latin typeface="Times New Roman Bur"/>
              </a:rPr>
              <a:t>лгэ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99840"/>
            <a:ext cx="4038480" cy="4421160"/>
          </a:xfrm>
          <a:prstGeom prst="rect">
            <a:avLst/>
          </a:prstGeom>
          <a:gradFill rotWithShape="0">
            <a:gsLst>
              <a:gs pos="0">
                <a:srgbClr val="fbf88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560160" indent="-560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Times New Roman Bur"/>
              </a:rPr>
              <a:t>Y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гтэ</a:t>
            </a:r>
            <a:r>
              <a:rPr b="0" lang="en-US" sz="2000" spc="-1" strike="noStrike">
                <a:solidFill>
                  <a:srgbClr val="ff0066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эн онь</a:t>
            </a:r>
            <a:r>
              <a:rPr b="0" lang="en-US" sz="2000" spc="-1" strike="noStrike">
                <a:solidFill>
                  <a:srgbClr val="ff0066"/>
                </a:solidFill>
                <a:latin typeface="Times New Roman Bur"/>
              </a:rPr>
              <a:t>h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он 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ү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гэн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д соо  тэмдэгэй нэрэн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дые т</a:t>
            </a:r>
            <a:r>
              <a:rPr b="0" lang="mn-Cyrl-MN" sz="2000" spc="-1" strike="noStrike">
                <a:solidFill>
                  <a:srgbClr val="ff0066"/>
                </a:solidFill>
                <a:latin typeface="Times New Roman Bur"/>
              </a:rPr>
              <a:t>үү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жэ</a:t>
            </a:r>
            <a:r>
              <a:rPr b="0" lang="en-US" sz="2000" spc="-1" strike="noStrike">
                <a:solidFill>
                  <a:srgbClr val="ff0066"/>
                </a:solidFill>
                <a:latin typeface="Times New Roman Bur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 Bur"/>
              </a:rPr>
              <a:t>бэшэгт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imes New Roman Bur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Сэсэн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эй бэрхые магтадаг, тэнэг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 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єє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рынг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єє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 бэрхые магтада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imes New Roman Bur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Уран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эй хурган хурдан, ухаатай х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нэй хэлэн хурс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imes New Roman Bur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Ульгам мориндо газар д</a:t>
            </a:r>
            <a:r>
              <a:rPr b="0" i="1" lang="mn-Cyrl-MN" sz="2000" spc="-1" strike="noStrike">
                <a:solidFill>
                  <a:srgbClr val="174261"/>
                </a:solidFill>
                <a:latin typeface="Times New Roman Bur"/>
              </a:rPr>
              <a:t>ү</a:t>
            </a:r>
            <a:r>
              <a:rPr b="0" i="1" lang="ru-RU" sz="2000" spc="-1" strike="noStrike">
                <a:solidFill>
                  <a:srgbClr val="174261"/>
                </a:solidFill>
                <a:latin typeface="Times New Roman Bur"/>
              </a:rPr>
              <a:t>тэ, хашан мориндо харгы хол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60160" indent="-560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56240" y="1614240"/>
            <a:ext cx="4038480" cy="439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Шалгагт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Сэсэн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Бэрхые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Тэнэг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Уран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Хурдан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Ухаата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Ульгам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 Bur"/>
              </a:rPr>
              <a:t>д</a:t>
            </a:r>
            <a:r>
              <a:rPr b="0" lang="mn-Cyrl-MN" sz="1600" spc="-1" strike="noStrike">
                <a:solidFill>
                  <a:srgbClr val="ff0066"/>
                </a:solidFill>
                <a:latin typeface="Times New Roman Bur"/>
              </a:rPr>
              <a:t>ү</a:t>
            </a:r>
            <a:r>
              <a:rPr b="0" i="1" lang="ru-RU" sz="1600" spc="-1" strike="noStrike">
                <a:solidFill>
                  <a:srgbClr val="ff0066"/>
                </a:solidFill>
                <a:latin typeface="Times New Roman Bur"/>
              </a:rPr>
              <a:t>тэ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Times New Roman Bur"/>
              </a:rPr>
              <a:t>Хашан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mn-Cyrl-MN" sz="1600" spc="-1" strike="noStrike">
                <a:solidFill>
                  <a:srgbClr val="ff0066"/>
                </a:solidFill>
                <a:latin typeface="Times New Roman Bur"/>
              </a:rPr>
              <a:t>Х</a:t>
            </a:r>
            <a:r>
              <a:rPr b="0" i="1" lang="ru-RU" sz="1600" spc="-1" strike="noStrike">
                <a:solidFill>
                  <a:srgbClr val="ff0066"/>
                </a:solidFill>
                <a:latin typeface="Times New Roman Bur"/>
              </a:rPr>
              <a:t>оло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7" dur="5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5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5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" dur="5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" dur="5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5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5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50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" dur="5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4" dur="5000"/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1:09:43Z</dcterms:created>
  <dc:creator>OEM</dc:creator>
  <dc:description/>
  <dc:language>en-US</dc:language>
  <cp:lastModifiedBy>Дашама Доржиева</cp:lastModifiedBy>
  <dcterms:modified xsi:type="dcterms:W3CDTF">2022-03-27T03:19:56Z</dcterms:modified>
  <cp:revision>62</cp:revision>
  <dc:subject/>
  <dc:title>Хэшээлэй темэ:Тэмдэгэй нэрын илгарал</dc:title>
</cp:coreProperties>
</file>