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6042FA-41C7-4E6D-A996-D861082CD3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F5CF7B-1EBD-4D2E-AF16-8A72A5ACF6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барта хэрэглэгдэхэ угэнууд бэшэгдэжэ, шалгахалта хунгэдхэгдэнэ. Жэшээнь: Ху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та, шэнэ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э, боро, шара, у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лиг, туурхэ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52AC9-5EDB-4F3F-8E7A-DF999D4722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дэ угэнуудые багша туруун уншажа бэшуулээд, удаань шалгаха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агшадай мэдэсэ шалгагд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86D4B4-0253-4452-9448-7CBEE94D2D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нэ таблица анхаралтай адагалагты, дурим гаргагты гэ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н даабари угтэнэ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Энэ таблицаар худэлхэдоо, тэмдэгэй нэрэ юумэнэй нэрэ шэнгеэр зохилдодог гэжэ тобшолол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рагшад гаргаха боло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DC3DD2-EC2D-4AD1-9B23-5EE92DA3AF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дхаараа холбоотой хэ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г соо тэмдэгэй нэрэнуудые оложо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алга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еы гэр тухай мэдэсэеэ ургэдхэлгэ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B2E31-7129-4294-86D7-4CCD82CC12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ража ба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 материалаа ойлгожо, мэдэжэ абахын практическа худэлмэр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821D-ECF3-4885-95A7-2EC60C7C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B485-D2BB-4431-9377-D2639C14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AA85-48F2-49A7-9E3B-82BAF9A5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839E-7FE7-4FD1-A369-ACD3998C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D913-7025-4EC3-A92D-BF6B0902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F008-F16F-4A34-B586-2C651E90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E815-005E-46B6-85FF-8A16DE77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CC1E-FCE1-426F-990A-67F991B4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F32B-1D97-4A01-89B1-842CAFFC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0F15-852C-4418-8515-0ECB804A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F684-AEDF-453A-A829-DF74FF19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5CC1-5C55-46FB-A534-81C31A50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3359-7400-4549-A8E5-63B48CE0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2CC4-45CC-4B50-BF46-4BD2767B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478E-949F-4E9E-B95D-C80A55A2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0F07-5929-4B58-8FE7-9407662E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78DD-A93B-4445-BE4F-3CCABC07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1DA46-A569-44BC-BCDB-F04656A3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BAED3-0600-43C5-B1F4-F872DE4E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DC6A3-2972-4768-8ED3-6C7D14FD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C4318-C259-4C93-9E8B-0B667D0D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36412-29DD-441B-A80D-06B50E9B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AA0D-EF47-454E-9108-3F4D8F88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AF9F2-B8F1-4F2C-A0D3-E8B7A276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ABFAD-73C9-4AE0-ADA1-98CA463C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89913-F167-4B9B-8AA8-BA3FDBBE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982BC-257A-4620-A30C-CAC3A861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A54CB-89E7-4D8A-A45C-72E40CA6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A5DFE-9182-4078-AF4E-BB7467B4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A743E-15B1-4AF0-9A47-81FD4006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C92AD-C8DF-4FE9-AE08-09A7BC6C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74C2D-1C0D-479C-B5DA-B8F17FB2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1B4A7-81BE-4DB8-97FF-92C7CB60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5A1D-5670-454B-B6F4-CB847DB9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45D66-3897-487E-9498-A09DB533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3F3CB-4A2C-4008-AE05-FC9CD991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6D88C-02D5-4850-9D4A-0F934E75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AE953-3CBB-4394-9E71-29D9C9F0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735A6-0A34-43AA-977F-464AEF42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87F19-A4D0-4DB3-A788-644D2D97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C4962-9F89-4A74-899E-C1515992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C293A-267B-46BF-A37A-C5FCD15E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31600-1355-4384-80A9-AB707B48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AF1BB-9497-4798-97A3-98CB2D4A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1D0F-C848-4DB2-8FCF-E98D686D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FB62C-7B75-44A6-86E8-ADE3866B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A2C71-E47E-4714-BF36-C857B252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8893A-EFAA-40DF-B378-5039947A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AA50D-CBA5-4F52-9EDF-8670D3CB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4D166-C660-40D6-9394-0A554167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9BEF1-6CD1-4E9F-AB3D-E22B449C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E23C5-C932-45E5-A180-48EAEC03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80196-EBA1-4D62-BBCD-EAD2E45A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964C3-2C09-4687-8B66-41781E08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A3F92-1B67-497D-A24B-45434CD7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41E7-A83E-43EF-B50B-B0115D80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7624D-83A0-45CE-BBC8-6A2421DC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CBD1-7487-4357-B2E1-A1DA9835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EDA2-3E8F-42F9-9DDD-927FAAC2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E167-9B24-4EC7-8898-580F8CE7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E9C72-59E7-470B-A55B-6A94D31758C4}" type="slidenum">
              <a:rPr b="0" lang="ru-RU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373A77-33A8-4EDF-BA62-C6041613A972}" type="slidenum">
              <a:rPr b="0" lang="ru-RU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C3D1F7-7214-4F89-9900-BB154D1B118F}" type="slidenum">
              <a:rPr b="0" lang="ru-RU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974C71-63D8-4440-8627-CC0C5AED1CF9}" type="slidenum">
              <a:rPr b="0" lang="ru-RU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A29BA7-665A-4E62-A531-E2CAE660B7EC}" type="slidenum">
              <a:rPr b="0" lang="ru-RU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90;&#1072;&#1073;&#1083;&#1080;&#1094;&#1072;2" TargetMode="External"/><Relationship Id="rId2" Type="http://schemas.openxmlformats.org/officeDocument/2006/relationships/hyperlink" Target="file:///&#1090;&#1072;&#1073;&#1083;&#1080;&#1094;&#1072;2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88840" y="692280"/>
            <a:ext cx="7366320" cy="525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bf888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n-Cyrl-MN" sz="1200" spc="-1" strike="noStrike">
                <a:solidFill>
                  <a:srgbClr val="757575"/>
                </a:solidFill>
                <a:latin typeface="Times New Roman Bur"/>
              </a:rPr>
              <a:t>МБОУ “Хоца Намсараевай нэрэмжэтэ Хэжэнгын дунда ћургуули”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1338120" y="2782800"/>
            <a:ext cx="664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n-Cyrl-MN" sz="3600" spc="-1" strike="noStrike">
                <a:solidFill>
                  <a:srgbClr val="ff0066"/>
                </a:solidFill>
                <a:latin typeface="Times New Roman Bur"/>
              </a:rPr>
              <a:t>Тэмдэгэй нэрэ тухай ойлгосо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5076720" y="4724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n-Cyrl-MN" sz="1800" spc="-1" strike="noStrike">
                <a:solidFill>
                  <a:srgbClr val="003399"/>
                </a:solidFill>
                <a:latin typeface="Times New Roman Bur"/>
              </a:rPr>
              <a:t>Бїридхэгшэ: Доржиева Д.Д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55280" y="1047600"/>
            <a:ext cx="6348600" cy="587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 Bur"/>
              </a:rPr>
              <a:t>А</a:t>
            </a:r>
            <a:r>
              <a:rPr b="0" lang="mn-Cyrl-MN" sz="2400" spc="-1" strike="noStrike">
                <a:solidFill>
                  <a:srgbClr val="0000ff"/>
                </a:solidFill>
                <a:latin typeface="Times New Roman Bur"/>
              </a:rPr>
              <a:t>МАН ХЭЛЭЛГЭ ХҮГЖӨӨЛГЭ</a:t>
            </a: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68360" y="2781360"/>
            <a:ext cx="3672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 Bur"/>
              </a:rPr>
              <a:t>Зураг адаглан хаража, «Наранай гаралга» гэ</a:t>
            </a:r>
            <a:r>
              <a:rPr b="0" lang="en-US" sz="2600" spc="-1" strike="noStrike">
                <a:solidFill>
                  <a:srgbClr val="002060"/>
                </a:solidFill>
                <a:latin typeface="Times New Roman Bur"/>
              </a:rPr>
              <a:t>h</a:t>
            </a:r>
            <a:r>
              <a:rPr b="0" lang="ru-RU" sz="2600" spc="-1" strike="noStrike">
                <a:solidFill>
                  <a:srgbClr val="002060"/>
                </a:solidFill>
                <a:latin typeface="Times New Roman Bur"/>
              </a:rPr>
              <a:t>эн богонихон аман х</a:t>
            </a:r>
            <a:r>
              <a:rPr b="0" lang="mn-Cyrl-MN" sz="2600" spc="-1" strike="noStrike">
                <a:solidFill>
                  <a:srgbClr val="002060"/>
                </a:solidFill>
                <a:latin typeface="Times New Roman Bur"/>
              </a:rPr>
              <a:t>єє</a:t>
            </a:r>
            <a:r>
              <a:rPr b="0" lang="ru-RU" sz="2600" spc="-1" strike="noStrike">
                <a:solidFill>
                  <a:srgbClr val="002060"/>
                </a:solidFill>
                <a:latin typeface="Times New Roman Bur"/>
              </a:rPr>
              <a:t>р</a:t>
            </a:r>
            <a:r>
              <a:rPr b="0" lang="mn-Cyrl-MN" sz="2600" spc="-1" strike="noStrike">
                <a:solidFill>
                  <a:srgbClr val="002060"/>
                </a:solidFill>
                <a:latin typeface="Times New Roman Bur"/>
              </a:rPr>
              <a:t>єє</a:t>
            </a:r>
            <a:r>
              <a:rPr b="0" lang="ru-RU" sz="2600" spc="-1" strike="noStrike">
                <a:solidFill>
                  <a:srgbClr val="002060"/>
                </a:solidFill>
                <a:latin typeface="Times New Roman Bur"/>
              </a:rPr>
              <a:t> бэлдэхэ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8" name="Picture 6" descr="Рассвет"/>
          <p:cNvPicPr/>
          <p:nvPr/>
        </p:nvPicPr>
        <p:blipFill>
          <a:blip r:embed="rId1"/>
          <a:stretch/>
        </p:blipFill>
        <p:spPr>
          <a:xfrm>
            <a:off x="4340160" y="2023920"/>
            <a:ext cx="4138560" cy="8515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160720" y="404640"/>
            <a:ext cx="4822560" cy="865440"/>
          </a:xfrm>
          <a:prstGeom prst="rect">
            <a:avLst/>
          </a:prstGeom>
          <a:solidFill>
            <a:srgbClr val="bfeaf9"/>
          </a:solidFill>
          <a:ln w="9360">
            <a:solidFill>
              <a:srgbClr val="ff0066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rebuchet MS"/>
              </a:rPr>
              <a:t>Гэрэй даабари: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6920" y="1628640"/>
            <a:ext cx="7058160" cy="410400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99"/>
            </a:solidFill>
            <a:prstDash val="sys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174261"/>
                </a:solidFill>
                <a:latin typeface="Times New Roman Bur"/>
              </a:rPr>
              <a:t>Хэшээлдэ </a:t>
            </a:r>
            <a:r>
              <a:rPr b="0" lang="mn-Cyrl-MN" sz="2800" spc="-1" strike="noStrike">
                <a:solidFill>
                  <a:srgbClr val="174261"/>
                </a:solidFill>
                <a:latin typeface="Times New Roman Bur"/>
              </a:rPr>
              <a:t>ї</a:t>
            </a:r>
            <a:r>
              <a:rPr b="0" lang="ru-RU" sz="2800" spc="-1" strike="noStrike">
                <a:solidFill>
                  <a:srgbClr val="174261"/>
                </a:solidFill>
                <a:latin typeface="Times New Roman Bur"/>
              </a:rPr>
              <a:t>зэ</a:t>
            </a:r>
            <a:r>
              <a:rPr b="0" lang="en-US" sz="2800" spc="-1" strike="noStrike">
                <a:solidFill>
                  <a:srgbClr val="174261"/>
                </a:solidFill>
                <a:latin typeface="Times New Roman Bur"/>
              </a:rPr>
              <a:t>h</a:t>
            </a:r>
            <a:r>
              <a:rPr b="0" lang="ru-RU" sz="2800" spc="-1" strike="noStrike">
                <a:solidFill>
                  <a:srgbClr val="174261"/>
                </a:solidFill>
                <a:latin typeface="Times New Roman Bur"/>
              </a:rPr>
              <a:t>эн</a:t>
            </a:r>
            <a:r>
              <a:rPr b="0" lang="mn-Cyrl-MN" sz="2800" spc="-1" strike="noStrike">
                <a:solidFill>
                  <a:srgbClr val="174261"/>
                </a:solidFill>
                <a:latin typeface="Times New Roman Bur"/>
              </a:rPr>
              <a:t>єє</a:t>
            </a:r>
            <a:r>
              <a:rPr b="0" lang="ru-RU" sz="2800" spc="-1" strike="noStrike">
                <a:solidFill>
                  <a:srgbClr val="174261"/>
                </a:solidFill>
                <a:latin typeface="Times New Roman Bur"/>
              </a:rPr>
              <a:t> дабталг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174261"/>
                </a:solidFill>
                <a:latin typeface="Times New Roman Bur"/>
              </a:rPr>
              <a:t>«Наранай гаралга» гэ</a:t>
            </a:r>
            <a:r>
              <a:rPr b="0" lang="en-US" sz="2800" spc="-1" strike="noStrike">
                <a:solidFill>
                  <a:srgbClr val="174261"/>
                </a:solidFill>
                <a:latin typeface="Times New Roman Bur"/>
              </a:rPr>
              <a:t>h</a:t>
            </a:r>
            <a:r>
              <a:rPr b="0" lang="ru-RU" sz="2800" spc="-1" strike="noStrike">
                <a:solidFill>
                  <a:srgbClr val="174261"/>
                </a:solidFill>
                <a:latin typeface="Times New Roman Bur"/>
              </a:rPr>
              <a:t>эн зураглал бэшэхэдээ шанарта ба харилсаата тэмдэгэй нэрэн</a:t>
            </a:r>
            <a:r>
              <a:rPr b="0" lang="mn-Cyrl-MN" sz="2800" spc="-1" strike="noStrike">
                <a:solidFill>
                  <a:srgbClr val="174261"/>
                </a:solidFill>
                <a:latin typeface="Times New Roman Bur"/>
              </a:rPr>
              <a:t>її</a:t>
            </a:r>
            <a:r>
              <a:rPr b="0" lang="ru-RU" sz="2800" spc="-1" strike="noStrike">
                <a:solidFill>
                  <a:srgbClr val="174261"/>
                </a:solidFill>
                <a:latin typeface="Times New Roman Bur"/>
              </a:rPr>
              <a:t>дые оруулха, падежн</a:t>
            </a:r>
            <a:r>
              <a:rPr b="0" lang="mn-Cyrl-MN" sz="2800" spc="-1" strike="noStrike">
                <a:solidFill>
                  <a:srgbClr val="174261"/>
                </a:solidFill>
                <a:latin typeface="Times New Roman Bur"/>
              </a:rPr>
              <a:t>її</a:t>
            </a:r>
            <a:r>
              <a:rPr b="0" lang="ru-RU" sz="2800" spc="-1" strike="noStrike">
                <a:solidFill>
                  <a:srgbClr val="174261"/>
                </a:solidFill>
                <a:latin typeface="Times New Roman Bur"/>
              </a:rPr>
              <a:t>дыень заах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60480" y="112680"/>
            <a:ext cx="7834320" cy="12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300"/>
            </a:br>
            <a:r>
              <a:rPr b="0" lang="ru-RU" sz="1300" spc="-1" strike="noStrike">
                <a:solidFill>
                  <a:srgbClr val="0000ff"/>
                </a:solidFill>
                <a:latin typeface="Times New Roman Bur"/>
              </a:rPr>
              <a:t> </a:t>
            </a:r>
            <a:r>
              <a:rPr b="1" lang="ru-RU" sz="1300" spc="-1" strike="noStrike">
                <a:solidFill>
                  <a:srgbClr val="ff6699"/>
                </a:solidFill>
                <a:latin typeface="Times New Roman Bur"/>
              </a:rPr>
              <a:t>Хэшээлэй темэ:  </a:t>
            </a:r>
            <a:r>
              <a:rPr b="1" lang="ru-RU" sz="1300" spc="-1" strike="noStrike">
                <a:solidFill>
                  <a:srgbClr val="003399"/>
                </a:solidFill>
                <a:latin typeface="Times New Roman Bur"/>
              </a:rPr>
              <a:t>Тэмдэгэй нэрэ тухай ойлгосо</a:t>
            </a:r>
            <a:r>
              <a:rPr b="1" lang="ru-RU" sz="1300" spc="-1" strike="noStrike">
                <a:solidFill>
                  <a:srgbClr val="5fcbef"/>
                </a:solidFill>
                <a:latin typeface="Times New Roman Bur"/>
              </a:rPr>
              <a:t>.</a:t>
            </a:r>
            <a:br>
              <a:rPr sz="1300"/>
            </a:br>
            <a:r>
              <a:rPr b="1" lang="ru-RU" sz="1300" spc="-1" strike="noStrike">
                <a:solidFill>
                  <a:srgbClr val="ff6699"/>
                </a:solidFill>
                <a:latin typeface="Times New Roman Bur"/>
              </a:rPr>
              <a:t> Зорилго: </a:t>
            </a:r>
            <a:r>
              <a:rPr b="1" lang="ru-RU" sz="1300" spc="-1" strike="noStrike">
                <a:solidFill>
                  <a:srgbClr val="006699"/>
                </a:solidFill>
                <a:latin typeface="Times New Roman Bur"/>
              </a:rPr>
              <a:t>Хэлэлгын хубинуудые гара</a:t>
            </a:r>
            <a:r>
              <a:rPr b="1" lang="en-US" sz="1300" spc="-1" strike="noStrike">
                <a:solidFill>
                  <a:srgbClr val="006699"/>
                </a:solidFill>
                <a:latin typeface="Times New Roman Bur"/>
              </a:rPr>
              <a:t>h</a:t>
            </a:r>
            <a:r>
              <a:rPr b="1" lang="ru-RU" sz="1300" spc="-1" strike="noStrike">
                <a:solidFill>
                  <a:srgbClr val="006699"/>
                </a:solidFill>
                <a:latin typeface="Times New Roman Bur"/>
              </a:rPr>
              <a:t>анаа дабталга. Тэмдэгэй нэрын шэнжэ, илгарал</a:t>
            </a:r>
            <a:r>
              <a:rPr b="1" lang="mn-Cyrl-MN" sz="1300" spc="-1" strike="noStrike">
                <a:solidFill>
                  <a:srgbClr val="006699"/>
                </a:solidFill>
                <a:latin typeface="Times New Roman Bur"/>
              </a:rPr>
              <a:t>тай танилсалга</a:t>
            </a:r>
            <a:br>
              <a:rPr sz="1700"/>
            </a:br>
            <a:r>
              <a:rPr b="1" lang="ru-RU" sz="1700" spc="-1" strike="noStrike">
                <a:solidFill>
                  <a:srgbClr val="5fcbef"/>
                </a:solidFill>
                <a:latin typeface="Trebuchet MS"/>
              </a:rPr>
              <a:t>                                                  </a:t>
            </a:r>
            <a:br>
              <a:rPr sz="1700"/>
            </a:br>
            <a:r>
              <a:rPr b="1" lang="ru-RU" sz="1200" spc="-1" strike="noStrike">
                <a:solidFill>
                  <a:srgbClr val="ff6699"/>
                </a:solidFill>
                <a:latin typeface="Times New Roman Bur"/>
              </a:rPr>
              <a:t>Хэшээлэй ябаса</a:t>
            </a:r>
            <a:endParaRPr b="0" lang="en-US" sz="1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 rot="41400">
            <a:off x="611280" y="1557000"/>
            <a:ext cx="1766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rebuchet MS"/>
              </a:rPr>
              <a:t>Дабталга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rebuchet MS"/>
              </a:rPr>
              <a:t>            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Trebuchet MS"/>
              </a:rPr>
              <a:t>                     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2950920" y="1645920"/>
            <a:ext cx="5365800" cy="4249800"/>
          </a:xfrm>
          <a:prstGeom prst="rect">
            <a:avLst/>
          </a:prstGeom>
          <a:noFill/>
          <a:ln w="28440">
            <a:solidFill>
              <a:srgbClr val="ff9999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3b3b3b"/>
                </a:solidFill>
                <a:latin typeface="Times New Roman Bur"/>
              </a:rPr>
              <a:t>Хэлэлгын хубинууд ямарнууд боложо хубаарнаб? Ямар асуудалда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3b3b3b"/>
                </a:solidFill>
                <a:latin typeface="Times New Roman Bur"/>
              </a:rPr>
              <a:t> </a:t>
            </a:r>
            <a:r>
              <a:rPr b="1" lang="ru-RU" sz="1300" spc="-1" strike="noStrike">
                <a:solidFill>
                  <a:srgbClr val="3b3b3b"/>
                </a:solidFill>
                <a:latin typeface="Times New Roman Bur"/>
              </a:rPr>
              <a:t>харюусанаб? Мэд</a:t>
            </a:r>
            <a:r>
              <a:rPr b="1" lang="mn-Cyrl-MN" sz="1300" spc="-1" strike="noStrike">
                <a:solidFill>
                  <a:srgbClr val="3b3b3b"/>
                </a:solidFill>
                <a:latin typeface="Times New Roman Bur"/>
              </a:rPr>
              <a:t>үү</a:t>
            </a:r>
            <a:r>
              <a:rPr b="1" lang="ru-RU" sz="1300" spc="-1" strike="noStrike">
                <a:solidFill>
                  <a:srgbClr val="3b3b3b"/>
                </a:solidFill>
                <a:latin typeface="Times New Roman Bur"/>
              </a:rPr>
              <a:t>лэлэй гэш</a:t>
            </a:r>
            <a:r>
              <a:rPr b="1" lang="mn-Cyrl-MN" sz="1300" spc="-1" strike="noStrike">
                <a:solidFill>
                  <a:srgbClr val="3b3b3b"/>
                </a:solidFill>
                <a:latin typeface="Times New Roman Bur"/>
              </a:rPr>
              <a:t>її</a:t>
            </a:r>
            <a:r>
              <a:rPr b="1" lang="ru-RU" sz="1300" spc="-1" strike="noStrike">
                <a:solidFill>
                  <a:srgbClr val="3b3b3b"/>
                </a:solidFill>
                <a:latin typeface="Times New Roman Bur"/>
              </a:rPr>
              <a:t>н болодог</a:t>
            </a:r>
            <a:r>
              <a:rPr b="1" lang="en-US" sz="1300" spc="-1" strike="noStrike">
                <a:solidFill>
                  <a:srgbClr val="3b3b3b"/>
                </a:solidFill>
                <a:latin typeface="Times New Roman Bur"/>
              </a:rPr>
              <a:t> </a:t>
            </a:r>
            <a:r>
              <a:rPr b="1" lang="ru-RU" sz="1300" spc="-1" strike="noStrike">
                <a:solidFill>
                  <a:srgbClr val="3b3b3b"/>
                </a:solidFill>
                <a:latin typeface="Times New Roman Bur"/>
              </a:rPr>
              <a:t>г</a:t>
            </a:r>
            <a:r>
              <a:rPr b="1" lang="mn-Cyrl-MN" sz="1300" spc="-1" strike="noStrike">
                <a:solidFill>
                  <a:srgbClr val="3b3b3b"/>
                </a:solidFill>
                <a:latin typeface="Times New Roman Bur"/>
              </a:rPr>
              <a:t>ї</a:t>
            </a:r>
            <a:r>
              <a:rPr b="1" lang="ru-RU" sz="1300" spc="-1" strike="noStrike">
                <a:solidFill>
                  <a:srgbClr val="3b3b3b"/>
                </a:solidFill>
                <a:latin typeface="Times New Roman Bur"/>
              </a:rPr>
              <a:t>?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6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 Bur"/>
              </a:rPr>
              <a:t>1. Юумэнэй нэрэ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6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 u="sng">
                <a:solidFill>
                  <a:srgbClr val="3fcde7"/>
                </a:solidFill>
                <a:uFillTx/>
                <a:latin typeface="Times New Roman Bur"/>
                <a:hlinkClick r:id="rId1"/>
              </a:rPr>
              <a:t>2. </a:t>
            </a:r>
            <a:r>
              <a:rPr b="0" lang="ru-RU" sz="1300" spc="-1" strike="noStrike" u="sng">
                <a:solidFill>
                  <a:srgbClr val="3fcde7"/>
                </a:solidFill>
                <a:uFillTx/>
                <a:latin typeface="Times New Roman Bur"/>
                <a:hlinkClick r:id="rId2"/>
              </a:rPr>
              <a:t>Тэмдэгэй нэрэ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6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 Bur"/>
              </a:rPr>
              <a:t>3. Тоогой нэрэ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6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 Bur"/>
              </a:rPr>
              <a:t>4. Т</a:t>
            </a:r>
            <a:r>
              <a:rPr b="0" lang="mn-Cyrl-MN" sz="1300" spc="-1" strike="noStrike">
                <a:solidFill>
                  <a:srgbClr val="404040"/>
                </a:solidFill>
                <a:latin typeface="Times New Roman Bur"/>
              </a:rPr>
              <a:t>ү</a:t>
            </a:r>
            <a:r>
              <a:rPr b="0" lang="ru-RU" sz="1300" spc="-1" strike="noStrike">
                <a:solidFill>
                  <a:srgbClr val="404040"/>
                </a:solidFill>
                <a:latin typeface="Times New Roman Bur"/>
              </a:rPr>
              <a:t>л</a:t>
            </a:r>
            <a:r>
              <a:rPr b="0" lang="mn-Cyrl-MN" sz="1300" spc="-1" strike="noStrike">
                <a:solidFill>
                  <a:srgbClr val="404040"/>
                </a:solidFill>
                <a:latin typeface="Times New Roman Bur"/>
              </a:rPr>
              <a:t>єє</a:t>
            </a:r>
            <a:r>
              <a:rPr b="0" lang="ru-RU" sz="1300" spc="-1" strike="noStrike">
                <a:solidFill>
                  <a:srgbClr val="404040"/>
                </a:solidFill>
                <a:latin typeface="Times New Roman Bur"/>
              </a:rPr>
              <a:t>нэй нэрэ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6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 Bur"/>
              </a:rPr>
              <a:t>5. </a:t>
            </a:r>
            <a:r>
              <a:rPr b="0" lang="mn-Cyrl-MN" sz="1300" spc="-1" strike="noStrike">
                <a:solidFill>
                  <a:srgbClr val="404040"/>
                </a:solidFill>
                <a:latin typeface="Times New Roman Bur"/>
              </a:rPr>
              <a:t>Үйлэ үгэ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6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 Bur"/>
              </a:rPr>
              <a:t>6. </a:t>
            </a:r>
            <a:r>
              <a:rPr b="0" lang="mn-Cyrl-MN" sz="1300" spc="-1" strike="noStrike">
                <a:solidFill>
                  <a:srgbClr val="404040"/>
                </a:solidFill>
                <a:latin typeface="Times New Roman Bur"/>
              </a:rPr>
              <a:t>Дайбар үгэ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6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 Bur"/>
              </a:rPr>
              <a:t>7.  Дахуул угэ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6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 Bur"/>
              </a:rPr>
              <a:t>8.  </a:t>
            </a:r>
            <a:r>
              <a:rPr b="0" lang="mn-Cyrl-MN" sz="1300" spc="-1" strike="noStrike">
                <a:solidFill>
                  <a:srgbClr val="404040"/>
                </a:solidFill>
                <a:latin typeface="Times New Roman Bur"/>
              </a:rPr>
              <a:t>Холболто үгэ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6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 Bur"/>
              </a:rPr>
              <a:t>9.  </a:t>
            </a:r>
            <a:r>
              <a:rPr b="0" lang="mn-Cyrl-MN" sz="1300" spc="-1" strike="noStrike">
                <a:solidFill>
                  <a:srgbClr val="404040"/>
                </a:solidFill>
                <a:latin typeface="Times New Roman Bur"/>
              </a:rPr>
              <a:t>Зүйр үгэ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6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 Bur"/>
              </a:rPr>
              <a:t>10. </a:t>
            </a:r>
            <a:r>
              <a:rPr b="0" lang="mn-Cyrl-MN" sz="1300" spc="-1" strike="noStrike">
                <a:solidFill>
                  <a:srgbClr val="404040"/>
                </a:solidFill>
                <a:latin typeface="Times New Roman Bur"/>
              </a:rPr>
              <a:t>Аянгалһан үгэнүүд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Rectangle 16"/>
          <p:cNvSpPr/>
          <p:nvPr/>
        </p:nvSpPr>
        <p:spPr>
          <a:xfrm>
            <a:off x="1332000" y="180792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174a35"/>
                </a:solidFill>
                <a:latin typeface="BangkokBur"/>
                <a:ea typeface="Times New Roman"/>
              </a:rPr>
              <a:t>б.д. х.х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Rectangle 17"/>
          <p:cNvSpPr/>
          <p:nvPr/>
        </p:nvSpPr>
        <p:spPr>
          <a:xfrm flipV="1" rot="10746000">
            <a:off x="5616720" y="477684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0066"/>
                </a:solidFill>
                <a:latin typeface="Times New Roman Bur"/>
              </a:rPr>
              <a:t>хубилдаг</a:t>
            </a:r>
            <a:r>
              <a:rPr b="0" lang="mn-Cyrl-MN" sz="1400" spc="-1" strike="noStrike">
                <a:solidFill>
                  <a:srgbClr val="ff0066"/>
                </a:solidFill>
                <a:latin typeface="Times New Roman Bur"/>
              </a:rPr>
              <a:t>гї</a:t>
            </a:r>
            <a:r>
              <a:rPr b="0" lang="ru-RU" sz="1400" spc="-1" strike="noStrike">
                <a:solidFill>
                  <a:srgbClr val="ff0066"/>
                </a:solidFill>
                <a:latin typeface="Times New Roman Bur"/>
              </a:rPr>
              <a:t>й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Rectangle 20"/>
          <p:cNvSpPr/>
          <p:nvPr/>
        </p:nvSpPr>
        <p:spPr>
          <a:xfrm>
            <a:off x="5435640" y="2458800"/>
            <a:ext cx="1008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Times New Roman Bur"/>
              </a:rPr>
              <a:t>хубилдаг</a:t>
            </a:r>
            <a:r>
              <a:rPr b="0" lang="ru-RU" sz="14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Rectangle 22"/>
          <p:cNvSpPr/>
          <p:nvPr/>
        </p:nvSpPr>
        <p:spPr>
          <a:xfrm>
            <a:off x="1444680" y="672660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AutoShape 45"/>
          <p:cNvSpPr/>
          <p:nvPr/>
        </p:nvSpPr>
        <p:spPr>
          <a:xfrm>
            <a:off x="1476360" y="2276640"/>
            <a:ext cx="431640" cy="358560"/>
          </a:xfrm>
          <a:prstGeom prst="smileyFace">
            <a:avLst>
              <a:gd name="adj" fmla="val 9282"/>
            </a:avLst>
          </a:prstGeom>
          <a:solidFill>
            <a:srgbClr val="5fcb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Line 46"/>
          <p:cNvSpPr/>
          <p:nvPr/>
        </p:nvSpPr>
        <p:spPr>
          <a:xfrm>
            <a:off x="1692360" y="2637000"/>
            <a:ext cx="14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Line 47"/>
          <p:cNvSpPr/>
          <p:nvPr/>
        </p:nvSpPr>
        <p:spPr>
          <a:xfrm flipH="1">
            <a:off x="1476360" y="31417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Line 48"/>
          <p:cNvSpPr/>
          <p:nvPr/>
        </p:nvSpPr>
        <p:spPr>
          <a:xfrm>
            <a:off x="1692360" y="314172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Line 49"/>
          <p:cNvSpPr/>
          <p:nvPr/>
        </p:nvSpPr>
        <p:spPr>
          <a:xfrm>
            <a:off x="1476360" y="3284640"/>
            <a:ext cx="144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Line 50"/>
          <p:cNvSpPr/>
          <p:nvPr/>
        </p:nvSpPr>
        <p:spPr>
          <a:xfrm>
            <a:off x="1908000" y="3284640"/>
            <a:ext cx="180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Line 51"/>
          <p:cNvSpPr/>
          <p:nvPr/>
        </p:nvSpPr>
        <p:spPr>
          <a:xfrm flipH="1">
            <a:off x="1476360" y="2637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Line 52"/>
          <p:cNvSpPr/>
          <p:nvPr/>
        </p:nvSpPr>
        <p:spPr>
          <a:xfrm>
            <a:off x="1692360" y="263700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Line 53"/>
          <p:cNvSpPr/>
          <p:nvPr/>
        </p:nvSpPr>
        <p:spPr>
          <a:xfrm flipH="1" flipV="1">
            <a:off x="1258920" y="2636640"/>
            <a:ext cx="217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Line 55"/>
          <p:cNvSpPr/>
          <p:nvPr/>
        </p:nvSpPr>
        <p:spPr>
          <a:xfrm flipV="1">
            <a:off x="1908000" y="263664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Line 56"/>
          <p:cNvSpPr/>
          <p:nvPr/>
        </p:nvSpPr>
        <p:spPr>
          <a:xfrm>
            <a:off x="1187280" y="2637000"/>
            <a:ext cx="1008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Line 58"/>
          <p:cNvSpPr/>
          <p:nvPr/>
        </p:nvSpPr>
        <p:spPr>
          <a:xfrm>
            <a:off x="1187280" y="2637000"/>
            <a:ext cx="180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Line 59"/>
          <p:cNvSpPr/>
          <p:nvPr/>
        </p:nvSpPr>
        <p:spPr>
          <a:xfrm>
            <a:off x="2195640" y="2637000"/>
            <a:ext cx="144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AutoShape 65"/>
          <p:cNvSpPr/>
          <p:nvPr/>
        </p:nvSpPr>
        <p:spPr>
          <a:xfrm>
            <a:off x="2411280" y="2276640"/>
            <a:ext cx="216000" cy="158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000"/>
              <a:gd name="textAreaBottom" fmla="*/ 1542960 h 158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AutoShape 66"/>
          <p:cNvSpPr/>
          <p:nvPr/>
        </p:nvSpPr>
        <p:spPr>
          <a:xfrm>
            <a:off x="1619280" y="429264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5fcb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Line 67"/>
          <p:cNvSpPr/>
          <p:nvPr/>
        </p:nvSpPr>
        <p:spPr>
          <a:xfrm flipH="1">
            <a:off x="1547640" y="4653000"/>
            <a:ext cx="216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Line 68"/>
          <p:cNvSpPr/>
          <p:nvPr/>
        </p:nvSpPr>
        <p:spPr>
          <a:xfrm>
            <a:off x="1685880" y="4991040"/>
            <a:ext cx="71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Line 69"/>
          <p:cNvSpPr/>
          <p:nvPr/>
        </p:nvSpPr>
        <p:spPr>
          <a:xfrm>
            <a:off x="1547640" y="5445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Line 71"/>
          <p:cNvSpPr/>
          <p:nvPr/>
        </p:nvSpPr>
        <p:spPr>
          <a:xfrm>
            <a:off x="176364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Line 73"/>
          <p:cNvSpPr/>
          <p:nvPr/>
        </p:nvSpPr>
        <p:spPr>
          <a:xfrm flipV="1">
            <a:off x="1763640" y="458136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Line 74"/>
          <p:cNvSpPr/>
          <p:nvPr/>
        </p:nvSpPr>
        <p:spPr>
          <a:xfrm flipV="1">
            <a:off x="1757520" y="4797360"/>
            <a:ext cx="43812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AutoShape 75"/>
          <p:cNvSpPr/>
          <p:nvPr/>
        </p:nvSpPr>
        <p:spPr>
          <a:xfrm>
            <a:off x="2411280" y="4292640"/>
            <a:ext cx="220680" cy="1368360"/>
          </a:xfrm>
          <a:custGeom>
            <a:avLst/>
            <a:gdLst>
              <a:gd name="textAreaLeft" fmla="*/ 64800 w 220680"/>
              <a:gd name="textAreaRight" fmla="*/ 221040 w 220680"/>
              <a:gd name="textAreaTop" fmla="*/ 56880 h 1368360"/>
              <a:gd name="textAreaBottom" fmla="*/ 1311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Line 76"/>
          <p:cNvSpPr/>
          <p:nvPr/>
        </p:nvSpPr>
        <p:spPr>
          <a:xfrm>
            <a:off x="4734000" y="2349360"/>
            <a:ext cx="57636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Line 78"/>
          <p:cNvSpPr/>
          <p:nvPr/>
        </p:nvSpPr>
        <p:spPr>
          <a:xfrm flipH="1">
            <a:off x="4641480" y="2924280"/>
            <a:ext cx="6476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Line 83"/>
          <p:cNvSpPr/>
          <p:nvPr/>
        </p:nvSpPr>
        <p:spPr>
          <a:xfrm>
            <a:off x="4876920" y="452916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Line 84"/>
          <p:cNvSpPr/>
          <p:nvPr/>
        </p:nvSpPr>
        <p:spPr>
          <a:xfrm flipH="1">
            <a:off x="5111640" y="497664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3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3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" dur="5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71440"/>
            <a:ext cx="5977080" cy="442800"/>
          </a:xfrm>
          <a:prstGeom prst="rect">
            <a:avLst/>
          </a:prstGeom>
          <a:solidFill>
            <a:srgbClr val="dff5fc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Шэнэ темэ: Тэмдэгэй нэрын шэнжэ, илгарал</a:t>
            </a:r>
            <a:endParaRPr b="0" lang="en-US" sz="21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060440" y="882360"/>
            <a:ext cx="3606840" cy="1290600"/>
          </a:xfrm>
          <a:prstGeom prst="rect">
            <a:avLst/>
          </a:prstGeom>
          <a:noFill/>
          <a:ln w="9360">
            <a:solidFill>
              <a:srgbClr val="ebebeb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174261"/>
                </a:solidFill>
                <a:latin typeface="Times New Roman Bur"/>
              </a:rPr>
              <a:t>Б.д.   х.х</a:t>
            </a:r>
            <a:r>
              <a:rPr b="0" lang="mn-Cyrl-MN" sz="800" spc="-1" strike="noStrike">
                <a:solidFill>
                  <a:srgbClr val="174261"/>
                </a:solidFill>
                <a:latin typeface="Times New Roman Bur"/>
              </a:rPr>
              <a:t>(бэеэ дааһан хэлэлгын хуби)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174261"/>
                </a:solidFill>
                <a:latin typeface="Times New Roman Bur"/>
              </a:rPr>
              <a:t>М.г.: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174261"/>
                </a:solidFill>
                <a:latin typeface="Times New Roman Bur"/>
              </a:rPr>
              <a:t>     </a:t>
            </a:r>
            <a:r>
              <a:rPr b="0" lang="ru-RU" sz="800" spc="-1" strike="noStrike">
                <a:solidFill>
                  <a:srgbClr val="174261"/>
                </a:solidFill>
                <a:latin typeface="Times New Roman Bur"/>
              </a:rPr>
              <a:t>элирхэйлэгшэ</a:t>
            </a:r>
            <a:r>
              <a:rPr b="0" lang="mn-Cyrl-MN" sz="800" spc="-1" strike="noStrike">
                <a:solidFill>
                  <a:srgbClr val="174261"/>
                </a:solidFill>
                <a:latin typeface="Times New Roman Bur"/>
              </a:rPr>
              <a:t>, хэлэгшэ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174261"/>
                </a:solidFill>
                <a:latin typeface="Times New Roman Bur"/>
              </a:rPr>
              <a:t>     </a:t>
            </a:r>
            <a:r>
              <a:rPr b="0" lang="ru-RU" sz="800" spc="-1" strike="noStrike">
                <a:solidFill>
                  <a:srgbClr val="174261"/>
                </a:solidFill>
                <a:latin typeface="Times New Roman Bur"/>
              </a:rPr>
              <a:t>ямар?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174261"/>
                </a:solidFill>
                <a:latin typeface="Times New Roman Bur"/>
              </a:rPr>
              <a:t>     </a:t>
            </a:r>
            <a:r>
              <a:rPr b="0" lang="ru-RU" sz="800" spc="-1" strike="noStrike">
                <a:solidFill>
                  <a:srgbClr val="174261"/>
                </a:solidFill>
                <a:latin typeface="Times New Roman Bur"/>
              </a:rPr>
              <a:t>хэнэй?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174261"/>
                </a:solidFill>
                <a:latin typeface="Times New Roman Bur"/>
              </a:rPr>
              <a:t>     </a:t>
            </a:r>
            <a:r>
              <a:rPr b="0" lang="ru-RU" sz="800" spc="-1" strike="noStrike">
                <a:solidFill>
                  <a:srgbClr val="174261"/>
                </a:solidFill>
                <a:latin typeface="Times New Roman Bur"/>
              </a:rPr>
              <a:t>юунэй?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2317320" y="4006080"/>
            <a:ext cx="31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2315160" y="4612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Rectangle 23"/>
          <p:cNvSpPr/>
          <p:nvPr/>
        </p:nvSpPr>
        <p:spPr>
          <a:xfrm>
            <a:off x="1379160" y="1824840"/>
            <a:ext cx="31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Rectangle 24"/>
          <p:cNvSpPr/>
          <p:nvPr/>
        </p:nvSpPr>
        <p:spPr>
          <a:xfrm>
            <a:off x="1386000" y="1225800"/>
            <a:ext cx="2232000" cy="581400"/>
          </a:xfrm>
          <a:prstGeom prst="rect">
            <a:avLst/>
          </a:prstGeom>
          <a:noFill/>
          <a:ln w="93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BangkokBur"/>
                <a:ea typeface="Times New Roman"/>
              </a:rPr>
              <a:t>Тэм.н :</a:t>
            </a:r>
            <a:r>
              <a:rPr b="0" lang="ru-RU" sz="20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шанар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тэмдэг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Rectangle 25"/>
          <p:cNvSpPr/>
          <p:nvPr/>
        </p:nvSpPr>
        <p:spPr>
          <a:xfrm>
            <a:off x="824040" y="2069280"/>
            <a:ext cx="7184880" cy="417024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лгарал: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Шанар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(анхан</a:t>
            </a:r>
            <a:r>
              <a:rPr b="0" lang="en-US" sz="12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аа бай</a:t>
            </a:r>
            <a:r>
              <a:rPr b="0" lang="en-US" sz="12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ан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мар?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80000"/>
              <a:buFont typeface="BangkokBu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Б)     </a:t>
            </a:r>
            <a:r>
              <a:rPr b="0" lang="mn-Cyrl-MN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mn-Cyrl-MN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                  </a:t>
            </a:r>
            <a:r>
              <a:rPr b="0" lang="mn-Cyrl-MN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ногоон                              хүхэ                            зурлаанууд</a:t>
            </a:r>
            <a:r>
              <a:rPr b="0" lang="ru-RU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BangkokBur"/>
                <a:ea typeface="Times New Roman"/>
              </a:rPr>
              <a:t>2. Харилсаата</a:t>
            </a:r>
            <a:r>
              <a:rPr b="0" lang="ru-RU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(</a:t>
            </a:r>
            <a:r>
              <a:rPr b="0" lang="ru-RU" sz="1200" spc="-1" strike="noStrike">
                <a:solidFill>
                  <a:srgbClr val="ff00ff"/>
                </a:solidFill>
                <a:latin typeface="BangkokBur"/>
                <a:ea typeface="Times New Roman"/>
              </a:rPr>
              <a:t>ямар нэгэн юумэндэ хабаатай бай</a:t>
            </a:r>
            <a:r>
              <a:rPr b="0" lang="en-US" sz="1200" spc="-1" strike="noStrike">
                <a:solidFill>
                  <a:srgbClr val="ff00ff"/>
                </a:solidFill>
                <a:latin typeface="BangkokBur"/>
                <a:ea typeface="Times New Roman"/>
              </a:rPr>
              <a:t>h</a:t>
            </a:r>
            <a:r>
              <a:rPr b="0" lang="ru-RU" sz="1200" spc="-1" strike="noStrike">
                <a:solidFill>
                  <a:srgbClr val="ff00ff"/>
                </a:solidFill>
                <a:latin typeface="BangkokBur"/>
                <a:ea typeface="Times New Roman"/>
              </a:rPr>
              <a:t>ые харуулдаг)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А) юум. н – модон + шо =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                                                                                               </a:t>
            </a:r>
            <a:r>
              <a:rPr b="0" lang="mn-Cyrl-MN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зохилдодог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Б) наречи – эндэ+ хи = 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В) глагол – анга + ма =                                                             </a:t>
            </a:r>
            <a:r>
              <a:rPr b="0" lang="mn-Cyrl-MN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хамаададаг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Rectangle 29"/>
          <p:cNvSpPr/>
          <p:nvPr/>
        </p:nvSpPr>
        <p:spPr>
          <a:xfrm>
            <a:off x="1444680" y="672660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Line 94"/>
          <p:cNvSpPr/>
          <p:nvPr/>
        </p:nvSpPr>
        <p:spPr>
          <a:xfrm>
            <a:off x="3780000" y="1125360"/>
            <a:ext cx="0" cy="935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Rectangle 98"/>
          <p:cNvSpPr/>
          <p:nvPr/>
        </p:nvSpPr>
        <p:spPr>
          <a:xfrm>
            <a:off x="1547640" y="3645000"/>
            <a:ext cx="865440" cy="144360"/>
          </a:xfrm>
          <a:prstGeom prst="rect">
            <a:avLst/>
          </a:prstGeom>
          <a:solidFill>
            <a:srgbClr val="5fcb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n-Cyrl-MN" sz="1200" spc="-1" strike="noStrike">
                <a:solidFill>
                  <a:srgbClr val="000000"/>
                </a:solidFill>
                <a:latin typeface="Arial"/>
              </a:rPr>
              <a:t>ягаан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Rectangle 99"/>
          <p:cNvSpPr/>
          <p:nvPr/>
        </p:nvSpPr>
        <p:spPr>
          <a:xfrm>
            <a:off x="2771640" y="3645000"/>
            <a:ext cx="863640" cy="144360"/>
          </a:xfrm>
          <a:prstGeom prst="rect">
            <a:avLst/>
          </a:prstGeom>
          <a:solidFill>
            <a:srgbClr val="5fcb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n-Cyrl-MN" sz="1200" spc="-1" strike="noStrike">
                <a:solidFill>
                  <a:srgbClr val="000000"/>
                </a:solidFill>
                <a:latin typeface="Times New Roman Bur"/>
              </a:rPr>
              <a:t>улаан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8" name="Picture 100" descr="Rose 1"/>
          <p:cNvPicPr/>
          <p:nvPr/>
        </p:nvPicPr>
        <p:blipFill>
          <a:blip r:embed="rId1"/>
          <a:stretch/>
        </p:blipFill>
        <p:spPr>
          <a:xfrm>
            <a:off x="4356000" y="2997360"/>
            <a:ext cx="782640" cy="790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01" descr="Rose 1"/>
          <p:cNvPicPr/>
          <p:nvPr/>
        </p:nvPicPr>
        <p:blipFill>
          <a:blip r:embed="rId2"/>
          <a:stretch/>
        </p:blipFill>
        <p:spPr>
          <a:xfrm>
            <a:off x="5724360" y="2997360"/>
            <a:ext cx="720720" cy="790560"/>
          </a:xfrm>
          <a:prstGeom prst="rect">
            <a:avLst/>
          </a:prstGeom>
          <a:ln w="9360">
            <a:solidFill>
              <a:srgbClr val="ff6699"/>
            </a:solidFill>
            <a:miter/>
          </a:ln>
        </p:spPr>
      </p:pic>
      <p:sp>
        <p:nvSpPr>
          <p:cNvPr id="320" name="Line 103"/>
          <p:cNvSpPr/>
          <p:nvPr/>
        </p:nvSpPr>
        <p:spPr>
          <a:xfrm>
            <a:off x="1476360" y="4292640"/>
            <a:ext cx="1008000" cy="0"/>
          </a:xfrm>
          <a:prstGeom prst="line">
            <a:avLst/>
          </a:prstGeom>
          <a:ln cap="rnd" w="19080">
            <a:solidFill>
              <a:srgbClr val="42b0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Line 104"/>
          <p:cNvSpPr/>
          <p:nvPr/>
        </p:nvSpPr>
        <p:spPr>
          <a:xfrm>
            <a:off x="2916360" y="4292640"/>
            <a:ext cx="57600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Rectangle 105"/>
          <p:cNvSpPr/>
          <p:nvPr/>
        </p:nvSpPr>
        <p:spPr>
          <a:xfrm>
            <a:off x="3130560" y="4595760"/>
            <a:ext cx="863640" cy="344520"/>
          </a:xfrm>
          <a:prstGeom prst="rect">
            <a:avLst/>
          </a:prstGeom>
          <a:noFill/>
          <a:ln w="93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AutoShape 107"/>
          <p:cNvSpPr/>
          <p:nvPr/>
        </p:nvSpPr>
        <p:spPr>
          <a:xfrm>
            <a:off x="6356520" y="3292560"/>
            <a:ext cx="1622160" cy="121428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Line 108"/>
          <p:cNvSpPr/>
          <p:nvPr/>
        </p:nvSpPr>
        <p:spPr>
          <a:xfrm flipH="1" flipV="1">
            <a:off x="971640" y="4365360"/>
            <a:ext cx="792000" cy="71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Rectangle 109"/>
          <p:cNvSpPr/>
          <p:nvPr/>
        </p:nvSpPr>
        <p:spPr>
          <a:xfrm>
            <a:off x="3079800" y="4927680"/>
            <a:ext cx="9144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Rectangle 112"/>
          <p:cNvSpPr/>
          <p:nvPr/>
        </p:nvSpPr>
        <p:spPr>
          <a:xfrm>
            <a:off x="3132000" y="5084640"/>
            <a:ext cx="863640" cy="216000"/>
          </a:xfrm>
          <a:prstGeom prst="rect">
            <a:avLst/>
          </a:prstGeom>
          <a:noFill/>
          <a:ln w="93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Rectangle 113"/>
          <p:cNvSpPr/>
          <p:nvPr/>
        </p:nvSpPr>
        <p:spPr>
          <a:xfrm>
            <a:off x="3132000" y="5445000"/>
            <a:ext cx="863640" cy="217440"/>
          </a:xfrm>
          <a:prstGeom prst="rect">
            <a:avLst/>
          </a:prstGeom>
          <a:noFill/>
          <a:ln w="93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AutoShape 114"/>
          <p:cNvSpPr/>
          <p:nvPr/>
        </p:nvSpPr>
        <p:spPr>
          <a:xfrm>
            <a:off x="4572000" y="5008680"/>
            <a:ext cx="223920" cy="936360"/>
          </a:xfrm>
          <a:custGeom>
            <a:avLst/>
            <a:gdLst>
              <a:gd name="textAreaLeft" fmla="*/ 0 w 223920"/>
              <a:gd name="textAreaRight" fmla="*/ 80640 w 223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Прямоугольник: скругленные углы 1"/>
          <p:cNvSpPr/>
          <p:nvPr/>
        </p:nvSpPr>
        <p:spPr>
          <a:xfrm>
            <a:off x="2859120" y="4998960"/>
            <a:ext cx="1135080" cy="26028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n-Cyrl-MN" sz="1200" spc="-1" strike="noStrike">
                <a:solidFill>
                  <a:srgbClr val="181818"/>
                </a:solidFill>
                <a:latin typeface="Times New Roman Bur"/>
              </a:rPr>
              <a:t>модошон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Прямоугольник: скругленные углы 2"/>
          <p:cNvSpPr/>
          <p:nvPr/>
        </p:nvSpPr>
        <p:spPr>
          <a:xfrm>
            <a:off x="2852640" y="5384880"/>
            <a:ext cx="1036800" cy="22860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n-Cyrl-MN" sz="1200" spc="-1" strike="noStrike">
                <a:solidFill>
                  <a:srgbClr val="181818"/>
                </a:solidFill>
                <a:latin typeface="Times New Roman Bur"/>
              </a:rPr>
              <a:t>эндэхи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Прямоугольник: скругленные углы 3"/>
          <p:cNvSpPr/>
          <p:nvPr/>
        </p:nvSpPr>
        <p:spPr>
          <a:xfrm>
            <a:off x="2897280" y="5724360"/>
            <a:ext cx="1006560" cy="30492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n-Cyrl-MN" sz="1200" spc="-1" strike="noStrike">
                <a:solidFill>
                  <a:srgbClr val="161e22"/>
                </a:solidFill>
                <a:latin typeface="Times New Roman Bur"/>
              </a:rPr>
              <a:t>ангама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3000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634860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 Bur"/>
              </a:rPr>
              <a:t>Тэмдэгэй нэрын ондоо хэлэлгын хуби</a:t>
            </a:r>
            <a:r>
              <a:rPr b="0" lang="mn-Cyrl-MN" sz="2000" spc="-1" strike="noStrike">
                <a:solidFill>
                  <a:srgbClr val="ff0066"/>
                </a:solidFill>
                <a:latin typeface="Times New Roman Bur"/>
              </a:rPr>
              <a:t>һ</a:t>
            </a:r>
            <a:r>
              <a:rPr b="0" lang="ru-RU" sz="2000" spc="-1" strike="noStrike">
                <a:solidFill>
                  <a:srgbClr val="ff0066"/>
                </a:solidFill>
                <a:latin typeface="Times New Roman Bur"/>
              </a:rPr>
              <a:t>аа гаралга</a:t>
            </a:r>
            <a:endParaRPr b="0" lang="en-US" sz="2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208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66640" y="1685880"/>
            <a:ext cx="1873440" cy="3960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2757e"/>
                </a:solidFill>
                <a:latin typeface="Times New Roman Bur"/>
              </a:rPr>
              <a:t>Бари…  х</a:t>
            </a:r>
            <a:r>
              <a:rPr b="1" lang="mn-Cyrl-MN" sz="1600" spc="-1" strike="noStrike">
                <a:solidFill>
                  <a:srgbClr val="02757e"/>
                </a:solidFill>
                <a:latin typeface="Times New Roman Bur"/>
              </a:rPr>
              <a:t>ү</a:t>
            </a:r>
            <a:r>
              <a:rPr b="1" lang="ru-RU" sz="1600" spc="-1" strike="noStrike">
                <a:solidFill>
                  <a:srgbClr val="02757e"/>
                </a:solidFill>
                <a:latin typeface="Times New Roman Bur"/>
              </a:rPr>
              <a:t>б</a:t>
            </a:r>
            <a:r>
              <a:rPr b="1" lang="mn-Cyrl-MN" sz="1600" spc="-1" strike="noStrike">
                <a:solidFill>
                  <a:srgbClr val="02757e"/>
                </a:solidFill>
                <a:latin typeface="Times New Roman Bur"/>
              </a:rPr>
              <a:t>үү</a:t>
            </a:r>
            <a:r>
              <a:rPr b="1" lang="ru-RU" sz="1600" spc="-1" strike="noStrike">
                <a:solidFill>
                  <a:srgbClr val="02757e"/>
                </a:solidFill>
                <a:latin typeface="Times New Roman Bur"/>
              </a:rPr>
              <a:t>д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2757e"/>
                </a:solidFill>
                <a:latin typeface="Times New Roman Bur"/>
              </a:rPr>
              <a:t>Y</a:t>
            </a:r>
            <a:r>
              <a:rPr b="1" lang="mn-Cyrl-MN" sz="1600" spc="-1" strike="noStrike">
                <a:solidFill>
                  <a:srgbClr val="02757e"/>
                </a:solidFill>
                <a:latin typeface="Times New Roman Bur"/>
              </a:rPr>
              <a:t>ү</a:t>
            </a:r>
            <a:r>
              <a:rPr b="1" lang="ru-RU" sz="1600" spc="-1" strike="noStrike">
                <a:solidFill>
                  <a:srgbClr val="02757e"/>
                </a:solidFill>
                <a:latin typeface="Times New Roman Bur"/>
              </a:rPr>
              <a:t>лэ…   тэнгэри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2757e"/>
                </a:solidFill>
                <a:latin typeface="Times New Roman Bur"/>
              </a:rPr>
              <a:t>Суу…  б</a:t>
            </a:r>
            <a:r>
              <a:rPr b="1" lang="mn-Cyrl-MN" sz="1600" spc="-1" strike="noStrike">
                <a:solidFill>
                  <a:srgbClr val="02757e"/>
                </a:solidFill>
                <a:latin typeface="Times New Roman Bur"/>
              </a:rPr>
              <a:t>ү</a:t>
            </a:r>
            <a:r>
              <a:rPr b="1" lang="ru-RU" sz="1600" spc="-1" strike="noStrike">
                <a:solidFill>
                  <a:srgbClr val="02757e"/>
                </a:solidFill>
                <a:latin typeface="Times New Roman Bur"/>
              </a:rPr>
              <a:t>хэш</a:t>
            </a:r>
            <a:r>
              <a:rPr b="1" lang="mn-Cyrl-MN" sz="1600" spc="-1" strike="noStrike">
                <a:solidFill>
                  <a:srgbClr val="02757e"/>
                </a:solidFill>
                <a:latin typeface="Times New Roman Bur"/>
              </a:rPr>
              <a:t>үү</a:t>
            </a:r>
            <a:r>
              <a:rPr b="1" lang="ru-RU" sz="1600" spc="-1" strike="noStrike">
                <a:solidFill>
                  <a:srgbClr val="02757e"/>
                </a:solidFill>
                <a:latin typeface="Times New Roman Bur"/>
              </a:rPr>
              <a:t>л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2757e"/>
                </a:solidFill>
                <a:latin typeface="Times New Roman Bur"/>
              </a:rPr>
              <a:t>Тари…   модод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5" name="Picture 7" descr="Улан-Удэ"/>
          <p:cNvPicPr/>
          <p:nvPr/>
        </p:nvPicPr>
        <p:blipFill>
          <a:blip r:embed="rId1"/>
          <a:stretch/>
        </p:blipFill>
        <p:spPr>
          <a:xfrm>
            <a:off x="2789280" y="1844640"/>
            <a:ext cx="2378160" cy="151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6" name="Picture 8" descr="Awargyyd 02"/>
          <p:cNvPicPr/>
          <p:nvPr/>
        </p:nvPicPr>
        <p:blipFill>
          <a:blip r:embed="rId2"/>
          <a:stretch/>
        </p:blipFill>
        <p:spPr>
          <a:xfrm>
            <a:off x="2898720" y="4062240"/>
            <a:ext cx="2016360" cy="158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7" name="Picture 9" descr="Бухэнууд"/>
          <p:cNvPicPr/>
          <p:nvPr/>
        </p:nvPicPr>
        <p:blipFill>
          <a:blip r:embed="rId3"/>
          <a:stretch/>
        </p:blipFill>
        <p:spPr>
          <a:xfrm>
            <a:off x="5724360" y="1773360"/>
            <a:ext cx="2516400" cy="158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8" name="Picture 11" descr="После грозы"/>
          <p:cNvPicPr/>
          <p:nvPr/>
        </p:nvPicPr>
        <p:blipFill>
          <a:blip r:embed="rId4"/>
          <a:stretch/>
        </p:blipFill>
        <p:spPr>
          <a:xfrm>
            <a:off x="5796000" y="4133880"/>
            <a:ext cx="2160720" cy="144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9" name="AutoShape 12"/>
          <p:cNvSpPr/>
          <p:nvPr/>
        </p:nvSpPr>
        <p:spPr>
          <a:xfrm>
            <a:off x="1258920" y="3429000"/>
            <a:ext cx="360360" cy="144360"/>
          </a:xfrm>
          <a:custGeom>
            <a:avLst/>
            <a:gdLst>
              <a:gd name="textAreaLeft" fmla="*/ 0 w 360360"/>
              <a:gd name="textAreaRight" fmla="*/ 360720 w 360360"/>
              <a:gd name="textAreaTop" fmla="*/ 0 h 144360"/>
              <a:gd name="textAreaBottom" fmla="*/ 51480 h 144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AutoShape 13">
            <a:hlinkClick r:id="rId5" action="ppaction://hlinksldjump"/>
          </p:cNvPr>
          <p:cNvSpPr/>
          <p:nvPr/>
        </p:nvSpPr>
        <p:spPr>
          <a:xfrm>
            <a:off x="8244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</a:pathLst>
          </a:custGeom>
          <a:solidFill>
            <a:srgbClr val="5fcb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3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3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3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560" y="765000"/>
            <a:ext cx="7201080" cy="432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 Bur"/>
              </a:rPr>
              <a:t>ЭДЭ МЭД</a:t>
            </a:r>
            <a:r>
              <a:rPr b="0" lang="mn-Cyrl-MN" sz="1800" spc="-1" strike="noStrike">
                <a:solidFill>
                  <a:srgbClr val="ff0066"/>
                </a:solidFill>
                <a:latin typeface="Times New Roman Bur"/>
              </a:rPr>
              <a:t>ҮҮ</a:t>
            </a:r>
            <a:r>
              <a:rPr b="0" lang="ru-RU" sz="1800" spc="-1" strike="noStrike">
                <a:solidFill>
                  <a:srgbClr val="ff0066"/>
                </a:solidFill>
                <a:latin typeface="Times New Roman Bur"/>
              </a:rPr>
              <a:t>ЛЭЛН</a:t>
            </a:r>
            <a:r>
              <a:rPr b="0" lang="mn-Cyrl-MN" sz="1800" spc="-1" strike="noStrike">
                <a:solidFill>
                  <a:srgbClr val="ff0066"/>
                </a:solidFill>
                <a:latin typeface="Times New Roman Bur"/>
              </a:rPr>
              <a:t>ҮҮ</a:t>
            </a:r>
            <a:r>
              <a:rPr b="0" lang="ru-RU" sz="1800" spc="-1" strike="noStrike">
                <a:solidFill>
                  <a:srgbClr val="ff0066"/>
                </a:solidFill>
                <a:latin typeface="Times New Roman Bur"/>
              </a:rPr>
              <a:t>ДТЭ  ТЭМДЭГЭЙ НЭРЭН</a:t>
            </a:r>
            <a:r>
              <a:rPr b="0" lang="mn-Cyrl-MN" sz="1800" spc="-1" strike="noStrike">
                <a:solidFill>
                  <a:srgbClr val="ff0066"/>
                </a:solidFill>
                <a:latin typeface="Times New Roman Bur"/>
              </a:rPr>
              <a:t>ҮҮ</a:t>
            </a:r>
            <a:r>
              <a:rPr b="0" lang="ru-RU" sz="1800" spc="-1" strike="noStrike">
                <a:solidFill>
                  <a:srgbClr val="ff0066"/>
                </a:solidFill>
                <a:latin typeface="Times New Roman Bur"/>
              </a:rPr>
              <a:t>ДЫЕ ТАБИГТЫ</a:t>
            </a:r>
            <a:r>
              <a:rPr b="1" lang="ru-RU" sz="1800" spc="-1" strike="noStrike">
                <a:solidFill>
                  <a:srgbClr val="ff0066"/>
                </a:solidFill>
                <a:latin typeface="Times New Roman Bur"/>
              </a:rPr>
              <a:t>:</a:t>
            </a:r>
            <a:endParaRPr b="0" lang="en-US" sz="18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934920" y="1628640"/>
            <a:ext cx="72741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 Bur"/>
              </a:rPr>
              <a:t>Манай нютагай  ---,  --- ой соогуур  --- шандаган,  ---</a:t>
            </a:r>
            <a:r>
              <a:rPr b="0" lang="mn-Cyrl-MN" sz="1800" spc="-1" strike="noStrike">
                <a:solidFill>
                  <a:srgbClr val="003399"/>
                </a:solidFill>
                <a:latin typeface="Times New Roman Bur"/>
              </a:rPr>
              <a:t>ү</a:t>
            </a:r>
            <a:r>
              <a:rPr b="0" lang="ru-RU" sz="1800" spc="-1" strike="noStrike">
                <a:solidFill>
                  <a:srgbClr val="003399"/>
                </a:solidFill>
                <a:latin typeface="Times New Roman Bur"/>
              </a:rPr>
              <a:t>нэгэн олоор амидардаг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 Bur"/>
              </a:rPr>
              <a:t>Эндэхи нютагай зон ехэнхидээ … ургамалнуудые таридаг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 Bur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Times New Roman Bur"/>
              </a:rPr>
              <a:t>--- аяга соо</a:t>
            </a:r>
            <a:r>
              <a:rPr b="0" lang="en-US" sz="1800" spc="-1" strike="noStrike">
                <a:solidFill>
                  <a:srgbClr val="003399"/>
                </a:solidFill>
                <a:latin typeface="Times New Roman Bur"/>
              </a:rPr>
              <a:t>h</a:t>
            </a:r>
            <a:r>
              <a:rPr b="0" lang="ru-RU" sz="1800" spc="-1" strike="noStrike">
                <a:solidFill>
                  <a:srgbClr val="003399"/>
                </a:solidFill>
                <a:latin typeface="Times New Roman Bur"/>
              </a:rPr>
              <a:t>оо унда уужа болохог</a:t>
            </a:r>
            <a:r>
              <a:rPr b="0" lang="mn-Cyrl-MN" sz="1800" spc="-1" strike="noStrike">
                <a:solidFill>
                  <a:srgbClr val="003399"/>
                </a:solidFill>
                <a:latin typeface="Times New Roman Bur"/>
              </a:rPr>
              <a:t>ү</a:t>
            </a:r>
            <a:r>
              <a:rPr b="0" lang="ru-RU" sz="1800" spc="-1" strike="noStrike">
                <a:solidFill>
                  <a:srgbClr val="003399"/>
                </a:solidFill>
                <a:latin typeface="Times New Roman Bur"/>
              </a:rPr>
              <a:t>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07880" y="404640"/>
            <a:ext cx="6172200" cy="648000"/>
          </a:xfrm>
          <a:prstGeom prst="rect">
            <a:avLst/>
          </a:prstGeom>
          <a:solidFill>
            <a:srgbClr val="5fcbe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74261"/>
                </a:solidFill>
                <a:latin typeface="Times New Roman Bur"/>
              </a:rPr>
              <a:t>Тэмдэгэй нэрын удхаараа илгарал</a:t>
            </a:r>
            <a:endParaRPr b="0" lang="en-US" sz="2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000" y="1628640"/>
            <a:ext cx="3925800" cy="4254480"/>
          </a:xfrm>
          <a:prstGeom prst="rect">
            <a:avLst/>
          </a:prstGeom>
          <a:solidFill>
            <a:srgbClr val="fbf88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Шанарта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Times New Roman Bur"/>
              </a:rPr>
              <a:t>Улаан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Times New Roman Bur"/>
              </a:rPr>
              <a:t>Са</a:t>
            </a:r>
            <a:r>
              <a:rPr b="0" lang="en-US" sz="2000" spc="-1" strike="noStrike">
                <a:solidFill>
                  <a:srgbClr val="ff00ff"/>
                </a:solidFill>
                <a:latin typeface="Times New Roman Bur"/>
              </a:rPr>
              <a:t>h</a:t>
            </a:r>
            <a:r>
              <a:rPr b="0" lang="ru-RU" sz="2000" spc="-1" strike="noStrike">
                <a:solidFill>
                  <a:srgbClr val="ff00ff"/>
                </a:solidFill>
                <a:latin typeface="Times New Roman Bur"/>
              </a:rPr>
              <a:t>ат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 Bur"/>
              </a:rPr>
              <a:t>Y</a:t>
            </a:r>
            <a:r>
              <a:rPr b="0" lang="ru-RU" sz="2000" spc="-1" strike="noStrike">
                <a:solidFill>
                  <a:srgbClr val="ff00ff"/>
                </a:solidFill>
                <a:latin typeface="Times New Roman Bur"/>
              </a:rPr>
              <a:t>ргэмэ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Times New Roman Bur"/>
              </a:rPr>
              <a:t>Нарин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Times New Roman Bur"/>
              </a:rPr>
              <a:t>Сэбэр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Times New Roman Bur"/>
              </a:rPr>
              <a:t>Н</a:t>
            </a:r>
            <a:r>
              <a:rPr b="0" lang="mn-Cyrl-MN" sz="2000" spc="-1" strike="noStrike">
                <a:solidFill>
                  <a:srgbClr val="ff00ff"/>
                </a:solidFill>
                <a:latin typeface="Times New Roman Bur"/>
              </a:rPr>
              <a:t>ё</a:t>
            </a:r>
            <a:r>
              <a:rPr b="0" lang="ru-RU" sz="2000" spc="-1" strike="noStrike">
                <a:solidFill>
                  <a:srgbClr val="ff00ff"/>
                </a:solidFill>
                <a:latin typeface="Times New Roman Bur"/>
              </a:rPr>
              <a:t>дондохи</a:t>
            </a:r>
            <a:r>
              <a:rPr b="0" lang="ru-RU" sz="2000" spc="-1" strike="noStrike">
                <a:solidFill>
                  <a:srgbClr val="2e83c3"/>
                </a:solidFill>
                <a:latin typeface="Times New Roman Bur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859280" y="1628280"/>
            <a:ext cx="4005360" cy="4257720"/>
          </a:xfrm>
          <a:prstGeom prst="rect">
            <a:avLst/>
          </a:prstGeom>
          <a:solidFill>
            <a:srgbClr val="fbf88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Харилсаата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74261"/>
                </a:solidFill>
                <a:latin typeface="Times New Roman Bur"/>
              </a:rPr>
              <a:t>Шарама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74261"/>
                </a:solidFill>
                <a:latin typeface="Times New Roman Bur"/>
              </a:rPr>
              <a:t>То</a:t>
            </a:r>
            <a:r>
              <a:rPr b="0" lang="en-US" sz="2000" spc="-1" strike="noStrike">
                <a:solidFill>
                  <a:srgbClr val="174261"/>
                </a:solidFill>
                <a:latin typeface="Times New Roman Bur"/>
              </a:rPr>
              <a:t>h</a:t>
            </a:r>
            <a:r>
              <a:rPr b="0" lang="ru-RU" sz="2000" spc="-1" strike="noStrike">
                <a:solidFill>
                  <a:srgbClr val="174261"/>
                </a:solidFill>
                <a:latin typeface="Times New Roman Bur"/>
              </a:rPr>
              <a:t>ошо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74261"/>
                </a:solidFill>
                <a:latin typeface="Times New Roman Bur"/>
              </a:rPr>
              <a:t>Хатанхай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74261"/>
                </a:solidFill>
                <a:latin typeface="Times New Roman Bur"/>
              </a:rPr>
              <a:t>Сэсэн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74261"/>
                </a:solidFill>
                <a:latin typeface="Times New Roman Bur"/>
              </a:rPr>
              <a:t>Баян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74261"/>
                </a:solidFill>
                <a:latin typeface="Times New Roman Bur"/>
              </a:rPr>
              <a:t>малтама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AutoShape 11">
            <a:hlinkClick r:id="rId1" action="ppaction://hlinksldjump"/>
          </p:cNvPr>
          <p:cNvSpPr/>
          <p:nvPr/>
        </p:nvSpPr>
        <p:spPr>
          <a:xfrm>
            <a:off x="824400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5fcb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" dur="20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5" dur="20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0" dur="20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5" dur="30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0" dur="20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92360" y="1106640"/>
            <a:ext cx="5473440" cy="504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 Bur"/>
              </a:rPr>
              <a:t>Тэмдэгэй нэрын зохилдол</a:t>
            </a: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826920" y="2276640"/>
          <a:ext cx="7272360" cy="347472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12868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эрын паде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ла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Хамаанай паде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ла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гэй паде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ла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йлын паде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ла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и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эбсэгэй паде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ла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а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Хамтын паде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ла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т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Гаралай паде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ла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7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58920" y="649440"/>
            <a:ext cx="6348240" cy="7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 Bur"/>
              </a:rPr>
              <a:t> </a:t>
            </a:r>
            <a:r>
              <a:rPr b="0" lang="mn-Cyrl-MN" sz="1600" spc="-1" strike="noStrike">
                <a:solidFill>
                  <a:srgbClr val="ff0000"/>
                </a:solidFill>
                <a:latin typeface="Times New Roman Bur"/>
              </a:rPr>
              <a:t>Текст уншагты. </a:t>
            </a:r>
            <a:r>
              <a:rPr b="0" lang="ru-RU" sz="1600" spc="-1" strike="noStrike">
                <a:solidFill>
                  <a:srgbClr val="ff0000"/>
                </a:solidFill>
                <a:latin typeface="Times New Roman Bur"/>
              </a:rPr>
              <a:t>Тэмдэгэй нэр</a:t>
            </a:r>
            <a:r>
              <a:rPr b="0" lang="mn-Cyrl-MN" sz="1600" spc="-1" strike="noStrike">
                <a:solidFill>
                  <a:srgbClr val="ff0000"/>
                </a:solidFill>
                <a:latin typeface="Times New Roman Bur"/>
              </a:rPr>
              <a:t>э</a:t>
            </a:r>
            <a:r>
              <a:rPr b="0" lang="ru-RU" sz="1600" spc="-1" strike="noStrike">
                <a:solidFill>
                  <a:srgbClr val="ff0000"/>
                </a:solidFill>
                <a:latin typeface="Times New Roman Bur"/>
              </a:rPr>
              <a:t>н</a:t>
            </a:r>
            <a:r>
              <a:rPr b="0" lang="mn-Cyrl-MN" sz="1600" spc="-1" strike="noStrike">
                <a:solidFill>
                  <a:srgbClr val="ff0000"/>
                </a:solidFill>
                <a:latin typeface="Times New Roman Bur"/>
              </a:rPr>
              <a:t>үүдые ологты,</a:t>
            </a:r>
            <a:r>
              <a:rPr b="0" lang="ru-RU" sz="1600" spc="-1" strike="noStrike">
                <a:solidFill>
                  <a:srgbClr val="ff0000"/>
                </a:solidFill>
                <a:latin typeface="Times New Roman Bur"/>
              </a:rPr>
              <a:t> падежн</a:t>
            </a:r>
            <a:r>
              <a:rPr b="0" lang="mn-Cyrl-MN" sz="1600" spc="-1" strike="noStrike">
                <a:solidFill>
                  <a:srgbClr val="ff0000"/>
                </a:solidFill>
                <a:latin typeface="Times New Roman Bur"/>
              </a:rPr>
              <a:t>үү</a:t>
            </a:r>
            <a:r>
              <a:rPr b="0" lang="ru-RU" sz="1600" spc="-1" strike="noStrike">
                <a:solidFill>
                  <a:srgbClr val="ff0000"/>
                </a:solidFill>
                <a:latin typeface="Times New Roman Bur"/>
              </a:rPr>
              <a:t>дыень тодорхойлогты</a:t>
            </a:r>
            <a:r>
              <a:rPr b="0" lang="mn-Cyrl-MN" sz="1600" spc="-1" strike="noStrike">
                <a:solidFill>
                  <a:srgbClr val="ff0000"/>
                </a:solidFill>
                <a:latin typeface="Times New Roman Bur"/>
              </a:rPr>
              <a:t>. Энэ сэдэбээр хөөрөө эмхидхэгты</a:t>
            </a:r>
            <a:r>
              <a:rPr b="0" lang="mn-Cyrl-MN" sz="1600" spc="-1" strike="noStrike">
                <a:solidFill>
                  <a:srgbClr val="ff6699"/>
                </a:solidFill>
                <a:latin typeface="Times New Roman Bur"/>
              </a:rPr>
              <a:t>.</a:t>
            </a:r>
            <a:endParaRPr b="0" lang="en-US" sz="1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907920" y="1847880"/>
            <a:ext cx="3456000" cy="38815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 fontScale="98000"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n-Cyrl-MN" sz="2000" spc="-1" strike="noStrike">
                <a:solidFill>
                  <a:srgbClr val="404040"/>
                </a:solidFill>
                <a:latin typeface="Times New Roman Bur"/>
              </a:rPr>
              <a:t>  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Саг сагтаа ургасын </a:t>
            </a:r>
            <a:r>
              <a:rPr b="0" lang="en-US" sz="2000" spc="-1" strike="noStrike">
                <a:solidFill>
                  <a:srgbClr val="404040"/>
                </a:solidFill>
                <a:latin typeface="Times New Roman Bur"/>
              </a:rPr>
              <a:t>h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айниие шэлэжэ, малай бэлшээриин тала хаража, буряад зон </a:t>
            </a:r>
            <a:r>
              <a:rPr b="0" lang="en-US" sz="2000" spc="-1" strike="noStrike">
                <a:solidFill>
                  <a:srgbClr val="404040"/>
                </a:solidFill>
                <a:latin typeface="Times New Roman Bur"/>
              </a:rPr>
              <a:t>h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эеы гэрээ абажа, иишэ тиишээ з</a:t>
            </a:r>
            <a:r>
              <a:rPr b="0" lang="mn-Cyrl-MN" sz="2000" spc="-1" strike="noStrike">
                <a:solidFill>
                  <a:srgbClr val="404040"/>
                </a:solidFill>
                <a:latin typeface="Times New Roman Bur"/>
              </a:rPr>
              <a:t>єє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жэ ябадаг байгаа.</a:t>
            </a:r>
            <a:r>
              <a:rPr b="0" lang="mn-Cyrl-MN" sz="2000" spc="-1" strike="noStrike">
                <a:solidFill>
                  <a:srgbClr val="404040"/>
                </a:solidFill>
                <a:latin typeface="Times New Roman Bur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Ааяма халууханаар </a:t>
            </a:r>
            <a:r>
              <a:rPr b="0" lang="mn-Cyrl-MN" sz="2000" spc="-1" strike="noStrike">
                <a:solidFill>
                  <a:srgbClr val="404040"/>
                </a:solidFill>
                <a:latin typeface="Times New Roman Bur"/>
              </a:rPr>
              <a:t>ү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леэ</a:t>
            </a:r>
            <a:r>
              <a:rPr b="0" lang="en-US" sz="2000" spc="-1" strike="noStrike">
                <a:solidFill>
                  <a:srgbClr val="404040"/>
                </a:solidFill>
                <a:latin typeface="Times New Roman Bur"/>
              </a:rPr>
              <a:t>h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эн </a:t>
            </a:r>
            <a:r>
              <a:rPr b="0" lang="en-US" sz="2000" spc="-1" strike="noStrike">
                <a:solidFill>
                  <a:srgbClr val="404040"/>
                </a:solidFill>
                <a:latin typeface="Times New Roman Bur"/>
              </a:rPr>
              <a:t>h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алхин</a:t>
            </a:r>
            <a:r>
              <a:rPr b="0" lang="en-US" sz="2000" spc="-1" strike="noStrike">
                <a:solidFill>
                  <a:srgbClr val="404040"/>
                </a:solidFill>
                <a:latin typeface="Times New Roman Bur"/>
              </a:rPr>
              <a:t>h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аашье, хагсуухан х</a:t>
            </a:r>
            <a:r>
              <a:rPr b="0" lang="mn-Cyrl-MN" sz="2000" spc="-1" strike="noStrike">
                <a:solidFill>
                  <a:srgbClr val="404040"/>
                </a:solidFill>
                <a:latin typeface="Times New Roman Bur"/>
              </a:rPr>
              <a:t>ү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йтэн</a:t>
            </a:r>
            <a:r>
              <a:rPr b="0" lang="en-US" sz="2000" spc="-1" strike="noStrike">
                <a:solidFill>
                  <a:srgbClr val="404040"/>
                </a:solidFill>
                <a:latin typeface="Times New Roman Bur"/>
              </a:rPr>
              <a:t>h</a:t>
            </a:r>
            <a:r>
              <a:rPr b="0" lang="mn-Cyrl-MN" sz="2000" spc="-1" strike="noStrike">
                <a:solidFill>
                  <a:srgbClr val="404040"/>
                </a:solidFill>
                <a:latin typeface="Times New Roman Bur"/>
              </a:rPr>
              <a:t>өө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шье </a:t>
            </a:r>
            <a:r>
              <a:rPr b="0" lang="en-US" sz="2000" spc="-1" strike="noStrike">
                <a:solidFill>
                  <a:srgbClr val="404040"/>
                </a:solidFill>
                <a:latin typeface="Times New Roman Bur"/>
              </a:rPr>
              <a:t>h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эеы гэртээ хородог </a:t>
            </a:r>
            <a:r>
              <a:rPr b="0" lang="en-US" sz="2000" spc="-1" strike="noStrike">
                <a:solidFill>
                  <a:srgbClr val="404040"/>
                </a:solidFill>
                <a:latin typeface="Times New Roman Bur"/>
              </a:rPr>
              <a:t>h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эн. Шэмэр</a:t>
            </a:r>
            <a:r>
              <a:rPr b="0" lang="mn-Cyrl-MN" sz="2000" spc="-1" strike="noStrike">
                <a:solidFill>
                  <a:srgbClr val="404040"/>
                </a:solidFill>
                <a:latin typeface="Times New Roman Bur"/>
              </a:rPr>
              <a:t>үү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нээр </a:t>
            </a:r>
            <a:r>
              <a:rPr b="0" lang="mn-Cyrl-MN" sz="2000" spc="-1" strike="noStrike">
                <a:solidFill>
                  <a:srgbClr val="404040"/>
                </a:solidFill>
                <a:latin typeface="Times New Roman Bur"/>
              </a:rPr>
              <a:t>ү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леэ</a:t>
            </a:r>
            <a:r>
              <a:rPr b="0" lang="en-US" sz="2000" spc="-1" strike="noStrike">
                <a:solidFill>
                  <a:srgbClr val="404040"/>
                </a:solidFill>
                <a:latin typeface="Times New Roman Bur"/>
              </a:rPr>
              <a:t>h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эн </a:t>
            </a:r>
            <a:r>
              <a:rPr b="0" lang="en-US" sz="2000" spc="-1" strike="noStrike">
                <a:solidFill>
                  <a:srgbClr val="404040"/>
                </a:solidFill>
                <a:latin typeface="Times New Roman Bur"/>
              </a:rPr>
              <a:t>h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алхин</a:t>
            </a:r>
            <a:r>
              <a:rPr b="0" lang="en-US" sz="2000" spc="-1" strike="noStrike">
                <a:solidFill>
                  <a:srgbClr val="404040"/>
                </a:solidFill>
                <a:latin typeface="Times New Roman Bur"/>
              </a:rPr>
              <a:t>h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аа талын буряадые абардаг </a:t>
            </a:r>
            <a:r>
              <a:rPr b="0" lang="en-US" sz="2000" spc="-1" strike="noStrike">
                <a:solidFill>
                  <a:srgbClr val="404040"/>
                </a:solidFill>
                <a:latin typeface="Times New Roman Bur"/>
              </a:rPr>
              <a:t>h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эеы гэрнай г</a:t>
            </a:r>
            <a:r>
              <a:rPr b="0" lang="mn-Cyrl-MN" sz="2000" spc="-1" strike="noStrike">
                <a:solidFill>
                  <a:srgbClr val="404040"/>
                </a:solidFill>
                <a:latin typeface="Times New Roman Bur"/>
              </a:rPr>
              <a:t>ү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б да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655880" y="1557360"/>
            <a:ext cx="3894120" cy="4464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2" name="Picture 6" descr="юрта"/>
          <p:cNvPicPr/>
          <p:nvPr/>
        </p:nvPicPr>
        <p:blipFill>
          <a:blip r:embed="rId1"/>
          <a:stretch/>
        </p:blipFill>
        <p:spPr>
          <a:xfrm>
            <a:off x="5076720" y="2492280"/>
            <a:ext cx="3095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293400"/>
            <a:ext cx="6346800" cy="974520"/>
          </a:xfrm>
          <a:prstGeom prst="rect">
            <a:avLst/>
          </a:prstGeom>
          <a:solidFill>
            <a:srgbClr val="a9d3e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 Bur"/>
              </a:rPr>
              <a:t>Бэхиж</a:t>
            </a:r>
            <a:r>
              <a:rPr b="1" lang="mn-Cyrl-MN" sz="2400" spc="-1" strike="noStrike">
                <a:solidFill>
                  <a:srgbClr val="ff0066"/>
                </a:solidFill>
                <a:latin typeface="Times New Roman Bur"/>
              </a:rPr>
              <a:t>ҮҮ</a:t>
            </a:r>
            <a:r>
              <a:rPr b="0" lang="ru-RU" sz="3600" spc="-1" strike="noStrike">
                <a:solidFill>
                  <a:srgbClr val="ff0066"/>
                </a:solidFill>
                <a:latin typeface="Times New Roman Bur"/>
              </a:rPr>
              <a:t>лгэ: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599840"/>
            <a:ext cx="4038480" cy="4421160"/>
          </a:xfrm>
          <a:prstGeom prst="rect">
            <a:avLst/>
          </a:prstGeom>
          <a:gradFill rotWithShape="0">
            <a:gsLst>
              <a:gs pos="0">
                <a:srgbClr val="fbf88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txBody>
          <a:bodyPr anchor="t">
            <a:normAutofit fontScale="98000"/>
          </a:bodyPr>
          <a:p>
            <a:pPr marL="560160" indent="-560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 Bur"/>
              </a:rPr>
              <a:t> </a:t>
            </a:r>
            <a:r>
              <a:rPr b="0" lang="en-US" sz="2000" spc="-1" strike="noStrike">
                <a:solidFill>
                  <a:srgbClr val="ff0066"/>
                </a:solidFill>
                <a:latin typeface="Times New Roman Bur"/>
              </a:rPr>
              <a:t>Y</a:t>
            </a:r>
            <a:r>
              <a:rPr b="0" lang="ru-RU" sz="2000" spc="-1" strike="noStrike">
                <a:solidFill>
                  <a:srgbClr val="ff0066"/>
                </a:solidFill>
                <a:latin typeface="Times New Roman Bur"/>
              </a:rPr>
              <a:t>гтэ</a:t>
            </a:r>
            <a:r>
              <a:rPr b="0" lang="en-US" sz="2000" spc="-1" strike="noStrike">
                <a:solidFill>
                  <a:srgbClr val="ff0066"/>
                </a:solidFill>
                <a:latin typeface="Times New Roman Bur"/>
              </a:rPr>
              <a:t>h</a:t>
            </a:r>
            <a:r>
              <a:rPr b="0" lang="ru-RU" sz="2000" spc="-1" strike="noStrike">
                <a:solidFill>
                  <a:srgbClr val="ff0066"/>
                </a:solidFill>
                <a:latin typeface="Times New Roman Bur"/>
              </a:rPr>
              <a:t>эн онь</a:t>
            </a:r>
            <a:r>
              <a:rPr b="0" lang="en-US" sz="2000" spc="-1" strike="noStrike">
                <a:solidFill>
                  <a:srgbClr val="ff0066"/>
                </a:solidFill>
                <a:latin typeface="Times New Roman Bur"/>
              </a:rPr>
              <a:t>h</a:t>
            </a:r>
            <a:r>
              <a:rPr b="0" lang="ru-RU" sz="2000" spc="-1" strike="noStrike">
                <a:solidFill>
                  <a:srgbClr val="ff0066"/>
                </a:solidFill>
                <a:latin typeface="Times New Roman Bur"/>
              </a:rPr>
              <a:t>он </a:t>
            </a:r>
            <a:r>
              <a:rPr b="0" lang="mn-Cyrl-MN" sz="2000" spc="-1" strike="noStrike">
                <a:solidFill>
                  <a:srgbClr val="ff0066"/>
                </a:solidFill>
                <a:latin typeface="Times New Roman Bur"/>
              </a:rPr>
              <a:t>ү</a:t>
            </a:r>
            <a:r>
              <a:rPr b="0" lang="ru-RU" sz="2000" spc="-1" strike="noStrike">
                <a:solidFill>
                  <a:srgbClr val="ff0066"/>
                </a:solidFill>
                <a:latin typeface="Times New Roman Bur"/>
              </a:rPr>
              <a:t>гэн</a:t>
            </a:r>
            <a:r>
              <a:rPr b="0" lang="mn-Cyrl-MN" sz="2000" spc="-1" strike="noStrike">
                <a:solidFill>
                  <a:srgbClr val="ff0066"/>
                </a:solidFill>
                <a:latin typeface="Times New Roman Bur"/>
              </a:rPr>
              <a:t>үү</a:t>
            </a:r>
            <a:r>
              <a:rPr b="0" lang="ru-RU" sz="2000" spc="-1" strike="noStrike">
                <a:solidFill>
                  <a:srgbClr val="ff0066"/>
                </a:solidFill>
                <a:latin typeface="Times New Roman Bur"/>
              </a:rPr>
              <a:t>д соо  тэмдэгэй нэрэн</a:t>
            </a:r>
            <a:r>
              <a:rPr b="0" lang="mn-Cyrl-MN" sz="2000" spc="-1" strike="noStrike">
                <a:solidFill>
                  <a:srgbClr val="ff0066"/>
                </a:solidFill>
                <a:latin typeface="Times New Roman Bur"/>
              </a:rPr>
              <a:t>үү</a:t>
            </a:r>
            <a:r>
              <a:rPr b="0" lang="ru-RU" sz="2000" spc="-1" strike="noStrike">
                <a:solidFill>
                  <a:srgbClr val="ff0066"/>
                </a:solidFill>
                <a:latin typeface="Times New Roman Bur"/>
              </a:rPr>
              <a:t>дые т</a:t>
            </a:r>
            <a:r>
              <a:rPr b="0" lang="mn-Cyrl-MN" sz="2000" spc="-1" strike="noStrike">
                <a:solidFill>
                  <a:srgbClr val="ff0066"/>
                </a:solidFill>
                <a:latin typeface="Times New Roman Bur"/>
              </a:rPr>
              <a:t>үү</a:t>
            </a:r>
            <a:r>
              <a:rPr b="0" lang="ru-RU" sz="2000" spc="-1" strike="noStrike">
                <a:solidFill>
                  <a:srgbClr val="ff0066"/>
                </a:solidFill>
                <a:latin typeface="Times New Roman Bur"/>
              </a:rPr>
              <a:t>жэ</a:t>
            </a:r>
            <a:r>
              <a:rPr b="0" lang="en-US" sz="2000" spc="-1" strike="noStrike">
                <a:solidFill>
                  <a:srgbClr val="ff0066"/>
                </a:solidFill>
                <a:latin typeface="Times New Roman Bur"/>
              </a:rPr>
              <a:t> </a:t>
            </a:r>
            <a:r>
              <a:rPr b="0" lang="ru-RU" sz="2000" spc="-1" strike="noStrike">
                <a:solidFill>
                  <a:srgbClr val="ff0066"/>
                </a:solidFill>
                <a:latin typeface="Times New Roman Bur"/>
              </a:rPr>
              <a:t>бэшэгты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60160" indent="-560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60160" indent="-56016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imes New Roman Bur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2000" spc="-1" strike="noStrike">
                <a:solidFill>
                  <a:srgbClr val="174261"/>
                </a:solidFill>
                <a:latin typeface="Times New Roman Bur"/>
              </a:rPr>
              <a:t>Сэсэн х</a:t>
            </a:r>
            <a:r>
              <a:rPr b="0" i="1" lang="mn-Cyrl-MN" sz="2000" spc="-1" strike="noStrike">
                <a:solidFill>
                  <a:srgbClr val="174261"/>
                </a:solidFill>
                <a:latin typeface="Times New Roman Bur"/>
              </a:rPr>
              <a:t>ү</a:t>
            </a:r>
            <a:r>
              <a:rPr b="0" i="1" lang="ru-RU" sz="2000" spc="-1" strike="noStrike">
                <a:solidFill>
                  <a:srgbClr val="174261"/>
                </a:solidFill>
                <a:latin typeface="Times New Roman Bur"/>
              </a:rPr>
              <a:t>н х</a:t>
            </a:r>
            <a:r>
              <a:rPr b="0" i="1" lang="mn-Cyrl-MN" sz="2000" spc="-1" strike="noStrike">
                <a:solidFill>
                  <a:srgbClr val="174261"/>
                </a:solidFill>
                <a:latin typeface="Times New Roman Bur"/>
              </a:rPr>
              <a:t>ү</a:t>
            </a:r>
            <a:r>
              <a:rPr b="0" i="1" lang="ru-RU" sz="2000" spc="-1" strike="noStrike">
                <a:solidFill>
                  <a:srgbClr val="174261"/>
                </a:solidFill>
                <a:latin typeface="Times New Roman Bur"/>
              </a:rPr>
              <a:t>нэй бэрхые магтадаг, тэнэг х</a:t>
            </a:r>
            <a:r>
              <a:rPr b="0" i="1" lang="mn-Cyrl-MN" sz="2000" spc="-1" strike="noStrike">
                <a:solidFill>
                  <a:srgbClr val="174261"/>
                </a:solidFill>
                <a:latin typeface="Times New Roman Bur"/>
              </a:rPr>
              <a:t>ү</a:t>
            </a:r>
            <a:r>
              <a:rPr b="0" i="1" lang="ru-RU" sz="2000" spc="-1" strike="noStrike">
                <a:solidFill>
                  <a:srgbClr val="174261"/>
                </a:solidFill>
                <a:latin typeface="Times New Roman Bur"/>
              </a:rPr>
              <a:t>н </a:t>
            </a:r>
            <a:r>
              <a:rPr b="0" i="1" lang="mn-Cyrl-MN" sz="2000" spc="-1" strike="noStrike">
                <a:solidFill>
                  <a:srgbClr val="174261"/>
                </a:solidFill>
                <a:latin typeface="Times New Roman Bur"/>
              </a:rPr>
              <a:t>єє</a:t>
            </a:r>
            <a:r>
              <a:rPr b="0" i="1" lang="ru-RU" sz="2000" spc="-1" strike="noStrike">
                <a:solidFill>
                  <a:srgbClr val="174261"/>
                </a:solidFill>
                <a:latin typeface="Times New Roman Bur"/>
              </a:rPr>
              <a:t>рынг</a:t>
            </a:r>
            <a:r>
              <a:rPr b="0" i="1" lang="mn-Cyrl-MN" sz="2000" spc="-1" strike="noStrike">
                <a:solidFill>
                  <a:srgbClr val="174261"/>
                </a:solidFill>
                <a:latin typeface="Times New Roman Bur"/>
              </a:rPr>
              <a:t>єє</a:t>
            </a:r>
            <a:r>
              <a:rPr b="0" i="1" lang="ru-RU" sz="2000" spc="-1" strike="noStrike">
                <a:solidFill>
                  <a:srgbClr val="174261"/>
                </a:solidFill>
                <a:latin typeface="Times New Roman Bur"/>
              </a:rPr>
              <a:t> бэрхые магтадаг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60160" indent="-56016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imes New Roman Bur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2000" spc="-1" strike="noStrike">
                <a:solidFill>
                  <a:srgbClr val="174261"/>
                </a:solidFill>
                <a:latin typeface="Times New Roman Bur"/>
              </a:rPr>
              <a:t>Уран х</a:t>
            </a:r>
            <a:r>
              <a:rPr b="0" i="1" lang="mn-Cyrl-MN" sz="2000" spc="-1" strike="noStrike">
                <a:solidFill>
                  <a:srgbClr val="174261"/>
                </a:solidFill>
                <a:latin typeface="Times New Roman Bur"/>
              </a:rPr>
              <a:t>ү</a:t>
            </a:r>
            <a:r>
              <a:rPr b="0" i="1" lang="ru-RU" sz="2000" spc="-1" strike="noStrike">
                <a:solidFill>
                  <a:srgbClr val="174261"/>
                </a:solidFill>
                <a:latin typeface="Times New Roman Bur"/>
              </a:rPr>
              <a:t>нэй хурган хурдан, ухаатай х</a:t>
            </a:r>
            <a:r>
              <a:rPr b="0" i="1" lang="mn-Cyrl-MN" sz="2000" spc="-1" strike="noStrike">
                <a:solidFill>
                  <a:srgbClr val="174261"/>
                </a:solidFill>
                <a:latin typeface="Times New Roman Bur"/>
              </a:rPr>
              <a:t>ү</a:t>
            </a:r>
            <a:r>
              <a:rPr b="0" i="1" lang="ru-RU" sz="2000" spc="-1" strike="noStrike">
                <a:solidFill>
                  <a:srgbClr val="174261"/>
                </a:solidFill>
                <a:latin typeface="Times New Roman Bur"/>
              </a:rPr>
              <a:t>нэй хэлэн хурс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60160" indent="-56016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imes New Roman Bur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2000" spc="-1" strike="noStrike">
                <a:solidFill>
                  <a:srgbClr val="174261"/>
                </a:solidFill>
                <a:latin typeface="Times New Roman Bur"/>
              </a:rPr>
              <a:t>Ульгам мориндо газар д</a:t>
            </a:r>
            <a:r>
              <a:rPr b="0" i="1" lang="mn-Cyrl-MN" sz="2000" spc="-1" strike="noStrike">
                <a:solidFill>
                  <a:srgbClr val="174261"/>
                </a:solidFill>
                <a:latin typeface="Times New Roman Bur"/>
              </a:rPr>
              <a:t>ү</a:t>
            </a:r>
            <a:r>
              <a:rPr b="0" i="1" lang="ru-RU" sz="2000" spc="-1" strike="noStrike">
                <a:solidFill>
                  <a:srgbClr val="174261"/>
                </a:solidFill>
                <a:latin typeface="Times New Roman Bur"/>
              </a:rPr>
              <a:t>тэ, хашан мориндо харгы хол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60160" indent="-5601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56240" y="1614240"/>
            <a:ext cx="4038480" cy="4392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Шалгагты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 Bur"/>
              </a:rPr>
              <a:t>Сэсэн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 Bur"/>
              </a:rPr>
              <a:t>Бэрхые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 Bur"/>
              </a:rPr>
              <a:t>Тэнэг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 Bur"/>
              </a:rPr>
              <a:t>Уран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 Bur"/>
              </a:rPr>
              <a:t>Хурдан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 Bur"/>
              </a:rPr>
              <a:t>Ухаатай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 Bur"/>
              </a:rPr>
              <a:t>Ульгам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 Bur"/>
              </a:rPr>
              <a:t>д</a:t>
            </a:r>
            <a:r>
              <a:rPr b="0" lang="mn-Cyrl-MN" sz="1600" spc="-1" strike="noStrike">
                <a:solidFill>
                  <a:srgbClr val="ff0066"/>
                </a:solidFill>
                <a:latin typeface="Times New Roman Bur"/>
              </a:rPr>
              <a:t>ү</a:t>
            </a:r>
            <a:r>
              <a:rPr b="0" i="1" lang="ru-RU" sz="1600" spc="-1" strike="noStrike">
                <a:solidFill>
                  <a:srgbClr val="ff0066"/>
                </a:solidFill>
                <a:latin typeface="Times New Roman Bur"/>
              </a:rPr>
              <a:t>тэ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600" spc="-1" strike="noStrike">
                <a:solidFill>
                  <a:srgbClr val="ff0066"/>
                </a:solidFill>
                <a:latin typeface="Times New Roman Bur"/>
              </a:rPr>
              <a:t>Хашан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mn-Cyrl-MN" sz="1600" spc="-1" strike="noStrike">
                <a:solidFill>
                  <a:srgbClr val="ff0066"/>
                </a:solidFill>
                <a:latin typeface="Times New Roman Bur"/>
              </a:rPr>
              <a:t>Х</a:t>
            </a:r>
            <a:r>
              <a:rPr b="0" i="1" lang="ru-RU" sz="1600" spc="-1" strike="noStrike">
                <a:solidFill>
                  <a:srgbClr val="ff0066"/>
                </a:solidFill>
                <a:latin typeface="Times New Roman Bur"/>
              </a:rPr>
              <a:t>оло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7" dur="5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0" dur="5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3" dur="5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6" dur="5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9" dur="5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2" dur="50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5" dur="50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" dur="5000"/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1" dur="5000"/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4" dur="5000"/>
                                        <p:tgtEl>
                                          <p:spTgt spid="3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1:09:43Z</dcterms:created>
  <dc:creator>OEM</dc:creator>
  <dc:description/>
  <dc:language>en-US</dc:language>
  <cp:lastModifiedBy>Дашама Доржиева</cp:lastModifiedBy>
  <dcterms:modified xsi:type="dcterms:W3CDTF">2022-03-27T03:19:56Z</dcterms:modified>
  <cp:revision>62</cp:revision>
  <dc:subject/>
  <dc:title>Хэшээлэй темэ:Тэмдэгэй нэрын илгарал</dc:title>
</cp:coreProperties>
</file>