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87D-40F3-452E-8192-6734F9BB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087-9AF4-4BB0-9B07-86DF81BF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36E-A242-4A8F-A7E9-7EBC58F5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6B1-EEBD-41B2-935F-F9C5E79F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16C-7265-4D1C-AE35-2785374E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872-FB10-4B76-A645-935C91E6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FA5-170C-458B-AD98-57CC10E2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3E9-AB6E-4927-AE2D-596927E2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95E-4319-493D-9F02-6697B89B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26D-18E7-4C8D-B78C-BF085F34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A58-A1B6-44F0-8ECA-9CFF610E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9BB-BA62-422E-BE34-AC0E41D1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CA87-2E31-408B-B843-17733956AA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вязи для передачи речевой информации на расстояние при помощи электрических сигналов по проводам или по радио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ТЕАТ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NorthParkTheatre3-1600x1063.jpg"/>
          <p:cNvPicPr/>
          <p:nvPr/>
        </p:nvPicPr>
        <p:blipFill>
          <a:blip r:embed="rId1"/>
          <a:stretch/>
        </p:blipFill>
        <p:spPr>
          <a:xfrm>
            <a:off x="1258920" y="233208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ая соединительная линия 4"/>
          <p:cNvSpPr/>
          <p:nvPr/>
        </p:nvSpPr>
        <p:spPr>
          <a:xfrm flipH="1">
            <a:off x="4643280" y="0"/>
            <a:ext cx="144720" cy="57636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Узор из скреплённых друг с другом кусочков смальты, разноцветных камешков, эмали, дерев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МОЗАИ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express-free-shipping-flowers-design-glass-mosaic-tiles-wall-decor-art-design-HOMER-MOSAIC-HMEJ1011.jpg"/>
          <p:cNvPicPr/>
          <p:nvPr/>
        </p:nvPicPr>
        <p:blipFill>
          <a:blip r:embed="rId1"/>
          <a:stretch/>
        </p:blipFill>
        <p:spPr>
          <a:xfrm>
            <a:off x="2050920" y="2332080"/>
            <a:ext cx="520704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ая соединительная линия 4"/>
          <p:cNvSpPr/>
          <p:nvPr/>
        </p:nvSpPr>
        <p:spPr>
          <a:xfrm flipH="1">
            <a:off x="4643280" y="189000"/>
            <a:ext cx="144720" cy="57600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600" spc="-1" strike="noStrike">
                <a:solidFill>
                  <a:srgbClr val="000000"/>
                </a:solidFill>
                <a:latin typeface="Calibri"/>
              </a:rPr>
              <a:t>Водитель автомобил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img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Учреждение, собирающее и хранящее произведения печати и письменности для общественного пользования, а также осуществляющее справочно-библиографическую работ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БИБЛИОТЕ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kchr.jpg"/>
          <p:cNvPicPr/>
          <p:nvPr/>
        </p:nvPicPr>
        <p:blipFill>
          <a:blip r:embed="rId1"/>
          <a:stretch/>
        </p:blipFill>
        <p:spPr>
          <a:xfrm>
            <a:off x="1116000" y="2332080"/>
            <a:ext cx="678816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ая соединительная линия 4"/>
          <p:cNvSpPr/>
          <p:nvPr/>
        </p:nvSpPr>
        <p:spPr>
          <a:xfrm flipH="1">
            <a:off x="6443280" y="189000"/>
            <a:ext cx="144360" cy="57600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5"/>
          <p:cNvSpPr/>
          <p:nvPr/>
        </p:nvSpPr>
        <p:spPr>
          <a:xfrm flipH="1">
            <a:off x="1835280" y="1989000"/>
            <a:ext cx="504720" cy="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6"/>
          <p:cNvSpPr/>
          <p:nvPr/>
        </p:nvSpPr>
        <p:spPr>
          <a:xfrm flipH="1">
            <a:off x="4067280" y="2060640"/>
            <a:ext cx="1225440" cy="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alibri"/>
              </a:rPr>
              <a:t>ТЕЛЕФОН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3" descr="largeredphone.jpg"/>
          <p:cNvPicPr/>
          <p:nvPr/>
        </p:nvPicPr>
        <p:blipFill>
          <a:blip r:embed="rId1"/>
          <a:stretch/>
        </p:blipFill>
        <p:spPr>
          <a:xfrm>
            <a:off x="2195640" y="1989000"/>
            <a:ext cx="4767120" cy="45262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5"/>
          <p:cNvSpPr/>
          <p:nvPr/>
        </p:nvSpPr>
        <p:spPr>
          <a:xfrm flipH="1">
            <a:off x="6011640" y="189000"/>
            <a:ext cx="144360" cy="57600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 flipH="1">
            <a:off x="2700360" y="1989000"/>
            <a:ext cx="495360" cy="792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ая соединительная линия 9"/>
          <p:cNvSpPr/>
          <p:nvPr/>
        </p:nvSpPr>
        <p:spPr>
          <a:xfrm flipH="1">
            <a:off x="4067280" y="1989000"/>
            <a:ext cx="496800" cy="792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-316440"/>
            <a:ext cx="9144000" cy="644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стран света (сторон горизонта)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КОМПАС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14798.jpg"/>
          <p:cNvPicPr/>
          <p:nvPr/>
        </p:nvPicPr>
        <p:blipFill>
          <a:blip r:embed="rId1"/>
          <a:stretch/>
        </p:blipFill>
        <p:spPr>
          <a:xfrm>
            <a:off x="2411280" y="2781360"/>
            <a:ext cx="4286520" cy="36860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ая соединительная линия 4"/>
          <p:cNvSpPr/>
          <p:nvPr/>
        </p:nvSpPr>
        <p:spPr>
          <a:xfrm flipH="1">
            <a:off x="3347640" y="260280"/>
            <a:ext cx="144360" cy="57636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-397080" y="-360"/>
            <a:ext cx="9721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оставленный в определённом порядке перечень каких-нибудь однородных предметов (книг и т.д.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КАТАЛО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catalog_1.jpg"/>
          <p:cNvPicPr/>
          <p:nvPr/>
        </p:nvPicPr>
        <p:blipFill>
          <a:blip r:embed="rId1"/>
          <a:stretch/>
        </p:blipFill>
        <p:spPr>
          <a:xfrm>
            <a:off x="1403280" y="233208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ая соединительная линия 4"/>
          <p:cNvSpPr/>
          <p:nvPr/>
        </p:nvSpPr>
        <p:spPr>
          <a:xfrm flipH="1">
            <a:off x="6156000" y="189000"/>
            <a:ext cx="144360" cy="57600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Предмет мебели для спанья — длинная рама с ножками и двумя боковыми спинками, на к-рую кладут матрас и постельные принадлежности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КРОВА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image_8.jpg"/>
          <p:cNvPicPr/>
          <p:nvPr/>
        </p:nvPicPr>
        <p:blipFill>
          <a:blip r:embed="rId1"/>
          <a:stretch/>
        </p:blipFill>
        <p:spPr>
          <a:xfrm>
            <a:off x="1258920" y="2332080"/>
            <a:ext cx="62038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ая соединительная линия 5"/>
          <p:cNvSpPr/>
          <p:nvPr/>
        </p:nvSpPr>
        <p:spPr>
          <a:xfrm flipH="1">
            <a:off x="5364000" y="189000"/>
            <a:ext cx="144720" cy="57600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6"/>
          <p:cNvSpPr/>
          <p:nvPr/>
        </p:nvSpPr>
        <p:spPr>
          <a:xfrm flipH="1">
            <a:off x="3780000" y="1844640"/>
            <a:ext cx="504720" cy="0"/>
          </a:xfrm>
          <a:prstGeom prst="line">
            <a:avLst/>
          </a:prstGeom>
          <a:ln w="98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Искусство представления драматических произведений на сцене; само такое представление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3T13:04:52Z</dcterms:created>
  <dc:creator>1</dc:creator>
  <dc:description/>
  <dc:language>en-US</dc:language>
  <cp:lastModifiedBy>1</cp:lastModifiedBy>
  <dcterms:modified xsi:type="dcterms:W3CDTF">2017-10-03T13:39:48Z</dcterms:modified>
  <cp:revision>4</cp:revision>
  <dc:subject/>
  <dc:title>Система связи для передачи речевой информации на расстояние при помощи электрических сигналов по проводам или по радио.</dc:title>
</cp:coreProperties>
</file>