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CBE-E3FC-4351-8C67-FD6FD26E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3BC-A4EF-4AAF-9E43-8545076B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E9E-F2E3-4DBD-853D-5BC0900C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F7B-7C64-4FDF-AAE3-6565A514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418-80EC-4536-8893-D38ECA00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9B4-CF48-41B6-B1FD-B7BBB99C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D68-2FF0-43BE-987F-1A6A0794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FF9-0377-448F-8D3A-0E69A08C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1BE-038B-453B-A07D-6B150E02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71B-A6F0-454F-B341-05354200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177-31A6-4139-9640-DF3E8DBF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E2B-EC7D-426F-878C-AC6F9574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4CE0-8EDC-40A8-98E5-D0E57983A5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вязи для передачи речевой информации на расстояние при помощи электрических сигналов по проводам или по радио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ТЕАТ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NorthParkTheatre3-1600x1063.jpg"/>
          <p:cNvPicPr/>
          <p:nvPr/>
        </p:nvPicPr>
        <p:blipFill>
          <a:blip r:embed="rId1"/>
          <a:stretch/>
        </p:blipFill>
        <p:spPr>
          <a:xfrm>
            <a:off x="1258920" y="233208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ая соединительная линия 4"/>
          <p:cNvSpPr/>
          <p:nvPr/>
        </p:nvSpPr>
        <p:spPr>
          <a:xfrm flipH="1">
            <a:off x="4643280" y="0"/>
            <a:ext cx="144720" cy="57636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Узор из скреплённых друг с другом кусочков смальты, разноцветных камешков, эмали, дерев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МОЗАИ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express-free-shipping-flowers-design-glass-mosaic-tiles-wall-decor-art-design-HOMER-MOSAIC-HMEJ1011.jpg"/>
          <p:cNvPicPr/>
          <p:nvPr/>
        </p:nvPicPr>
        <p:blipFill>
          <a:blip r:embed="rId1"/>
          <a:stretch/>
        </p:blipFill>
        <p:spPr>
          <a:xfrm>
            <a:off x="2050920" y="2332080"/>
            <a:ext cx="520704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ая соединительная линия 4"/>
          <p:cNvSpPr/>
          <p:nvPr/>
        </p:nvSpPr>
        <p:spPr>
          <a:xfrm flipH="1">
            <a:off x="4643280" y="189000"/>
            <a:ext cx="144720" cy="57600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600" spc="-1" strike="noStrike">
                <a:solidFill>
                  <a:srgbClr val="000000"/>
                </a:solidFill>
                <a:latin typeface="Calibri"/>
              </a:rPr>
              <a:t>Водитель автомобил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img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Учреждение, собирающее и хранящее произведения печати и письменности для общественного пользования, а также осуществляющее справочно-библиографическую работ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ИБЛИОТЕ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kchr.jpg"/>
          <p:cNvPicPr/>
          <p:nvPr/>
        </p:nvPicPr>
        <p:blipFill>
          <a:blip r:embed="rId1"/>
          <a:stretch/>
        </p:blipFill>
        <p:spPr>
          <a:xfrm>
            <a:off x="1116000" y="2332080"/>
            <a:ext cx="678816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4"/>
          <p:cNvSpPr/>
          <p:nvPr/>
        </p:nvSpPr>
        <p:spPr>
          <a:xfrm flipH="1">
            <a:off x="6443280" y="189000"/>
            <a:ext cx="144360" cy="57600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5"/>
          <p:cNvSpPr/>
          <p:nvPr/>
        </p:nvSpPr>
        <p:spPr>
          <a:xfrm flipH="1">
            <a:off x="1835280" y="1989000"/>
            <a:ext cx="504720" cy="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6"/>
          <p:cNvSpPr/>
          <p:nvPr/>
        </p:nvSpPr>
        <p:spPr>
          <a:xfrm flipH="1">
            <a:off x="4067280" y="2060640"/>
            <a:ext cx="1225440" cy="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alibri"/>
              </a:rPr>
              <a:t>ТЕЛЕФОН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largeredphone.jpg"/>
          <p:cNvPicPr/>
          <p:nvPr/>
        </p:nvPicPr>
        <p:blipFill>
          <a:blip r:embed="rId1"/>
          <a:stretch/>
        </p:blipFill>
        <p:spPr>
          <a:xfrm>
            <a:off x="2195640" y="1989000"/>
            <a:ext cx="4767120" cy="45262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5"/>
          <p:cNvSpPr/>
          <p:nvPr/>
        </p:nvSpPr>
        <p:spPr>
          <a:xfrm flipH="1">
            <a:off x="6011640" y="189000"/>
            <a:ext cx="144360" cy="57600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 flipH="1">
            <a:off x="2700360" y="1989000"/>
            <a:ext cx="495360" cy="792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9"/>
          <p:cNvSpPr/>
          <p:nvPr/>
        </p:nvSpPr>
        <p:spPr>
          <a:xfrm flipH="1">
            <a:off x="4067280" y="1989000"/>
            <a:ext cx="496800" cy="792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-316440"/>
            <a:ext cx="9144000" cy="644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стран света (сторон горизонта)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КОМПАС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14798.jpg"/>
          <p:cNvPicPr/>
          <p:nvPr/>
        </p:nvPicPr>
        <p:blipFill>
          <a:blip r:embed="rId1"/>
          <a:stretch/>
        </p:blipFill>
        <p:spPr>
          <a:xfrm>
            <a:off x="2411280" y="2781360"/>
            <a:ext cx="4286520" cy="36860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ая соединительная линия 4"/>
          <p:cNvSpPr/>
          <p:nvPr/>
        </p:nvSpPr>
        <p:spPr>
          <a:xfrm flipH="1">
            <a:off x="3347640" y="260280"/>
            <a:ext cx="144360" cy="57636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-397080" y="-360"/>
            <a:ext cx="9721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оставленный в определённом порядке перечень каких-нибудь однородных предметов (книг и т.д.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КАТАЛО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catalog_1.jpg"/>
          <p:cNvPicPr/>
          <p:nvPr/>
        </p:nvPicPr>
        <p:blipFill>
          <a:blip r:embed="rId1"/>
          <a:stretch/>
        </p:blipFill>
        <p:spPr>
          <a:xfrm>
            <a:off x="1403280" y="233208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ая соединительная линия 4"/>
          <p:cNvSpPr/>
          <p:nvPr/>
        </p:nvSpPr>
        <p:spPr>
          <a:xfrm flipH="1">
            <a:off x="6156000" y="189000"/>
            <a:ext cx="144360" cy="57600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редмет мебели для спанья — длинная рама с ножками и двумя боковыми спинками, на к-рую кладут матрас и постельные принадлежности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КРОВА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image_8.jpg"/>
          <p:cNvPicPr/>
          <p:nvPr/>
        </p:nvPicPr>
        <p:blipFill>
          <a:blip r:embed="rId1"/>
          <a:stretch/>
        </p:blipFill>
        <p:spPr>
          <a:xfrm>
            <a:off x="1258920" y="2332080"/>
            <a:ext cx="62038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ая соединительная линия 5"/>
          <p:cNvSpPr/>
          <p:nvPr/>
        </p:nvSpPr>
        <p:spPr>
          <a:xfrm flipH="1">
            <a:off x="5364000" y="189000"/>
            <a:ext cx="144720" cy="57600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6"/>
          <p:cNvSpPr/>
          <p:nvPr/>
        </p:nvSpPr>
        <p:spPr>
          <a:xfrm flipH="1">
            <a:off x="3780000" y="1844640"/>
            <a:ext cx="504720" cy="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Искусство представления драматических произведений на сцене; само такое представление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3T13:04:52Z</dcterms:created>
  <dc:creator>1</dc:creator>
  <dc:description/>
  <dc:language>en-US</dc:language>
  <cp:lastModifiedBy>1</cp:lastModifiedBy>
  <dcterms:modified xsi:type="dcterms:W3CDTF">2017-10-03T13:39:48Z</dcterms:modified>
  <cp:revision>4</cp:revision>
  <dc:subject/>
  <dc:title>Система связи для передачи речевой информации на расстояние при помощи электрических сигналов по проводам или по радио.</dc:title>
</cp:coreProperties>
</file>