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C69D-5F36-44DE-9C85-152A14B41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77FE-824A-498E-AFA5-07955F9A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AC83-E2AB-4765-90DB-E681004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92D4-FE6B-44F7-BF8E-88578B4D0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6BB3-8FA1-43B4-85B4-08537ECDF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F0BF-4F64-4A02-893F-66EC45B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4C377-1DC2-4E66-9139-958CA6C9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8274-AE49-41B8-8272-F88F3328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4EA1-48FD-4758-BF11-3BD8EC68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6F5A9-C1C3-4711-A002-F1172181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E0D8-EC1A-43A6-9BE6-FB4BAFD9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ACE9-4502-46EC-A932-D807AD0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2CB98-1EE9-493A-AA36-519B97D0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C6D4E-25E4-4F38-9753-21BA817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87536-5425-4255-B75F-C86B049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8457-CF8D-447E-858B-E75FF1E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C6D3-C9D0-4750-AC9B-791ABD8D5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EA04-3E33-4077-9978-9FF9307D7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9777-3B35-4394-A98B-C23B06F6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E11E-6C31-410E-A2DF-B1901CD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8485-FA3E-43D0-8F7E-4CB9603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0794-E7FD-4A83-86C4-849AE20B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7EFF-B40C-4BCD-B9EB-ED84612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528-246F-4266-AB6F-BA3D26B8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9DF-F564-4C52-A011-92136762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CE1-ED26-4E45-8031-CC66423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7AB-B6D4-4A91-8DB7-C9100A24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DE7-6E5B-4526-8E56-846D884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4AFB-8B37-4679-8CEA-7943D65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91F4-B61A-4D44-922D-E08E172CD4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07B7-64BD-4315-8FFE-44A67AC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F93F-E8BE-4465-92FF-FDCAB848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B2B1-EA8E-4241-A43D-8DD544A1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2ECA-FD12-408B-A229-BEB474F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5E27-025A-4CC2-AA6A-0D34515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3CB7-5383-43DF-A54E-3584F27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1889C8-CD8E-4840-AC00-EAA823842D0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EDDF8F-B9A2-4B6F-BE62-A5B85968748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E4B74D-715A-426A-AB3C-2DA23F184DD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700280"/>
            <a:ext cx="6264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шей категории Гайнуллина В.В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БДОУ Детский сад №293 городского округ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 Уфа Республики Башкортостан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Венера</cp:lastModifiedBy>
  <dcterms:modified xsi:type="dcterms:W3CDTF">2022-11-01T17:06:16Z</dcterms:modified>
  <cp:revision>5</cp:revision>
  <dc:subject/>
  <dc:title>Слайд 1</dc:title>
</cp:coreProperties>
</file>