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80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82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186" name="Text Box 2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6FB40-8083-44AF-8C8A-E3AD7FB97C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4F60F-82E1-4D73-85FE-BB2E3F04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E6483-D8EA-4E53-BDBA-D791DF67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37CC6-51EA-48B9-A7DF-7831B8B10A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41717-B481-4A2B-9F85-7D5A23152F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CF643-5A0F-4A76-8204-1B903FF2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FCE04-213E-4839-9C30-E9022F27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BC387-EA1D-48C8-91FD-00695DA8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BD6BC-E2C6-4DC5-B3A5-A6F3B906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FDF71-6D07-4B7A-8592-00F86465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C7C2F-695A-4B30-9853-ACB2FAA5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05AB0-FA4B-48EA-8690-A459BC64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0756C-95DF-439B-B72D-246B4108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3A2FB-9E75-4B7B-B5E0-D29CF4FD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05D76-0286-421A-8228-D1CFBB0D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D42C0-2404-462C-AA15-A301C1A4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C6600-765F-4782-8050-38794A8F8F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7691-C586-437B-BCC8-4CA3E58A08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FA71-752B-436E-8A5E-D24E7095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2FD6-93D8-4589-81D1-44809F1B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3038-E114-477E-A46D-7B6F2235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ED89-4671-4EBF-88F0-0BCC6159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31372-8C2F-4D87-BE49-44A2D0E2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5456-4142-4949-AD0A-95040E53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A4BB-1499-4AD0-ABB2-245A2BDD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2660-7075-48A1-95C9-8704E490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B413-66E7-4C63-A546-77022A01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A168-99F2-4001-A0D7-3E0349B5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0FC4-7689-4B0A-B70A-B2C2BFD7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D696-B756-475E-A4FA-953B69082A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4974D-E349-4046-8976-8C69C9AD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07E4B-74CC-49CB-B50B-73BD61DE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2A6DF-33E7-4BAA-B86B-4B410E5D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420D3-4483-40F8-8734-18D85EEF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7E956-814E-4204-A66E-46D1505A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D74C3-62FB-45F2-A902-BFB3FF62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A36A2E-2CC1-40AD-80F7-4C6B45A981C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4BD58E-900C-4979-87DD-594330F901A4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CEDC19-69E7-4069-94E8-F9DB74B8A145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863640" y="1700280"/>
            <a:ext cx="626436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ff3333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ff3333"/>
                </a:solidFill>
                <a:latin typeface="Times New Roman"/>
              </a:rPr>
              <a:t>АЗБУКА </a:t>
            </a:r>
            <a:br>
              <a:rPr sz="6000"/>
            </a:br>
            <a:r>
              <a:rPr b="1" i="1" lang="ru-RU" sz="5800" spc="-1" strike="noStrike">
                <a:solidFill>
                  <a:srgbClr val="ffcc00"/>
                </a:solidFill>
                <a:latin typeface="Times New Roman"/>
              </a:rPr>
              <a:t>БЕЗОПАСНОСТИ</a:t>
            </a:r>
            <a:br>
              <a:rPr sz="6000"/>
            </a:br>
            <a:r>
              <a:rPr b="1" i="1" lang="ru-RU" sz="6000" spc="-1" strike="noStrike">
                <a:solidFill>
                  <a:srgbClr val="009933"/>
                </a:solidFill>
                <a:latin typeface="Times New Roman"/>
              </a:rPr>
              <a:t>НА ДОРОГЕ </a:t>
            </a:r>
            <a:br>
              <a:rPr sz="6600"/>
            </a:b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Выполнил: воспитатель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сшей категории Гайнуллина В.В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6303960" y="3311640"/>
            <a:ext cx="1976400" cy="3024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492120" y="503280"/>
            <a:ext cx="81486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БДОУ Детский сад №293 городского округа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ород Уфа Республики Башкортостан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2"/>
          <a:stretch/>
        </p:blipFill>
        <p:spPr>
          <a:xfrm>
            <a:off x="934920" y="2808360"/>
            <a:ext cx="2592360" cy="3429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"/>
          <p:cNvSpPr/>
          <p:nvPr/>
        </p:nvSpPr>
        <p:spPr>
          <a:xfrm>
            <a:off x="792000" y="576360"/>
            <a:ext cx="7488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ОРОГИЕ РЕБЯТА! ПОМНИТЕ!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ВЫ ДОЛЖНЫ ЗНАТЬ И СОБЛЮДА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ПРАВИЛА ПОВЕДЕНИЯ НА ДОРОГЕ!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4319640" y="3144960"/>
            <a:ext cx="374328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743280" y="2998800"/>
            <a:ext cx="40640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527280" y="2664000"/>
            <a:ext cx="4824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ОСТОРОЖНО НА ДОРОГЕ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БЕРЕГИТЕ РУКИ, НОГ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ПОМНИ ПРАВИЛА ВЕЗДЕ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А ИНАЧЕ БЫТЬ БЕДЕ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ДО СВИДАНИЯ, РЕБЯТА!!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647640" y="1655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144360" y="3456000"/>
            <a:ext cx="2519640" cy="34020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1944720" y="287280"/>
            <a:ext cx="6983280" cy="3527640"/>
          </a:xfrm>
          <a:prstGeom prst="cloudCallout">
            <a:avLst>
              <a:gd name="adj1" fmla="val -37092"/>
              <a:gd name="adj2" fmla="val 8036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Дорогие ребята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Приглашаю вас совершить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увлекательное путешествие в страну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 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правил дорожного движения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и дорожных знаков!!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Вперед!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4"/>
          <a:stretch/>
        </p:blipFill>
        <p:spPr>
          <a:xfrm>
            <a:off x="5688000" y="3527280"/>
            <a:ext cx="3240000" cy="33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2"/>
          <a:stretch/>
        </p:blipFill>
        <p:spPr>
          <a:xfrm>
            <a:off x="863640" y="2860560"/>
            <a:ext cx="4103640" cy="32990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2"/>
          <p:cNvSpPr/>
          <p:nvPr/>
        </p:nvSpPr>
        <p:spPr>
          <a:xfrm>
            <a:off x="792000" y="415800"/>
            <a:ext cx="76327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826"/>
                </a:solidFill>
                <a:latin typeface="Times New Roman"/>
                <a:ea typeface="Segoe UI"/>
              </a:rPr>
              <a:t>Ну вот мы и перед дорогой! Сколько здесь машин!!! Как же правильно перейти дорогу, чтобы не нарушать правила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33"/>
                </a:solidFill>
                <a:latin typeface="Times New Roman"/>
                <a:ea typeface="Segoe UI"/>
              </a:rPr>
              <a:t>Всегда ищи знак «пешеходный переход»!!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Segoe UI"/>
              </a:rPr>
              <a:t>На помощь нам придет «зебра». Ее белые полосы на дороге ты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Segoe UI"/>
              </a:rPr>
              <a:t>часто видишь в местах перехода пешеходов. Это наземный пешеходный переход. Рядом с ним ты всегда увидишь либо светофор, либо знак «пешеходный переход»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3"/>
          <a:stretch/>
        </p:blipFill>
        <p:spPr>
          <a:xfrm>
            <a:off x="4967280" y="3024360"/>
            <a:ext cx="3240000" cy="29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289080" y="488880"/>
            <a:ext cx="83516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9933"/>
                </a:solidFill>
                <a:latin typeface="Times New Roman"/>
                <a:ea typeface="Segoe UI"/>
              </a:rPr>
              <a:t>А если  рядом с пешеходным переходом вы увидели светофор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Segoe UI"/>
              </a:rPr>
              <a:t>всегда помните  правила!!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863640" y="1295280"/>
            <a:ext cx="741672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152360" y="1079640"/>
            <a:ext cx="5975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009933"/>
                </a:solidFill>
                <a:latin typeface="Times New Roman"/>
              </a:rPr>
              <a:t> </a:t>
            </a:r>
            <a:br>
              <a:rPr sz="6600"/>
            </a:br>
            <a:r>
              <a:rPr b="1" i="1" lang="ru-RU" sz="6600" spc="-1" strike="noStrike">
                <a:solidFill>
                  <a:srgbClr val="0000cc"/>
                </a:solidFill>
                <a:latin typeface="Calibri"/>
              </a:rPr>
              <a:t>             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863640" y="557280"/>
            <a:ext cx="741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Начиная переход, посмотрите налево,потом направо. Убедитесь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что машин нет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2376360" y="2131920"/>
            <a:ext cx="5688000" cy="39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792000" y="431640"/>
            <a:ext cx="75679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Бывает так, что в месте, где нужно перейти дорогу, зебры нет. Что делать? Тогда следует искать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Segoe UI"/>
              </a:rPr>
              <a:t>надземные или подземные пешеходные переходы.</a:t>
            </a: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934920" y="3240000"/>
            <a:ext cx="3600720" cy="3002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1440000" y="1474920"/>
            <a:ext cx="2087280" cy="1909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4"/>
          <a:stretch/>
        </p:blipFill>
        <p:spPr>
          <a:xfrm>
            <a:off x="4540320" y="1566720"/>
            <a:ext cx="3666960" cy="469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"/>
          <p:cNvPicPr/>
          <p:nvPr/>
        </p:nvPicPr>
        <p:blipFill>
          <a:blip r:embed="rId2"/>
          <a:stretch/>
        </p:blipFill>
        <p:spPr>
          <a:xfrm>
            <a:off x="3600360" y="3600360"/>
            <a:ext cx="5327640" cy="3168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3"/>
          <a:stretch/>
        </p:blipFill>
        <p:spPr>
          <a:xfrm>
            <a:off x="0" y="3814920"/>
            <a:ext cx="2160720" cy="304308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3"/>
          <p:cNvSpPr/>
          <p:nvPr/>
        </p:nvSpPr>
        <p:spPr>
          <a:xfrm>
            <a:off x="1368360" y="-71280"/>
            <a:ext cx="6983640" cy="352728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ffd320"/>
          </a:solidFill>
          <a:ln w="82800">
            <a:solidFill>
              <a:srgbClr val="579d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Ходить можно только по тротуарам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бочинам, пешеходным дорожкам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Если их нет, то можно идти по краю проезжей части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но только лицом к движущимся машина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"/>
          <p:cNvPicPr/>
          <p:nvPr/>
        </p:nvPicPr>
        <p:blipFill>
          <a:blip r:embed="rId2"/>
          <a:stretch/>
        </p:blipFill>
        <p:spPr>
          <a:xfrm>
            <a:off x="2735280" y="3714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144360" y="4103640"/>
            <a:ext cx="1800360" cy="251928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3"/>
          <p:cNvSpPr/>
          <p:nvPr/>
        </p:nvSpPr>
        <p:spPr>
          <a:xfrm>
            <a:off x="863640" y="144360"/>
            <a:ext cx="6983280" cy="352764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ff420e"/>
          </a:solidFill>
          <a:ln w="82800">
            <a:solidFill>
              <a:srgbClr val="ffd3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Находясь на остановке, переходи дорогу только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тогда, когда общественный транспорт отойдет от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становки. Если транспорт не отходит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бязательно нужно отойти о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становки на безопасное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расстояние так, чтобы видеть едущие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справа и слева машины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2"/>
          <a:stretch/>
        </p:blipFill>
        <p:spPr>
          <a:xfrm>
            <a:off x="0" y="4535640"/>
            <a:ext cx="1584360" cy="2309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3"/>
          <a:stretch/>
        </p:blipFill>
        <p:spPr>
          <a:xfrm>
            <a:off x="1655640" y="4354560"/>
            <a:ext cx="3940200" cy="2381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4"/>
          <a:stretch/>
        </p:blipFill>
        <p:spPr>
          <a:xfrm>
            <a:off x="5226120" y="2519280"/>
            <a:ext cx="3917880" cy="25956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4"/>
          <p:cNvSpPr/>
          <p:nvPr/>
        </p:nvSpPr>
        <p:spPr>
          <a:xfrm>
            <a:off x="431640" y="73080"/>
            <a:ext cx="6983640" cy="352728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009900"/>
          </a:solidFill>
          <a:ln w="828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Нельзя играть на проезжей части, та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как можно не заметить приближающую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машину. Играть можно тольк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 специально отведенных местах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—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о дворах, парках, скверах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ыходя из подъезда, уже будь внимателен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и осторожен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5"/>
          <a:stretch/>
        </p:blipFill>
        <p:spPr>
          <a:xfrm>
            <a:off x="6551640" y="4967280"/>
            <a:ext cx="2160720" cy="189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Венера</cp:lastModifiedBy>
  <dcterms:modified xsi:type="dcterms:W3CDTF">2022-11-01T17:06:16Z</dcterms:modified>
  <cp:revision>5</cp:revision>
  <dc:subject/>
  <dc:title>Слайд 1</dc:title>
</cp:coreProperties>
</file>