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60735-64E4-4519-8626-1A74C1E8D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44EED-4F2F-4231-9BF9-CDD72FD8E07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90C6B-D0B3-4B98-9D38-AD5E9FC7F68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60B7E-AACD-43D0-8279-9407ABC7E342}" type="slidenum"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FE4FA-ED3F-4049-BBBE-A1DC8EE784D2}" type="slidenum"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721D0-0359-44A7-B437-A0B8182C0A22}" type="slidenum"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8D2CB-F3FF-4019-BB65-48F8002EC75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301-CFEF-499B-A730-10303FA8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906948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5085360"/>
            <a:ext cx="906948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994-4683-4974-9660-1BC05AB1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5085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5085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05C-6C9A-4917-9B48-36D94005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3168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3168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5085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5085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5085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C59-0F78-472C-8D85-4AE1E05F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0D24-8CE2-4F52-AABC-DACC8B2B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3168360"/>
            <a:ext cx="90694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1D9A-B2AE-4005-BAB2-56FDA145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90694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FAD6-8CF3-40B3-AC10-AF3BCC5F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E825-C3EC-4D06-8184-46F04BE6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701F-6964-4E26-B825-149A5329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1079280"/>
            <a:ext cx="9069480" cy="80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8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DC7F-D69D-4A08-B0D7-24DB047F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5085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F7E0-2459-4631-AA1D-7002051F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3168360"/>
            <a:ext cx="90694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CF3-C434-4655-B9B0-56177EA9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5085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DE3A-D402-468E-AF41-8DD9FD60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5085360"/>
            <a:ext cx="906948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EE9E-C516-48CA-93AE-5B0052FE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906948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5085360"/>
            <a:ext cx="906948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A47B-03CF-4F5C-A6B4-1D2208EE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5085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5085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D899-E435-427B-8A77-D3EA875C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3168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3168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5085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5085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5085360"/>
            <a:ext cx="291996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3FE1-4A27-4E40-85FB-FD186E0C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90694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B1A-D7EC-4351-863D-A23309B8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EBA-DF9F-40B3-A702-03475ACA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BC9-38AC-48B2-8328-CC6839DB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1079280"/>
            <a:ext cx="9069480" cy="80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8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7AE-16D8-4CE1-92C9-E42BC18E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5085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79A-F0C2-4DF4-832A-0090159A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5085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FB1-8178-4F6A-A8FE-DB2E7C34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3168360"/>
            <a:ext cx="442584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5085360"/>
            <a:ext cx="9069480" cy="175032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9D3-D747-49B0-8CE8-19EAD823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1079280"/>
            <a:ext cx="906948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3168360"/>
            <a:ext cx="90694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37440" bIns="0" anchor="t">
            <a:normAutofit fontScale="64000"/>
          </a:bodyPr>
          <a:p>
            <a:pPr marL="219240" indent="0">
              <a:lnSpc>
                <a:spcPct val="93000"/>
              </a:lnSpc>
              <a:spcBef>
                <a:spcPts val="18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lvl="1" marL="219240" indent="-2192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lvl="2" marL="219240" indent="-2192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lvl="3" marL="219240" indent="-2192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lvl="4" marL="219240" indent="-2192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lvl="5" marL="219240" indent="-2192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lvl="6" marL="219240" indent="-2192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3CF9B-5B52-46B9-8748-621E56BD63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5BBBE-EB05-41EF-9D00-48443F3C96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0" y="431640"/>
            <a:ext cx="10080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32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Созвездия н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оординатной  плоскост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024360" y="2952720"/>
            <a:ext cx="3816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2087640"/>
            <a:ext cx="90709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Я считаю,что есть взаимосвязь  между математикой и астрономией. Без математики невозможно изучать астроном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9211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7520" y="1343160"/>
            <a:ext cx="100998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Самые необходимые математические знания астрономии это: знание построения координатной плоскости; умение выполнения арифметических дей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95360" y="1371600"/>
            <a:ext cx="9070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Нет. Без математики астрономию изучать практически невозможно, к примеру как узнать координаты той или иной звезды? Именно, никак. Конечно, можно запомнить, где она находится, но это будут неточные сведения.</a:t>
            </a:r>
            <a:r>
              <a:rPr b="0" lang="ru-RU" sz="2800" spc="-1" strike="noStrike">
                <a:solidFill>
                  <a:srgbClr val="c9211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-2376360" y="2411280"/>
            <a:ext cx="1008036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24360" y="2117880"/>
            <a:ext cx="388764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-289080" y="-541440"/>
            <a:ext cx="10080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вездие «Цефея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08360" y="2556000"/>
            <a:ext cx="3887640" cy="388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21T07:43:26Z</dcterms:created>
  <dc:creator>Comp</dc:creator>
  <dc:description/>
  <dc:language>en-US</dc:language>
  <cp:lastModifiedBy>Comp</cp:lastModifiedBy>
  <dcterms:modified xsi:type="dcterms:W3CDTF">2022-01-06T18:54:13Z</dcterms:modified>
  <cp:revision>4</cp:revision>
  <dc:subject/>
  <dc:title>Blueprint Plans</dc:title>
</cp:coreProperties>
</file>