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9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7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F9D323-7E6E-4A5A-90BE-DB60CCD6AF5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4BC891-0DA0-447C-A3DE-6766264AABF7}" type="slidenum">
              <a:rPr b="0" lang="ru-RU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6720" cy="400824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F34314-44F5-4C15-A1AC-822FE1CF3C46}" type="slidenum">
              <a:rPr b="0" lang="ru-RU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6720" cy="40082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D05D87-F9FD-4261-8403-661997D8083B}" type="slidenum">
              <a:rPr b="0" lang="ru-RU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6720" cy="400824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36A3FA-916F-46F4-80B8-773483CE97F8}" type="slidenum">
              <a:rPr b="0" lang="ru-RU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6720" cy="40082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1E199D-3108-4259-8C5F-9E0BC9907948}" type="slidenum">
              <a:rPr b="0" lang="ru-RU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6720" cy="400824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01E3C9-C1BB-4383-857B-0BA5BB6BDD26}" type="slidenum">
              <a:rPr b="0" lang="ru-RU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6720" cy="40082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6607-3443-4A98-82CB-ECFB54BEC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1079280"/>
            <a:ext cx="9069480" cy="17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3168360"/>
            <a:ext cx="9069480" cy="1750320"/>
          </a:xfrm>
          <a:prstGeom prst="rect">
            <a:avLst/>
          </a:prstGeom>
          <a:noFill/>
          <a:ln w="0">
            <a:noFill/>
          </a:ln>
        </p:spPr>
        <p:txBody>
          <a:bodyPr lIns="0" rIns="0" tIns="37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888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5085360"/>
            <a:ext cx="9069480" cy="1750320"/>
          </a:xfrm>
          <a:prstGeom prst="rect">
            <a:avLst/>
          </a:prstGeom>
          <a:noFill/>
          <a:ln w="0">
            <a:noFill/>
          </a:ln>
        </p:spPr>
        <p:txBody>
          <a:bodyPr lIns="0" rIns="0" tIns="37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888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E25E-F395-4EB3-A59E-480ABE452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1079280"/>
            <a:ext cx="9069480" cy="17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3168360"/>
            <a:ext cx="4425840" cy="1750320"/>
          </a:xfrm>
          <a:prstGeom prst="rect">
            <a:avLst/>
          </a:prstGeom>
          <a:noFill/>
          <a:ln w="0">
            <a:noFill/>
          </a:ln>
        </p:spPr>
        <p:txBody>
          <a:bodyPr lIns="0" rIns="0" tIns="37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888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3168360"/>
            <a:ext cx="4425840" cy="1750320"/>
          </a:xfrm>
          <a:prstGeom prst="rect">
            <a:avLst/>
          </a:prstGeom>
          <a:noFill/>
          <a:ln w="0">
            <a:noFill/>
          </a:ln>
        </p:spPr>
        <p:txBody>
          <a:bodyPr lIns="0" rIns="0" tIns="37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888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5085360"/>
            <a:ext cx="4425840" cy="1750320"/>
          </a:xfrm>
          <a:prstGeom prst="rect">
            <a:avLst/>
          </a:prstGeom>
          <a:noFill/>
          <a:ln w="0">
            <a:noFill/>
          </a:ln>
        </p:spPr>
        <p:txBody>
          <a:bodyPr lIns="0" rIns="0" tIns="37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888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5085360"/>
            <a:ext cx="4425840" cy="1750320"/>
          </a:xfrm>
          <a:prstGeom prst="rect">
            <a:avLst/>
          </a:prstGeom>
          <a:noFill/>
          <a:ln w="0">
            <a:noFill/>
          </a:ln>
        </p:spPr>
        <p:txBody>
          <a:bodyPr lIns="0" rIns="0" tIns="37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888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E5A1-3AB9-4B9C-9079-EC7675113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1079280"/>
            <a:ext cx="9069480" cy="17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3168360"/>
            <a:ext cx="2919960" cy="1750320"/>
          </a:xfrm>
          <a:prstGeom prst="rect">
            <a:avLst/>
          </a:prstGeom>
          <a:noFill/>
          <a:ln w="0">
            <a:noFill/>
          </a:ln>
        </p:spPr>
        <p:txBody>
          <a:bodyPr lIns="0" rIns="0" tIns="37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888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3168360"/>
            <a:ext cx="2919960" cy="1750320"/>
          </a:xfrm>
          <a:prstGeom prst="rect">
            <a:avLst/>
          </a:prstGeom>
          <a:noFill/>
          <a:ln w="0">
            <a:noFill/>
          </a:ln>
        </p:spPr>
        <p:txBody>
          <a:bodyPr lIns="0" rIns="0" tIns="37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888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3168360"/>
            <a:ext cx="2919960" cy="1750320"/>
          </a:xfrm>
          <a:prstGeom prst="rect">
            <a:avLst/>
          </a:prstGeom>
          <a:noFill/>
          <a:ln w="0">
            <a:noFill/>
          </a:ln>
        </p:spPr>
        <p:txBody>
          <a:bodyPr lIns="0" rIns="0" tIns="37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888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5085360"/>
            <a:ext cx="2919960" cy="1750320"/>
          </a:xfrm>
          <a:prstGeom prst="rect">
            <a:avLst/>
          </a:prstGeom>
          <a:noFill/>
          <a:ln w="0">
            <a:noFill/>
          </a:ln>
        </p:spPr>
        <p:txBody>
          <a:bodyPr lIns="0" rIns="0" tIns="37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888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5085360"/>
            <a:ext cx="2919960" cy="1750320"/>
          </a:xfrm>
          <a:prstGeom prst="rect">
            <a:avLst/>
          </a:prstGeom>
          <a:noFill/>
          <a:ln w="0">
            <a:noFill/>
          </a:ln>
        </p:spPr>
        <p:txBody>
          <a:bodyPr lIns="0" rIns="0" tIns="37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888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5085360"/>
            <a:ext cx="2919960" cy="1750320"/>
          </a:xfrm>
          <a:prstGeom prst="rect">
            <a:avLst/>
          </a:prstGeom>
          <a:noFill/>
          <a:ln w="0">
            <a:noFill/>
          </a:ln>
        </p:spPr>
        <p:txBody>
          <a:bodyPr lIns="0" rIns="0" tIns="37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888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F7B6-647B-4600-832C-C95C8C593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B2761-579F-4BAA-8949-D12DBAB73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1079280"/>
            <a:ext cx="9069480" cy="17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2920" y="3168360"/>
            <a:ext cx="906948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888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ADF9A-7A5F-4E62-A01F-C3DB082E0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1079280"/>
            <a:ext cx="9069480" cy="17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3168360"/>
            <a:ext cx="906948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37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888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5912E-4196-4DE6-AAA2-C125CEBD0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1079280"/>
            <a:ext cx="9069480" cy="17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3168360"/>
            <a:ext cx="442584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37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888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0520" y="3168360"/>
            <a:ext cx="442584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37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888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8EE61-202B-4775-9599-BD22DF2E3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1079280"/>
            <a:ext cx="9069480" cy="17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1EBBC-07B5-4643-9E44-DAE9D5B42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2920" y="1079280"/>
            <a:ext cx="9069480" cy="800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888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B5BC7-2DD1-4F4A-9C43-3A1912236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1079280"/>
            <a:ext cx="9069480" cy="17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3168360"/>
            <a:ext cx="4425840" cy="1750320"/>
          </a:xfrm>
          <a:prstGeom prst="rect">
            <a:avLst/>
          </a:prstGeom>
          <a:noFill/>
          <a:ln w="0">
            <a:noFill/>
          </a:ln>
        </p:spPr>
        <p:txBody>
          <a:bodyPr lIns="0" rIns="0" tIns="37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888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50520" y="3168360"/>
            <a:ext cx="442584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37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888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2920" y="5085360"/>
            <a:ext cx="4425840" cy="1750320"/>
          </a:xfrm>
          <a:prstGeom prst="rect">
            <a:avLst/>
          </a:prstGeom>
          <a:noFill/>
          <a:ln w="0">
            <a:noFill/>
          </a:ln>
        </p:spPr>
        <p:txBody>
          <a:bodyPr lIns="0" rIns="0" tIns="37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888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0C6D3-EB0A-489B-9A74-4EC203519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1079280"/>
            <a:ext cx="9069480" cy="17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3168360"/>
            <a:ext cx="906948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888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B49D-54E7-41FB-9213-8301B3833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1079280"/>
            <a:ext cx="9069480" cy="17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2920" y="3168360"/>
            <a:ext cx="442584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37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888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50520" y="3168360"/>
            <a:ext cx="4425840" cy="1750320"/>
          </a:xfrm>
          <a:prstGeom prst="rect">
            <a:avLst/>
          </a:prstGeom>
          <a:noFill/>
          <a:ln w="0">
            <a:noFill/>
          </a:ln>
        </p:spPr>
        <p:txBody>
          <a:bodyPr lIns="0" rIns="0" tIns="37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888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50520" y="5085360"/>
            <a:ext cx="4425840" cy="1750320"/>
          </a:xfrm>
          <a:prstGeom prst="rect">
            <a:avLst/>
          </a:prstGeom>
          <a:noFill/>
          <a:ln w="0">
            <a:noFill/>
          </a:ln>
        </p:spPr>
        <p:txBody>
          <a:bodyPr lIns="0" rIns="0" tIns="37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888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C5104-4B7C-4400-B4A0-9E3731FD2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1079280"/>
            <a:ext cx="9069480" cy="17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2920" y="3168360"/>
            <a:ext cx="4425840" cy="1750320"/>
          </a:xfrm>
          <a:prstGeom prst="rect">
            <a:avLst/>
          </a:prstGeom>
          <a:noFill/>
          <a:ln w="0">
            <a:noFill/>
          </a:ln>
        </p:spPr>
        <p:txBody>
          <a:bodyPr lIns="0" rIns="0" tIns="37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888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0520" y="3168360"/>
            <a:ext cx="4425840" cy="1750320"/>
          </a:xfrm>
          <a:prstGeom prst="rect">
            <a:avLst/>
          </a:prstGeom>
          <a:noFill/>
          <a:ln w="0">
            <a:noFill/>
          </a:ln>
        </p:spPr>
        <p:txBody>
          <a:bodyPr lIns="0" rIns="0" tIns="37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888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2920" y="5085360"/>
            <a:ext cx="9069480" cy="1750320"/>
          </a:xfrm>
          <a:prstGeom prst="rect">
            <a:avLst/>
          </a:prstGeom>
          <a:noFill/>
          <a:ln w="0">
            <a:noFill/>
          </a:ln>
        </p:spPr>
        <p:txBody>
          <a:bodyPr lIns="0" rIns="0" tIns="37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888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7E079-CECC-4F1F-B4E1-DEE6D328E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1079280"/>
            <a:ext cx="9069480" cy="17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3168360"/>
            <a:ext cx="9069480" cy="1750320"/>
          </a:xfrm>
          <a:prstGeom prst="rect">
            <a:avLst/>
          </a:prstGeom>
          <a:noFill/>
          <a:ln w="0">
            <a:noFill/>
          </a:ln>
        </p:spPr>
        <p:txBody>
          <a:bodyPr lIns="0" rIns="0" tIns="37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888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2920" y="5085360"/>
            <a:ext cx="9069480" cy="1750320"/>
          </a:xfrm>
          <a:prstGeom prst="rect">
            <a:avLst/>
          </a:prstGeom>
          <a:noFill/>
          <a:ln w="0">
            <a:noFill/>
          </a:ln>
        </p:spPr>
        <p:txBody>
          <a:bodyPr lIns="0" rIns="0" tIns="37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888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58333-D866-4D0E-8DE6-B2FE28CD3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2920" y="1079280"/>
            <a:ext cx="9069480" cy="17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2920" y="3168360"/>
            <a:ext cx="4425840" cy="1750320"/>
          </a:xfrm>
          <a:prstGeom prst="rect">
            <a:avLst/>
          </a:prstGeom>
          <a:noFill/>
          <a:ln w="0">
            <a:noFill/>
          </a:ln>
        </p:spPr>
        <p:txBody>
          <a:bodyPr lIns="0" rIns="0" tIns="37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888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50520" y="3168360"/>
            <a:ext cx="4425840" cy="1750320"/>
          </a:xfrm>
          <a:prstGeom prst="rect">
            <a:avLst/>
          </a:prstGeom>
          <a:noFill/>
          <a:ln w="0">
            <a:noFill/>
          </a:ln>
        </p:spPr>
        <p:txBody>
          <a:bodyPr lIns="0" rIns="0" tIns="37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888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2920" y="5085360"/>
            <a:ext cx="4425840" cy="1750320"/>
          </a:xfrm>
          <a:prstGeom prst="rect">
            <a:avLst/>
          </a:prstGeom>
          <a:noFill/>
          <a:ln w="0">
            <a:noFill/>
          </a:ln>
        </p:spPr>
        <p:txBody>
          <a:bodyPr lIns="0" rIns="0" tIns="37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888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50520" y="5085360"/>
            <a:ext cx="4425840" cy="1750320"/>
          </a:xfrm>
          <a:prstGeom prst="rect">
            <a:avLst/>
          </a:prstGeom>
          <a:noFill/>
          <a:ln w="0">
            <a:noFill/>
          </a:ln>
        </p:spPr>
        <p:txBody>
          <a:bodyPr lIns="0" rIns="0" tIns="37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888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4423A-0F09-435F-B704-B3FBFB2DD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2920" y="1079280"/>
            <a:ext cx="9069480" cy="17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2920" y="3168360"/>
            <a:ext cx="2919960" cy="1750320"/>
          </a:xfrm>
          <a:prstGeom prst="rect">
            <a:avLst/>
          </a:prstGeom>
          <a:noFill/>
          <a:ln w="0">
            <a:noFill/>
          </a:ln>
        </p:spPr>
        <p:txBody>
          <a:bodyPr lIns="0" rIns="0" tIns="37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888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3168360"/>
            <a:ext cx="2919960" cy="1750320"/>
          </a:xfrm>
          <a:prstGeom prst="rect">
            <a:avLst/>
          </a:prstGeom>
          <a:noFill/>
          <a:ln w="0">
            <a:noFill/>
          </a:ln>
        </p:spPr>
        <p:txBody>
          <a:bodyPr lIns="0" rIns="0" tIns="37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888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520" y="3168360"/>
            <a:ext cx="2919960" cy="1750320"/>
          </a:xfrm>
          <a:prstGeom prst="rect">
            <a:avLst/>
          </a:prstGeom>
          <a:noFill/>
          <a:ln w="0">
            <a:noFill/>
          </a:ln>
        </p:spPr>
        <p:txBody>
          <a:bodyPr lIns="0" rIns="0" tIns="37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888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2920" y="5085360"/>
            <a:ext cx="2919960" cy="1750320"/>
          </a:xfrm>
          <a:prstGeom prst="rect">
            <a:avLst/>
          </a:prstGeom>
          <a:noFill/>
          <a:ln w="0">
            <a:noFill/>
          </a:ln>
        </p:spPr>
        <p:txBody>
          <a:bodyPr lIns="0" rIns="0" tIns="37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888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5085360"/>
            <a:ext cx="2919960" cy="1750320"/>
          </a:xfrm>
          <a:prstGeom prst="rect">
            <a:avLst/>
          </a:prstGeom>
          <a:noFill/>
          <a:ln w="0">
            <a:noFill/>
          </a:ln>
        </p:spPr>
        <p:txBody>
          <a:bodyPr lIns="0" rIns="0" tIns="37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888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520" y="5085360"/>
            <a:ext cx="2919960" cy="1750320"/>
          </a:xfrm>
          <a:prstGeom prst="rect">
            <a:avLst/>
          </a:prstGeom>
          <a:noFill/>
          <a:ln w="0">
            <a:noFill/>
          </a:ln>
        </p:spPr>
        <p:txBody>
          <a:bodyPr lIns="0" rIns="0" tIns="37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888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E8146-76D6-4FC8-8328-054AAB02F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1079280"/>
            <a:ext cx="9069480" cy="17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3168360"/>
            <a:ext cx="906948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37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888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D399-D33A-46BA-951F-C8DF37CE5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1079280"/>
            <a:ext cx="9069480" cy="17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3168360"/>
            <a:ext cx="442584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37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888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3168360"/>
            <a:ext cx="442584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37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888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17C0-7254-4110-9537-3876A67FF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1079280"/>
            <a:ext cx="9069480" cy="17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8237-1128-4510-90F6-066B6E20D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1079280"/>
            <a:ext cx="9069480" cy="800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888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C009-6935-4FF2-852D-1D6800CB8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1079280"/>
            <a:ext cx="9069480" cy="17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3168360"/>
            <a:ext cx="4425840" cy="1750320"/>
          </a:xfrm>
          <a:prstGeom prst="rect">
            <a:avLst/>
          </a:prstGeom>
          <a:noFill/>
          <a:ln w="0">
            <a:noFill/>
          </a:ln>
        </p:spPr>
        <p:txBody>
          <a:bodyPr lIns="0" rIns="0" tIns="37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888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3168360"/>
            <a:ext cx="442584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37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888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5085360"/>
            <a:ext cx="4425840" cy="1750320"/>
          </a:xfrm>
          <a:prstGeom prst="rect">
            <a:avLst/>
          </a:prstGeom>
          <a:noFill/>
          <a:ln w="0">
            <a:noFill/>
          </a:ln>
        </p:spPr>
        <p:txBody>
          <a:bodyPr lIns="0" rIns="0" tIns="37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888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2F6F-E6AF-4C36-8FAF-208ADB803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1079280"/>
            <a:ext cx="9069480" cy="17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3168360"/>
            <a:ext cx="442584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37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888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3168360"/>
            <a:ext cx="4425840" cy="1750320"/>
          </a:xfrm>
          <a:prstGeom prst="rect">
            <a:avLst/>
          </a:prstGeom>
          <a:noFill/>
          <a:ln w="0">
            <a:noFill/>
          </a:ln>
        </p:spPr>
        <p:txBody>
          <a:bodyPr lIns="0" rIns="0" tIns="37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888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5085360"/>
            <a:ext cx="4425840" cy="1750320"/>
          </a:xfrm>
          <a:prstGeom prst="rect">
            <a:avLst/>
          </a:prstGeom>
          <a:noFill/>
          <a:ln w="0">
            <a:noFill/>
          </a:ln>
        </p:spPr>
        <p:txBody>
          <a:bodyPr lIns="0" rIns="0" tIns="37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888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05D0-576C-4F82-91CC-DD458EC08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1079280"/>
            <a:ext cx="9069480" cy="17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3168360"/>
            <a:ext cx="4425840" cy="1750320"/>
          </a:xfrm>
          <a:prstGeom prst="rect">
            <a:avLst/>
          </a:prstGeom>
          <a:noFill/>
          <a:ln w="0">
            <a:noFill/>
          </a:ln>
        </p:spPr>
        <p:txBody>
          <a:bodyPr lIns="0" rIns="0" tIns="37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888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3168360"/>
            <a:ext cx="4425840" cy="1750320"/>
          </a:xfrm>
          <a:prstGeom prst="rect">
            <a:avLst/>
          </a:prstGeom>
          <a:noFill/>
          <a:ln w="0">
            <a:noFill/>
          </a:ln>
        </p:spPr>
        <p:txBody>
          <a:bodyPr lIns="0" rIns="0" tIns="37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888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5085360"/>
            <a:ext cx="9069480" cy="1750320"/>
          </a:xfrm>
          <a:prstGeom prst="rect">
            <a:avLst/>
          </a:prstGeom>
          <a:noFill/>
          <a:ln w="0">
            <a:noFill/>
          </a:ln>
        </p:spPr>
        <p:txBody>
          <a:bodyPr lIns="0" rIns="0" tIns="37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888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DA0F-F8D8-4787-A3A0-988BE6429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1079280"/>
            <a:ext cx="9069480" cy="17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3168360"/>
            <a:ext cx="906948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37440" bIns="0" anchor="t">
            <a:normAutofit fontScale="64000"/>
          </a:bodyPr>
          <a:p>
            <a:pPr marL="219240" indent="0">
              <a:lnSpc>
                <a:spcPct val="93000"/>
              </a:lnSpc>
              <a:spcBef>
                <a:spcPts val="1888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  <a:p>
            <a:pPr lvl="1" marL="219240" indent="-219240">
              <a:lnSpc>
                <a:spcPct val="93000"/>
              </a:lnSpc>
              <a:spcBef>
                <a:spcPts val="1888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  <a:p>
            <a:pPr lvl="2" marL="219240" indent="-219240">
              <a:lnSpc>
                <a:spcPct val="93000"/>
              </a:lnSpc>
              <a:spcBef>
                <a:spcPts val="1888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  <a:p>
            <a:pPr lvl="3" marL="219240" indent="-219240">
              <a:lnSpc>
                <a:spcPct val="93000"/>
              </a:lnSpc>
              <a:spcBef>
                <a:spcPts val="1888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  <a:p>
            <a:pPr lvl="4" marL="219240" indent="-219240">
              <a:lnSpc>
                <a:spcPct val="93000"/>
              </a:lnSpc>
              <a:spcBef>
                <a:spcPts val="1888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  <a:p>
            <a:pPr lvl="5" marL="219240" indent="-219240">
              <a:lnSpc>
                <a:spcPct val="93000"/>
              </a:lnSpc>
              <a:spcBef>
                <a:spcPts val="1888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  <a:p>
            <a:pPr lvl="6" marL="219240" indent="-219240">
              <a:lnSpc>
                <a:spcPct val="93000"/>
              </a:lnSpc>
              <a:spcBef>
                <a:spcPts val="1888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508F5A-C565-4D8F-A53B-EB4F2AE12F4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F8B401-D717-4021-AEA5-E39B551CB5A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1"/>
          <p:cNvSpPr/>
          <p:nvPr/>
        </p:nvSpPr>
        <p:spPr>
          <a:xfrm>
            <a:off x="0" y="431640"/>
            <a:ext cx="1008072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53280" bIns="0" anchor="ctr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Созвездия на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координатной  плоскости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3024360" y="2952720"/>
            <a:ext cx="3816000" cy="36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1"/>
          <p:cNvSpPr/>
          <p:nvPr/>
        </p:nvSpPr>
        <p:spPr>
          <a:xfrm>
            <a:off x="576360" y="2087640"/>
            <a:ext cx="907092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4840" bIns="0" anchor="ctr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Я считаю,что есть взаимосвязь  между математикой и астрономией. Без математики невозможно изучать астроном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c9211e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1"/>
          <p:cNvSpPr/>
          <p:nvPr/>
        </p:nvSpPr>
        <p:spPr>
          <a:xfrm>
            <a:off x="47520" y="1343160"/>
            <a:ext cx="10099800" cy="30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4840" bIns="0" anchor="ctr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Самые необходимые математические знания астрономии это: знание построения координатной плоскости; умение выполнения арифметических действ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"/>
          <p:cNvSpPr/>
          <p:nvPr/>
        </p:nvSpPr>
        <p:spPr>
          <a:xfrm>
            <a:off x="495360" y="1371600"/>
            <a:ext cx="907092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4840" bIns="0" anchor="ctr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.Нет. Без математики астрономию изучать практически невозможно, к примеру как узнать координаты той или иной звезды? Именно, никак. Конечно, можно запомнить, где она находится, но это будут неточные сведения.</a:t>
            </a:r>
            <a:r>
              <a:rPr b="0" lang="ru-RU" sz="2800" spc="-1" strike="noStrike">
                <a:solidFill>
                  <a:srgbClr val="c9211e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1"/>
          <p:cNvSpPr/>
          <p:nvPr/>
        </p:nvSpPr>
        <p:spPr>
          <a:xfrm>
            <a:off x="-2376360" y="2411280"/>
            <a:ext cx="10080360" cy="28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440" bIns="0" anchor="ctr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.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3024360" y="2117880"/>
            <a:ext cx="3887640" cy="367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"/>
          <p:cNvSpPr/>
          <p:nvPr/>
        </p:nvSpPr>
        <p:spPr>
          <a:xfrm>
            <a:off x="-289080" y="-541440"/>
            <a:ext cx="1008072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440" bIns="0" anchor="ctr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звездие «Цефея»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2808360" y="2556000"/>
            <a:ext cx="3887640" cy="3887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2-21T07:43:26Z</dcterms:created>
  <dc:creator>Comp</dc:creator>
  <dc:description/>
  <dc:language>en-US</dc:language>
  <cp:lastModifiedBy>Comp</cp:lastModifiedBy>
  <dcterms:modified xsi:type="dcterms:W3CDTF">2022-01-06T18:54:13Z</dcterms:modified>
  <cp:revision>4</cp:revision>
  <dc:subject/>
  <dc:title>Blueprint Plans</dc:title>
</cp:coreProperties>
</file>