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003A-5E4D-4B39-B582-13C43F8A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867A-F0DE-4635-852C-BA75C93C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DCA6-3F1A-4FAE-8ABD-F35387421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6B4A-5212-4B10-8FB9-236CDE6FF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464E-9166-4BD1-86B3-3ED05922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DD82-0AEC-4F6E-8950-AC5D4C14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6756-B3CA-4D7B-9F33-A779E61E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F44C-D045-4252-B9F1-CFDB470F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B130-5ECF-4156-B63B-3B827B62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68B6-1825-441B-A6E8-1FF4FB5D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8173-86F5-4355-8D3D-0F185CA7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9C89-F9DB-48B8-84E8-5C5C06BF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F4C1-90A4-465D-9A34-D0DCE0BCAD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одержимое 3" descr="Рисунок1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3"/>
          <p:cNvSpPr/>
          <p:nvPr/>
        </p:nvSpPr>
        <p:spPr>
          <a:xfrm>
            <a:off x="0" y="25653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Краткая презентация  адаптированной рабочей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группы для детей  с  нарушениями  з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3781440" y="414504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22 – 2023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4427640" y="4869000"/>
            <a:ext cx="37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азработа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учитель - дефекто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яснянская О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2207520" y="1052640"/>
            <a:ext cx="464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ий сад комбинированного вида №167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7"/>
          <p:cNvSpPr/>
          <p:nvPr/>
        </p:nvSpPr>
        <p:spPr>
          <a:xfrm>
            <a:off x="0" y="33336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Возрастные особенност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детей  с нарушением з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8"/>
          <p:cNvSpPr/>
          <p:nvPr/>
        </p:nvSpPr>
        <p:spPr>
          <a:xfrm>
            <a:off x="684360" y="1557360"/>
            <a:ext cx="7775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нарушениями зрения представляют большую и очень разнообразную группу как по характеристике состояния их зрения, так и по происхождению заболеваний и условиям социального разви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абовидящих детей отмечаются различные состояния полей зрения, обусловленные характером и степенью зрительной патоло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етей с глубокими нарушениями зрения характерно замедленное формирование различных форм деятельности. При этом требуется специально направленное обучение ее элементам 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м образом исполнительной ее стороны, так как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гательная сфера слепых и слабовидящих детей являетс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уязвимой, влияние дефекта на двигательные акт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наибольши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2"/>
          <p:cNvSpPr/>
          <p:nvPr/>
        </p:nvSpPr>
        <p:spPr>
          <a:xfrm>
            <a:off x="0" y="47628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Взаимодействие  с родит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395280" y="1557360"/>
            <a:ext cx="8353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ление и развитие тесной связи ДОУ и семьи обеспечивают благоприятные условия жизни и воспитания ребенка, формирование основ полно­ценной гармонической личности. Это, в первую очередь, касается детей с осо­быми образовательными потребно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взаимодействия тифлопедагога с родителям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ления на родительских собраниях по общим вопросам воспитания, обучения и развития детей с нарушением зр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ое консультирование род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для родителей индивидуальных и подгрупповых коррекционных зан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и специальной литературы, игр, пособий, детских рабо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о закреплению и совершенствованию сформированных у детей навыков на занятиях, профилактике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ительных утомлений, развитию зрительных фун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"/>
          <p:cNvSpPr/>
          <p:nvPr/>
        </p:nvSpPr>
        <p:spPr>
          <a:xfrm>
            <a:off x="395280" y="434880"/>
            <a:ext cx="80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  <a:ea typeface="Calibri"/>
              </a:rPr>
              <a:t>Работы с родителями в групп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  <a:ea typeface="Calibri"/>
              </a:rPr>
              <a:t>для детей с нарушением з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39640" y="1557360"/>
          <a:ext cx="8136000" cy="4405320"/>
        </p:xfrm>
        <a:graphic>
          <a:graphicData uri="http://schemas.openxmlformats.org/drawingml/2006/table">
            <a:tbl>
              <a:tblPr/>
              <a:tblGrid>
                <a:gridCol w="1355760"/>
                <a:gridCol w="4407120"/>
                <a:gridCol w="2373120"/>
              </a:tblGrid>
              <a:tr h="245880"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ся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а пр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нтябр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Знакомство с детским садо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кур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Психофизические особенности детей с нарушением зр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дительское собр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тябр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Наша осень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фотовыстав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Развитие сенсорной сферы у дете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онсультационно-практическ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Рисуем манко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творческая мастер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Мы помощник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фотовыстав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Волшебные слов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онсуль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Как помочь ребёнку во время леч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родительское собр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кабр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Игры, которые лечат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онсультационно-практическ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Зрительные гимнастик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онсультационно-практическ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Лучшая  новогодняя игруш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онкурс подел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нвар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Развитие ориентировки на микроплоскости у детей с нарушением зр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онсультационно-практическ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Зимние забав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фотовыстав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900000" y="1700280"/>
          <a:ext cx="7632720" cy="4043160"/>
        </p:xfrm>
        <a:graphic>
          <a:graphicData uri="http://schemas.openxmlformats.org/drawingml/2006/table">
            <a:tbl>
              <a:tblPr/>
              <a:tblGrid>
                <a:gridCol w="1670040"/>
                <a:gridCol w="3730680"/>
                <a:gridCol w="2232000"/>
              </a:tblGrid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евр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Играем вмест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апка-передвиж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Учимся описывать предмет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онсуль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Наши эмоци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фотовыстав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р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День матер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развл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Наша групп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открытое за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Офтальмо - гигиенические рекомендации по охране зрения дете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родительское собр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пре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Семейная эмблем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онкурс рисун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Особенности зрительного восприятия детей с нарушением зр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онсуль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Ребёнок и компьютер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апка-передвиж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Наши занят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фотовыстав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Озорные пуговиц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творческая мастер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Глазик не ленись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апка-передвиж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юн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Летние рекомендаци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индивидуальная консуль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В здоровом теле, здоровый дух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фотовыстав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2"/>
          <p:cNvSpPr/>
          <p:nvPr/>
        </p:nvSpPr>
        <p:spPr>
          <a:xfrm>
            <a:off x="1116000" y="620640"/>
            <a:ext cx="69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Программно-методический комплек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539640" y="1628640"/>
            <a:ext cx="8064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аева Т.Н., Римашевская Л.С. Как развивать сотрудничество и взаимоотношения дошкольников в детском саду. - СПб.: Детство- Пресс, 20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бенец A.M., Солнцева О.В., Сомкова О.Н. Планирование и организация образовательного процесса дошкольного учреждения по примерной основной общеобразовательной программе «Детство».  - СПб.: Детство-Пресс, 201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кунская В.А., Проектная деятельность дошкольников. Учебно-методическое пособие. - СПб.: Детство-Пресс, 201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и дошкольник. Развитие детей старшего дошкольного возраста в игровой деятельности. Сборник. / Науч. ред. Т.И.Бабаева, З.А.Михайлова. - СПб.: Детство- Пресс,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, обучение и воспитание детей с глубокими нарушениями интеллекта: Сб. научных трудов / Под ред. А. Р. Маллера, Г. В. Цикото. — М„ 197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ева А. А., Стребелева Е. А. Дидактические игры и упражнения в обучении умственно отсталых дошкольников. — М.: Владос, 200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Минаева В. М. Развитие эмоций дошкольников. Занятия, игры. — М.: Аркти,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 Стребелева Е. А. Современный подход к дошкольному воспитанию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Рисунок11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684360" y="1413000"/>
            <a:ext cx="784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швина А. В., Пузыревекая Е. Я., Сочеванова Е. В. Игры-занятия с детьми раннего возраста с нарушениями умственного и речевого развития. — М.: Просвещение, 198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жанова Е. А., Стребелева Е. А. Организация коррекционно-воспитательного процесса в условиях специализированного дошкольного учреждения для детей с нарушением интеллекта // Дефектология. — 2000. — №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, обучение и воспитание детей с глубокими нарушениями интеллекта: Сб. научных трудов / Под ред. А. Р. Маллера, Г. В. Цикото. — М„ 197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ева А. А., Стребелева Е. А. Дидактические игры и упражнения в обучении умственно отсталых дошкольников. — М.: Владос, 20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аева В. М. Развитие эмоций дошкольников. Занятия, игры. — М.: Аркти, 19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белева Е. А. Современный подход к дошкольному воспитанию детей с отклонениями в развитии //Дефектология. — 1997. — №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якова М.И. «Психогимнастика» М. Просвещение :ВЛАДОС, 199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Содержимое 3" descr="Рисунок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2000" y="249192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ксана Ряснянская</dc:creator>
  <dc:description/>
  <dc:language>en-US</dc:language>
  <cp:lastModifiedBy>Оксана Ряснянская</cp:lastModifiedBy>
  <dcterms:modified xsi:type="dcterms:W3CDTF">2022-11-02T05:20:56Z</dcterms:modified>
  <cp:revision>19</cp:revision>
  <dc:subject/>
  <dc:title>Слайд 1</dc:title>
</cp:coreProperties>
</file>