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AC7-C61D-45CE-90A7-41A332BE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77C-80FC-4F36-AC59-A82577C0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0F8-4E4D-47FA-94D9-81B325C4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2B8-7C1B-44C1-A311-B26C5A19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785-7CB0-4E4E-8D93-2686E30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C43-DEF3-4DE8-A933-77F97AE4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95E-9081-4315-A851-7F19947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F68-81C8-48AF-BB88-8975FDF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1C6-145C-4616-A708-B5A242DF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A5E-50F0-443A-BED8-0C2F704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CF5-95AD-424A-80B5-BF393F2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DAF-2A3E-4B83-A447-ABFF99D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71B6-7A9A-450A-BA4B-1E9090396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0" y="2565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раткая презентация  адаптированной рабоче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группы для детей  с  нарушениями 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781440" y="414504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2 – 2023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427640" y="4869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азработ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учитель - дефек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яснянская О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207520" y="1052640"/>
            <a:ext cx="46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№16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0" y="333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озрастные особен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детей  с нарушением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684360" y="1557360"/>
            <a:ext cx="777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ями зрения представляют большую и очень разнообразную группу как по характеристике состояния их зрения, так и по происхождению заболеваний и условиям социальн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абовидящих детей отмечаются различные состояния полей зрения, обусловленные характером и степенью зрительной пат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с глубокими нарушениями зрения характерно замедленное формирование различных форм деятельности. При этом требуется специально направленное обучение ее элементам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образом исполнительной ее стороны, так ка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 сфера слепых и слабовидящих детей явля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уязвимой, влияние дефекта на двигательные ак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наибольш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0" y="476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заимодействие 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95280" y="1557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и развитие тесной связи ДОУ и семьи обеспечивают благоприятные условия жизни и воспитания ребенка, формирование основ полно­ценной гармонической личности. Это, в первую очередь, касается детей с осо­быми образовательн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тифлопедагога с родител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на родительских собраниях по общим вопросам воспитания, обучения и развития детей с нарушением з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консультирование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ля родителей индивидуальных и подгрупповых коррекционны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специальной литературы, игр, пособий, детск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закреплению и совершенствованию сформированных у детей навыков на занятиях, профилактике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ных утомлений, развитию зрительных фун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395280" y="43488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Работы с родителями в групп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для детей с нарушением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557360"/>
          <a:ext cx="8136000" cy="4405320"/>
        </p:xfrm>
        <a:graphic>
          <a:graphicData uri="http://schemas.openxmlformats.org/drawingml/2006/table">
            <a:tbl>
              <a:tblPr/>
              <a:tblGrid>
                <a:gridCol w="1355760"/>
                <a:gridCol w="4407120"/>
                <a:gridCol w="2373120"/>
              </a:tblGrid>
              <a:tr h="2458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Знакомство с детским сад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ку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сихофизические особенности детей с нарушением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а осе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азвитие сенсорной сферы у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исуем манк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творческая маст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Мы помощ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Волшебные сло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Как помочь ребёнку во время ле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Игры, которые леча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Зрительные гимнаст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Лучшая  новогодняя игруш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курс поде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азвитие ориентировки на микроплоскости у детей с нарушением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Зимние забав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900000" y="1700280"/>
          <a:ext cx="7632720" cy="4043160"/>
        </p:xfrm>
        <a:graphic>
          <a:graphicData uri="http://schemas.openxmlformats.org/drawingml/2006/table">
            <a:tbl>
              <a:tblPr/>
              <a:tblGrid>
                <a:gridCol w="1670040"/>
                <a:gridCol w="3730680"/>
                <a:gridCol w="2232000"/>
              </a:tblGrid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Играем вмес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ка-пере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Учимся описывать предмет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и эмо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День мате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зв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а групп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ткрыт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Офтальмо - гигиенические рекомендации по охране зрения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Семейная эмбле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курс рисун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Особенности зрительного восприятия детей с нарушением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ебёнок и компьюте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ка-пере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и занят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Озорные пугов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творческая маст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Глазик не ленис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ка-пере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Летние рекоменд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дивидуальная 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В здоровом теле, здоровый ду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116000" y="6206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Программно-методический комплек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39640" y="1628640"/>
            <a:ext cx="806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ева Т.Н., Римашевская Л.С. Как развивать сотрудничество и взаимоотношения дошкольников в детском саду. - СПб.: Детство- Пресс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енец A.M., Солнцева О.В., Сомкова О.Н. Планирование и организация образовательного процесса дошкольного учреждения по примерной основной общеобразовательной программе «Детство».  - СПб.: Детство-Пресс,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кунская В.А., Проектная деятельность дошкольников. Учебно-методическое пособие. - СПб.: Детство-Пресс,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и дошкольник. Развитие детей старшего дошкольного возраста в игровой деятельности. Сборник. / Науч. ред. Т.И.Бабаева, З.А.Михайлова. - СПб.: Детство- Пресс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, обучение и воспитание детей с глубокими нарушениями интеллекта: Сб. научных трудов / Под ред. А. Р. Маллера, Г. В. Цикото. — М„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ева А. А., Стребелева Е. А. Дидактические игры и упражнения в обучении умственно отсталых дошкольников. — М.: Владос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инаева В. М. Развитие эмоций дошкольников. Занятия, игры. — М.: Аркти,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Стребелева Е. А. Современный подход к дошкольному воспитанию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684360" y="14130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швина А. В., Пузыревекая Е. Я., Сочеванова Е. В. Игры-занятия с детьми раннего возраста с нарушениями умственного и речевого развития. — М.: Просвещение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жанова Е. А., Стребелева Е. А. Организация коррекционно-воспитательного процесса в условиях специализированного дошкольного учреждения для детей с нарушением интеллекта // Дефектология. — 2000. —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, обучение и воспитание детей с глубокими нарушениями интеллекта: Сб. научных трудов / Под ред. А. Р. Маллера, Г. В. Цикото. — М„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ева А. А., Стребелева Е. А. Дидактические игры и упражнения в обучении умственно отсталых дошкольников. — М.: Владос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аева В. М. Развитие эмоций дошкольников. Занятия, игры. — М.: Аркти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белева Е. А. Современный подход к дошкольному воспитанию детей с отклонениями в развитии //Дефектология. — 1997. —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якова М.И. «Психогимнастика» М. Просвещение :ВЛАДОС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Ряснянская</dc:creator>
  <dc:description/>
  <dc:language>en-US</dc:language>
  <cp:lastModifiedBy>Оксана Ряснянская</cp:lastModifiedBy>
  <dcterms:modified xsi:type="dcterms:W3CDTF">2022-11-02T05:20:56Z</dcterms:modified>
  <cp:revision>19</cp:revision>
  <dc:subject/>
  <dc:title>Слайд 1</dc:title>
</cp:coreProperties>
</file>