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23CB-6306-4EB0-9F01-E1E541D86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Элементы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Красная ст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Большая бу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То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Перенос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Грам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Аккура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Times New Roman"/>
                <a:ea typeface="Calibri"/>
              </a:rPr>
              <a:t>Отм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A1A5-B052-44A1-9FCA-E92CF6246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ED7D-E965-4B0C-97DA-0CF64CA9D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CC7-C93B-4D2F-B9CB-42B5BF0F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CCC-481D-4FFF-A36D-0E9C1AD0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162-C16F-43F6-B098-73FD352F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8AB-261E-42AF-9A30-491D9BBF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60EF-7BF8-4C51-ACE7-806B39EA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49D2-E473-4292-B05C-1D66D7EE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B5A2-5F7B-498D-9CAC-84B0A8F1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3B5E-268D-447B-B7AC-FEF2A05A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36AE-2A10-43C0-991B-4702CBEC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FCEE-0BE8-407E-A205-94100A1D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1D23-AD5C-481D-A787-CBCCB0DA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599-0962-4F8F-91BF-813DE12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2E68-77A4-4710-B1C3-87187E4C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C554-EBCC-482B-904B-AEB4900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8E4D-8AD3-4B8D-9251-CB983B25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3907-1F50-45CE-B743-9DA2C0BE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4933-E893-4B82-A267-B9158F6C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505-3D92-482D-90D2-2C9E62FD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9A0-88C1-4FA0-BC80-1202701F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D47-89C9-41A3-A06E-8BC0B8CE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7EB-7A37-4864-B887-FC8E645B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C73-81CE-4283-AA28-B7F6A4E2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CD2-5573-4A88-B361-ABE871B4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E85-F7B4-4E99-8DA8-EFB18275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8064-8974-4F86-BCCE-6ECF70244E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1F7A-5241-4C0A-AB6F-6308B42F0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Критериальное самоценивание на уроках в начальной школ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0" y="4857840"/>
            <a:ext cx="8929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сова Ларис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Lika\Desktop\оценивание\2.png"/>
          <p:cNvPicPr/>
          <p:nvPr/>
        </p:nvPicPr>
        <p:blipFill>
          <a:blip r:embed="rId1"/>
          <a:stretch/>
        </p:blipFill>
        <p:spPr>
          <a:xfrm>
            <a:off x="721512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ы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фиксация оценки производится следующим образом: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+» - хорошо выпол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?» - есть затруднения 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«-» - не справился с работой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EDC0-1389-426A-9C27-BA9BC81568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8286840" cy="15001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1835280" y="2421000"/>
            <a:ext cx="11953440" cy="3887640"/>
            <a:chOff x="1835280" y="2421000"/>
            <a:chExt cx="11953440" cy="3887640"/>
          </a:xfrm>
        </p:grpSpPr>
        <p:sp>
          <p:nvSpPr>
            <p:cNvPr id="118" name="AutoShape 5"/>
            <p:cNvSpPr/>
            <p:nvPr/>
          </p:nvSpPr>
          <p:spPr>
            <a:xfrm>
              <a:off x="5609880" y="2421000"/>
              <a:ext cx="817884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2047680" y="4373640"/>
              <a:ext cx="720" cy="145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 flipV="1">
              <a:off x="5421600" y="4373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V="1">
              <a:off x="1843200" y="5426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 flipV="1">
              <a:off x="4194360" y="4697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172320" y="4373640"/>
              <a:ext cx="720" cy="145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>
              <a:off x="4399200" y="4373640"/>
              <a:ext cx="1080" cy="145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5626080" y="4373640"/>
              <a:ext cx="720" cy="145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1843200" y="4373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4194360" y="5426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1843200" y="4697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 flipV="1">
              <a:off x="2967840" y="5426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V="1">
              <a:off x="2967840" y="4373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4194360" y="4373640"/>
              <a:ext cx="38952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 flipV="1">
              <a:off x="5421600" y="5426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5421600" y="4697640"/>
              <a:ext cx="3891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4194360" y="4535640"/>
              <a:ext cx="408960" cy="324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 flipH="1">
              <a:off x="4194360" y="4535640"/>
              <a:ext cx="408960" cy="324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5421600" y="4778640"/>
              <a:ext cx="408600" cy="2426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4"/>
            <p:cNvSpPr/>
            <p:nvPr/>
          </p:nvSpPr>
          <p:spPr>
            <a:xfrm flipH="1">
              <a:off x="5421240" y="4778640"/>
              <a:ext cx="408600" cy="2426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 flipH="1">
              <a:off x="3072960" y="4238640"/>
              <a:ext cx="227160" cy="2786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>
              <a:off x="3027960" y="4238640"/>
              <a:ext cx="275760" cy="270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7"/>
            <p:cNvSpPr/>
            <p:nvPr/>
          </p:nvSpPr>
          <p:spPr>
            <a:xfrm>
              <a:off x="1835280" y="5867640"/>
              <a:ext cx="40896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8"/>
            <p:cNvSpPr/>
            <p:nvPr/>
          </p:nvSpPr>
          <p:spPr>
            <a:xfrm>
              <a:off x="3027960" y="5849640"/>
              <a:ext cx="40860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9"/>
            <p:cNvSpPr/>
            <p:nvPr/>
          </p:nvSpPr>
          <p:spPr>
            <a:xfrm>
              <a:off x="4209480" y="5849640"/>
              <a:ext cx="40860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0"/>
            <p:cNvSpPr/>
            <p:nvPr/>
          </p:nvSpPr>
          <p:spPr>
            <a:xfrm>
              <a:off x="5439600" y="5858640"/>
              <a:ext cx="40860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0"/>
          <p:cNvSpPr/>
          <p:nvPr/>
        </p:nvSpPr>
        <p:spPr>
          <a:xfrm>
            <a:off x="214200" y="2071800"/>
            <a:ext cx="8572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лшебные линеечки»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Г.А. Цукерм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356840"/>
            <a:ext cx="8643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ветофор»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ние выполнения заданий с помощью цветовых сигна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 не допустил ни одной ошибки и доволен своей работ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боте допущены неточности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ущено много ошибок, работой не дово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4"/>
          <p:cNvSpPr/>
          <p:nvPr/>
        </p:nvSpPr>
        <p:spPr>
          <a:xfrm>
            <a:off x="571680" y="2286000"/>
            <a:ext cx="642600" cy="5716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5"/>
          <p:cNvSpPr/>
          <p:nvPr/>
        </p:nvSpPr>
        <p:spPr>
          <a:xfrm>
            <a:off x="571680" y="3286080"/>
            <a:ext cx="64260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6"/>
          <p:cNvSpPr/>
          <p:nvPr/>
        </p:nvSpPr>
        <p:spPr>
          <a:xfrm>
            <a:off x="571680" y="3929040"/>
            <a:ext cx="64260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E135-6CB8-4DFD-8A7C-1267F394B9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Лестница успеха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майл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133951_html_24155b68"/>
          <p:cNvPicPr/>
          <p:nvPr/>
        </p:nvPicPr>
        <p:blipFill>
          <a:blip r:embed="rId1"/>
          <a:stretch/>
        </p:blipFill>
        <p:spPr>
          <a:xfrm>
            <a:off x="3357720" y="1571760"/>
            <a:ext cx="557208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DD43-4276-4EFA-8A15-5F867DC8B4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5" descr=""/>
          <p:cNvPicPr/>
          <p:nvPr/>
        </p:nvPicPr>
        <p:blipFill>
          <a:blip r:embed="rId2"/>
          <a:stretch/>
        </p:blipFill>
        <p:spPr>
          <a:xfrm>
            <a:off x="4000680" y="342900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ст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57160" y="2000160"/>
          <a:ext cx="7786800" cy="3500640"/>
        </p:xfrm>
        <a:graphic>
          <a:graphicData uri="http://schemas.openxmlformats.org/drawingml/2006/table">
            <a:tbl>
              <a:tblPr/>
              <a:tblGrid>
                <a:gridCol w="1976400"/>
                <a:gridCol w="3214800"/>
                <a:gridCol w="2595600"/>
              </a:tblGrid>
              <a:tr h="13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Светофор, оценочная шкала или + - 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ка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FD86-0DE1-46FB-A504-65DF812E4E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57120" y="135684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ешочек успе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«Недельные отчеты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у я научился за эту неде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вопросы остались для меня неяс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6" descr=""/>
          <p:cNvPicPr/>
          <p:nvPr/>
        </p:nvPicPr>
        <p:blipFill>
          <a:blip r:embed="rId1"/>
          <a:stretch/>
        </p:blipFill>
        <p:spPr>
          <a:xfrm>
            <a:off x="2571840" y="4286160"/>
            <a:ext cx="2857320" cy="257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Users\Lika\Desktop\49951.jpg"/>
          <p:cNvPicPr/>
          <p:nvPr/>
        </p:nvPicPr>
        <p:blipFill>
          <a:blip r:embed="rId2"/>
          <a:stretch/>
        </p:blipFill>
        <p:spPr>
          <a:xfrm>
            <a:off x="6215040" y="4500720"/>
            <a:ext cx="2255760" cy="2357280"/>
          </a:xfrm>
          <a:prstGeom prst="rect">
            <a:avLst/>
          </a:prstGeom>
          <a:ln w="0">
            <a:noFill/>
          </a:ln>
        </p:spPr>
      </p:pic>
      <p:sp>
        <p:nvSpPr>
          <p:cNvPr id="164" name="Круговая стрелка 6"/>
          <p:cNvSpPr/>
          <p:nvPr/>
        </p:nvSpPr>
        <p:spPr>
          <a:xfrm rot="20886000">
            <a:off x="4357440" y="3571920"/>
            <a:ext cx="2786040" cy="2643120"/>
          </a:xfrm>
          <a:prstGeom prst="pi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8831-4530-46D6-A12E-13B06310D8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1142640"/>
            <a:ext cx="80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едельные отчё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ик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дельные отчёты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обеспечивать быструю обратную связь, с помощью которой ученики сообщают, чему они научились за неделю и какие трудности у них возник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дельные отчёты» – это опросные листы, которые ученики заполняют раз в неделю, отвечая на 3 вопр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ему я научился за эту нед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опросы остались для меня неяс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опросы я задал бы ученикам, если бы я был    учителем, чтобы проверить, поняли ли они матери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1ECB-D7C5-47A6-AE5A-9AB12D57ECF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C51E-88F7-4017-AC38-2B65EAB0C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1692360" y="1628640"/>
            <a:ext cx="56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ивание может проходить по листу самооценки за каждую учебную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32400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очный лист «Списы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Ф.И. 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43040" y="1628640"/>
          <a:ext cx="7105680" cy="4389480"/>
        </p:xfrm>
        <a:graphic>
          <a:graphicData uri="http://schemas.openxmlformats.org/drawingml/2006/table">
            <a:tbl>
              <a:tblPr/>
              <a:tblGrid>
                <a:gridCol w="3610080"/>
                <a:gridCol w="1749240"/>
                <a:gridCol w="174636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Критерии оцени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Уче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Уч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Красная стро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ольшая бук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Т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Перенос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Грамо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Аккура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Отмет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395280" y="422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очный лист</a:t>
            </a:r>
            <a:r>
              <a:rPr b="1" i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«</a:t>
            </a: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днокоренные слова»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Ф.И.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1301760"/>
          <a:ext cx="8424720" cy="3583080"/>
        </p:xfrm>
        <a:graphic>
          <a:graphicData uri="http://schemas.openxmlformats.org/drawingml/2006/table">
            <a:tbl>
              <a:tblPr/>
              <a:tblGrid>
                <a:gridCol w="4724280"/>
                <a:gridCol w="1984320"/>
                <a:gridCol w="1716120"/>
              </a:tblGrid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подбирать однокоренные сло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находить корень в слов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определять значение сло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пользоваться алгоритм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ери и подчеркни нужный вариант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могу / сомневаюсь / не могу / определить, являются ли слова однокоренны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могу / сомневаюсь / не могу /различать слова с одним корнем, но разным значени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726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Цель:</a:t>
            </a:r>
            <a:br>
              <a:rPr sz="3200"/>
            </a:br>
            <a:br>
              <a:rPr sz="1800"/>
            </a:b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изучение эффективности методик и инструментов  критериального самооцени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br>
              <a:rPr sz="18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изучить технологию критериального самооценивания;</a:t>
            </a: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рассмотреть  оптимальные методики и инструменты критериального самооценивания.;</a:t>
            </a:r>
            <a:br>
              <a:rPr sz="2400"/>
            </a:b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- применить оценочные методики на практике в классе на  у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C98C-726B-4819-835B-A70142D026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395280" y="3492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очный лист «Безударные гласны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Ф.И.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989000"/>
          <a:ext cx="8280360" cy="2524320"/>
        </p:xfrm>
        <a:graphic>
          <a:graphicData uri="http://schemas.openxmlformats.org/drawingml/2006/table">
            <a:tbl>
              <a:tblPr/>
              <a:tblGrid>
                <a:gridCol w="5040360"/>
                <a:gridCol w="1655640"/>
                <a:gridCol w="158436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ние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ставить ударение в слов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находить безударную гласную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находить проверочное сл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 пользоваться алгоритм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971640" y="1341360"/>
            <a:ext cx="7272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ивание может проходить за группу заданий, ставится отдельная отметка в оценочный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лист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, а из «набранных» учеником оценок в течение урока, выводится средняя и выставляется в дневник и жур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468360" y="260280"/>
            <a:ext cx="8351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Примеры листов самооценки учащихся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 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.И. ученика _____________________________________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9640" y="1628640"/>
          <a:ext cx="8209080" cy="4907160"/>
        </p:xfrm>
        <a:graphic>
          <a:graphicData uri="http://schemas.openxmlformats.org/drawingml/2006/table">
            <a:tbl>
              <a:tblPr/>
              <a:tblGrid>
                <a:gridCol w="2952720"/>
                <a:gridCol w="5256360"/>
              </a:tblGrid>
              <a:tr h="351000">
                <a:tc gridSpan="2"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Незаконченное предло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rowSpan="8"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352440"/>
                          <a:tab algn="ctr" pos="2448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СЕГОДНЯ НА УРОК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я научил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ыло интере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ыло труд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могу похвалить одноклассников за то, ч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ольше всего мне понравилос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особенно хорошо мне удало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свой результат могу оценить как  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Рисунок 2" descr="u_doski_1.png"/>
          <p:cNvPicPr/>
          <p:nvPr/>
        </p:nvPicPr>
        <p:blipFill>
          <a:blip r:embed="rId1"/>
          <a:stretch/>
        </p:blipFill>
        <p:spPr>
          <a:xfrm>
            <a:off x="611280" y="2492280"/>
            <a:ext cx="27781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324000" y="0"/>
            <a:ext cx="84247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самооце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 ученика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413000"/>
          <a:ext cx="8353440" cy="4627440"/>
        </p:xfrm>
        <a:graphic>
          <a:graphicData uri="http://schemas.openxmlformats.org/drawingml/2006/table">
            <a:tbl>
              <a:tblPr/>
              <a:tblGrid>
                <a:gridCol w="4130640"/>
                <a:gridCol w="2165400"/>
                <a:gridCol w="2057400"/>
              </a:tblGrid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 уроке я рабо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воей работой на уроке я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рок для меня показа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 урок 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ое 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ху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атериал урока мне бы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понят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полез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интере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не понят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бесполез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скуч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домашнее задание мне каж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легк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интерес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труд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44444"/>
                          </a:solidFill>
                          <a:latin typeface="Times New Roman"/>
                          <a:ea typeface="Calibri"/>
                        </a:rPr>
                        <a:t>не интересн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95280" y="1268280"/>
            <a:ext cx="8280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На уроках литературного чтения  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ивание проходит  по критериям, выработанными совместно с детьми.  Эти критерия записаны как памятки по оцениванию и находятся у каждо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395280" y="476280"/>
            <a:ext cx="84978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Оценочный лист  «Чтение по роля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Своевременно начинал(а) читать свои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Читал(а) без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Работал(а) голосом, подбирал(а) правильную интон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Соблюдал(а)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Читал(а) выраз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95280" y="404640"/>
            <a:ext cx="8497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очный лист «Пересказ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вал(а) автора и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сказывал(а) самостоятельно , без помощи 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ние излагал(а)  последов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кажения при перес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чное употребление слов, вы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зительность пере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ьно ответил(а) на вс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меня всё получилось, я могу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нужно поработать н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требуется помощь (в чём?)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324000" y="404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оклассники также оценивают чтение наизусть , ставя +/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 оценивания одн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00080" y="1285920"/>
          <a:ext cx="7572600" cy="4591080"/>
        </p:xfrm>
        <a:graphic>
          <a:graphicData uri="http://schemas.openxmlformats.org/drawingml/2006/table">
            <a:tbl>
              <a:tblPr/>
              <a:tblGrid>
                <a:gridCol w="5735520"/>
                <a:gridCol w="590760"/>
                <a:gridCol w="787320"/>
                <a:gridCol w="459000"/>
              </a:tblGrid>
              <a:tr h="3052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л(а) автора и произ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тал(а) наизусть без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л(а) голосом, выделял(а) ключев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  чтения (медленный, средний, быстр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ал(а) настроения стихотво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блюдал(а) знаки препинания, делал(а) па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тал(а) достаточно гром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ушал(а) с интере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выразительного чтения стихотвор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 имя автора и название стихотворения –                           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, соблюдая ударение, паузы и знаки препинания –                                 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 громко –                              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 целыми словами –           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:                                                  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работы при выполнении опыта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43000" y="1214280"/>
          <a:ext cx="7572240" cy="5543640"/>
        </p:xfrm>
        <a:graphic>
          <a:graphicData uri="http://schemas.openxmlformats.org/drawingml/2006/table">
            <a:tbl>
              <a:tblPr/>
              <a:tblGrid>
                <a:gridCol w="965160"/>
                <a:gridCol w="4083120"/>
                <a:gridCol w="2523960"/>
              </a:tblGrid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л опыт и наблюд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л 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вал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ология критериального само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42960" y="1356840"/>
            <a:ext cx="82152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утей достижения современных образовательных результатов является формирование у детей такого свойства личности, ка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аивая умение оценивать собственную деятельность, ученик начинает анализировать выполняемые действия, ориентироваться в информации, видеть границы своего незнания, самостоятельно мыслить, выполнять разные учебные роли, оценивать свои возм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амооценки зависят взаимоотношения человека с окружающими, его критичность, требовательность к себе, отношение к успехам и неудачам. У младших школьников бывает адекватная, заниженная и завышенная самооц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A01-6BE9-402E-8997-6398C2925B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и оценки работы группы над проектом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14200" y="857160"/>
          <a:ext cx="8715600" cy="5778720"/>
        </p:xfrm>
        <a:graphic>
          <a:graphicData uri="http://schemas.openxmlformats.org/drawingml/2006/table">
            <a:tbl>
              <a:tblPr/>
              <a:tblGrid>
                <a:gridCol w="785880"/>
                <a:gridCol w="6715080"/>
                <a:gridCol w="12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тщательно изучили  тему прое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пределили обязанности участников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ли исследование по теме прое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9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ждый участник команды участвовал в сборе информ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ли в группе дружно, не ссорил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обрали необходимый изобразительный и музыкальный ряд для презентации проекта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авильно распределили время работы над проект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анализировали свои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здали презентацию  для представления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или свой проект перед аудитор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или на вопросы, заданные однокласс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количество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1285200" y="4932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ика «Маршрутный ли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E:\марш лист.PNG"/>
          <p:cNvPicPr/>
          <p:nvPr/>
        </p:nvPicPr>
        <p:blipFill>
          <a:blip r:embed="rId1"/>
          <a:stretch/>
        </p:blipFill>
        <p:spPr>
          <a:xfrm>
            <a:off x="214200" y="714240"/>
            <a:ext cx="87156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1285200" y="4932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ика «Маршрутный ли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539640" y="714240"/>
            <a:ext cx="72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оценочного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E:\оцен.PNG"/>
          <p:cNvPicPr/>
          <p:nvPr/>
        </p:nvPicPr>
        <p:blipFill>
          <a:blip r:embed="rId1"/>
          <a:stretch/>
        </p:blipFill>
        <p:spPr>
          <a:xfrm>
            <a:off x="428760" y="1500120"/>
            <a:ext cx="81914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95280" y="428760"/>
            <a:ext cx="8497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самооценивание позво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ся самому оценивать свой результат, условия и процесс его достиж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ксировать свое индивидуальное продвижение в предмете и достижении метапредметных результа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овать собственные действия по коррекции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и понимать критерии оценивания для прогнозирования результата, осознавать критерии успе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ть в рефлексии, оценивая себя и своих сверс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Char char="-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Char char="-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324000" y="333360"/>
            <a:ext cx="840240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оценивание позво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ить информацию о достижениях и проблемах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ть акцент на достижениях ученика, а не на проблемах, тем самым мотивируя его на учебную деяте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ить информацию о развитии способности ребенка к адекватной самооцен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ить не только результат, но также проанализировать процесс деятельност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менять уроки работы над ошибками уроками самоанализа 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 оценивание позволяет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500040" y="178596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ть доказательства уровня обученности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ть прогресс в обучении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ть ребенку поддержку в процессе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критериального оцен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егулярно обеспечивает обратную связь, комментируя деятельность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принимают активное участие в организации процесса собствен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именяет методики и инструменты обучения в зависимости от изменения результатов обучени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оздаёт условия для мотивации уче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азвивает у учеников способность к самооцениванию и улучшению собствен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B2BC-B6F1-48BC-AC9D-580D4F8572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ритериального оценивания способств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школьной тревожност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у учащихся навыков: самоанализа, самооценивания, ответственности за результаты своего труда, а не нака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611280" y="765000"/>
            <a:ext cx="73882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Виноградова Н.Ф. Контроль и оценка в начальной школе. // Начальная школа, №1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Ларина А. Б. Формирование познавательной самооценки учащихся в начальной школе: методическое пособие. – Калининград: КОИРО,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Цукерман Г.А. Оценка без отметки. Москва – Рига: П "Эксперимент"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928800" y="2000160"/>
            <a:ext cx="542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пасибо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за внима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76D9-89AB-4AE9-B7A8-E3C126292D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C:\Users\Lika\Desktop\оценивание\2.png"/>
          <p:cNvPicPr/>
          <p:nvPr/>
        </p:nvPicPr>
        <p:blipFill>
          <a:blip r:embed="rId1"/>
          <a:stretch/>
        </p:blipFill>
        <p:spPr>
          <a:xfrm>
            <a:off x="5929200" y="5238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Users\Lika\Desktop\оценивание\11.png"/>
          <p:cNvPicPr/>
          <p:nvPr/>
        </p:nvPicPr>
        <p:blipFill>
          <a:blip r:embed="rId2"/>
          <a:stretch/>
        </p:blipFill>
        <p:spPr>
          <a:xfrm>
            <a:off x="2786040" y="4500720"/>
            <a:ext cx="56437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Calibri"/>
              </a:rPr>
              <a:t>В  начальной школе система контроля и оценки должна быть направлена на решение важных социальных задач: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Развивать у школьников умение контролировать  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buClr>
                <a:srgbClr val="444444"/>
              </a:buClr>
              <a:buFont typeface="Times New Roman"/>
              <a:buAutoNum type="arabicPeriod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2. Критически  оценивать свою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3. Находить ошибки и пути их устра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>
              <a:lnSpc>
                <a:spcPct val="100000"/>
              </a:lnSpc>
              <a:spcBef>
                <a:spcPts val="601"/>
              </a:spcBef>
              <a:buClr>
                <a:srgbClr val="444444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4179-E077-493A-8FAD-7EEA0553B9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формирования 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ужно вооружить учащихся те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ям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я которые школьник будет осуществлять оценку и самооцен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 должен уметь соотносить знания свои, товарищей с заданным образцом, эталоном. Сверяя свои действия или конечный результат своей работы с эталоном, он учится оценивать сво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жность самооценки не только в том, что она позволяет увидеть ребёнку сильные и слабые стороны своей работы, но и в том, что в основе осмысления этих результатов он получает возможность выстроить собственную программу дальнейше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7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4603-CEA2-4AAB-8378-45110D55C2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2560"/>
            <a:ext cx="7772400" cy="8571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оцени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55640" y="1143000"/>
            <a:ext cx="788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процесс, основанный на сравнении учебных достижений учащихся с четко определенными, коллективно выработанными, заранее известными всем участникам образовательного процесса критериями, соответствующими целям и содержанию образования, способствующими формированию учебно-познавательной компетент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критериального оценивания заключается не в отказе от отметки.  Критериальное оценивание позволяет ученику планировать свою учебную деятельность, определять цели, задачи, пути их достижения, оценивать результат своего труда, повышать качество сво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99680" y="428760"/>
            <a:ext cx="83581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Критериальное самооценивание</a:t>
            </a: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позволяет мотивировать всех учеников.  Критерии разрабатываются вместе с учениками, а не даются в   готовом виде,</a:t>
            </a:r>
            <a:r>
              <a:rPr b="0" lang="ru-RU" sz="2400" spc="-1" strike="noStrike">
                <a:solidFill>
                  <a:srgbClr val="444444"/>
                </a:solidFill>
                <a:latin typeface="Times New Roman"/>
                <a:ea typeface="Calibri"/>
              </a:rPr>
              <a:t> должны быть однозначными и предельно четкими. В таком случае ребёнок будет учиться видеть свою работу как сумму многих умений, каждое из которых имеет свой критерий оцен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Критериальное взаимооценивание</a:t>
            </a: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  расширяет представления учащихся о своих достижениях, формирует способности к диалогу и коммуникации, учит аргументировано высказывать свои суждения, планировать свою деятельность по улучшению своей работы.</a:t>
            </a: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9224-E43D-496D-A417-549CF6FBB3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альное самооценивание использу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упражн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, парная, группов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я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, лаборатор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, проект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Техники самооцен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акончи предлож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ните свой ответ со с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теперь зна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хочу еще узн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12A4-F638-4C07-A645-0463E80840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 Windows</cp:lastModifiedBy>
  <dcterms:modified xsi:type="dcterms:W3CDTF">2022-10-30T14:58:23Z</dcterms:modified>
  <cp:revision>195</cp:revision>
  <dc:subject/>
  <dc:title>Diapositiva 1</dc:title>
</cp:coreProperties>
</file>