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65C2-CC1C-4342-A536-86E469A4DC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Элементы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Красная ст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Большая бук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Точ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Перенос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Грам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Аккура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Отм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45BE-3A24-4A11-A116-EE283726B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2F94-F3CB-4A3B-A0B6-BF5DA1457A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35D-FFFF-492F-B936-C2723070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C0F2-2C81-4F8F-8343-C33019AC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C37-D510-4D54-8B66-2F842EE3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599-3BE1-40C0-8340-908232F9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77E2-54D5-479C-B0C5-9DFBE583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A069-9A45-4586-ABC1-7A1D6894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BA30-E0D2-4B7E-9D50-D0A3EF59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4C30-1216-4DDF-93AE-88483A03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28E8-799C-4541-80FC-64C31596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7F63-9BD4-4EF3-A791-42B8C89A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477A-944C-43AC-A675-3AC7E907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D02-1FFC-440C-8A89-A9C4BE6E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3035-A957-4394-BC72-BED896BD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5553-D359-448E-AC4D-3DEC027B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A3BD-62DF-4115-B5F3-D24A229C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3883-0191-4B08-B151-BBA84471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67B6-AA28-4E82-8E5A-EF5353E3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AB8-F35C-445C-918A-77C20901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014-7392-4BA3-AE9B-E5E10BCF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7DB-22DC-4A9A-AE08-AC4F82C7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127-E298-4571-A8F4-1FC7BA3E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9D0-6353-41BE-8759-91A51046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2EA-4950-4660-91E4-B99A4E26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B56-D571-4681-B426-BB27AD86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42FD-A38B-4ACB-9870-EF7677C0B9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CE97-3B71-43ED-8D69-7E07324DD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Критериальное самоценивание на уроках в начальной школ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0" y="4857840"/>
            <a:ext cx="8929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сова Ларис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:\Users\Lika\Desktop\оценивание\2.png"/>
          <p:cNvPicPr/>
          <p:nvPr/>
        </p:nvPicPr>
        <p:blipFill>
          <a:blip r:embed="rId1"/>
          <a:stretch/>
        </p:blipFill>
        <p:spPr>
          <a:xfrm>
            <a:off x="7215120" y="51436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ики самооцени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ы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фиксация оценки производится следующим образом: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+» - хорошо выполн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?» - есть затруднения 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«-» - не справился с работой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DE33-4126-4453-B22C-238F54FE16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8286840" cy="15001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ики самооцени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1835280" y="2421000"/>
            <a:ext cx="11953440" cy="3887640"/>
            <a:chOff x="1835280" y="2421000"/>
            <a:chExt cx="11953440" cy="3887640"/>
          </a:xfrm>
        </p:grpSpPr>
        <p:sp>
          <p:nvSpPr>
            <p:cNvPr id="118" name="AutoShape 5"/>
            <p:cNvSpPr/>
            <p:nvPr/>
          </p:nvSpPr>
          <p:spPr>
            <a:xfrm>
              <a:off x="5609880" y="2421000"/>
              <a:ext cx="8178840" cy="38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"/>
            <p:cNvSpPr/>
            <p:nvPr/>
          </p:nvSpPr>
          <p:spPr>
            <a:xfrm>
              <a:off x="2047680" y="4373640"/>
              <a:ext cx="720" cy="145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 flipV="1">
              <a:off x="5421600" y="4373640"/>
              <a:ext cx="38916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 flipV="1">
              <a:off x="1843200" y="5426640"/>
              <a:ext cx="38952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 flipV="1">
              <a:off x="4194360" y="4697640"/>
              <a:ext cx="38952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>
              <a:off x="3172320" y="4373640"/>
              <a:ext cx="720" cy="145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>
              <a:off x="4399200" y="4373640"/>
              <a:ext cx="1080" cy="145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2"/>
            <p:cNvSpPr/>
            <p:nvPr/>
          </p:nvSpPr>
          <p:spPr>
            <a:xfrm>
              <a:off x="5626080" y="4373640"/>
              <a:ext cx="720" cy="145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 flipV="1">
              <a:off x="1843200" y="4373640"/>
              <a:ext cx="38952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V="1">
              <a:off x="4194360" y="5426640"/>
              <a:ext cx="38952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V="1">
              <a:off x="1843200" y="4697640"/>
              <a:ext cx="38952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 flipV="1">
              <a:off x="2967840" y="5426640"/>
              <a:ext cx="38916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 flipV="1">
              <a:off x="2967840" y="4373640"/>
              <a:ext cx="38916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 flipV="1">
              <a:off x="4194360" y="4373640"/>
              <a:ext cx="38952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 flipV="1">
              <a:off x="5421600" y="5426640"/>
              <a:ext cx="38916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 flipV="1">
              <a:off x="5421600" y="4697640"/>
              <a:ext cx="38916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4194360" y="4535640"/>
              <a:ext cx="408960" cy="324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 flipH="1">
              <a:off x="4194360" y="4535640"/>
              <a:ext cx="408960" cy="324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3"/>
            <p:cNvSpPr/>
            <p:nvPr/>
          </p:nvSpPr>
          <p:spPr>
            <a:xfrm>
              <a:off x="5421600" y="4778640"/>
              <a:ext cx="408600" cy="2426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4"/>
            <p:cNvSpPr/>
            <p:nvPr/>
          </p:nvSpPr>
          <p:spPr>
            <a:xfrm flipH="1">
              <a:off x="5421240" y="4778640"/>
              <a:ext cx="408600" cy="2426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 flipH="1">
              <a:off x="3072960" y="4238640"/>
              <a:ext cx="227160" cy="2786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>
              <a:off x="3027960" y="4238640"/>
              <a:ext cx="275760" cy="270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7"/>
            <p:cNvSpPr/>
            <p:nvPr/>
          </p:nvSpPr>
          <p:spPr>
            <a:xfrm>
              <a:off x="1835280" y="5867640"/>
              <a:ext cx="408960" cy="2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8"/>
            <p:cNvSpPr/>
            <p:nvPr/>
          </p:nvSpPr>
          <p:spPr>
            <a:xfrm>
              <a:off x="3027960" y="5849640"/>
              <a:ext cx="408600" cy="2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9"/>
            <p:cNvSpPr/>
            <p:nvPr/>
          </p:nvSpPr>
          <p:spPr>
            <a:xfrm>
              <a:off x="4209480" y="5849640"/>
              <a:ext cx="408600" cy="2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30"/>
            <p:cNvSpPr/>
            <p:nvPr/>
          </p:nvSpPr>
          <p:spPr>
            <a:xfrm>
              <a:off x="5439600" y="5858640"/>
              <a:ext cx="408600" cy="2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30"/>
          <p:cNvSpPr/>
          <p:nvPr/>
        </p:nvSpPr>
        <p:spPr>
          <a:xfrm>
            <a:off x="214200" y="2071800"/>
            <a:ext cx="85726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олшебные линеечки»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Г.А. Цукерма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ики самооцени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356840"/>
            <a:ext cx="8643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ветофор»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ивание выполнения заданий с помощью цветовых сигнал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 не допустил ни одной ошибки и доволен своей работ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–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боте допущены неточности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–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ущено много ошибок, работой не дово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4"/>
          <p:cNvSpPr/>
          <p:nvPr/>
        </p:nvSpPr>
        <p:spPr>
          <a:xfrm>
            <a:off x="571680" y="2286000"/>
            <a:ext cx="642600" cy="5716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5"/>
          <p:cNvSpPr/>
          <p:nvPr/>
        </p:nvSpPr>
        <p:spPr>
          <a:xfrm>
            <a:off x="571680" y="3286080"/>
            <a:ext cx="64260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6"/>
          <p:cNvSpPr/>
          <p:nvPr/>
        </p:nvSpPr>
        <p:spPr>
          <a:xfrm>
            <a:off x="571680" y="3929040"/>
            <a:ext cx="64260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017B-7133-4CE0-BECD-14898536DB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ики самооцени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Лестница успеха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майл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133951_html_24155b68"/>
          <p:cNvPicPr/>
          <p:nvPr/>
        </p:nvPicPr>
        <p:blipFill>
          <a:blip r:embed="rId1"/>
          <a:stretch/>
        </p:blipFill>
        <p:spPr>
          <a:xfrm>
            <a:off x="3357720" y="1571760"/>
            <a:ext cx="5572080" cy="1500120"/>
          </a:xfrm>
          <a:prstGeom prst="rect">
            <a:avLst/>
          </a:prstGeom>
          <a:ln w="0">
            <a:noFill/>
          </a:ln>
        </p:spPr>
      </p:pic>
      <p:sp>
        <p:nvSpPr>
          <p:cNvPr id="15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FB98-E444-47FD-8AAD-09CE16D2A4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5" descr=""/>
          <p:cNvPicPr/>
          <p:nvPr/>
        </p:nvPicPr>
        <p:blipFill>
          <a:blip r:embed="rId2"/>
          <a:stretch/>
        </p:blipFill>
        <p:spPr>
          <a:xfrm>
            <a:off x="4000680" y="3429000"/>
            <a:ext cx="3357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ики самооцени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ст 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57160" y="2000160"/>
          <a:ext cx="7786800" cy="3500640"/>
        </p:xfrm>
        <a:graphic>
          <a:graphicData uri="http://schemas.openxmlformats.org/drawingml/2006/table">
            <a:tbl>
              <a:tblPr/>
              <a:tblGrid>
                <a:gridCol w="1976400"/>
                <a:gridCol w="3214800"/>
                <a:gridCol w="2595600"/>
              </a:tblGrid>
              <a:tr h="13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Светофор, оценочная шкала или + - 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ценка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5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F9EC-5086-404D-AE41-3638B22EEC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ики самооцени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57120" y="1356840"/>
            <a:ext cx="82296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ешочек успе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«Недельные отчеты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у я научился за эту недел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вопросы остались для меня неяс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6" descr=""/>
          <p:cNvPicPr/>
          <p:nvPr/>
        </p:nvPicPr>
        <p:blipFill>
          <a:blip r:embed="rId1"/>
          <a:stretch/>
        </p:blipFill>
        <p:spPr>
          <a:xfrm>
            <a:off x="2571840" y="4286160"/>
            <a:ext cx="2857320" cy="2571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C:\Users\Lika\Desktop\49951.jpg"/>
          <p:cNvPicPr/>
          <p:nvPr/>
        </p:nvPicPr>
        <p:blipFill>
          <a:blip r:embed="rId2"/>
          <a:stretch/>
        </p:blipFill>
        <p:spPr>
          <a:xfrm>
            <a:off x="6215040" y="4500720"/>
            <a:ext cx="2255760" cy="2357280"/>
          </a:xfrm>
          <a:prstGeom prst="rect">
            <a:avLst/>
          </a:prstGeom>
          <a:ln w="0">
            <a:noFill/>
          </a:ln>
        </p:spPr>
      </p:pic>
      <p:sp>
        <p:nvSpPr>
          <p:cNvPr id="164" name="Круговая стрелка 6"/>
          <p:cNvSpPr/>
          <p:nvPr/>
        </p:nvSpPr>
        <p:spPr>
          <a:xfrm rot="20886000">
            <a:off x="4357440" y="3571920"/>
            <a:ext cx="2786040" cy="2643120"/>
          </a:xfrm>
          <a:prstGeom prst="pi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5EED-89AC-4493-8287-46C147D646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ики самооценива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1142640"/>
            <a:ext cx="80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едельные отчёт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методик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дельные отчёты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обеспечивать быструю обратную связь, с помощью которой ученики сообщают, чему они научились за неделю и какие трудности у них возник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дельные отчёты» – это опросные листы, которые ученики заполняют раз в неделю, отвечая на 3 вопро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ему я научился за эту недел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вопросы остались для меня неяс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вопросы я задал бы ученикам, если бы я был    учителем, чтобы проверить, поняли ли они матери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D516-3B78-461A-BB08-A438E21A7FF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9355-4221-48F5-BBAF-73AEC44943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1692360" y="1628640"/>
            <a:ext cx="56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Times New Roman"/>
                <a:ea typeface="Calibri"/>
              </a:rPr>
              <a:t>Оценивание может проходить по листу самооценки за каждую учебную зад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324000" y="333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Оценочный лист «Списы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Ф.И. 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643040" y="1628640"/>
          <a:ext cx="7105680" cy="4389480"/>
        </p:xfrm>
        <a:graphic>
          <a:graphicData uri="http://schemas.openxmlformats.org/drawingml/2006/table">
            <a:tbl>
              <a:tblPr/>
              <a:tblGrid>
                <a:gridCol w="3610080"/>
                <a:gridCol w="1749240"/>
                <a:gridCol w="1746360"/>
              </a:tblGrid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Критерии оцени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Учен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Учит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Красная стро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Большая бук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Т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Перенос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Грамо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Аккура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Отмет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"/>
          <p:cNvSpPr/>
          <p:nvPr/>
        </p:nvSpPr>
        <p:spPr>
          <a:xfrm>
            <a:off x="395280" y="422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Оценочный лист</a:t>
            </a:r>
            <a:r>
              <a:rPr b="1" i="1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 «</a:t>
            </a:r>
            <a:r>
              <a:rPr b="1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Однокоренные слова»</a:t>
            </a: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Ф.И.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24000" y="1301760"/>
          <a:ext cx="8424720" cy="3583080"/>
        </p:xfrm>
        <a:graphic>
          <a:graphicData uri="http://schemas.openxmlformats.org/drawingml/2006/table">
            <a:tbl>
              <a:tblPr/>
              <a:tblGrid>
                <a:gridCol w="4724280"/>
                <a:gridCol w="1984320"/>
                <a:gridCol w="1716120"/>
              </a:tblGrid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е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е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 подбирать однокоренные сло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 находить корень в слов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 определять значение сло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 пользоваться алгоритм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бери и подчеркни нужный вариант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могу / сомневаюсь / не могу / определить, являются ли слова однокоренны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могу / сомневаюсь / не могу /различать слова с одним корнем, но разным значени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726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Цель:</a:t>
            </a:r>
            <a:br>
              <a:rPr sz="3200"/>
            </a:br>
            <a:br>
              <a:rPr sz="1800"/>
            </a:b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изучение эффективности методик и инструментов  критериального самооцениван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Задачи:</a:t>
            </a:r>
            <a:br>
              <a:rPr sz="3200"/>
            </a:br>
            <a:br>
              <a:rPr sz="1800"/>
            </a:b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 изучить технологию критериального самооценивания;</a:t>
            </a:r>
            <a:br>
              <a:rPr sz="2400"/>
            </a:b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 рассмотреть  оптимальные методики и инструменты критериального самооценивания.;</a:t>
            </a:r>
            <a:br>
              <a:rPr sz="2400"/>
            </a:b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 применить оценочные методики на практике в классе на  у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9857-E5FB-4A41-BCC1-632026EFED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395280" y="3492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Оценочный лист «Безударные гласны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Ф.И.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989000"/>
          <a:ext cx="8280360" cy="2524320"/>
        </p:xfrm>
        <a:graphic>
          <a:graphicData uri="http://schemas.openxmlformats.org/drawingml/2006/table">
            <a:tbl>
              <a:tblPr/>
              <a:tblGrid>
                <a:gridCol w="5040360"/>
                <a:gridCol w="1655640"/>
                <a:gridCol w="1584360"/>
              </a:tblGrid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е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е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 ставить ударение в слова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 находить безударную гласную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 находить проверочное сло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 пользоваться алгоритм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971640" y="1341360"/>
            <a:ext cx="7272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Оценивание может проходить за группу заданий, ставится отдельная отметка в оценочный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лист</a:t>
            </a: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, а из «набранных» учеником оценок в течение урока, выводится средняя и выставляется в дневник и жур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2"/>
          <p:cNvSpPr/>
          <p:nvPr/>
        </p:nvSpPr>
        <p:spPr>
          <a:xfrm>
            <a:off x="468360" y="260280"/>
            <a:ext cx="8351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Примеры листов самооценки учащихся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ст самооцен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.И. ученика _____________________________________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39640" y="1628640"/>
          <a:ext cx="8209080" cy="4907160"/>
        </p:xfrm>
        <a:graphic>
          <a:graphicData uri="http://schemas.openxmlformats.org/drawingml/2006/table">
            <a:tbl>
              <a:tblPr/>
              <a:tblGrid>
                <a:gridCol w="2952720"/>
                <a:gridCol w="5256360"/>
              </a:tblGrid>
              <a:tr h="351000">
                <a:tc gridSpan="2"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Незаконченное предло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rowSpan="8"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52440"/>
                          <a:tab algn="ctr" pos="2448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СЕГОДНЯ НА УРОК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я научил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было интерес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было труд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могу похвалить одноклассников за то, чт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больше всего мне понравилос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особенно хорошо мне удало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свой результат могу оценить как  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Рисунок 2" descr="u_doski_1.png"/>
          <p:cNvPicPr/>
          <p:nvPr/>
        </p:nvPicPr>
        <p:blipFill>
          <a:blip r:embed="rId1"/>
          <a:stretch/>
        </p:blipFill>
        <p:spPr>
          <a:xfrm>
            <a:off x="611280" y="2492280"/>
            <a:ext cx="27781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324000" y="0"/>
            <a:ext cx="84247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самооце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 ученика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1413000"/>
          <a:ext cx="8353440" cy="4627440"/>
        </p:xfrm>
        <a:graphic>
          <a:graphicData uri="http://schemas.openxmlformats.org/drawingml/2006/table">
            <a:tbl>
              <a:tblPr/>
              <a:tblGrid>
                <a:gridCol w="4130640"/>
                <a:gridCol w="2165400"/>
                <a:gridCol w="2057400"/>
              </a:tblGrid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а уроке я работ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воей работой на уроке я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ово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рок для меня показал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н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 урок 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ст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мое настр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луч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ху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материал урока мне бы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понят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полез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интерес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не понят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бесполез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скуч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домашнее задание мне каж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легк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интересн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трудн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не интересн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395280" y="1268280"/>
            <a:ext cx="8280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444"/>
                </a:solidFill>
                <a:latin typeface="Times New Roman"/>
                <a:ea typeface="Calibri"/>
              </a:rPr>
              <a:t>На уроках литературного чтения  </a:t>
            </a: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оценивание проходит  по критериям, выработанными совместно с детьми.  Эти критерия записаны как памятки по оцениванию и находятся у каждого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444"/>
                </a:solidFill>
                <a:latin typeface="Times New Roman"/>
                <a:ea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395280" y="476280"/>
            <a:ext cx="84978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444"/>
                </a:solidFill>
                <a:latin typeface="Times New Roman"/>
                <a:ea typeface="Calibri"/>
              </a:rPr>
              <a:t>Оценочный лист  «Чтение по роля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Своевременно начинал(а) читать свои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Читал(а) без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Работал(а) голосом, подбирал(а) правильную интон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Соблюдал(а) знаки преп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Читал(а) выраз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395280" y="404640"/>
            <a:ext cx="84978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очный лист «Пересказ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вал(а) автора и 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сказывал(а) самостоятельно , без помощи 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держание излагал(а)  последова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кажения при переск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чное употребление слов, выра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разительность перес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ьно ответил(а) на вс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меня всё получилось, я могу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нужно поработать на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требуется помощь (в чём?)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324000" y="404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ноклассники также оценивают чтение наизусть , ставя +/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ст оценивания однокласс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000080" y="1285920"/>
          <a:ext cx="7572600" cy="4591080"/>
        </p:xfrm>
        <a:graphic>
          <a:graphicData uri="http://schemas.openxmlformats.org/drawingml/2006/table">
            <a:tbl>
              <a:tblPr/>
              <a:tblGrid>
                <a:gridCol w="5735520"/>
                <a:gridCol w="590760"/>
                <a:gridCol w="787320"/>
                <a:gridCol w="459000"/>
              </a:tblGrid>
              <a:tr h="3052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л(а) автора и произве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тал(а) наизусть без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л(а) голосом, выделял(а) ключевые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 чтения (медленный, средний, быстры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дал(а) настроения стихотво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блюдал(а) знаки препинания, делал(а) пау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тал(а) достаточно гром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ушал(а) с интерес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выразительного чтения стихотвор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ал имя автора и название стихотворения –                            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, соблюдая ударение, паузы и знаки препинания –                                 2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 громко –                               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 целыми словами –            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:                                                  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работы при выполнении опыта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43000" y="1214280"/>
          <a:ext cx="7572240" cy="5543640"/>
        </p:xfrm>
        <a:graphic>
          <a:graphicData uri="http://schemas.openxmlformats.org/drawingml/2006/table">
            <a:tbl>
              <a:tblPr/>
              <a:tblGrid>
                <a:gridCol w="965160"/>
                <a:gridCol w="4083120"/>
                <a:gridCol w="2523960"/>
              </a:tblGrid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л опыт и наблюд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л 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вал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ология критериального само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42960" y="1356840"/>
            <a:ext cx="82152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путей достижения современных образовательных результатов является формирование у детей такого свойства личности, ка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аивая умение оценивать собственную деятельность, ученик начинает анализировать выполняемые действия, ориентироваться в информации, видеть границы своего незнания, самостоятельно мыслить, выполнять разные учебные роли, оценивать свои возмо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амооценки зависят взаимоотношения человека с окружающими, его критичность, требовательность к себе, отношение к успехам и неудачам. У младших школьников бывает адекватная, заниженная и завышенная самооц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2ADE-850E-4ED3-80A9-D49CD26E8F1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ерии оценки работы группы над проектом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14200" y="857160"/>
          <a:ext cx="8715600" cy="5778720"/>
        </p:xfrm>
        <a:graphic>
          <a:graphicData uri="http://schemas.openxmlformats.org/drawingml/2006/table">
            <a:tbl>
              <a:tblPr/>
              <a:tblGrid>
                <a:gridCol w="785880"/>
                <a:gridCol w="6715080"/>
                <a:gridCol w="12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ы тщательно изучили  тему проек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пределили обязанности участников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ли исследование по теме проек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9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ждый участник команды участвовал в сборе информ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ли в группе дружно, не ссорил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обрали необходимый изобразительный и музыкальный ряд для презентации проекта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авильно распределили время работы над проект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анализировали свои дейст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здали презентацию  для представления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или свой проект перед аудитор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или на вопросы, заданные одноклассни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количество бал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1285200" y="4932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ика «Маршрутный лис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E:\марш лист.PNG"/>
          <p:cNvPicPr/>
          <p:nvPr/>
        </p:nvPicPr>
        <p:blipFill>
          <a:blip r:embed="rId1"/>
          <a:stretch/>
        </p:blipFill>
        <p:spPr>
          <a:xfrm>
            <a:off x="214200" y="714240"/>
            <a:ext cx="87156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1285200" y="4932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ика «Маршрутный лис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539640" y="714240"/>
            <a:ext cx="72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оценочного 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E:\оцен.PNG"/>
          <p:cNvPicPr/>
          <p:nvPr/>
        </p:nvPicPr>
        <p:blipFill>
          <a:blip r:embed="rId1"/>
          <a:stretch/>
        </p:blipFill>
        <p:spPr>
          <a:xfrm>
            <a:off x="428760" y="1500120"/>
            <a:ext cx="819144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395280" y="428760"/>
            <a:ext cx="84978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альное самооценивание позво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ься самому оценивать свой результат, условия и процесс его достиж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ксировать свое индивидуальное продвижение в предмете и достижении метапредметных результат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ировать собственные действия по коррекции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и понимать критерии оценивания для прогнозирования результата, осознавать критерии успе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овать в рефлексии, оценивая себя и своих сверст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Times New Roman"/>
              <a:buChar char="-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Times New Roman"/>
              <a:buChar char="-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324000" y="333360"/>
            <a:ext cx="840240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альное оценивание позво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учить информацию о достижениях и проблемах уча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лать акцент на достижениях ученика, а не на проблемах, тем самым мотивируя его на учебную деятель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учить информацию о развитии способности ребенка к адекватной самооцен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рить не только результат, но также проанализировать процесс деятельности уче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менять уроки работы над ошибками уроками самоанализа свои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альное  оценивание позволяет: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500040" y="1785960"/>
            <a:ext cx="82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ть доказательства уровня обученности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ть прогресс в обучении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ть ребенку поддержку в процессе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критериального оцен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егулярно обеспечивает обратную связь, комментируя деятельность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принимают активное участие в организации процесса собственного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рименяет методики и инструменты обучения в зависимости от изменения результатов обучени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создаёт условия для мотивации уче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азвивает у учеников способность к самооцениванию и улучшению собственн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F6A1-D93D-40D3-B202-4D2CC549CC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критериального оценивания способству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ю школьной тревожности уче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ю у учащихся навыков: самоанализа, самооценивания, ответственности за результаты своего труда, а не наказ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611280" y="765000"/>
            <a:ext cx="73882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444"/>
                </a:solidFill>
                <a:latin typeface="Times New Roman"/>
                <a:ea typeface="Calibri"/>
              </a:rPr>
              <a:t>Использован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Times New Roman"/>
              <a:buAutoNum type="arabicPeriod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Виноградова Н.Ф. Контроль и оценка в начальной школе. // Начальная школа, №15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Times New Roman"/>
              <a:buAutoNum type="arabicPeriod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Ларина А. Б. Формирование познавательной самооценки учащихся в начальной школе: методическое пособие. – Калининград: КОИРО, 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Times New Roman"/>
              <a:buAutoNum type="arabicPeriod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Цукерман Г.А. Оценка без отметки. Москва – Рига: П "Эксперимент"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444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928800" y="2000160"/>
            <a:ext cx="542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пасибо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 за внима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F816-250F-4007-BF73-BFEDDB79BA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C:\Users\Lika\Desktop\оценивание\2.png"/>
          <p:cNvPicPr/>
          <p:nvPr/>
        </p:nvPicPr>
        <p:blipFill>
          <a:blip r:embed="rId1"/>
          <a:stretch/>
        </p:blipFill>
        <p:spPr>
          <a:xfrm>
            <a:off x="5929200" y="52380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C:\Users\Lika\Desktop\оценивание\11.png"/>
          <p:cNvPicPr/>
          <p:nvPr/>
        </p:nvPicPr>
        <p:blipFill>
          <a:blip r:embed="rId2"/>
          <a:stretch/>
        </p:blipFill>
        <p:spPr>
          <a:xfrm>
            <a:off x="2786040" y="4500720"/>
            <a:ext cx="564372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444"/>
                </a:solidFill>
                <a:latin typeface="Times New Roman"/>
                <a:ea typeface="Calibri"/>
              </a:rPr>
              <a:t>В  начальной школе система контроля и оценки должна быть направлена на решение важных социальных задач: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9280" algn="just">
              <a:lnSpc>
                <a:spcPct val="100000"/>
              </a:lnSpc>
              <a:buClr>
                <a:srgbClr val="444444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 algn="just">
              <a:lnSpc>
                <a:spcPct val="100000"/>
              </a:lnSpc>
              <a:buClr>
                <a:srgbClr val="444444"/>
              </a:buClr>
              <a:buFont typeface="Times New Roman"/>
              <a:buAutoNum type="arabicPeriod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Развивать у школьников умение контролировать   себ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 algn="just">
              <a:lnSpc>
                <a:spcPct val="100000"/>
              </a:lnSpc>
              <a:buClr>
                <a:srgbClr val="444444"/>
              </a:buClr>
              <a:buFont typeface="Times New Roman"/>
              <a:buAutoNum type="arabicPeriod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2. Критически  оценивать свою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3. Находить ошибки и пути их устра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>
              <a:lnSpc>
                <a:spcPct val="100000"/>
              </a:lnSpc>
              <a:spcBef>
                <a:spcPts val="601"/>
              </a:spcBef>
              <a:buClr>
                <a:srgbClr val="444444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2AA3-21F2-4EEB-8FEA-66532D2A48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9280"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формирования самооцен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ужно вооружить учащихся тем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ям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я которые школьник будет осуществлять оценку и самооцен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 должен уметь соотносить знания свои, товарищей с заданным образцом, эталоном. Сверяя свои действия или конечный результат своей работы с эталоном, он учится оценивать сво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жность самооценки не только в том, что она позволяет увидеть ребёнку сильные и слабые стороны своей работы, но и в том, что в основе осмысления этих результатов он получает возможность выстроить собственную программу дальнейше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FBB1-6A2C-4AEF-A3F2-CBAA96726B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42560"/>
            <a:ext cx="7772400" cy="8571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альное оцени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55640" y="1143000"/>
            <a:ext cx="788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процесс, основанный на сравнении учебных достижений учащихся с четко определенными, коллективно выработанными, заранее известными всем участникам образовательного процесса критериями, соответствующими целям и содержанию образования, способствующими формированию учебно-познавательной компетентност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 критериального оценивания заключается не в отказе от отметки.  Критериальное оценивание позволяет ученику планировать свою учебную деятельность, определять цели, задачи, пути их достижения, оценивать результат своего труда, повышать качество сво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99680" y="428760"/>
            <a:ext cx="83581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Критериальное самооценивание</a:t>
            </a: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позволяет мотивировать всех учеников.  Критерии разрабатываются вместе с учениками, а не даются в   готовом виде,</a:t>
            </a: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 должны быть однозначными и предельно четкими. В таком случае ребёнок будет учиться видеть свою работу как сумму многих умений, каждое из которых имеет свой критерий оцен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Критериальное взаимооценивание</a:t>
            </a: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  расширяет представления учащихся о своих достижениях, формирует способности к диалогу и коммуникации, учит аргументировано высказывать свои суждения, планировать свою деятельность по улучшению своей работы.</a:t>
            </a:r>
            <a:r>
              <a:rPr b="0" lang="ru-RU" sz="2400" spc="-1" strike="noStrike">
                <a:solidFill>
                  <a:srgbClr val="19194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80A1-D98E-4336-B8D4-BEB53D5B0DA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альное самооценивание использу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упражн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роизве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, парная, группов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я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, лабораторн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, проект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ики самооцен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акончи предлож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чните свой ответ со сл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узн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теперь зна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 было интерес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хочу еще узн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2EAB-947F-464A-857C-1FE890F5E65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Пользователь Windows</cp:lastModifiedBy>
  <dcterms:modified xsi:type="dcterms:W3CDTF">2022-10-30T14:58:23Z</dcterms:modified>
  <cp:revision>195</cp:revision>
  <dc:subject/>
  <dc:title>Diapositiva 1</dc:title>
</cp:coreProperties>
</file>