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0C2B-8D95-4331-A7D7-960F7EA25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1B8-304F-4C88-BB11-FE25355C9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066F-B0C3-4A0C-B8A9-D2A537C80E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7D9-1B6A-4C22-88F0-CF7BD02A89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372-D007-46DC-B7DA-35E68F9996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B2F-797A-4AD1-9639-7F93E56AD7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E25D-A476-494B-AFDB-B48F90378A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837E-0069-4A64-8982-AABF993DF4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14B-A66C-4F5D-8EDC-BE088384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CCC-732B-4BC0-9201-C43EFE9D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751-2CA7-4DB9-B64A-50B233A9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0B1-2C20-425E-B233-B42F16FC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CE5-08C1-4250-B845-3A70FAE8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AE7-8F74-43D8-B67E-4FB0C1EB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CE8-3D3E-4695-8C78-933F49C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899-EB87-4440-8BEA-F14E7BE0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7DF-E8AA-442C-9E5B-3DC16D1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876-105D-48EB-9D3A-E8EF7DDB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37F-AFD6-4418-8C6C-A7B5AFA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078-1959-4EBF-B0E2-C2823FFA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2E0-56FF-45E3-85DF-A4E4202B6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530360" y="317520"/>
            <a:ext cx="6272280" cy="217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:\клипарты\животные\63048ff6898f.png"/>
          <p:cNvPicPr/>
          <p:nvPr/>
        </p:nvPicPr>
        <p:blipFill>
          <a:blip r:embed="rId2"/>
          <a:stretch/>
        </p:blipFill>
        <p:spPr>
          <a:xfrm>
            <a:off x="2987640" y="2335320"/>
            <a:ext cx="3355920" cy="3365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098800" y="5730840"/>
            <a:ext cx="53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64a2"/>
                </a:solidFill>
                <a:latin typeface="Arial"/>
              </a:rPr>
              <a:t>Автор презентации:  учитель начальных классов гимназии №1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64a2"/>
                </a:solidFill>
                <a:latin typeface="Arial"/>
              </a:rPr>
              <a:t>Ковал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хема 4" descr=""/>
          <p:cNvPicPr/>
          <p:nvPr/>
        </p:nvPicPr>
        <p:blipFill>
          <a:blip r:embed="rId1"/>
          <a:stretch/>
        </p:blipFill>
        <p:spPr>
          <a:xfrm>
            <a:off x="414360" y="426960"/>
            <a:ext cx="7961400" cy="626580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766764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6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5" descr=""/>
          <p:cNvPicPr/>
          <p:nvPr/>
        </p:nvPicPr>
        <p:blipFill>
          <a:blip r:embed="rId1"/>
          <a:stretch/>
        </p:blipFill>
        <p:spPr>
          <a:xfrm>
            <a:off x="1060560" y="274680"/>
            <a:ext cx="6761160" cy="71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G:\клипарты\еда раст\0_5b279_f502d982_XXXL.png"/>
          <p:cNvPicPr/>
          <p:nvPr/>
        </p:nvPicPr>
        <p:blipFill>
          <a:blip r:embed="rId2"/>
          <a:stretch/>
        </p:blipFill>
        <p:spPr>
          <a:xfrm>
            <a:off x="880920" y="3517920"/>
            <a:ext cx="4095720" cy="305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клипарты\еда раст\3d2970bfa509.jpg"/>
          <p:cNvPicPr/>
          <p:nvPr/>
        </p:nvPicPr>
        <p:blipFill>
          <a:blip r:embed="rId3"/>
          <a:stretch/>
        </p:blipFill>
        <p:spPr>
          <a:xfrm>
            <a:off x="500040" y="135720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G:\клипарты\еда раст\0_553e3_d1124d34_S.png"/>
          <p:cNvPicPr/>
          <p:nvPr/>
        </p:nvPicPr>
        <p:blipFill>
          <a:blip r:embed="rId4"/>
          <a:stretch/>
        </p:blipFill>
        <p:spPr>
          <a:xfrm>
            <a:off x="5219640" y="1363680"/>
            <a:ext cx="4044960" cy="4273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1347840" y="274680"/>
            <a:ext cx="547992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G:\клипарты\животные\c73fbe0c2d7e.png"/>
          <p:cNvPicPr/>
          <p:nvPr/>
        </p:nvPicPr>
        <p:blipFill>
          <a:blip r:embed="rId2"/>
          <a:stretch/>
        </p:blipFill>
        <p:spPr>
          <a:xfrm>
            <a:off x="6429240" y="4714920"/>
            <a:ext cx="2289240" cy="16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клипарты\животные\e128a7e2b066t.jpg"/>
          <p:cNvPicPr/>
          <p:nvPr/>
        </p:nvPicPr>
        <p:blipFill>
          <a:blip r:embed="rId3"/>
          <a:stretch/>
        </p:blipFill>
        <p:spPr>
          <a:xfrm>
            <a:off x="357120" y="1500120"/>
            <a:ext cx="3202200" cy="20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G:\клипарты\животные\korova11.jpg"/>
          <p:cNvPicPr/>
          <p:nvPr/>
        </p:nvPicPr>
        <p:blipFill>
          <a:blip r:embed="rId4"/>
          <a:stretch/>
        </p:blipFill>
        <p:spPr>
          <a:xfrm>
            <a:off x="1258920" y="3533760"/>
            <a:ext cx="2973240" cy="315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G:\клипарты\животные\kozel07.png"/>
          <p:cNvPicPr/>
          <p:nvPr/>
        </p:nvPicPr>
        <p:blipFill>
          <a:blip r:embed="rId5"/>
          <a:stretch/>
        </p:blipFill>
        <p:spPr>
          <a:xfrm>
            <a:off x="5580000" y="1324080"/>
            <a:ext cx="2247840" cy="2384280"/>
          </a:xfrm>
          <a:prstGeom prst="rect">
            <a:avLst/>
          </a:prstGeom>
          <a:ln w="0">
            <a:noFill/>
          </a:ln>
        </p:spPr>
      </p:pic>
      <p:pic>
        <p:nvPicPr>
          <p:cNvPr id="62" name="Записанный звук" descr=""/>
          <p:cNvPicPr/>
          <p:nvPr/>
        </p:nvPicPr>
        <p:blipFill>
          <a:blip r:embed="rId6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9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1633680" y="274680"/>
            <a:ext cx="5553000" cy="71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G:\клипарты\грибы\370bfa835f23.png"/>
          <p:cNvPicPr/>
          <p:nvPr/>
        </p:nvPicPr>
        <p:blipFill>
          <a:blip r:embed="rId2"/>
          <a:stretch/>
        </p:blipFill>
        <p:spPr>
          <a:xfrm>
            <a:off x="5929200" y="314316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http://1.bp.blogspot.com/-gF4s0K8Crrc/ToM2cJwND5I/AAAAAAAAAB4/MMX8eOZl_dg/s1600/image067.jpg"/>
          <p:cNvPicPr/>
          <p:nvPr/>
        </p:nvPicPr>
        <p:blipFill>
          <a:blip r:embed="rId3"/>
          <a:stretch/>
        </p:blipFill>
        <p:spPr>
          <a:xfrm>
            <a:off x="247680" y="1643040"/>
            <a:ext cx="5475240" cy="35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Записанный звук" descr=""/>
          <p:cNvPicPr/>
          <p:nvPr/>
        </p:nvPicPr>
        <p:blipFill>
          <a:blip r:embed="rId4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928880" y="2286000"/>
            <a:ext cx="5214960" cy="8571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мы - произ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840" y="4714920"/>
            <a:ext cx="3286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м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уш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4960" y="4714920"/>
            <a:ext cx="364320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м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треб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6"/>
          <p:cNvCxnSpPr/>
          <p:nvPr/>
        </p:nvCxnSpPr>
        <p:spPr>
          <a:xfrm flipH="1">
            <a:off x="4928400" y="1356840"/>
            <a:ext cx="252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18"/>
          <p:cNvCxnSpPr/>
          <p:nvPr/>
        </p:nvCxnSpPr>
        <p:spPr>
          <a:xfrm>
            <a:off x="1856160" y="1356840"/>
            <a:ext cx="71532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19"/>
          <p:cNvCxnSpPr/>
          <p:nvPr/>
        </p:nvCxnSpPr>
        <p:spPr>
          <a:xfrm flipH="1">
            <a:off x="7143120" y="1285560"/>
            <a:ext cx="500760" cy="7866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Прямоугольник 26"/>
          <p:cNvSpPr/>
          <p:nvPr/>
        </p:nvSpPr>
        <p:spPr>
          <a:xfrm>
            <a:off x="7500960" y="3214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7"/>
          <p:cNvSpPr/>
          <p:nvPr/>
        </p:nvSpPr>
        <p:spPr>
          <a:xfrm>
            <a:off x="3714840" y="4214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8"/>
          <p:cNvSpPr/>
          <p:nvPr/>
        </p:nvSpPr>
        <p:spPr>
          <a:xfrm>
            <a:off x="285840" y="32860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рг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6" descr="Рисунок2jmm"/>
          <p:cNvPicPr/>
          <p:nvPr/>
        </p:nvPicPr>
        <p:blipFill>
          <a:blip r:embed="rId1"/>
          <a:stretch/>
        </p:blipFill>
        <p:spPr>
          <a:xfrm>
            <a:off x="428760" y="6002280"/>
            <a:ext cx="1224000" cy="85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" descr="G:\клипарты\грибы\1fdf8e66a7c9.png"/>
          <p:cNvPicPr/>
          <p:nvPr/>
        </p:nvPicPr>
        <p:blipFill>
          <a:blip r:embed="rId2"/>
          <a:stretch/>
        </p:blipFill>
        <p:spPr>
          <a:xfrm>
            <a:off x="2786040" y="5775480"/>
            <a:ext cx="927000" cy="1082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:\клипарты\еда раст\0_553ea_59526365_S.png"/>
          <p:cNvPicPr/>
          <p:nvPr/>
        </p:nvPicPr>
        <p:blipFill>
          <a:blip r:embed="rId3"/>
          <a:stretch/>
        </p:blipFill>
        <p:spPr>
          <a:xfrm>
            <a:off x="5429160" y="10717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G:\клипарты\еда раст\000.png"/>
          <p:cNvPicPr/>
          <p:nvPr/>
        </p:nvPicPr>
        <p:blipFill>
          <a:blip r:embed="rId4"/>
          <a:stretch/>
        </p:blipFill>
        <p:spPr>
          <a:xfrm>
            <a:off x="2786040" y="785880"/>
            <a:ext cx="108900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G:\клипарты\животные\4c06c5bf7d9c[1].png"/>
          <p:cNvPicPr/>
          <p:nvPr/>
        </p:nvPicPr>
        <p:blipFill>
          <a:blip r:embed="rId5"/>
          <a:stretch/>
        </p:blipFill>
        <p:spPr>
          <a:xfrm>
            <a:off x="8001000" y="5376960"/>
            <a:ext cx="1143000" cy="148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G:\клипарты\животные\d37be0df6885.png"/>
          <p:cNvPicPr/>
          <p:nvPr/>
        </p:nvPicPr>
        <p:blipFill>
          <a:blip r:embed="rId6"/>
          <a:stretch/>
        </p:blipFill>
        <p:spPr>
          <a:xfrm>
            <a:off x="4786200" y="5238720"/>
            <a:ext cx="11224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G:\клипарты\природа\3e2303bbc6ee.png"/>
          <p:cNvPicPr/>
          <p:nvPr/>
        </p:nvPicPr>
        <p:blipFill>
          <a:blip r:embed="rId7"/>
          <a:stretch/>
        </p:blipFill>
        <p:spPr>
          <a:xfrm>
            <a:off x="4429080" y="0"/>
            <a:ext cx="1301760" cy="13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:\клипарты\природа\96f1403e24ec.png"/>
          <p:cNvPicPr/>
          <p:nvPr/>
        </p:nvPicPr>
        <p:blipFill>
          <a:blip r:embed="rId8"/>
          <a:stretch/>
        </p:blipFill>
        <p:spPr>
          <a:xfrm>
            <a:off x="7072200" y="0"/>
            <a:ext cx="1362240" cy="1362240"/>
          </a:xfrm>
          <a:prstGeom prst="rect">
            <a:avLst/>
          </a:prstGeom>
          <a:ln w="0">
            <a:noFill/>
          </a:ln>
        </p:spPr>
      </p:pic>
      <p:sp>
        <p:nvSpPr>
          <p:cNvPr id="84" name="Овал 38"/>
          <p:cNvSpPr/>
          <p:nvPr/>
        </p:nvSpPr>
        <p:spPr>
          <a:xfrm>
            <a:off x="285840" y="214200"/>
            <a:ext cx="1928880" cy="1500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гнутая вверх стрелка 39"/>
          <p:cNvSpPr/>
          <p:nvPr/>
        </p:nvSpPr>
        <p:spPr>
          <a:xfrm rot="5248800">
            <a:off x="6453720" y="3526560"/>
            <a:ext cx="1471320" cy="885960"/>
          </a:xfrm>
          <a:custGeom>
            <a:avLst/>
            <a:gdLst>
              <a:gd name="textAreaLeft" fmla="*/ 284760 w 1471320"/>
              <a:gd name="textAreaRight" fmla="*/ 1076040 w 147132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2" hR="21600" stAng="10800000" swAng="5400000"/>
                <a:lnTo>
                  <a:pt x="11613" y="0"/>
                </a:lnTo>
                <a:arcTo wR="8362" hR="21600" stAng="-5400000" swAng="3377905"/>
                <a:lnTo>
                  <a:pt x="21334" y="16200"/>
                </a:lnTo>
                <a:lnTo>
                  <a:pt x="18350" y="21600"/>
                </a:lnTo>
                <a:lnTo>
                  <a:pt x="14833" y="16200"/>
                </a:lnTo>
                <a:lnTo>
                  <a:pt x="16458" y="16200"/>
                </a:lnTo>
                <a:arcTo wR="8362" hR="21600" stAng="-2022095" swAng="-3114683"/>
                <a:lnTo>
                  <a:pt x="9988" y="412"/>
                </a:lnTo>
                <a:arcTo wR="8362" hR="21600" stAng="-5663222" swAng="-5136778"/>
                <a:close/>
              </a:path>
              <a:path fill="darkenLess" w="21600" h="21600">
                <a:moveTo>
                  <a:pt x="0" y="21600"/>
                </a:moveTo>
                <a:arcTo wR="8362" hR="21600" stAng="10800000" swAng="5400000"/>
                <a:lnTo>
                  <a:pt x="8362" y="0"/>
                </a:lnTo>
                <a:arcTo wR="8362" hR="21600" stAng="-5400000" swAng="263222"/>
                <a:lnTo>
                  <a:pt x="9988" y="412"/>
                </a:lnTo>
                <a:arcTo wR="8362" hR="21600" stAng="-5663222" swAng="-5136778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40"/>
          <p:cNvSpPr/>
          <p:nvPr/>
        </p:nvSpPr>
        <p:spPr>
          <a:xfrm flipV="1" rot="5249400">
            <a:off x="1689120" y="3504240"/>
            <a:ext cx="1473120" cy="930240"/>
          </a:xfrm>
          <a:custGeom>
            <a:avLst/>
            <a:gdLst>
              <a:gd name="textAreaLeft" fmla="*/ 280800 w 1473120"/>
              <a:gd name="textAreaRight" fmla="*/ 1075680 w 1473120"/>
              <a:gd name="textAreaTop" fmla="*/ 124560 h 930240"/>
              <a:gd name="textAreaBottom" fmla="*/ 805680 h 930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3" hR="21600" stAng="10800000" swAng="5400000"/>
                <a:lnTo>
                  <a:pt x="11653" y="0"/>
                </a:lnTo>
                <a:arcTo wR="8243" hR="21600" stAng="-5400000" swAng="3355000"/>
                <a:lnTo>
                  <a:pt x="21338" y="16200"/>
                </a:lnTo>
                <a:lnTo>
                  <a:pt x="18190" y="21600"/>
                </a:lnTo>
                <a:lnTo>
                  <a:pt x="14518" y="16200"/>
                </a:lnTo>
                <a:lnTo>
                  <a:pt x="16223" y="16200"/>
                </a:lnTo>
                <a:arcTo wR="8243" hR="21600" stAng="-2045000" swAng="-3078241"/>
                <a:lnTo>
                  <a:pt x="9948" y="467"/>
                </a:lnTo>
                <a:arcTo wR="8243" hR="21600" stAng="-5676759" swAng="-5123241"/>
                <a:close/>
              </a:path>
              <a:path fill="darkenLess" w="21600" h="21600">
                <a:moveTo>
                  <a:pt x="0" y="21600"/>
                </a:moveTo>
                <a:arcTo wR="8243" hR="21600" stAng="10800000" swAng="5400000"/>
                <a:lnTo>
                  <a:pt x="8243" y="0"/>
                </a:lnTo>
                <a:arcTo wR="8243" hR="21600" stAng="-5400000" swAng="276759"/>
                <a:lnTo>
                  <a:pt x="9948" y="467"/>
                </a:lnTo>
                <a:arcTo wR="8243" hR="21600" stAng="-5676759" swAng="-5123241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лево 41"/>
          <p:cNvSpPr/>
          <p:nvPr/>
        </p:nvSpPr>
        <p:spPr>
          <a:xfrm>
            <a:off x="3929040" y="5000760"/>
            <a:ext cx="1000080" cy="6429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3"/>
          <p:cNvSpPr/>
          <p:nvPr/>
        </p:nvSpPr>
        <p:spPr>
          <a:xfrm>
            <a:off x="357120" y="500040"/>
            <a:ext cx="1857600" cy="185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1000080" y="2714760"/>
            <a:ext cx="2214720" cy="2143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3500280" y="4286160"/>
            <a:ext cx="242892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6"/>
          <p:cNvSpPr/>
          <p:nvPr/>
        </p:nvSpPr>
        <p:spPr>
          <a:xfrm>
            <a:off x="6215040" y="2786040"/>
            <a:ext cx="2071800" cy="2143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7"/>
          <p:cNvSpPr/>
          <p:nvPr/>
        </p:nvSpPr>
        <p:spPr>
          <a:xfrm>
            <a:off x="6858000" y="500040"/>
            <a:ext cx="1857240" cy="185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Helen\Desktop\временная\Безимени-1.png"/>
          <p:cNvPicPr/>
          <p:nvPr/>
        </p:nvPicPr>
        <p:blipFill>
          <a:blip r:embed="rId4"/>
          <a:stretch/>
        </p:blipFill>
        <p:spPr>
          <a:xfrm>
            <a:off x="357120" y="500040"/>
            <a:ext cx="1857600" cy="197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Helen\Desktop\временная\Безимени-1.png"/>
          <p:cNvPicPr/>
          <p:nvPr/>
        </p:nvPicPr>
        <p:blipFill>
          <a:blip r:embed="rId5"/>
          <a:stretch/>
        </p:blipFill>
        <p:spPr>
          <a:xfrm>
            <a:off x="6786720" y="500040"/>
            <a:ext cx="1928520" cy="205272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низ 10"/>
          <p:cNvSpPr/>
          <p:nvPr/>
        </p:nvSpPr>
        <p:spPr>
          <a:xfrm rot="20538600">
            <a:off x="1452240" y="2288880"/>
            <a:ext cx="560520" cy="46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11"/>
          <p:cNvSpPr/>
          <p:nvPr/>
        </p:nvSpPr>
        <p:spPr>
          <a:xfrm rot="12617400">
            <a:off x="7360920" y="2315880"/>
            <a:ext cx="560520" cy="46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12"/>
          <p:cNvSpPr/>
          <p:nvPr/>
        </p:nvSpPr>
        <p:spPr>
          <a:xfrm rot="18877800">
            <a:off x="3083040" y="4558680"/>
            <a:ext cx="560520" cy="46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низ 13"/>
          <p:cNvSpPr/>
          <p:nvPr/>
        </p:nvSpPr>
        <p:spPr>
          <a:xfrm rot="14205000">
            <a:off x="5799240" y="4411440"/>
            <a:ext cx="558720" cy="466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412920" y="142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бактерии гни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6699240" y="142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бактерии гни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2508840" y="2428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3808080" y="350028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растительно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5625720" y="24289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хи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Записанный звук" descr=""/>
          <p:cNvPicPr/>
          <p:nvPr/>
        </p:nvPicPr>
        <p:blipFill>
          <a:blip r:embed="rId6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vmede.org/sait/content/Biologija_pexov_2010/16_files/mb4.jpeg"/>
          <p:cNvPicPr/>
          <p:nvPr/>
        </p:nvPicPr>
        <p:blipFill>
          <a:blip r:embed="rId1"/>
          <a:stretch/>
        </p:blipFill>
        <p:spPr>
          <a:xfrm>
            <a:off x="320760" y="357120"/>
            <a:ext cx="8513640" cy="5429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bioaa.info/chep_pitan.png"/>
          <p:cNvPicPr/>
          <p:nvPr/>
        </p:nvPicPr>
        <p:blipFill>
          <a:blip r:embed="rId1"/>
          <a:stretch/>
        </p:blipFill>
        <p:spPr>
          <a:xfrm>
            <a:off x="833400" y="316080"/>
            <a:ext cx="7453440" cy="604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9:18:14Z</dcterms:created>
  <dc:creator>Helen</dc:creator>
  <dc:description/>
  <dc:language>en-US</dc:language>
  <cp:lastModifiedBy>Баканча Наталья Владимировна</cp:lastModifiedBy>
  <dcterms:modified xsi:type="dcterms:W3CDTF">2022-11-02T13:01:02Z</dcterms:modified>
  <cp:revision>48</cp:revision>
  <dc:subject/>
  <dc:title>Слайд 1</dc:title>
</cp:coreProperties>
</file>