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B02-C60C-4006-A059-EDBC9B66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1C5-0C7A-41CD-8403-9EF53BD8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70C-2A00-46DE-A587-E30418DE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742-C6BB-4B4D-8A28-58F8B3B6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39E7-3D37-4128-8E4E-2435B59E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622D-577B-45D9-9D7F-25916F35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F427-1D8F-4572-851E-B9617962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4BAB-1844-41F7-B673-C8316694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FD99-09EC-4BE4-A0C2-89C19BD9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8951-E615-43A5-B45A-9AD8BE4E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1E4C-A395-421B-9205-0C7997FA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BF8-5896-4650-8B7B-E6DDA52F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391A-106E-44C0-8BD4-30EBCD3C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9EBF-13EF-4149-8007-7CE4D50B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2DCC-BBDB-4480-8071-E996C160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D51E-2135-4C5B-A72E-EAD52CEE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2067-4630-4CD6-ABA1-61FA5076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77C4-C018-46D9-8EBE-EC485B07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0671D-177B-4BA3-8EB0-7FA4A7E2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43A57-00F8-40A5-B7C8-1B2A56DE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1B85E-5A9E-4D0B-A815-7AAC9F6F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44D05-C276-4D36-A5F0-6F9768E5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2E6-DE56-4558-B96C-F82BCCD1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C9A72-C583-4B9B-8458-59586569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71BEA-A832-45B1-B9BC-48B5B4FA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382D0-6E11-4E2D-AFA2-62265DB1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7D26F-286C-4256-98AA-A6A604CA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5065A-32AB-4595-8EBE-A3F678C5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FC852-DF6C-4FC0-B55C-7DAD2FBE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E7710-6843-48D3-AAE0-E8FDDF9B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0971E-4F32-47F8-8B25-101C81B1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CF539-7ADF-42B0-8819-66BC9A9E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A7138-2D45-4817-8468-A9ED66B0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092-93B8-4162-8877-334EAF6C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1AB2F-C424-4AA0-A8C9-C83195D4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8D35F-C329-40C3-AEB0-F35F7981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11FCA-6AFE-4EE0-97D5-6F728BEF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8F91B-03F5-4F70-8A31-A088BDD1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55AF-694A-4BEA-9619-0DC513D2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A48E5-7DB7-4A1A-AF81-D368ABA1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59292-A774-49D2-9D87-3713A1F5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1C603-A1DD-490D-8897-F9FC0AA3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D2A93-FCC6-4E46-80DB-5FE28AFF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6A26C-96C7-49A5-9383-C0C917E4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3BE-F664-48BF-951F-BB9D88D8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0E421-7996-4FA0-88FC-B695F887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AFC70-64E7-4B2B-B005-0B686BA6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667AE-B9EA-4133-A61E-38F613AD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6357C-71A5-4248-9850-C9167E5B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A2908-C88D-474B-AB25-BE44534D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87521-6DD3-419D-A8B1-F9CDB85E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04D17-BEE3-436E-B5F9-305A94DA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333B2-1B8A-426E-B038-6131DCA2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4F377-1D4E-4313-B429-3E1159CC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C48DA-01EE-43F4-BBC2-A1574F69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344-3A97-4C42-8603-50355F86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07843-4124-4E2A-A72B-4DD8D20E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89F6A-14F2-4374-8C88-D9F27A97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4E012-EB7A-482D-BFB4-FBDBA11A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BC4B5-A18F-440E-B7E1-07CDDE6E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CE138-F6AC-4EA6-927B-CD6C4FF1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CA45D-69DE-4CC7-8759-AC4FFF44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6703A-15DA-4524-A295-A9335534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F1496-FCDF-4375-99DF-B370696F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E9DFC-6A93-45D8-8E45-DB19AC33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E308C-F3DB-4D06-A1ED-265FEDA2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9F0-274B-4232-9303-94A14E2D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69D3C-9367-422F-A080-B0B332CD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5F489-514F-4241-8E5E-E4E53A84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89613-CDE3-41B6-8CF2-08AD2204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5C13E-C3BE-4D2D-A2EE-F62568FE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7E776-D6F1-4E66-B2DA-B318F67A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0B398-F925-433E-8EEC-8BE73E5E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6A46B-5BA4-47C0-8CD8-D640C68B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4F557-5688-4D47-A51D-D99DF006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A3D3E-F0EA-4709-BABE-5C92E799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1606D-FAFD-4843-84F3-E526CD6D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CAF-CB32-47A2-8965-CEDBD176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C2024-FB5E-4ACA-851A-65018770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802E8-A55D-4EB9-8536-9FD742B7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52862-AE4B-46B7-B031-07E58A26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ACCA1-55AE-482F-8B26-CBB6B854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7F5A2-5C5B-44EB-8025-3F77CE49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03B-DE17-43A4-99B1-2239AD8A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5BC4-640F-4638-8DC2-B703918F23A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1FB5-58D7-4B20-A224-D48B827E04F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4463-BC1F-4D68-B500-376C4BA32A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CB16-95D1-4CCF-BC78-6BABF621B86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9C5D-D15A-4B99-B7DC-E8DF5B94F96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2729-54D3-45F8-9AD7-C88301BB393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89BF-9FDA-4AD2-BF16-B14A08F593E2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2712960" y="19080"/>
            <a:ext cx="6723000" cy="22734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29040" y="4714560"/>
            <a:ext cx="4857840" cy="12142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rbel"/>
              </a:rPr>
              <a:t>учитель информатики и ИКТ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rbel"/>
              </a:rPr>
              <a:t>Пунгер Ирина Евгеньевн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rbel"/>
              </a:rPr>
              <a:t>ГБОУ школа 297 Пушкинского района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Corbel"/>
              </a:rPr>
              <a:t>г. Санкт-Петербург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658800" y="133200"/>
            <a:ext cx="6418440" cy="1159200"/>
          </a:xfrm>
          <a:prstGeom prst="rect">
            <a:avLst/>
          </a:prstGeom>
          <a:ln w="0">
            <a:noFill/>
          </a:ln>
        </p:spPr>
      </p:pic>
      <p:grpSp>
        <p:nvGrpSpPr>
          <p:cNvPr id="306" name="Группа 4"/>
          <p:cNvGrpSpPr/>
          <p:nvPr/>
        </p:nvGrpSpPr>
        <p:grpSpPr>
          <a:xfrm>
            <a:off x="714240" y="1500120"/>
            <a:ext cx="7572600" cy="5580360"/>
            <a:chOff x="714240" y="1500120"/>
            <a:chExt cx="7572600" cy="5580360"/>
          </a:xfrm>
        </p:grpSpPr>
        <p:sp>
          <p:nvSpPr>
            <p:cNvPr id="307" name="TextBox 5"/>
            <p:cNvSpPr/>
            <p:nvPr/>
          </p:nvSpPr>
          <p:spPr>
            <a:xfrm>
              <a:off x="714240" y="1500120"/>
              <a:ext cx="400068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uses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raphABC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,ww,wh,x0,y0,keox,keoy:integer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rocedure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si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: inte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: string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be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etpencolor(rgb(100,100,100)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o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:=1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o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keox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o be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ne(x0+m*i,0,x0+m*i,wh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ne(x0-m*i,0,x0-m*i,wh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nd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 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o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:=1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o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keoy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o be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ne(0,y0+m*i,ww,y0+m*i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ne(0,y0-m*i,ww,y0-m*i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nd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9"/>
            <p:cNvSpPr/>
            <p:nvPr/>
          </p:nvSpPr>
          <p:spPr>
            <a:xfrm>
              <a:off x="4429080" y="1500120"/>
              <a:ext cx="3857760" cy="50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це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деле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w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шири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плоскости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h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высота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плоскости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0,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начало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координат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keox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keoy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кол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во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делений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ОХ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и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О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кол-во повторений тела цик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писи дел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задаем цвет лин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исуем вертикальные линии (промежуточные линии сетк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исуем горизонтальные линии (промежуточные линии сетк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9"/>
          <p:cNvSpPr/>
          <p:nvPr/>
        </p:nvSpPr>
        <p:spPr>
          <a:xfrm>
            <a:off x="857160" y="1000080"/>
            <a:ext cx="3643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Pencolor(rgb(0,0,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penwidth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(x0,0,x0,w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(x0+3,15,x0,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(x0-3,15,x0,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(0,y0,ww,y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(ww-15,y0+3,ww,y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(ww-15,y0-3,ww,y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=1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ox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:=intToStr(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Out(x0+m*i,y0+2,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Out(x0-m*i,y0+2,'-'+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=1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o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:=intToStr(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Out(x0-14,y0-i*m,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Out(x0-14,y0+i*m,'-'+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0"/>
          <p:cNvSpPr/>
          <p:nvPr/>
        </p:nvSpPr>
        <p:spPr>
          <a:xfrm>
            <a:off x="4429080" y="1071720"/>
            <a:ext cx="3643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ем цвет линии (чер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ем толщину осей ко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уем ось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уем стрелочки на оси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уем ось 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уем стрелочки на оси 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ем подписи д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образует целое число к ст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писи коор-т полож. ось 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писи коор-т отриц. ось 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образует целое число к ст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писи коор-т полож. ось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писи коор-т отриц. ось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993600" y="30240"/>
            <a:ext cx="6480360" cy="1262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"/>
          <p:cNvSpPr/>
          <p:nvPr/>
        </p:nvSpPr>
        <p:spPr>
          <a:xfrm>
            <a:off x="857160" y="1057320"/>
            <a:ext cx="3571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cedur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us(a,b,c: integ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,y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screen,yscreen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:=-keo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i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&lt;keox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:=a*sin(b*x)+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screen:=round(x0+x*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screen:=round(y0-y*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pixel(xscreen,yscreen,clre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:=x+0.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4357800" y="11224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цедура для син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нные х и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ор-ты точки приближенной к ближайшему цел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чка, с кот. начинаем стоить 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 не дойдем до посл. правой 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числение по форм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ет результат округления до ближайшего цел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оим точки (цвет крас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меняем х на 0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993600" y="30240"/>
            <a:ext cx="6480360" cy="1262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1"/>
          <p:cNvSpPr/>
          <p:nvPr/>
        </p:nvSpPr>
        <p:spPr>
          <a:xfrm>
            <a:off x="714240" y="1503360"/>
            <a:ext cx="4143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cedur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bola(a,b,c: re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,y: re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screen,yscreen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:=-keo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i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&lt;keox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:=a*x*x+b*x+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screen:=round(x0+x*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screen:=round(y0-y*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pixel(xscreen,yscreen,clblue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:=x+0.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4357800" y="1503360"/>
            <a:ext cx="450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цедура для параб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нные х и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ор-ты точки приближенной к ближайшему цел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чка, с кот. начинаем стоить 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 не дойдем до посл. правой 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числение по форм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ет результат округления до ближайшего цел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оим точки (цвет си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меняем х на 0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993600" y="30240"/>
            <a:ext cx="6480360" cy="1262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1071720" y="1071720"/>
            <a:ext cx="3143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:=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:=8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:=7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0:= ww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v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0:= w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v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ox:= ww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v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v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oy:=w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v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v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windowSIze(ww,w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us(1,1,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arabola(1/2,-1,-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4071960" y="1000080"/>
            <a:ext cx="45007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ици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ем размер 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ирина плос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та плос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ходим начало ко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ходим количество точек, в которых вычисляется значение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ем размер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зов процедуры (рисуем ос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троим сину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троим парабол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993600" y="30240"/>
            <a:ext cx="6480360" cy="1262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285840" y="517680"/>
            <a:ext cx="8682120" cy="167616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2"/>
          <p:cNvSpPr/>
          <p:nvPr/>
        </p:nvSpPr>
        <p:spPr>
          <a:xfrm>
            <a:off x="1357200" y="257184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вка  языка программирова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CPasc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0:26:00Z</dcterms:created>
  <dc:creator>school-23</dc:creator>
  <dc:description/>
  <dc:language>en-US</dc:language>
  <cp:lastModifiedBy>Admin</cp:lastModifiedBy>
  <dcterms:modified xsi:type="dcterms:W3CDTF">2022-11-02T11:41:28Z</dcterms:modified>
  <cp:revision>18</cp:revision>
  <dc:subject/>
  <dc:title>Построение графиков в модуле ABCPascal</dc:title>
</cp:coreProperties>
</file>