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BDB0-AD24-414F-B019-6F98E9C9D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F48B-A01D-4F80-91E0-6B7CC9CC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3A40-C65E-41F8-BA55-982CAC538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2689-735F-404A-924E-D68858A4F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F25A-A0FC-493D-9E00-04B11E494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042B-332A-4BBE-A553-4F3B8A38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B18D7-7E00-4443-8C59-B68C27C7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DD78-9059-4CD5-91CB-E772BAA9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1FC9B-FC64-42FA-A82A-2FE1A931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0FC1-9CA0-4C67-AF92-4AA16010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9680-8F81-444D-95CE-372C707D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9580-62A7-442B-B77A-29E62FF8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E1BA-15AC-4DA2-88A7-5BBF8A08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12CA-D0D1-49A1-B0AA-046F7BA2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402B0-D4D8-47EC-9094-A00D0CBC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9DA6-7A5B-435D-AD20-59D89139E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08F8-17A5-43A5-B007-C6426EA96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0CA63-CA3C-4F3A-9E4F-900259BD8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B549E-D4F7-44F1-8A16-8C68333C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65918-40C5-4363-86E7-D7A0129B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44024-4ECB-4A71-9268-CA688B94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54F31-2B66-4C94-957D-C3F2D4F4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B8BF-914C-4024-A598-C72FA707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C0A4F-F594-4F41-A683-52F1B40A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46449-6544-4018-8D13-453B6005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A58C2-7A18-40F5-BC20-144F30FF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2E004-AA69-46DB-9DEE-B185FF92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5A627-98F0-44FB-9846-0B6D19CE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5BD68-6273-4CD8-A3FA-20637FA59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3B0E3-F57C-4CE8-A4DA-D8B723AAE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ED4D5-24C8-496E-A241-65307A02B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B1A2A-8881-4428-928D-92898FB2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5E1AC-AEDA-4147-9644-D9C5469E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1D5C-D7DE-4701-9D4C-405FC645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CA4F4-C0F8-4F25-9725-088CB10E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A6FB4-0B52-4A08-8863-F1F3D99D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67422-D7D0-4D61-AAAD-DCB9B2DA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2A401-ED2F-47CD-90C7-D8EE8225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BB06F-1F04-4B81-A8B5-AFE06F16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63D36-C3AB-46A7-B293-60D5927A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78C88-5863-48A5-8E74-0CAA832B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5ABE3-E389-4F80-9EF7-A1CC80CD7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4105B-0920-4C31-A6F7-CA9E391CB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E54CD-8B6E-4250-A5F3-6A13255DA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BE9C-50E2-4C46-8098-6F9F7C54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19578-F495-4EC0-8A10-FAC72655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B1CEF-952D-47D4-948D-A91CF63B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51758-C6F1-4A7C-B84B-3AEA969BF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5E979-35B7-4675-8CB1-E3B830FB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1C22D-43D8-4DD1-8025-2174D4D2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28EF7-19E8-4AC7-B0E9-8935BD87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674E0-E708-4B4C-B20B-ED78B47C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06E84-8C84-4115-93E9-2DCE46F9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BE173-8D2B-4015-BD35-45937284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262CB-457E-4D2D-ADDD-03F105EEA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DBCE-DB18-4653-9C1E-EDA1B31D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3F857-ADF8-4709-8D28-AD7F1BE27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870B8-D2C9-42C3-B952-201CAD198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9BF5E-E49B-4F54-B054-447F57BB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F05A6-BED1-43F6-BF8B-8D2F50B1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6E86F-FF16-42A2-9A64-67329F2E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2C4EB-1F24-47BA-8F63-42CE9DFB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3D552-AFF3-4ABC-B527-A0D13818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9D287-10B1-4EAA-B6EF-E77D9EBC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38A95-A196-43EE-89E6-0AFDBCEE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8992B-E521-4248-A780-479CF010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F677-3CC2-4252-8925-61EAC52D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5D25E-5A62-4B9A-8ECB-9BD56752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73AF7-0B05-4FB3-B560-FEB7A2A43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260B3-F5B9-47AD-82C2-48A44CA07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D28B3-B007-4BDE-97FB-0E16FDDB4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D95E5-7800-4E16-87F1-8B8670FE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3DCA2-1CB9-485C-8D45-61EE865B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B5D80-8985-4ED1-94AA-46973ED5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8E0F3-0680-4C8A-990A-725C39B7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57FAC-58FB-4FCD-8F8E-B65043C4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CE8CA-5D3E-4531-923C-B63D9C8B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E218-9FA0-4E6A-8E29-EC0215D1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FC5F7-3C6A-4D54-9325-8DEEB3E1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3E8C7-5984-44BA-9F53-3EE46614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9A21F-7998-4469-B661-AA678665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D3449-6033-4589-98D7-22114202E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57C3E-B910-483A-89F0-1A292FEF5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729B-F38C-4F98-826F-E14EAE1F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2710-93EA-4E68-A10D-4EC83C3772E1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3E08-E14D-425A-BD0D-FF9EC5FB6DA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EE99-3D1E-44A7-9911-FB89EA9A497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40C3-6958-4D79-857B-D2AFE8E4B37C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923B-D731-4B06-9702-EAB3D4EE3724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EB27-F19A-4C38-8F18-7E0828041DE0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8E45-F402-46D2-8EC6-AB42B0F35ACE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1"/>
          <a:stretch/>
        </p:blipFill>
        <p:spPr>
          <a:xfrm>
            <a:off x="2712960" y="19080"/>
            <a:ext cx="6723000" cy="22734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929040" y="4714560"/>
            <a:ext cx="4857840" cy="121428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orbel"/>
              </a:rPr>
              <a:t>учитель информатики и ИКТ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orbel"/>
              </a:rPr>
              <a:t>Пунгер Ирина Евгеньевн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orbel"/>
              </a:rPr>
              <a:t>ГБОУ школа 297 Пушкинского района 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Corbel"/>
              </a:rPr>
              <a:t>г. Санкт-Петербург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658800" y="133200"/>
            <a:ext cx="6418440" cy="1159200"/>
          </a:xfrm>
          <a:prstGeom prst="rect">
            <a:avLst/>
          </a:prstGeom>
          <a:ln w="0">
            <a:noFill/>
          </a:ln>
        </p:spPr>
      </p:pic>
      <p:grpSp>
        <p:nvGrpSpPr>
          <p:cNvPr id="306" name="Группа 4"/>
          <p:cNvGrpSpPr/>
          <p:nvPr/>
        </p:nvGrpSpPr>
        <p:grpSpPr>
          <a:xfrm>
            <a:off x="714240" y="1500120"/>
            <a:ext cx="7572600" cy="5580360"/>
            <a:chOff x="714240" y="1500120"/>
            <a:chExt cx="7572600" cy="5580360"/>
          </a:xfrm>
        </p:grpSpPr>
        <p:sp>
          <p:nvSpPr>
            <p:cNvPr id="307" name="TextBox 5"/>
            <p:cNvSpPr/>
            <p:nvPr/>
          </p:nvSpPr>
          <p:spPr>
            <a:xfrm>
              <a:off x="714240" y="1500120"/>
              <a:ext cx="4000680" cy="55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uses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graphABC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v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,ww,wh,x0,y0,keox,keoy:integer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procedure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si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v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: inte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: string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be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etpencolor(rgb(100,100,100))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fo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:=1 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o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keox 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do be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line(x0+m*i,0,x0+m*i,wh)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line(x0-m*i,0,x0-m*i,wh)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end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 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fo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:=1 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o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keoy 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do be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line(0,y0+m*i,ww,y0+m*i)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line(0,y0-m*i,ww,y0-m*i)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end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Box 9"/>
            <p:cNvSpPr/>
            <p:nvPr/>
          </p:nvSpPr>
          <p:spPr>
            <a:xfrm>
              <a:off x="4429080" y="1500120"/>
              <a:ext cx="3857760" cy="50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m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 –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Calibri"/>
                </a:rPr>
                <a:t>цена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Calibri"/>
                </a:rPr>
                <a:t>деления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; 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ww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Calibri"/>
                </a:rPr>
                <a:t>ширина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Calibri"/>
                </a:rPr>
                <a:t>плоскости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; 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wh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-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Calibri"/>
                </a:rPr>
                <a:t>высота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Calibri"/>
                </a:rPr>
                <a:t>плоскости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; 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0,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y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Calibri"/>
                </a:rPr>
                <a:t>начало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Calibri"/>
                </a:rPr>
                <a:t>координат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; 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keox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, 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keoy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Calibri"/>
                </a:rPr>
                <a:t>кол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Calibri"/>
                </a:rPr>
                <a:t>во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Calibri"/>
                </a:rPr>
                <a:t>делений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Calibri"/>
                </a:rPr>
                <a:t>ОХ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Calibri"/>
                </a:rPr>
                <a:t>и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Calibri"/>
                </a:rPr>
                <a:t>О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кол-во повторений тела цик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писи деле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задаем цвет лин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рисуем вертикальные линии (промежуточные линии сетки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рисуем горизонтальные линии (промежуточные линии сетки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Box 19"/>
          <p:cNvSpPr/>
          <p:nvPr/>
        </p:nvSpPr>
        <p:spPr>
          <a:xfrm>
            <a:off x="857160" y="1000080"/>
            <a:ext cx="36435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tPencolor(rgb(0,0,0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tpenwidth(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ne(x0,0,x0,wh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ne(x0+3,15,x0,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ne(x0-3,15,x0,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ne(0,y0,ww,y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ne(ww-15,y0+3,ww,y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ne(ww-15,y0-3,ww,y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:=1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ox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o 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:=intToStr(i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Out(x0+m*i,y0+2,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Out(x0-m*i,y0+2,'-'+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:=1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oy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o 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:=intToStr(i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Out(x0-14,y0-i*m,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Out(x0-14,y0+i*m,'-'+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20"/>
          <p:cNvSpPr/>
          <p:nvPr/>
        </p:nvSpPr>
        <p:spPr>
          <a:xfrm>
            <a:off x="4429080" y="1071720"/>
            <a:ext cx="3643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даем цвет линии (черны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даем толщину осей координ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исуем ось 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исуем стрелочки на оси 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исуем ось О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исуем стрелочки на оси О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здаем подписи де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образует целое число к стро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писи коор-т полож. ось О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писи коор-т отриц. ось О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образует целое число к стро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писи коор-т полож. ось 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писи коор-т отриц. ось 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Заголовок 1" descr=""/>
          <p:cNvPicPr/>
          <p:nvPr/>
        </p:nvPicPr>
        <p:blipFill>
          <a:blip r:embed="rId1"/>
          <a:stretch/>
        </p:blipFill>
        <p:spPr>
          <a:xfrm>
            <a:off x="993600" y="30240"/>
            <a:ext cx="6480360" cy="1262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Box 1"/>
          <p:cNvSpPr/>
          <p:nvPr/>
        </p:nvSpPr>
        <p:spPr>
          <a:xfrm>
            <a:off x="857160" y="1057320"/>
            <a:ext cx="35719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cedur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us(a,b,c: intege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,y: re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screen,yscreen: 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:=-keo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il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&lt;keox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o 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:=a*sin(b*x)+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screen:=round(x0+x*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screen:=round(y0-y*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tpixel(xscreen,yscreen,clre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:=x+0.00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2"/>
          <p:cNvSpPr/>
          <p:nvPr/>
        </p:nvSpPr>
        <p:spPr>
          <a:xfrm>
            <a:off x="4357800" y="112248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цедура для сину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менные х и 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ор-ты точки приближенной к ближайшему цел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чка, с кот. начинаем стоить граф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ка не дойдем до посл. правой т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числение по форму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звращает результат округления до ближайшего цел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оим точки (цвет красны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меняем х на 0.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Заголовок 1" descr=""/>
          <p:cNvPicPr/>
          <p:nvPr/>
        </p:nvPicPr>
        <p:blipFill>
          <a:blip r:embed="rId1"/>
          <a:stretch/>
        </p:blipFill>
        <p:spPr>
          <a:xfrm>
            <a:off x="993600" y="30240"/>
            <a:ext cx="6480360" cy="1262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Box 1"/>
          <p:cNvSpPr/>
          <p:nvPr/>
        </p:nvSpPr>
        <p:spPr>
          <a:xfrm>
            <a:off x="714240" y="1503360"/>
            <a:ext cx="41436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cedur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bola(a,b,c: rea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,y: re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screen,yscreen: 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:=-keo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il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&lt;keox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o 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:=a*x*x+b*x+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screen:=round(x0+x*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screen:=round(y0-y*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tpixel(xscreen,yscreen,clblue)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:=x+0.00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"/>
          <p:cNvSpPr/>
          <p:nvPr/>
        </p:nvSpPr>
        <p:spPr>
          <a:xfrm>
            <a:off x="4357800" y="1503360"/>
            <a:ext cx="450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цедура для параб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менные х и 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ор-ты точки приближенной к ближайшему цел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чка, с кот. начинаем стоить граф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ка не дойдем до посл. правой т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числение по форму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звращает результат округления до ближайшего цел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оим точки (цвет си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меняем х на 0.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Заголовок 1" descr=""/>
          <p:cNvPicPr/>
          <p:nvPr/>
        </p:nvPicPr>
        <p:blipFill>
          <a:blip r:embed="rId1"/>
          <a:stretch/>
        </p:blipFill>
        <p:spPr>
          <a:xfrm>
            <a:off x="993600" y="30240"/>
            <a:ext cx="6480360" cy="1262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Box 1"/>
          <p:cNvSpPr/>
          <p:nvPr/>
        </p:nvSpPr>
        <p:spPr>
          <a:xfrm>
            <a:off x="1071720" y="1071720"/>
            <a:ext cx="31431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:=5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:=8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:=7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0:= ww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iv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0:= wh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iv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ox:= ww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iv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iv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oy:=wh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iv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iv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twindowSIze(ww,wh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s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us(1,1,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parabola(1/2,-1,-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2"/>
          <p:cNvSpPr/>
          <p:nvPr/>
        </p:nvSpPr>
        <p:spPr>
          <a:xfrm>
            <a:off x="4071960" y="1000080"/>
            <a:ext cx="450072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ициал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даем размер д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ширина плоск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сота плоск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ходим начало координ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ходим количество точек, в которых вычисляется значение фун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даем размер экр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зов процедуры (рисуем ос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строим сину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строим парабол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Заголовок 1" descr=""/>
          <p:cNvPicPr/>
          <p:nvPr/>
        </p:nvPicPr>
        <p:blipFill>
          <a:blip r:embed="rId1"/>
          <a:stretch/>
        </p:blipFill>
        <p:spPr>
          <a:xfrm>
            <a:off x="993600" y="30240"/>
            <a:ext cx="6480360" cy="1262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Заголовок 1" descr=""/>
          <p:cNvPicPr/>
          <p:nvPr/>
        </p:nvPicPr>
        <p:blipFill>
          <a:blip r:embed="rId1"/>
          <a:stretch/>
        </p:blipFill>
        <p:spPr>
          <a:xfrm>
            <a:off x="285840" y="517680"/>
            <a:ext cx="8682120" cy="1676160"/>
          </a:xfrm>
          <a:prstGeom prst="rect">
            <a:avLst/>
          </a:prstGeom>
          <a:ln w="0">
            <a:noFill/>
          </a:ln>
        </p:spPr>
      </p:pic>
      <p:sp>
        <p:nvSpPr>
          <p:cNvPr id="322" name="Прямоугольник 2"/>
          <p:cNvSpPr/>
          <p:nvPr/>
        </p:nvSpPr>
        <p:spPr>
          <a:xfrm>
            <a:off x="1357200" y="257184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равка  языка программировани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CPasca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0:26:00Z</dcterms:created>
  <dc:creator>school-23</dc:creator>
  <dc:description/>
  <dc:language>en-US</dc:language>
  <cp:lastModifiedBy>Admin</cp:lastModifiedBy>
  <dcterms:modified xsi:type="dcterms:W3CDTF">2022-11-02T11:41:28Z</dcterms:modified>
  <cp:revision>18</cp:revision>
  <dc:subject/>
  <dc:title>Построение графиков в модуле ABCPascal</dc:title>
</cp:coreProperties>
</file>