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5.gif" ContentType="image/gi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28.gif" ContentType="image/gif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032D-FC51-4259-9033-5642BBC0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3DBF-ADAB-40EC-8CC6-52D03CF7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46BD-57C2-443E-A392-856A4909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2B54-9232-4FEB-AFEE-E4A41E73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34D8-8BF0-4ABE-8A98-2D2FA618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891B-99D6-4FC1-82D7-ECC300EC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366E-F055-468E-B889-5D3C195E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FDEE-C982-4AAF-9659-86D6E315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A235-8427-46EC-B2D9-1AB59B63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DEA3-14E6-4EA3-B5B0-54318771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2D8E-0224-4C4A-A31E-5751BC2E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5BB2-DC73-4452-A288-6A57395B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377A-F263-4C75-8AA2-EFDB956D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1D1C-A1D4-44B0-AC44-0EE9E987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79C9-A7F0-4501-ACB0-BD118DB4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FB0C-2A8B-496B-8AEB-5325C07C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7E3F-E836-4A4E-A668-6BFBD219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BAD8-E61F-4300-B7BF-D1FC3382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9301-D1F3-4BDD-BFB6-BBEE9C0C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94FC-5F0F-452E-B3E4-CBCC5400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17C-F8EB-4978-B480-BD072042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BA2A-8ABF-47C4-B67E-6060C854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B269-FCC2-40F0-B47F-F8A68D5C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E124-9F65-470A-A014-DBD999F1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E17F-3433-481E-9344-A5340AA8D20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0492-F600-4930-A1D0-3BCDABF665B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МБДОУ Детский сад №293 городского округа город  Уфа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 Республики Башкортостан</a:t>
            </a:r>
            <a:br>
              <a:rPr sz="1800"/>
            </a:b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Правила</a:t>
            </a:r>
            <a:r>
              <a:rPr b="1" lang="ru-RU" sz="44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дорожного</a:t>
            </a:r>
            <a:r>
              <a:rPr b="1" lang="ru-RU" sz="44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33cc33"/>
                </a:solidFill>
                <a:latin typeface="Tahoma"/>
              </a:rPr>
              <a:t>движения для малыше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Picture 5" descr="0_a4fe2_6fd873d0_XL"/>
          <p:cNvPicPr/>
          <p:nvPr/>
        </p:nvPicPr>
        <p:blipFill>
          <a:blip r:embed="rId1"/>
          <a:stretch/>
        </p:blipFill>
        <p:spPr>
          <a:xfrm>
            <a:off x="1908000" y="2349360"/>
            <a:ext cx="3002040" cy="38530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5292720" y="550692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полнил: воспитатель Гайнуллина Венера Вазир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2916360" y="2709000"/>
            <a:ext cx="606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пособ безопасный самы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ерейти дорогу с мам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Уж она не подведе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Нас за ручку довед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Но гораздо будет лучш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Если нас она научи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Как без бед и по у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делать это самом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5" descr="siostra"/>
          <p:cNvPicPr/>
          <p:nvPr/>
        </p:nvPicPr>
        <p:blipFill>
          <a:blip r:embed="rId1"/>
          <a:stretch/>
        </p:blipFill>
        <p:spPr>
          <a:xfrm>
            <a:off x="3924360" y="115920"/>
            <a:ext cx="3851280" cy="2554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siostra"/>
          <p:cNvPicPr/>
          <p:nvPr/>
        </p:nvPicPr>
        <p:blipFill>
          <a:blip r:embed="rId2"/>
          <a:srcRect l="71155" t="64319" r="0" b="0"/>
          <a:stretch/>
        </p:blipFill>
        <p:spPr>
          <a:xfrm>
            <a:off x="395280" y="4076640"/>
            <a:ext cx="2305080" cy="2478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svetofor"/>
          <p:cNvPicPr/>
          <p:nvPr/>
        </p:nvPicPr>
        <p:blipFill>
          <a:blip r:embed="rId3"/>
          <a:stretch/>
        </p:blipFill>
        <p:spPr>
          <a:xfrm>
            <a:off x="468360" y="3789360"/>
            <a:ext cx="25257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ltr-lc30_xl"/>
          <p:cNvPicPr/>
          <p:nvPr/>
        </p:nvPicPr>
        <p:blipFill>
          <a:blip r:embed="rId1"/>
          <a:srcRect l="2205" t="2205" r="0" b="6520"/>
          <a:stretch/>
        </p:blipFill>
        <p:spPr>
          <a:xfrm>
            <a:off x="179280" y="3284640"/>
            <a:ext cx="3527640" cy="3292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4572000" y="2990880"/>
            <a:ext cx="41799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Транспорт разный на дороге: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Легковой и грузовой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Государственный и частный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ассажирский городск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7" descr="1277372349_101616698_1----42191--1277372349"/>
          <p:cNvPicPr/>
          <p:nvPr/>
        </p:nvPicPr>
        <p:blipFill>
          <a:blip r:embed="rId2"/>
          <a:stretch/>
        </p:blipFill>
        <p:spPr>
          <a:xfrm>
            <a:off x="179280" y="115920"/>
            <a:ext cx="5329440" cy="3195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iгруз"/>
          <p:cNvPicPr/>
          <p:nvPr/>
        </p:nvPicPr>
        <p:blipFill>
          <a:blip r:embed="rId3"/>
          <a:srcRect l="10758" t="6047" r="4989" b="6689"/>
          <a:stretch/>
        </p:blipFill>
        <p:spPr>
          <a:xfrm>
            <a:off x="5435640" y="115920"/>
            <a:ext cx="370836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626920" y="260280"/>
            <a:ext cx="511812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ccff"/>
                </a:solidFill>
                <a:latin typeface="Tahoma"/>
              </a:rPr>
              <a:t>Спецтранспорт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50920" y="432360"/>
            <a:ext cx="35989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Спешат по дорогам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Машины, машины.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Тише ход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Ведь по дорог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спецтранспорт идёт!!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Должны  уступи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Все им дорог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Ведь спешат к людя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они на подмогу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У спецмашины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Сложна и трудна,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Но как она людям 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Повсюду нужна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11" descr="1358"/>
          <p:cNvPicPr/>
          <p:nvPr/>
        </p:nvPicPr>
        <p:blipFill>
          <a:blip r:embed="rId1"/>
          <a:srcRect l="9598" t="26380" r="6945" b="20120"/>
          <a:stretch/>
        </p:blipFill>
        <p:spPr>
          <a:xfrm>
            <a:off x="3708360" y="3213000"/>
            <a:ext cx="54356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jkjl"/>
          <p:cNvPicPr/>
          <p:nvPr/>
        </p:nvPicPr>
        <p:blipFill>
          <a:blip r:embed="rId1"/>
          <a:stretch/>
        </p:blipFill>
        <p:spPr>
          <a:xfrm>
            <a:off x="2843280" y="2133720"/>
            <a:ext cx="5734080" cy="45115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2500920" y="257400"/>
            <a:ext cx="61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Посторонитесь! Дорогу! Дорогу!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Скорая помощь летит на подмогу.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Приказ постового: "Стоять! Хода нет!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Только для "Скорой" Зеленый свет!"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miliciya(1)"/>
          <p:cNvPicPr/>
          <p:nvPr/>
        </p:nvPicPr>
        <p:blipFill>
          <a:blip r:embed="rId1"/>
          <a:stretch/>
        </p:blipFill>
        <p:spPr>
          <a:xfrm>
            <a:off x="2268360" y="2276640"/>
            <a:ext cx="6409080" cy="42735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2340000" y="160920"/>
            <a:ext cx="633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олицейская маши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Нам мелькает глазом синим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А её сирены зву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лышен далеко вокру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acp66"/>
          <p:cNvPicPr/>
          <p:nvPr/>
        </p:nvPicPr>
        <p:blipFill>
          <a:blip r:embed="rId1"/>
          <a:stretch/>
        </p:blipFill>
        <p:spPr>
          <a:xfrm>
            <a:off x="1835280" y="1916280"/>
            <a:ext cx="6900840" cy="4760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5"/>
          <p:cNvSpPr/>
          <p:nvPr/>
        </p:nvSpPr>
        <p:spPr>
          <a:xfrm>
            <a:off x="2268360" y="186840"/>
            <a:ext cx="547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Мчат пожарные машины. 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В них отважные мужчин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   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Едут быстро на пожар 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  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Побеждать огонь и жа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292360" y="260280"/>
            <a:ext cx="36003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4" name="Picture 7" descr="000011"/>
          <p:cNvPicPr/>
          <p:nvPr/>
        </p:nvPicPr>
        <p:blipFill>
          <a:blip r:embed="rId1"/>
          <a:srcRect l="8618" t="2476" r="11425" b="3650"/>
          <a:stretch/>
        </p:blipFill>
        <p:spPr>
          <a:xfrm>
            <a:off x="6300720" y="189000"/>
            <a:ext cx="2665440" cy="5472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8"/>
          <p:cNvSpPr/>
          <p:nvPr/>
        </p:nvSpPr>
        <p:spPr>
          <a:xfrm>
            <a:off x="1619280" y="140760"/>
            <a:ext cx="3848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 площадей и перекрестков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а меня глядит в упор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 виду грозный и серьезный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Долговязый светофо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Он и вежливый, и строгий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Он известен на весь мир.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Он на улице широкий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амый главный команди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У него глаза цветные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е глаза, а три огня!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Он по очереди ими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мотрит сверху на мен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Я его конечно знаю.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Да и как его не знать!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Я отлично понимаю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Все, что хочет он сказать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33810e682165"/>
          <p:cNvPicPr/>
          <p:nvPr/>
        </p:nvPicPr>
        <p:blipFill>
          <a:blip r:embed="rId1"/>
          <a:stretch/>
        </p:blipFill>
        <p:spPr>
          <a:xfrm>
            <a:off x="1332000" y="1844640"/>
            <a:ext cx="6408720" cy="48085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7"/>
          <p:cNvSpPr/>
          <p:nvPr/>
        </p:nvSpPr>
        <p:spPr>
          <a:xfrm>
            <a:off x="395280" y="157680"/>
            <a:ext cx="388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Полосатый переход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Пешеходов разных ждет: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Идет с коляской мама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Идет с собачкой дама, 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5003640" y="189000"/>
            <a:ext cx="38610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есет малыш игрушку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тарик ведет старушку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Две девочки идут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Машины смирно жду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2e0c04edb8fd"/>
          <p:cNvPicPr/>
          <p:nvPr/>
        </p:nvPicPr>
        <p:blipFill>
          <a:blip r:embed="rId1"/>
          <a:stretch/>
        </p:blipFill>
        <p:spPr>
          <a:xfrm>
            <a:off x="971640" y="1844640"/>
            <a:ext cx="3816360" cy="47530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7"/>
          <p:cNvSpPr/>
          <p:nvPr/>
        </p:nvSpPr>
        <p:spPr>
          <a:xfrm>
            <a:off x="4788000" y="799920"/>
            <a:ext cx="396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Делаем ребятам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редостережение: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Выучите срочно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РАВИЛА ДВИЖЕНИЯ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Чтоб не волновались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Каждый день родители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Чтоб спокойно мчались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Улицей водители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f3b19422d008"/>
          <p:cNvPicPr/>
          <p:nvPr/>
        </p:nvPicPr>
        <p:blipFill>
          <a:blip r:embed="rId1"/>
          <a:stretch/>
        </p:blipFill>
        <p:spPr>
          <a:xfrm>
            <a:off x="1547640" y="1916280"/>
            <a:ext cx="5820120" cy="19317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258920" y="3860280"/>
            <a:ext cx="7128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99ff"/>
                </a:solidFill>
                <a:latin typeface="Times New Roman"/>
                <a:ea typeface="Times New Roman"/>
              </a:rPr>
              <a:t>за внимание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3000600" cy="27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Изучаем правила дорожного движения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3" name="Picture 4" descr="1293397147_dorozhn-fon"/>
          <p:cNvPicPr/>
          <p:nvPr/>
        </p:nvPicPr>
        <p:blipFill>
          <a:blip r:embed="rId1"/>
          <a:stretch/>
        </p:blipFill>
        <p:spPr>
          <a:xfrm>
            <a:off x="4227480" y="333360"/>
            <a:ext cx="47433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400_F_12949556_PrYSZE3YD5sBfMkkneyNnCqJWHI7qjS5"/>
          <p:cNvPicPr/>
          <p:nvPr/>
        </p:nvPicPr>
        <p:blipFill>
          <a:blip r:embed="rId1"/>
          <a:srcRect l="10311" t="4656" r="10311" b="3217"/>
          <a:stretch/>
        </p:blipFill>
        <p:spPr>
          <a:xfrm>
            <a:off x="4859280" y="333360"/>
            <a:ext cx="4032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1116000" y="1343160"/>
            <a:ext cx="3456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Регулирует движенье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ложное приспособленье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од названьем СВЕТОФО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ветит ярко он нам с вами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Разноцветными огнями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И про них наш разгово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0001707383-preview"/>
          <p:cNvPicPr/>
          <p:nvPr/>
        </p:nvPicPr>
        <p:blipFill>
          <a:blip r:embed="rId1"/>
          <a:srcRect l="10256" t="7550" r="14011" b="3606"/>
          <a:stretch/>
        </p:blipFill>
        <p:spPr>
          <a:xfrm>
            <a:off x="5364000" y="189000"/>
            <a:ext cx="3567240" cy="568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1547640" y="259200"/>
            <a:ext cx="352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Загорелся 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красный Свет,</a:t>
            </a: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Это значит – хода нет.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Светофор сигналит строго: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«Не ходите на дорогу!»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6" descr="крас"/>
          <p:cNvPicPr/>
          <p:nvPr/>
        </p:nvPicPr>
        <p:blipFill>
          <a:blip r:embed="rId2"/>
          <a:srcRect l="14848" t="12904" r="10862" b="11764"/>
          <a:stretch/>
        </p:blipFill>
        <p:spPr>
          <a:xfrm>
            <a:off x="324000" y="4581360"/>
            <a:ext cx="1790640" cy="2089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400_F_12949556_PrYSZE3YD5sBfMkkneyNnCqJWHI7qjS5"/>
          <p:cNvPicPr/>
          <p:nvPr/>
        </p:nvPicPr>
        <p:blipFill>
          <a:blip r:embed="rId3"/>
          <a:srcRect l="38695" t="15964" r="38667" b="62780"/>
          <a:stretch/>
        </p:blipFill>
        <p:spPr>
          <a:xfrm>
            <a:off x="468360" y="5307120"/>
            <a:ext cx="287280" cy="26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16135813_imgi7196w640"/>
          <p:cNvPicPr/>
          <p:nvPr/>
        </p:nvPicPr>
        <p:blipFill>
          <a:blip r:embed="rId1"/>
          <a:srcRect l="14443" t="2839" r="30758" b="3078"/>
          <a:stretch/>
        </p:blipFill>
        <p:spPr>
          <a:xfrm>
            <a:off x="5878440" y="189000"/>
            <a:ext cx="2828880" cy="6480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2050920" y="777600"/>
            <a:ext cx="288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Если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желтый свет горит</a:t>
            </a: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, </a:t>
            </a:r>
            <a:br>
              <a:rPr sz="3600"/>
            </a:b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Подождать он нам велит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7" descr="zheltyi-signal-svetofora-0000950235-preview"/>
          <p:cNvPicPr/>
          <p:nvPr/>
        </p:nvPicPr>
        <p:blipFill>
          <a:blip r:embed="rId2"/>
          <a:srcRect l="13644" t="14360" r="9856" b="11920"/>
          <a:stretch/>
        </p:blipFill>
        <p:spPr>
          <a:xfrm>
            <a:off x="250920" y="4365720"/>
            <a:ext cx="19209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stock-photo-green-light-on-black-traffic-signal-small-grip-53208046"/>
          <p:cNvPicPr/>
          <p:nvPr/>
        </p:nvPicPr>
        <p:blipFill>
          <a:blip r:embed="rId1"/>
          <a:srcRect l="32874" t="3242" r="-1181" b="28902"/>
          <a:stretch/>
        </p:blipFill>
        <p:spPr>
          <a:xfrm>
            <a:off x="5508720" y="189000"/>
            <a:ext cx="3427200" cy="5329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1332000" y="475200"/>
            <a:ext cx="403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А когда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</a:rPr>
              <a:t>горит зелёный,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Это значит – путь свободный.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Светофор вам говорит: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«Переход для вас открыт!»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6" descr="зел"/>
          <p:cNvPicPr/>
          <p:nvPr/>
        </p:nvPicPr>
        <p:blipFill>
          <a:blip r:embed="rId2"/>
          <a:srcRect l="16569" t="16218" r="10955" b="11645"/>
          <a:stretch/>
        </p:blipFill>
        <p:spPr>
          <a:xfrm>
            <a:off x="179280" y="4365720"/>
            <a:ext cx="2016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339e42e7119a6a4eb028cc49458a0c8f6dad4488218811"/>
          <p:cNvPicPr/>
          <p:nvPr/>
        </p:nvPicPr>
        <p:blipFill>
          <a:blip r:embed="rId1"/>
          <a:srcRect l="25907" t="0" r="24384" b="-1512"/>
          <a:stretch/>
        </p:blipFill>
        <p:spPr>
          <a:xfrm>
            <a:off x="6012000" y="189000"/>
            <a:ext cx="2714400" cy="55436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7"/>
          <p:cNvSpPr/>
          <p:nvPr/>
        </p:nvSpPr>
        <p:spPr>
          <a:xfrm>
            <a:off x="1476360" y="835560"/>
            <a:ext cx="403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У любого перекрёстка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Нас встречает светофор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И заводит очень просто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С пешеходом разговор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356000" y="115560"/>
            <a:ext cx="4176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Полосатая лошад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вам подскажет на пут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Где дорогу перейти... </a:t>
            </a:r>
            <a:br>
              <a:rPr sz="2800"/>
            </a:br>
            <a:r>
              <a:rPr b="1" lang="ru-RU" sz="1400" spc="-1" strike="noStrike">
                <a:solidFill>
                  <a:srgbClr val="66ccff"/>
                </a:solidFill>
                <a:latin typeface="Tahoma"/>
              </a:rPr>
              <a:t>(Пешеходный переход - "Зебра") </a:t>
            </a:r>
            <a:br>
              <a:rPr sz="1400"/>
            </a:br>
            <a:br>
              <a:rPr sz="28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img1"/>
          <p:cNvPicPr/>
          <p:nvPr/>
        </p:nvPicPr>
        <p:blipFill>
          <a:blip r:embed="rId1"/>
          <a:srcRect l="5914" t="3751" r="4014" b="1748"/>
          <a:stretch/>
        </p:blipFill>
        <p:spPr>
          <a:xfrm>
            <a:off x="1403280" y="115920"/>
            <a:ext cx="2649600" cy="2881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250920" y="4600440"/>
            <a:ext cx="46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330026694634_66125_peshexod-2"/>
          <p:cNvPicPr/>
          <p:nvPr/>
        </p:nvPicPr>
        <p:blipFill>
          <a:blip r:embed="rId2"/>
          <a:stretch/>
        </p:blipFill>
        <p:spPr>
          <a:xfrm>
            <a:off x="5076720" y="2637000"/>
            <a:ext cx="3916440" cy="4049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250920" y="2842920"/>
            <a:ext cx="396072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а пути ребят – дорога,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Транспорт ездит быстро, много.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ветофора рядом нет,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Знак дорожный даст совет.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адо, чуть вперед пройти,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Там, где «Зебра» на пути.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«Пешеходный переход» –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Можно двигаться вперед.</a:t>
            </a: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66ccff"/>
                </a:solidFill>
                <a:latin typeface="Tahoma"/>
              </a:rPr>
              <a:t>«ПЕШЕХОДНЫЙ ПЕРЕХОД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1844280"/>
            <a:ext cx="34322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Это очень важный знак,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Он висит не просто так.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Будь внимательней, шофер!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Рядом садик, школьный двор.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(Предупреждающий знак «Дети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5" descr="vnimanie deti"/>
          <p:cNvPicPr/>
          <p:nvPr/>
        </p:nvPicPr>
        <p:blipFill>
          <a:blip r:embed="rId1"/>
          <a:srcRect l="6280" t="1598" r="4252" b="764"/>
          <a:stretch/>
        </p:blipFill>
        <p:spPr>
          <a:xfrm>
            <a:off x="3780000" y="620640"/>
            <a:ext cx="5113080" cy="4464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detia-148"/>
          <p:cNvPicPr/>
          <p:nvPr/>
        </p:nvPicPr>
        <p:blipFill>
          <a:blip r:embed="rId2"/>
          <a:stretch/>
        </p:blipFill>
        <p:spPr>
          <a:xfrm>
            <a:off x="1187280" y="189000"/>
            <a:ext cx="156384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5:19:09Z</dcterms:created>
  <dc:creator>й</dc:creator>
  <dc:description/>
  <dc:language>en-US</dc:language>
  <cp:lastModifiedBy>Венера</cp:lastModifiedBy>
  <dcterms:modified xsi:type="dcterms:W3CDTF">2022-11-01T17:00:36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