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8.gif" ContentType="image/gi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D5E-3C3C-422C-B990-349A50A0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2C1-8D49-4FE7-AE6B-EE79D767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254-707E-49D4-8C37-99E34978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9B0-941E-43E7-BF44-1ECDC32D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6855-BD9D-4E01-A48C-C0894188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33C-C0B4-473D-930F-F07E8FC5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2D6B-B98A-453F-B6CF-C2B89145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92EB-21E5-43E5-9C63-95A590C0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9C23-6B05-4F29-B938-2BA623C1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C05F-C529-4C2E-A46A-AAE532FD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3F68-5C40-41C6-8110-562F73D8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C5B-9C86-4E1D-A44A-FD6732AB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7AE2-08CE-4F35-8DBB-5A3CC4A6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BC7A-806C-4727-A720-7695B31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B35D-2AD1-41E2-9CA7-4FFFBD7D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C5F9-B5F6-4978-9872-3A8610B8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DE6A-7CF0-4403-B013-C4A2FB06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C4C-136F-4FD5-9203-F8A41051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046-538B-47BC-AC52-563348AE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F7B-E310-4338-9FD6-29F5CEEF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73D-9ED7-4DC8-BC69-4A8025FA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909-E0D2-403C-8792-6CD41A4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BA6-7209-44B8-A942-81B73340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B99-AF4D-48A9-B965-DA934E2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EE67-D75E-449B-B658-2B7FA4E18E6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EB73-0B44-47F4-A7A3-4F3AD2C0745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МБДОУ Детский сад №293 городского округа город  Уфа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 Республики Башкортостан</a:t>
            </a:r>
            <a:br>
              <a:rPr sz="1800"/>
            </a:b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ила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орожного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движения для малыш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5" descr="0_a4fe2_6fd873d0_XL"/>
          <p:cNvPicPr/>
          <p:nvPr/>
        </p:nvPicPr>
        <p:blipFill>
          <a:blip r:embed="rId1"/>
          <a:stretch/>
        </p:blipFill>
        <p:spPr>
          <a:xfrm>
            <a:off x="1908000" y="2349360"/>
            <a:ext cx="3002040" cy="38530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5292720" y="55069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: воспитатель Гайнуллина Венера Вази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916360" y="2709000"/>
            <a:ext cx="606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пособ безопасный самы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ерейти дорогу с ма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ж она не подвед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с за ручку довед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о гораздо будет лучш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Если нас она науч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к без бед и по у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делать это сам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siostra"/>
          <p:cNvPicPr/>
          <p:nvPr/>
        </p:nvPicPr>
        <p:blipFill>
          <a:blip r:embed="rId1"/>
          <a:stretch/>
        </p:blipFill>
        <p:spPr>
          <a:xfrm>
            <a:off x="3924360" y="115920"/>
            <a:ext cx="3851280" cy="255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siostra"/>
          <p:cNvPicPr/>
          <p:nvPr/>
        </p:nvPicPr>
        <p:blipFill>
          <a:blip r:embed="rId2"/>
          <a:srcRect l="71155" t="64319" r="0" b="0"/>
          <a:stretch/>
        </p:blipFill>
        <p:spPr>
          <a:xfrm>
            <a:off x="395280" y="4076640"/>
            <a:ext cx="2305080" cy="247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svetofor"/>
          <p:cNvPicPr/>
          <p:nvPr/>
        </p:nvPicPr>
        <p:blipFill>
          <a:blip r:embed="rId3"/>
          <a:stretch/>
        </p:blipFill>
        <p:spPr>
          <a:xfrm>
            <a:off x="468360" y="3789360"/>
            <a:ext cx="2525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tr-lc30_xl"/>
          <p:cNvPicPr/>
          <p:nvPr/>
        </p:nvPicPr>
        <p:blipFill>
          <a:blip r:embed="rId1"/>
          <a:srcRect l="2205" t="2205" r="0" b="6520"/>
          <a:stretch/>
        </p:blipFill>
        <p:spPr>
          <a:xfrm>
            <a:off x="179280" y="3284640"/>
            <a:ext cx="3527640" cy="3292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4572000" y="2990880"/>
            <a:ext cx="41799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Транспорт разный на дорог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Легковой и грузово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Государственный и частны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ассажирский городс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1277372349_101616698_1----42191--1277372349"/>
          <p:cNvPicPr/>
          <p:nvPr/>
        </p:nvPicPr>
        <p:blipFill>
          <a:blip r:embed="rId2"/>
          <a:stretch/>
        </p:blipFill>
        <p:spPr>
          <a:xfrm>
            <a:off x="179280" y="115920"/>
            <a:ext cx="5329440" cy="319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iгруз"/>
          <p:cNvPicPr/>
          <p:nvPr/>
        </p:nvPicPr>
        <p:blipFill>
          <a:blip r:embed="rId3"/>
          <a:srcRect l="10758" t="6047" r="4989" b="6689"/>
          <a:stretch/>
        </p:blipFill>
        <p:spPr>
          <a:xfrm>
            <a:off x="5435640" y="115920"/>
            <a:ext cx="37083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51181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ahoma"/>
              </a:rPr>
              <a:t>Спецтранспорт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50920" y="432360"/>
            <a:ext cx="3598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шат по дорогам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ашины, машины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ише ход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по дорог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цтранспорт идёт!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Должны  уступ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се им дор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спешат к люд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и на подмогу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У спецмашины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ложна и трудна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Но как она людям 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всюду нужн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1" descr="1358"/>
          <p:cNvPicPr/>
          <p:nvPr/>
        </p:nvPicPr>
        <p:blipFill>
          <a:blip r:embed="rId1"/>
          <a:srcRect l="9598" t="26380" r="6945" b="20120"/>
          <a:stretch/>
        </p:blipFill>
        <p:spPr>
          <a:xfrm>
            <a:off x="3708360" y="3213000"/>
            <a:ext cx="54356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jkjl"/>
          <p:cNvPicPr/>
          <p:nvPr/>
        </p:nvPicPr>
        <p:blipFill>
          <a:blip r:embed="rId1"/>
          <a:stretch/>
        </p:blipFill>
        <p:spPr>
          <a:xfrm>
            <a:off x="2843280" y="2133720"/>
            <a:ext cx="5734080" cy="45115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2500920" y="257400"/>
            <a:ext cx="61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сторонитесь! Дорогу! Дорогу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корая помощь летит на подмогу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риказ постового: "Стоять! Хода нет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олько для "Скорой" Зеленый свет!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iliciya(1)"/>
          <p:cNvPicPr/>
          <p:nvPr/>
        </p:nvPicPr>
        <p:blipFill>
          <a:blip r:embed="rId1"/>
          <a:stretch/>
        </p:blipFill>
        <p:spPr>
          <a:xfrm>
            <a:off x="2268360" y="2276640"/>
            <a:ext cx="6409080" cy="4273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2340000" y="160920"/>
            <a:ext cx="63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лицейская маш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м мелькает глазом сини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А её сирены зв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ышен далеко вокр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acp66"/>
          <p:cNvPicPr/>
          <p:nvPr/>
        </p:nvPicPr>
        <p:blipFill>
          <a:blip r:embed="rId1"/>
          <a:stretch/>
        </p:blipFill>
        <p:spPr>
          <a:xfrm>
            <a:off x="1835280" y="1916280"/>
            <a:ext cx="6900840" cy="4760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2268360" y="186840"/>
            <a:ext cx="54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чат пожарные машины. 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 них отважные мужчи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 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Едут быстро на пожар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беждать огонь и ж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7" descr="000011"/>
          <p:cNvPicPr/>
          <p:nvPr/>
        </p:nvPicPr>
        <p:blipFill>
          <a:blip r:embed="rId1"/>
          <a:srcRect l="8618" t="2476" r="11425" b="3650"/>
          <a:stretch/>
        </p:blipFill>
        <p:spPr>
          <a:xfrm>
            <a:off x="6300720" y="189000"/>
            <a:ext cx="2665440" cy="5472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"/>
          <p:cNvSpPr/>
          <p:nvPr/>
        </p:nvSpPr>
        <p:spPr>
          <a:xfrm>
            <a:off x="1619280" y="140760"/>
            <a:ext cx="3848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площадей и перекрестков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меня глядит в упор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виду грозный и серьезны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олговязый светофо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 вежливый, и строгий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звестен на весь мир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на улице широки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амый главный команди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У него глаза цветные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 глаза, а три огня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по очереди ими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мотрит сверху на мен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его конечно знаю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а и как его не знать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отлично понимаю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Все, что хочет он сказат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33810e682165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8085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395280" y="15768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олосатый переход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ешеходов разных ждет: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коляской мама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собачкой дама,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5003640" y="189000"/>
            <a:ext cx="3861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сет малыш иг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тарик ведет ста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ве девочки идут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ашины смирно жду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2e0c04edb8fd"/>
          <p:cNvPicPr/>
          <p:nvPr/>
        </p:nvPicPr>
        <p:blipFill>
          <a:blip r:embed="rId1"/>
          <a:stretch/>
        </p:blipFill>
        <p:spPr>
          <a:xfrm>
            <a:off x="971640" y="1844640"/>
            <a:ext cx="3816360" cy="4753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4788000" y="799920"/>
            <a:ext cx="396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Делаем ребятам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едостережени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Выучите срочно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АВИЛА ДВИЖЕНИЯ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не волнов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ждый день родител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спокойно мч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лицей водител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3b19422d008"/>
          <p:cNvPicPr/>
          <p:nvPr/>
        </p:nvPicPr>
        <p:blipFill>
          <a:blip r:embed="rId1"/>
          <a:stretch/>
        </p:blipFill>
        <p:spPr>
          <a:xfrm>
            <a:off x="1547640" y="1916280"/>
            <a:ext cx="5820120" cy="1931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920" y="3860280"/>
            <a:ext cx="7128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ff"/>
                </a:solidFill>
                <a:latin typeface="Times New Roman"/>
                <a:ea typeface="Times New Roman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30006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Изучаем правила дорожного движени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Picture 4" descr="1293397147_dorozhn-fon"/>
          <p:cNvPicPr/>
          <p:nvPr/>
        </p:nvPicPr>
        <p:blipFill>
          <a:blip r:embed="rId1"/>
          <a:stretch/>
        </p:blipFill>
        <p:spPr>
          <a:xfrm>
            <a:off x="4227480" y="333360"/>
            <a:ext cx="4743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400_F_12949556_PrYSZE3YD5sBfMkkneyNnCqJWHI7qjS5"/>
          <p:cNvPicPr/>
          <p:nvPr/>
        </p:nvPicPr>
        <p:blipFill>
          <a:blip r:embed="rId1"/>
          <a:srcRect l="10311" t="4656" r="10311" b="3217"/>
          <a:stretch/>
        </p:blipFill>
        <p:spPr>
          <a:xfrm>
            <a:off x="4859280" y="333360"/>
            <a:ext cx="4032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116000" y="1343160"/>
            <a:ext cx="345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егулирует движ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ожное приспособл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д названьем СВЕТОФ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ветит ярко он нам с вами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азноцветными огням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И про них наш разгов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001707383-preview"/>
          <p:cNvPicPr/>
          <p:nvPr/>
        </p:nvPicPr>
        <p:blipFill>
          <a:blip r:embed="rId1"/>
          <a:srcRect l="10256" t="7550" r="14011" b="3606"/>
          <a:stretch/>
        </p:blipFill>
        <p:spPr>
          <a:xfrm>
            <a:off x="5364000" y="189000"/>
            <a:ext cx="356724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1547640" y="259200"/>
            <a:ext cx="352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Загорелся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красный Свет,</a:t>
            </a: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Это значит – хода нет.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ветофор сигналит строго: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«Не ходите на дорогу!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крас"/>
          <p:cNvPicPr/>
          <p:nvPr/>
        </p:nvPicPr>
        <p:blipFill>
          <a:blip r:embed="rId2"/>
          <a:srcRect l="14848" t="12904" r="10862" b="11764"/>
          <a:stretch/>
        </p:blipFill>
        <p:spPr>
          <a:xfrm>
            <a:off x="324000" y="4581360"/>
            <a:ext cx="1790640" cy="208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400_F_12949556_PrYSZE3YD5sBfMkkneyNnCqJWHI7qjS5"/>
          <p:cNvPicPr/>
          <p:nvPr/>
        </p:nvPicPr>
        <p:blipFill>
          <a:blip r:embed="rId3"/>
          <a:srcRect l="38695" t="15964" r="38667" b="62780"/>
          <a:stretch/>
        </p:blipFill>
        <p:spPr>
          <a:xfrm>
            <a:off x="468360" y="5307120"/>
            <a:ext cx="287280" cy="26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16135813_imgi7196w640"/>
          <p:cNvPicPr/>
          <p:nvPr/>
        </p:nvPicPr>
        <p:blipFill>
          <a:blip r:embed="rId1"/>
          <a:srcRect l="14443" t="2839" r="30758" b="3078"/>
          <a:stretch/>
        </p:blipFill>
        <p:spPr>
          <a:xfrm>
            <a:off x="5878440" y="189000"/>
            <a:ext cx="2828880" cy="64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2050920" y="777600"/>
            <a:ext cx="288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Если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елтый свет горит</a:t>
            </a: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,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Подождать он нам вели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zheltyi-signal-svetofora-0000950235-preview"/>
          <p:cNvPicPr/>
          <p:nvPr/>
        </p:nvPicPr>
        <p:blipFill>
          <a:blip r:embed="rId2"/>
          <a:srcRect l="13644" t="14360" r="9856" b="11920"/>
          <a:stretch/>
        </p:blipFill>
        <p:spPr>
          <a:xfrm>
            <a:off x="250920" y="4365720"/>
            <a:ext cx="1920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stock-photo-green-light-on-black-traffic-signal-small-grip-53208046"/>
          <p:cNvPicPr/>
          <p:nvPr/>
        </p:nvPicPr>
        <p:blipFill>
          <a:blip r:embed="rId1"/>
          <a:srcRect l="32874" t="3242" r="-1181" b="28902"/>
          <a:stretch/>
        </p:blipFill>
        <p:spPr>
          <a:xfrm>
            <a:off x="5508720" y="189000"/>
            <a:ext cx="3427200" cy="5329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32000" y="475200"/>
            <a:ext cx="403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А когда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горит зелёный,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Это значит – путь свободный.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ветофор вам говорит: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«Переход для вас открыт!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зел"/>
          <p:cNvPicPr/>
          <p:nvPr/>
        </p:nvPicPr>
        <p:blipFill>
          <a:blip r:embed="rId2"/>
          <a:srcRect l="16569" t="16218" r="10955" b="11645"/>
          <a:stretch/>
        </p:blipFill>
        <p:spPr>
          <a:xfrm>
            <a:off x="179280" y="4365720"/>
            <a:ext cx="201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339e42e7119a6a4eb028cc49458a0c8f6dad4488218811"/>
          <p:cNvPicPr/>
          <p:nvPr/>
        </p:nvPicPr>
        <p:blipFill>
          <a:blip r:embed="rId1"/>
          <a:srcRect l="25907" t="0" r="24384" b="-1512"/>
          <a:stretch/>
        </p:blipFill>
        <p:spPr>
          <a:xfrm>
            <a:off x="6012000" y="189000"/>
            <a:ext cx="2714400" cy="5543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1476360" y="835560"/>
            <a:ext cx="403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У любого перекрёстка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Нас встречает светофор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И заводит очень просто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 пешеходом разговор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56000" y="115560"/>
            <a:ext cx="417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Полосатая лошад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вам подскажет на пу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Где дорогу перейти... </a:t>
            </a:r>
            <a:br>
              <a:rPr sz="2800"/>
            </a:br>
            <a:r>
              <a:rPr b="1" lang="ru-RU" sz="1400" spc="-1" strike="noStrike">
                <a:solidFill>
                  <a:srgbClr val="66ccff"/>
                </a:solidFill>
                <a:latin typeface="Tahoma"/>
              </a:rPr>
              <a:t>(Пешеходный переход - "Зебра") </a:t>
            </a:r>
            <a:br>
              <a:rPr sz="1400"/>
            </a:b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mg1"/>
          <p:cNvPicPr/>
          <p:nvPr/>
        </p:nvPicPr>
        <p:blipFill>
          <a:blip r:embed="rId1"/>
          <a:srcRect l="5914" t="3751" r="4014" b="1748"/>
          <a:stretch/>
        </p:blipFill>
        <p:spPr>
          <a:xfrm>
            <a:off x="1403280" y="115920"/>
            <a:ext cx="2649600" cy="2881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250920" y="460044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330026694634_66125_peshexod-2"/>
          <p:cNvPicPr/>
          <p:nvPr/>
        </p:nvPicPr>
        <p:blipFill>
          <a:blip r:embed="rId2"/>
          <a:stretch/>
        </p:blipFill>
        <p:spPr>
          <a:xfrm>
            <a:off x="5076720" y="2637000"/>
            <a:ext cx="3916440" cy="404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250920" y="2842920"/>
            <a:ext cx="3960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пути ребят – дорога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ранспорт ездит быстро, много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ветофора рядом нет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Знак дорожный даст совет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до, чуть вперед пройти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ам, где «Зебра» на пути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«Пешеходный переход» –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ожно двигаться вперед.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66ccff"/>
                </a:solidFill>
                <a:latin typeface="Tahoma"/>
              </a:rPr>
              <a:t>«ПЕШЕХОДНЫЙ ПЕРЕХОД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3432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Это очень важный знак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 висит не просто так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Будь внимательней, шофер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Рядом садик, школьный двор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(Предупреждающий знак «Дети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vnimanie deti"/>
          <p:cNvPicPr/>
          <p:nvPr/>
        </p:nvPicPr>
        <p:blipFill>
          <a:blip r:embed="rId1"/>
          <a:srcRect l="6280" t="1598" r="4252" b="764"/>
          <a:stretch/>
        </p:blipFill>
        <p:spPr>
          <a:xfrm>
            <a:off x="3780000" y="620640"/>
            <a:ext cx="5113080" cy="4464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detia-148"/>
          <p:cNvPicPr/>
          <p:nvPr/>
        </p:nvPicPr>
        <p:blipFill>
          <a:blip r:embed="rId2"/>
          <a:stretch/>
        </p:blipFill>
        <p:spPr>
          <a:xfrm>
            <a:off x="1187280" y="189000"/>
            <a:ext cx="15638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5:19:09Z</dcterms:created>
  <dc:creator>й</dc:creator>
  <dc:description/>
  <dc:language>en-US</dc:language>
  <cp:lastModifiedBy>Венера</cp:lastModifiedBy>
  <dcterms:modified xsi:type="dcterms:W3CDTF">2022-11-01T17:00:3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