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BE4-F288-410A-8441-7EE80458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DA5-16A2-40FD-ADC4-C395B56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3A1-B2B4-4F82-9ECC-B8F363D5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09B-CA9B-4C83-9D27-B90EC230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82C-6FB0-4330-8F28-D6AF90FF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4A8-D35C-4575-8B66-A8978FA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C12-67A9-4431-BF2F-6AD7EF2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84A-98F2-47CF-8884-6A2C6D65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595-1CB6-4F9A-949C-D1E36F7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5F8-B93E-4928-9092-571CDC7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2FF-DAA9-47E7-8167-5B1791D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1B8-E6F6-4081-9E77-6304EC5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08E951-1E3E-4128-837B-969308D71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53805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116000" y="96876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ситуации как средства развития творческого мышления младших школьников на уроках математики по системе Л.В.Занк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4497480"/>
            <a:ext cx="8496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ечуха Ирина Анатол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п. Новоорс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иноградова Е. 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п.н., доцент кафедры дидак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частных методик ИПК ППРООГП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мыслительные опер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нализ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интез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равн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бстракц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кретизация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б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33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практическо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нятийное    образное         наглядно-образное     наглядно-действен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4"/>
          <p:cNvCxnSpPr/>
          <p:nvPr/>
        </p:nvCxnSpPr>
        <p:spPr>
          <a:xfrm flipH="1">
            <a:off x="1907640" y="764640"/>
            <a:ext cx="936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6"/>
          <p:cNvCxnSpPr/>
          <p:nvPr/>
        </p:nvCxnSpPr>
        <p:spPr>
          <a:xfrm>
            <a:off x="6227640" y="691920"/>
            <a:ext cx="937440" cy="43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8"/>
          <p:cNvCxnSpPr/>
          <p:nvPr/>
        </p:nvCxnSpPr>
        <p:spPr>
          <a:xfrm flipH="1">
            <a:off x="684000" y="1484280"/>
            <a:ext cx="5752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0"/>
          <p:cNvCxnSpPr/>
          <p:nvPr/>
        </p:nvCxnSpPr>
        <p:spPr>
          <a:xfrm>
            <a:off x="2050560" y="1484280"/>
            <a:ext cx="36108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2"/>
          <p:cNvCxnSpPr/>
          <p:nvPr/>
        </p:nvCxnSpPr>
        <p:spPr>
          <a:xfrm flipH="1">
            <a:off x="5363640" y="1483920"/>
            <a:ext cx="1153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>
            <a:off x="7956720" y="1484280"/>
            <a:ext cx="79272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умозаключен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стин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лож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част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единич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10"/>
          <p:cNvCxnSpPr/>
          <p:nvPr/>
        </p:nvCxnSpPr>
        <p:spPr>
          <a:xfrm flipH="1">
            <a:off x="1042560" y="2420640"/>
            <a:ext cx="29534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2"/>
          <p:cNvCxnSpPr/>
          <p:nvPr/>
        </p:nvCxnSpPr>
        <p:spPr>
          <a:xfrm flipH="1">
            <a:off x="2916000" y="2420640"/>
            <a:ext cx="1296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4"/>
          <p:cNvCxnSpPr/>
          <p:nvPr/>
        </p:nvCxnSpPr>
        <p:spPr>
          <a:xfrm>
            <a:off x="4427280" y="2420640"/>
            <a:ext cx="108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6"/>
          <p:cNvCxnSpPr/>
          <p:nvPr/>
        </p:nvCxnSpPr>
        <p:spPr>
          <a:xfrm>
            <a:off x="4932000" y="2420640"/>
            <a:ext cx="93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18"/>
          <p:cNvCxnSpPr/>
          <p:nvPr/>
        </p:nvCxnSpPr>
        <p:spPr>
          <a:xfrm>
            <a:off x="5148360" y="2349360"/>
            <a:ext cx="2304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стин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лож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част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единич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озаключени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ндуктивное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дедуктивное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по аналог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0"/>
          <p:cNvCxnSpPr/>
          <p:nvPr/>
        </p:nvCxnSpPr>
        <p:spPr>
          <a:xfrm flipH="1">
            <a:off x="1042560" y="2420640"/>
            <a:ext cx="29534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12"/>
          <p:cNvCxnSpPr/>
          <p:nvPr/>
        </p:nvCxnSpPr>
        <p:spPr>
          <a:xfrm flipH="1">
            <a:off x="2916000" y="2420640"/>
            <a:ext cx="1296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4"/>
          <p:cNvCxnSpPr/>
          <p:nvPr/>
        </p:nvCxnSpPr>
        <p:spPr>
          <a:xfrm>
            <a:off x="4427280" y="227664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6"/>
          <p:cNvCxnSpPr/>
          <p:nvPr/>
        </p:nvCxnSpPr>
        <p:spPr>
          <a:xfrm>
            <a:off x="4932000" y="2420640"/>
            <a:ext cx="93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8"/>
          <p:cNvCxnSpPr/>
          <p:nvPr/>
        </p:nvCxnSpPr>
        <p:spPr>
          <a:xfrm>
            <a:off x="5148360" y="2349360"/>
            <a:ext cx="2304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/>
          <p:nvPr/>
        </p:nvCxnSpPr>
        <p:spPr>
          <a:xfrm flipH="1">
            <a:off x="2268360" y="4149720"/>
            <a:ext cx="1440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17"/>
          <p:cNvCxnSpPr/>
          <p:nvPr/>
        </p:nvCxnSpPr>
        <p:spPr>
          <a:xfrm>
            <a:off x="4571640" y="4005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20"/>
          <p:cNvCxnSpPr/>
          <p:nvPr/>
        </p:nvCxnSpPr>
        <p:spPr>
          <a:xfrm>
            <a:off x="5435280" y="4149720"/>
            <a:ext cx="12978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обенность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ворческого мышлени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 интеллектуальной системы - это умение анализировать любые проблемы, устанавливать системные связи, выявлять противоречия, находить для них решение на уровне идеальных, прогнозировать возможные варианты развит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ые исследователи творческого мышления, как психологического процесс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П. Энгельмейер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910) разделил его на три ча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выдвижения гипоте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логически проработанной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2440" indent="-26244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ые исследователи творческого мышления, как психологического процесс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П. Энгельмейер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910) разделил его на три ча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выдвижения гипоте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логически проработанной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Г. Уоллес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1924г.) получил четырехфазный проце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подготовки иде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созревания иде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оза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проверк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60-х годах XX 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рубежная психолог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Дж. Гилфорд, Н. Марш, Ф. Хеддон, Л. Кронбах, Е.П. Торрен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атив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ышление, связанное с созданием или открытием чего-либо нов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данной темы в том, что именно проблемные ситуации, направленные на развитие творческого мышления, активизируют такие качества личности к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ходчив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образитель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особность к нестандартным решения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ибкость у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особность к творческой переработке все возрастающего потока информ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тремление к открытию нового для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развитие творческого мышления школьников на уроках математики по системе Л.В.Зан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использование проблемных ситуаций на уроках математики в начальной школе как средство развития творческого мышле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ж. Гилфорд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делил 16 гипотетических интеллектуальных способностей, характеризующих креатив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реди ни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еглость мысли - количество идей, возникающих в единицу време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ибкость мысли - способность переключаться с одной идеи на другу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ригинальность - способность производить идеи, отличающиеся от общепринятых взгля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любознательность - чувствительность к проблемам в окружающем ми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5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к разработке гипотез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6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ирреальность - логическая независимость реакции от стиму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антастичность - полная оторванность ответа от реальности при наличии логической связи между стимулом и реакци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решать проблемы, то есть способность к анализу и синтез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9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усовершенствовать объект, добавляя дета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0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так да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Е.П. Торрес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деляет четыре основных параметра, характеризующих креативно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егкость - быстрота выполнения текстовых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ибкость - число переключений с одного класса объектов на другой в ходе отве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ригинальность - минимальная частота данного ответа к однородной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очность выполнения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.Б. Богоявленской,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.Б. Богоявленско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Д.Б. Богоявленской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Я.А. Пономарев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уть творческого мышления сводится к интеллектуальной активности и чувственности (сензитивности) к побочным продуктам сво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Д.Б. Богоявленской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Я.А. Пономарев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уть творческого мышления сводится к интеллектуальной активности и чувственности (сензитивности) к побочным продуктам сво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А.  Крутецкий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 творческому мышлению относит следующие «не существенные» компоненты: быстрота мыслительных процессов как временная характеристика; вычислительные способности; память на цифры, числа, формулы; способность к пространственным отношениям; способность наглядно представлять абстрактные математические отношения и зависимост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орческое мышле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мышление, связанное с созданием или открытием принципиально нового субъективного знания, с генерацией собственных оригинальных и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орческое мышле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мышление, связанное с созданием или открытием принципиально нового субъективного знания, с генерацией собственных оригинальных и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2349000"/>
            <a:ext cx="9144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творческое 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гл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ибкость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игин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Прямая со стрелкой 4"/>
          <p:cNvCxnSpPr/>
          <p:nvPr/>
        </p:nvCxnSpPr>
        <p:spPr>
          <a:xfrm>
            <a:off x="3995280" y="342864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6"/>
          <p:cNvCxnSpPr/>
          <p:nvPr/>
        </p:nvCxnSpPr>
        <p:spPr>
          <a:xfrm flipH="1">
            <a:off x="1186920" y="3499920"/>
            <a:ext cx="43272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8"/>
          <p:cNvCxnSpPr/>
          <p:nvPr/>
        </p:nvCxnSpPr>
        <p:spPr>
          <a:xfrm>
            <a:off x="7235640" y="3499920"/>
            <a:ext cx="14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ительные особенности уроков математики по системе Л.В. Занк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ногоаспект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сутствие четкого их разделения на привычные этапы: повторение, изучение нового материала, закрепление, а также проверка домашней работы и сообщение о новом зад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ктивно используется технология проблемно-диалогического об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260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– показать, как использование проблемных ситуаций на уроках математики по системе Л.В.Занкова влияют на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азвитие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анализировать психолого-педагогическую литературу по проблеме исслед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аскрыть сущность проблемного обучения и его роль в развитии творческого мышления младших школь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анализировать реализацию проблемного обучения на уроках математики по системе Л.В.Занкова в начальной шк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ыявить, способствует ли проблемное обучение математике по системе Л.В.Занкова развитию творческого мышлени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ические приёмы создания проблемных ситуаций на уро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учитель подводит школьников к противоречию и предлагает им самим найти способ его разреш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талкивает противоречия практическо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злагает различные точки зрения на один и тот же вопро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едлагает классу рассмотреть явление с различных позици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обуждает обучаемых делать сравнения, обобщения, выводы из ситуации, сопоставлять фак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тавит конкретные вопросы (на обобщение, обоснования, конкретизацию, логику рассужд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ределяет проблемные теоретические и практические зад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едлагает решение задач нестандартного тип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блемная ситуация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омогает решить следующие задач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на уро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ствует эффективному накоплению каждым ребенком своего собственного личного опы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лагает детям на выбор различные учебные задания и формы работы, поощряет их к самостоятельному поиску путей решения этих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являет реальные интересы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ает возможность вести личностно ориентированную работу с каждым ребенк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могает детям самостоятельно спланировать свою дея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ощряет детей самостоятельно оценивать результаты их работы и исправлять допущенные ошиб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ит детей самостоятельно вырабатывать правила поведения и контролировать их соблюд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буждает детей обсуждать возникающие между ними конфликтные ситуации и самостоятельно искать пути их раз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игурный тест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орренса  «Дорисовывание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сканирование0007.jpg"/>
          <p:cNvPicPr/>
          <p:nvPr/>
        </p:nvPicPr>
        <p:blipFill>
          <a:blip r:embed="rId1"/>
          <a:stretch/>
        </p:blipFill>
        <p:spPr>
          <a:xfrm>
            <a:off x="2484360" y="981000"/>
            <a:ext cx="40435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ровни развития творческого мышления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3743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0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высо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еделение учащихся по уровням развития творческого мышления учащихся   1 «А» (экспериментального), 1 «В» (контрольного) классов перед началом эксперимента.  (в 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011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авнительная диаграмма распределения уровня творческого мышления учащихся 1 «А», 1 «В» классов перед началом эксперимен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8794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49120" indent="-24912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ительные особенности уроков математики по системе Л.В. Занк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ногоаспект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Найти значения сумм: 5+3, 3+2, 7+2, 4+4. (дети находят значения и записывают ответы в строчк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Послушайте внимательно: это непростое задание. «Значения каких других выражений можно найти при помощи записанных равенств?» (после некоторого раздумья дети начинают поднимать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могу по равенству 5+3=8 узнать, сколько будет 5+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не поняла, как ты узнаешь. Дока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Из 8 отнять 1 будет 7, так как 2 меньше 3 н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 дети в классе оживляются, начинают предлагать свои вариан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знаю, что 4+3=7, так как 4+4-8, а меньше 4 н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В равенство 5+3 поставим вместо 5 шесть и получим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тсутствие четкого их разделения на привычные этапы: повторение, изучение нового материала, закрепление, а также проверка домашней работы и сообщение о новом зада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) найди значения сумм, сделав подробную запись: 38+49,   27+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) как ты можешь выполнить действия короче? Сделай такую зап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) найди значения разностей, сделав подробную запись: 94-31, 87 -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) подумай, как можно короче записать выполнение вычитания, постарайся предложить свой способ ( познакомились с вычитанием в столб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ехнология проблемно-диалогическ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«Вычитание двузначных чисел с переходом через разря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5 – 20, 98 -25, 15 – 8, 86 – 43, 60 - 20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75 –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обуждающий диалог, направленный на осознание затруднения и формулирование проблемы.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чему затрудняетесь в нахождении результата? – Мы такие ещё не реш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чём затруднение? Не умеем вычитать из меньшего числа больш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то догадался, какая задача стоит сегодня перед ва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одводящий диалог, помогающий выбрать верный вариант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ой вариант решения наиболее удобный? (Сравнив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ие выражения, встретившиеся в устном счёте, помогли бы найти значение выражения ( 75 – 20,  15 – 8, 60 - 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0560" y="285840"/>
            <a:ext cx="8713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етодические приёмы создания проблемных ситуаций на уро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решение задач нестандартного ти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сформулированным вопросо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ы сделали покупку. Если  заплатить  за   нее трехрублевыми деньгами,   то   придется    выдать   восемью денежными знаками более, чем в том случае, если заплатить пятирублевыми.   (Сколько стоит покупка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достающими данны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анка с медом весит 500 г. Такая же банка с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еросином – 350г. Сколько весит пустая банка? (Нужно знать отношение веса меда и керосина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излишними данным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Четыре гири разного веса весят вместе 40 кг. Определить вес самой тяжелой гири,  если известно, что каждая их них втрое тяжелее другой, более легкой, и что самая легкая весит в 12 раз меньше, чем весят вместе две средних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сколькими решения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четырех классах всего  118 учеников, в том числе в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классах вместе — 70 учеников;   в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и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месте — 65 учеников:   во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и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вместе — 59  учеников. Сколько учеников в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классе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меняющимся содержани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 на соображение, логическое мышле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коробке лежат 16 шариков — черных, белых и красных. Красных шариков   в 7   раз   меньше, чем белых. Сколько в коробке черных шариков? (Решить и доказать.    Доказать,   что это — единственный  ва­риант решения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уровень творческого мышления младших школьников на               уроках математики повышается при использовании проблемных заданий, заданий на развитие гибкости, беглости и оригинальности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ы исследов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еоретический – анализ психологической, педагогической и методической литературы по те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циолого-педагогический – анализ работ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татистический – обработка полученных данных в ходе тестирования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авнительная диаграмма определение уровня творческого мышления учащихся2 «А», 2 «В» классов после проведения формирующего эксперимента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47760" y="1773360"/>
            <a:ext cx="879624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еделение учащихся по уровням развития творческого мышления  (в %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38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А»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В»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высо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197000"/>
          <a:ext cx="8229600" cy="38545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63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26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56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выполнения задания повышенной трудности в экспериментальном 2 «А» и контрольном 2 «В» класс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р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97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Школьный этап всероссийской олимпиады по матема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3" descr="сканирование0035.jpg"/>
          <p:cNvPicPr/>
          <p:nvPr/>
        </p:nvPicPr>
        <p:blipFill>
          <a:blip r:embed="rId1"/>
          <a:stretch/>
        </p:blipFill>
        <p:spPr>
          <a:xfrm>
            <a:off x="3132000" y="1125360"/>
            <a:ext cx="3014640" cy="4526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сканирование0004.jpg"/>
          <p:cNvPicPr/>
          <p:nvPr/>
        </p:nvPicPr>
        <p:blipFill>
          <a:blip r:embed="rId2"/>
          <a:stretch/>
        </p:blipFill>
        <p:spPr>
          <a:xfrm>
            <a:off x="250920" y="1628640"/>
            <a:ext cx="2911320" cy="4464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сканирование0002.jpg"/>
          <p:cNvPicPr/>
          <p:nvPr/>
        </p:nvPicPr>
        <p:blipFill>
          <a:blip r:embed="rId3"/>
          <a:stretch/>
        </p:blipFill>
        <p:spPr>
          <a:xfrm>
            <a:off x="6137280" y="2060640"/>
            <a:ext cx="300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спользование проблемных ситуаций  должно быть рациональны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пользоваться для развития самостоятельности мышления, исследовательских умений, творческого подхода к де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пользоваться, когда содержание материала имеет средний уровень слож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чащиеся должны быть подготовлены к проблемному изучению т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читель должен хорошо владеть методами проблемной технологии, уметь ставить проблемы и иметь время для проблемного изучения темы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ворчество на деле существует не только там, где создают великие творческие произведения, но и везде там, где человек воображает, комбинирует, изменяет и создает что-либо новое, какой бы крупицей ни казалось это новое по сравнению с созданиями гениев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.С. 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аза эксперимента: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У СОШ № 2 п. Новоорск, 2 класс «А»; учитель – Гречуха И. 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актическая знач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отка рекомендаций по совершенствованию процесса формирования творческого мышления младших школь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анная работа может быть полезна для учителей начальных классов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500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сихологи и педагоги, работающие по исследованию в области творческого мыш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31640" y="1197000"/>
          <a:ext cx="8712360" cy="228600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2288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зарубеж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ж. Гилфо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Е.П. Торран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. Терме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. Стернб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. Волл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500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сихологи и педагоги, работающие по исследованию в области творческого мыш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31640" y="1197000"/>
          <a:ext cx="8712360" cy="521172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521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зарубеж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ж. Гилфо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Е.П. Торран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. Терме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. Стернб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. Волл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еч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анилова В.Л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альперин П.Я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лмыкова З.И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огоявленский Д.Б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номарев Я.А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ушкин В.Н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адриков В.Д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ютюнник В.И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едник С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лиева Е.Г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натько Н.М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ружинин В.Н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Хозратова Н.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Основные условия, влияющие на формирование творческого мыш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ндивидуализация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сследовательское обу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блемат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Основные условия, влияющие на формирование творческого мыш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ндивидуализация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сследовательское обу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блемат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сихологи и педагоги, работающие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опросам теории и технологии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А.В. Бруммен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А.М. Матюшк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.Я. Лерне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М.И. Махмут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. Окон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Т.В. Кудрявце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7:37:00Z</dcterms:created>
  <dc:creator>Admin</dc:creator>
  <dc:description/>
  <dc:language>en-US</dc:language>
  <cp:lastModifiedBy>Пользователь Windows</cp:lastModifiedBy>
  <dcterms:modified xsi:type="dcterms:W3CDTF">2022-11-02T18:43:29Z</dcterms:modified>
  <cp:revision>104</cp:revision>
  <dc:subject/>
  <dc:title>Защита системы работы.</dc:title>
</cp:coreProperties>
</file>