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FF4-F6C0-47E4-8B3A-FB61C98E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487-8C6C-4AD2-8E94-93996E0B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025-A618-4CD3-BAFC-DB0B4F58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F98-30B1-469B-A608-03230C5A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383-FFC4-43C3-9641-359B54CD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718C-4CFB-4C06-B574-F27D8D23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3E0A-1EF3-454A-8767-4142F060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089-3DA1-425E-9211-8565842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70B0-FEB1-4FEF-B14A-3D38C83A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11C-5852-4360-B087-B5FD5FF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E681-EB29-45D3-9D89-AC08E831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361-6296-4AB2-86E9-27950FEA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2E3-E402-4F4C-AF53-6F138196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105D-B175-4800-94A0-BEF9006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D254-E94E-41C2-A058-D9D6CACA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7ED7-DFB3-41F1-9568-488B1B7E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A3C2-6EA3-4940-8391-3C6612C7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1365-A1F8-4D7F-98D5-62AE333B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61BE-EEB4-472D-AAB2-9049A7E9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8765-EAE5-42CC-B9C9-F879F24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5D2F-35AB-41EE-87D6-7538FC5A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25B6-AD9C-4EEE-A6CD-8721FD9F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C62-9894-43FA-91A2-C5D20FF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559E-481D-4902-A193-48BC96FA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00C7-687C-41EA-8300-2DE4F95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61E6-0084-49F6-9958-723B713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2D62-DC49-4E5C-813C-AF15719A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E243-CFCB-4EC0-AE47-467B4E82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B05D-FC5A-4DB8-AC22-7CB43C33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D015-E2BF-4F57-9FD1-10D2C839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17BF-739B-466C-8193-B8E86521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BB6C-93D9-41DE-845C-81D221F6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0B47-57B5-461B-B0BE-25C7CF0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952-1777-4934-BF46-4956E34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50B9D-F8A4-4AD6-82CC-7CA578D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4387-C219-4B2E-8770-CAC26B56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2F28-8308-484A-8C11-FABF911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3217-7CAE-422C-AD9A-EA8FBD3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C32CD-315B-4835-99D3-2C228D0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736F-A776-47F1-8D64-A0D7F2FC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45CB-50DE-4D9C-97B3-B40FBE2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E4DF-8F24-4E5C-8117-C9195AB8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AABE-D27A-4144-BC87-536F21DA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1DD6-9346-4083-A9ED-9C02CBC0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C09-4EBC-45E6-8BC0-93BED9B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03E0-03DE-4E35-87A6-A0BEE63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5146-52A5-40C4-8CB4-BD0344AF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07C5-34E7-4BBF-84FE-25E3707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4113-7A83-4514-8B6E-69CB78BA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6D17-B0C1-486B-A4E6-E747AF8C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E9B2-B766-42A9-8E72-09F98EF3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E45ED-5F15-4497-904A-0937138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61DC-9203-4434-B7C4-EC7B12C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E191-3F09-45C0-8FF6-DD941662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9D84-19C3-4431-BE84-3EB47B2C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A91-76C9-461D-B8D7-5A8DEF71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9308-128B-4EE5-9BF7-F4402E1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7E9-FBD2-484B-BE52-D91B15CC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62B-CCC1-4752-A61A-0A3FB1D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2FA-34DB-474C-B567-0C5C024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D8B87-E822-4C10-A8A4-9EA117FCBBAA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668737-BE64-4115-95BA-518D2702C4F7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1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3629C9-AA6C-4DE1-9586-8A7E88EE00C8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3002BB-048D-476F-BAAF-AE33802F792F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CF6701-C880-4591-9DA2-BFE7BED6768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611280" y="198900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аш ребенок –  будущий пятиклассни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Трудности адаптации к среднему звену шко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874800" y="64296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едагогической точки зр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857160" y="121428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зкая организован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ая рассеянн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исциплинирова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интереса к учебе и ее результ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873360" y="3429000"/>
            <a:ext cx="56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сихологической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чки зр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857160" y="41432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самооце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окий уровень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215040" y="4946760"/>
            <a:ext cx="2736720" cy="170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928800" y="2858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1: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Изменение условий обучения.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1000080" y="157176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Изменение требований.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1901160" y="292896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3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Отсутствие контрол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2233080" y="4286160"/>
            <a:ext cx="49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2d07b9"/>
                </a:solidFill>
                <a:uFillTx/>
                <a:latin typeface="Monotype Corsiva"/>
              </a:rPr>
              <a:t>Проблема 4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Пробелы в зн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214200" y="4094280"/>
            <a:ext cx="2286000" cy="253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boy11"/>
          <p:cNvPicPr/>
          <p:nvPr/>
        </p:nvPicPr>
        <p:blipFill>
          <a:blip r:embed="rId1"/>
          <a:stretch/>
        </p:blipFill>
        <p:spPr>
          <a:xfrm>
            <a:off x="357120" y="4786200"/>
            <a:ext cx="1428840" cy="17528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1368000" y="21420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Трудности школьной жиз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14200" y="1159920"/>
            <a:ext cx="871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возросший темп работы: ученики, не умеющие быстро писать, не успев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увеличившийся объем работы как на уроке, так и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новые требования по оформлению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необходимость самостоятельно находить дополнительную литературу и работать с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21420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зучение уровня готовности  обучающихся к обучению в среднем зв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285840" y="171468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Методика диагностики уровня интеллектуального развития младших школьников при переходе в среднее звено (Л.Ф.Тихомирова, А.В.Басо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Методика диагностики уровня тревожности (Р.Кондаш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Изучение мотивационной сферы учащихся (М.В.Матюхин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d07b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2d07b9"/>
                </a:solidFill>
                <a:latin typeface="Times New Roman"/>
                <a:ea typeface="Times New Roman"/>
              </a:rPr>
              <a:t>Изучение социально-психологической адаптации ребенка в школе по Э.М.Александровской (экспертная оценка учи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2"/>
          <p:cNvSpPr/>
          <p:nvPr/>
        </p:nvSpPr>
        <p:spPr>
          <a:xfrm>
            <a:off x="2376360" y="14292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Советы родителям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428760" y="10000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мы и папы, пока не поздно, постарайтесь не потерять связь с вашим ребенком, отнеситесь серьезно к родному ребенку и к себ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Shape 44" descr=""/>
          <p:cNvPicPr/>
          <p:nvPr/>
        </p:nvPicPr>
        <p:blipFill>
          <a:blip r:embed="rId1"/>
          <a:stretch/>
        </p:blipFill>
        <p:spPr>
          <a:xfrm>
            <a:off x="5286240" y="1000080"/>
            <a:ext cx="3457800" cy="285768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4143240" y="4714920"/>
            <a:ext cx="46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митивный и самый доступный вид контроля - посещение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Shape 64" descr=""/>
          <p:cNvPicPr/>
          <p:nvPr/>
        </p:nvPicPr>
        <p:blipFill>
          <a:blip r:embed="rId2"/>
          <a:stretch/>
        </p:blipFill>
        <p:spPr>
          <a:xfrm>
            <a:off x="500040" y="3857760"/>
            <a:ext cx="3000240" cy="274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2"/>
          <p:cNvSpPr/>
          <p:nvPr/>
        </p:nvSpPr>
        <p:spPr>
          <a:xfrm>
            <a:off x="2376360" y="14292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Советы родителям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428760" y="1214280"/>
            <a:ext cx="47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ждите чудес от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428760" y="1785960"/>
            <a:ext cx="471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лассному руководителю необходимо сообщать о любых, особенно неприятных, изменениях оказывающих влияние на эмоциональное состояние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old-church.net/sites/default/files/200320560001.jpg"/>
          <p:cNvPicPr/>
          <p:nvPr/>
        </p:nvPicPr>
        <p:blipFill>
          <a:blip r:embed="rId1"/>
          <a:stretch/>
        </p:blipFill>
        <p:spPr>
          <a:xfrm>
            <a:off x="5041800" y="1116000"/>
            <a:ext cx="4132440" cy="31878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6"/>
          <p:cNvSpPr/>
          <p:nvPr/>
        </p:nvSpPr>
        <p:spPr>
          <a:xfrm>
            <a:off x="4500720" y="5000760"/>
            <a:ext cx="435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юбите своего ребенка открыто, а не в глубине д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psyxologiya.ru/wp-content/uploads/2012/01/utolit-zhazhdu-kipuchej-zhizni.jpg"/>
          <p:cNvPicPr/>
          <p:nvPr/>
        </p:nvPicPr>
        <p:blipFill>
          <a:blip r:embed="rId2"/>
          <a:stretch/>
        </p:blipFill>
        <p:spPr>
          <a:xfrm>
            <a:off x="571680" y="4929120"/>
            <a:ext cx="3500280" cy="17146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PE03254_"/>
          <p:cNvPicPr/>
          <p:nvPr/>
        </p:nvPicPr>
        <p:blipFill>
          <a:blip r:embed="rId1"/>
          <a:stretch/>
        </p:blipFill>
        <p:spPr>
          <a:xfrm>
            <a:off x="500040" y="3929040"/>
            <a:ext cx="2922480" cy="26370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6"/>
          <p:cNvSpPr/>
          <p:nvPr/>
        </p:nvSpPr>
        <p:spPr>
          <a:xfrm>
            <a:off x="796680" y="2000160"/>
            <a:ext cx="820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2d07b9"/>
                </a:solidFill>
                <a:latin typeface="Monotype Corsiva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8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07:48:24Z</dcterms:created>
  <dc:creator>Admin</dc:creator>
  <dc:description/>
  <dc:language>en-US</dc:language>
  <cp:lastModifiedBy>Пользователь Оля Швацкая</cp:lastModifiedBy>
  <dcterms:modified xsi:type="dcterms:W3CDTF">2022-11-02T15:47:13Z</dcterms:modified>
  <cp:revision>79</cp:revision>
  <dc:subject/>
  <dc:title>Слайд 1</dc:title>
</cp:coreProperties>
</file>