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97B-EE25-4D1B-BD74-37548EC0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84D-FBD7-4A3F-9A38-E1322FE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B67-3C6F-4808-A769-B6D8A772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66E-BD57-46CA-AA32-9674BC91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B07-FE7F-4ABF-99F2-3198A72B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5774-3C93-4473-891C-603A3D48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875C-8FE6-4473-A7BD-0FE32DA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9378-2E84-4948-8C59-A401C60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D1FB-941E-4A86-996F-ECCB592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7B3C-8739-40F0-A4B9-B4BB967F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0489-C21D-43EE-9D6E-A200EF6A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DAC-EC83-427F-B38C-04E66CF0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8231-1A7F-4C23-8334-8261B55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4AD6-5A6C-4E45-AEAA-A9AD635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5E06-E84A-42B0-91D3-38F90F3C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619D-C189-4CDF-B970-2596A21F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265-278A-4698-8861-D9CB2DD2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E63D-850F-4DF0-973D-EA3700E3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7C30-51B5-4C2A-89C6-D5E552E9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E887-4936-41B5-87DB-9FE8104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4739-AA1D-4547-A295-CA920D5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7B61-F1B0-45CE-858C-CF0D257D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F9D-CB19-422E-8216-9F46927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597B-0B8F-41AE-8E8C-2CDBA2E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29B7-557E-4992-9175-1869334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0B8C-62E4-4C13-AB62-82E52A4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3795-A335-451D-B72B-1DDB27A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0A6D-B86E-40D9-9A96-DEA9188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8DE2-AD1E-4699-A793-A2D259E7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06FC-1F7D-40F6-959E-F008579F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3893-45B5-4C8B-B258-1ACC9FA0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B0AF-6855-4B02-950B-37432E8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0CA0-6462-4806-A35B-2081B7BD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8A3-DCE5-46C8-BABD-A7451D37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7324-00D1-4210-9945-FF8CEAC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33DB-0E7F-4CFC-B5B6-7FD0B0AD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6A7D-C5A7-49EB-817D-B2BE407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22C5-1E49-4CCD-BBC7-BF65F3A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62F2-18BB-459B-BE4A-D205E42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3CD1-2750-4EBE-8220-55AADA5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0B2A-346D-4214-B5D2-804791B4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78E0-7934-4001-8E6D-EBE3A3F5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5810-BB1D-4CB6-9CF5-1F9C8EE9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4C2E-38D1-4E30-A424-3E2C046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32C-30AB-422D-894F-00816003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AE57-2258-4290-8A2C-A4795F1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ACE4-3614-41D1-9F96-CAB11DF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71D2-6D07-436C-8199-38592BA3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F4435-DCB4-4152-9452-4FEEE38D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2739-FF85-4993-A0EA-B5F5FE26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DDD1-68F7-4CDB-91D2-2CE49FD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CD03-C26A-494D-8CB8-DDC4F97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2242-2063-49B7-ABAE-E96F754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4021-5EC5-473E-A63B-750C7A2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42EE-9EE2-416A-858D-8AA4DA04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9AA-F3B2-4D0B-B5A7-15A10353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D9532-5FDC-4E0D-AB6D-C1F6776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0A2-E436-44DA-87EB-FAE21AF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CBD-EEB3-4652-9BC9-51EC1D5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C14-B35F-45C1-910F-6F6AAF0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BE9260-6330-4615-866B-2E201C488092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E7D39-B089-4918-9F0B-370020358C27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140905-3374-4D8D-A52A-7A2062E0A43E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40A9C-4E0D-4E13-A3B2-EF159B46199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F997BD-31F3-4A9D-9F08-1326D1A8FD23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611280" y="198900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аш ребенок –  будущий пятикласс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рудности адаптации к среднему звену шко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874800" y="64296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едагогической точки зр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857160" y="121428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ая организован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ая рассеян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исциплинирова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интереса к учебе и ее результ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873360" y="342900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сихологической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чки зр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857160" y="41432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самооце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кий 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215040" y="4946760"/>
            <a:ext cx="273672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928800" y="2858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1: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Изменение условий обучения.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1000080" y="157176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Изменение требований.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1901160" y="292896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Отсутствие контро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2233080" y="4286160"/>
            <a:ext cx="49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4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Пробелы в зн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14200" y="4094280"/>
            <a:ext cx="2286000" cy="253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boy11"/>
          <p:cNvPicPr/>
          <p:nvPr/>
        </p:nvPicPr>
        <p:blipFill>
          <a:blip r:embed="rId1"/>
          <a:stretch/>
        </p:blipFill>
        <p:spPr>
          <a:xfrm>
            <a:off x="357120" y="4786200"/>
            <a:ext cx="1428840" cy="17528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1368000" y="21420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Трудности школьной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14200" y="1159920"/>
            <a:ext cx="871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возросший темп работы: ученики, не умеющие быстро писать, не успев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увеличившийся объем работы как на уроке, так и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новые требования по оформлению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необходимость самостоятельно находить дополнительную литературу и работать с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21420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зучение уровня готовности  обучающихся к обучению в среднем зв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285840" y="171468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Методика диагностики уровня интеллектуального развития младших школьников при переходе в среднее звено (Л.Ф.Тихомирова, А.В.Басо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Методика диагностики уровня тревожности (Р.Кондаш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Изучение мотивационной сферы учащихся (М.В.Матюхи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Изучение социально-психологической адаптации ребенка в школе по Э.М.Александровской (экспертная оценка учи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2376360" y="14292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веты родителя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428760" y="1000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мы и папы, пока не поздно, постарайтесь не потерять связь с вашим ребенком, отнеситесь серьезно к родному ребенку и к се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Shape 44" descr=""/>
          <p:cNvPicPr/>
          <p:nvPr/>
        </p:nvPicPr>
        <p:blipFill>
          <a:blip r:embed="rId1"/>
          <a:stretch/>
        </p:blipFill>
        <p:spPr>
          <a:xfrm>
            <a:off x="5286240" y="1000080"/>
            <a:ext cx="3457800" cy="285768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4143240" y="4714920"/>
            <a:ext cx="46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митивный и самый доступный вид контроля - посещение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Shape 64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3000240" cy="274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2"/>
          <p:cNvSpPr/>
          <p:nvPr/>
        </p:nvSpPr>
        <p:spPr>
          <a:xfrm>
            <a:off x="2376360" y="14292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веты родителя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428760" y="1214280"/>
            <a:ext cx="47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ждите чудес от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428760" y="1785960"/>
            <a:ext cx="471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лассному руководителю необходимо сообщать о любых, особенно неприятных, изменениях оказывающих влияние на эмоциональное состояни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old-church.net/sites/default/files/200320560001.jpg"/>
          <p:cNvPicPr/>
          <p:nvPr/>
        </p:nvPicPr>
        <p:blipFill>
          <a:blip r:embed="rId1"/>
          <a:stretch/>
        </p:blipFill>
        <p:spPr>
          <a:xfrm>
            <a:off x="5041800" y="1116000"/>
            <a:ext cx="4132440" cy="3187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4500720" y="5000760"/>
            <a:ext cx="43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юбите своего ребенка открыто, а не в глубине д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psyxologiya.ru/wp-content/uploads/2012/01/utolit-zhazhdu-kipuchej-zhizni.jpg"/>
          <p:cNvPicPr/>
          <p:nvPr/>
        </p:nvPicPr>
        <p:blipFill>
          <a:blip r:embed="rId2"/>
          <a:stretch/>
        </p:blipFill>
        <p:spPr>
          <a:xfrm>
            <a:off x="571680" y="4929120"/>
            <a:ext cx="3500280" cy="17146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PE03254_"/>
          <p:cNvPicPr/>
          <p:nvPr/>
        </p:nvPicPr>
        <p:blipFill>
          <a:blip r:embed="rId1"/>
          <a:stretch/>
        </p:blipFill>
        <p:spPr>
          <a:xfrm>
            <a:off x="500040" y="3929040"/>
            <a:ext cx="2922480" cy="2637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6"/>
          <p:cNvSpPr/>
          <p:nvPr/>
        </p:nvSpPr>
        <p:spPr>
          <a:xfrm>
            <a:off x="796680" y="2000160"/>
            <a:ext cx="820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2d07b9"/>
                </a:solidFill>
                <a:latin typeface="Monotype Corsiva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07:48:24Z</dcterms:created>
  <dc:creator>Admin</dc:creator>
  <dc:description/>
  <dc:language>en-US</dc:language>
  <cp:lastModifiedBy>Пользователь Оля Швацкая</cp:lastModifiedBy>
  <dcterms:modified xsi:type="dcterms:W3CDTF">2022-11-02T15:47:13Z</dcterms:modified>
  <cp:revision>79</cp:revision>
  <dc:subject/>
  <dc:title>Слайд 1</dc:title>
</cp:coreProperties>
</file>