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A5909-6EA7-4C4A-B6C5-742F59C31D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7B5A-E0D4-40A6-B404-2BAFD8FBD4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D1372-9631-43A1-B3C8-BBE3ABD96F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910D7-7465-4407-A576-0E0BFF2D04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E0688-AD4E-4DD8-AD10-81E6CE19C2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4B72D-7A3F-41C4-91D1-2FCD0002B6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66D93-AFAB-4665-BF99-9FB502EE90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5F4FD-18B5-4F87-9DDC-322897E234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0D717-1670-4A9D-B680-E7FA560CE9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FC3E1-DC2B-4886-A61D-8DE0C73270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1B07B-49B8-4D1D-8AE3-CA990A45A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67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7BC7-B36E-495E-B76E-2536A8C5C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71A7-64F9-4E9B-A375-FFFCD056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53FE-01B6-446A-83F3-06BF3568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2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54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30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2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54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7221-264B-465D-9795-A78F341F8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7AD19-8920-4080-B081-52D0F326C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63528-83F1-40CA-B1CA-A9E77B14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31567-554F-48DB-AA04-9B2D6CB1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4E0A8-316B-4288-8F9C-6B6EF29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EED61-7C9A-4D9B-B1D7-AE3EE199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3080" y="365040"/>
            <a:ext cx="617040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C79FA-9BA4-4C85-B09F-A1A0F2D9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24BE4-EAFE-4859-8F2D-AE696153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31CE-B3D2-4C9D-8B5F-565AFF5E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B0189-AB36-4593-BBA6-AAA6E803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76E9A-3544-462E-B64C-83F1688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5E732-4B3A-48E1-9313-0139E5EE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BB4ED-A901-4D66-8758-AFB9C504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2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5480" y="213948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30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2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5480" y="52905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FBC4A-4B66-408D-AF74-E9D5C4004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455A-1375-4B02-8F41-5993CE00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F296-D39A-423C-8724-8043C3B6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7E72-2BFA-441C-B0B8-0AF5A4B3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3080" y="365040"/>
            <a:ext cx="617040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8C60-835C-4E87-B0F5-BCD63228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EA9F-617B-4AE9-A0B7-76998EA8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4960" y="52905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615E-B215-478D-9634-38068687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308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4960" y="213948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3080" y="52905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7638-9431-46D7-9D5F-64741FA0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6114960" y="0"/>
            <a:ext cx="74304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426600"/>
            <a:ext cx="54291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184200" y="8743680"/>
            <a:ext cx="15001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31.8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3080" y="874404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687560" y="8740800"/>
            <a:ext cx="4395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31E9CC-BE0C-42F7-9391-E2C8B18BA38F}" type="slidenum">
              <a: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6114960" y="0"/>
            <a:ext cx="74304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3184200" y="8743680"/>
            <a:ext cx="15001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b13f9a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  <a:ea typeface="Arial Unicode MS"/>
              </a:rPr>
              <a:t>31.8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43080" y="874404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4687560" y="8740800"/>
            <a:ext cx="4395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B6C7D9-1E41-4332-A390-1D90064A48C3}" type="slidenum">
              <a:rPr b="0" lang="ru-RU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343080" y="365040"/>
            <a:ext cx="617040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43080" y="213948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426600"/>
            <a:ext cx="54306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Консультация на тему</a:t>
            </a:r>
            <a:br>
              <a:rPr sz="3800"/>
            </a:b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«Роль педагога в воспитании этических норм и этикета в ДОУ»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39640" y="3600360"/>
            <a:ext cx="3915000" cy="3203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: скругленные углы 1"/>
          <p:cNvSpPr/>
          <p:nvPr/>
        </p:nvSpPr>
        <p:spPr>
          <a:xfrm>
            <a:off x="2708280" y="7093080"/>
            <a:ext cx="30654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.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«ЦРР – Д/С №16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агнито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аш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0"/>
            <a:ext cx="60213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мение правильно общаться, дает ребенку шанс стать успешным, легче добиваться поставленных целей, выстраивать отношения с окружающими людьми, осознано выбрать професси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тобы процесс обучения ребенка правилам этикета был эффективным, необходимо следить за своей речью и своим поведением, так как все уроки могут оказаться бесполезными, если ребенок становиться свидетелем того, что его педагог ( воспитатель), родители сами не следуют соответствующим правилам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3348000"/>
            <a:ext cx="6093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0" y="324000"/>
            <a:ext cx="5948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 – это такая профессия, которая вынуждает от человека постоянного общения со своими воспитанниками, с родителями детей, своими коллегами по работе. Так же педагог отвечает за тех детей, которых он будет воспитывать; еще на педагоге лежит ответственность за себя, за его право быть педагог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ьтура поведения и общение с детьми играет важную роль в профессии педагога. Как мы знаем, педагог это образец для детей, они подражают ему во всем. В обязанности педагога входит воспитание, как в себе, так и в детях, личности, формирование характ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3851280"/>
            <a:ext cx="6237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педагога в воспитании этических норм и правил этикета огром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жно с детства прививать детям правила поведения. Благодаря привитым нормам поведения, они понимают как нужно вести себя в тех или иных жизнен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для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в цел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усматривает хорошие манеры, которые станут неким звеном при сглаживании конфликтных ситуаций. Зачастую при близком общении могут возникнуть спорные моменты и даже в детских играх легко можно отследить возможность назревания ссоры только из-за того, что кто-то кого-то оскорб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948280" cy="3492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0" y="3419640"/>
            <a:ext cx="59482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ет в жизни педаго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занимает значимую роль. К этикету относят правила поведения, вежливости. Цель воспитателя – развивать у своих воспитанников нравственные ценности, этическую культуру и образ жизни, воспитывать в детях дружелюбие, уважение, вежливость, чуткость по отношению к окружающим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основными правилами можно назвать следующие: проявление уважения к окружающим людям, стремление не ставить их в неудобное положение и поступать с другими так, как хочешь, чтобы поступали с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е первые представления о нормах поведения ребенок получает в семье. Организация питания как в детском саду так и в семье напрямую связана со столовым этикетом и решением воспитательных задач – формированием у детей культуры поведения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971640"/>
            <a:ext cx="5877000" cy="81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0" y="-4670280"/>
            <a:ext cx="6164280" cy="14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 формирует представления о нормах и правилах поведения, тем самым влияя на отношения дошкольника со сверстниками, родителями, другими взрослыми людьми, знакомыми и незнакомыми, помогая ориентироваться в общественной жизни и формируя навыки позитивн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ша с вами обязанность помочь маленькому человеку в познании норм человеческих взаимоотношений, в приобретении поведенческих ориентиров, без которых нельзя чувствовать себя в обществе достаточно ув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бенку мало того, что Вы сказали, как нужно сделать. Ему еще и необходимо объяснить, почему именно так, а не иначе. Лучше всего действова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подво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рививайте прави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кета не напрям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косвенно, чтобы малышу самому захотелось их выполнять с точностью до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аленьки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еще не умеющих читать, лучшим способом привить нормы поведения являются игры и ска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0280" y="0"/>
            <a:ext cx="576108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0"/>
            <a:ext cx="6093000" cy="72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бы проследить последовательность и постепенность задач по формированию культурно-гигиенических навыков, необходимо опираться на возрастные особен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раннего возраста (от 1 года до 2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 Закрепить умение садиться на стул, пить из чашки (с 1 года 2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формировать умение пользоваться ложкой, приучить самостоятельно есть разнообразную пищу, пользоваться салфеткой после еды (вначале с помощью взрослого, а затем по словесному указанию), выходя из-за стола, задвигать свой сту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учить самостоятельно есть густую пищу ложкой (с 1 года 2 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аучить есть из тарелки, пользоваться чашкой, есть с хлебом (с 1 года 5 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иучать мыть руки перед едой с помощью взрослого, правильно пользоваться полотенцем (с 1 года 6 месяце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первой младшей группы (от 2 до 4 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ить умения самостоятельно мыть руки перед едой, насухо вытирать лицо и руки полотенцем, опрятно есть, держать ложку в правой руке, пользоваться салфеткой, полоскать рот по напоминанию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формировать умения выполнять элементарные правила культурного поведения: не выходить из-за стола, не закончив еду, говорить спаси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6948360"/>
            <a:ext cx="63086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395280"/>
            <a:ext cx="5948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средней группы (от 4 до 5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вершенствовать приобретенные умения: пищу брать понемногу, хорошо пережевывать, есть бесшумно, правильно пользоваться столовыми приборами (ложкой, вилкой, ножом), салфеткой, полоскать рот после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старшей группы (от 5 до 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ить умения правильно пользоваться столовыми приборами (вилкой, ножом); есть аккуратно, бесшумно, сохраняя правильную осанку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одолжать прививать навыки культуры поведения: выходя из-за стола, тихо задвигать стул, благодарить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подготовительной к школе группы (от 6 до 7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ить навыки культуры поведения за столом: прямо сидеть, не класть локти на стол, бесшумно пить и пережевывать пищу, правильно пользоваться ножом, вилкой, салфет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5364000"/>
            <a:ext cx="6093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24000"/>
            <a:ext cx="59482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Для формирования этикетного поведения необходимы следующ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озитивный наст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льзя обижать; чаще использовать похвалу, уделять больше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Пример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ивать свое поведение с позиций разумности и необход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людения этикета и соответствия собственным сло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Единство требований родителей к 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спитание детей осуществляется в процессе их деятельности при сочетании педагогического руководства с развитием детской инициативы и самостоятельности, с учетом возрастных и индивидуальных особенностей, при единстве требований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5148360"/>
            <a:ext cx="609300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395280"/>
            <a:ext cx="6021360" cy="82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особы педагогического воздействия на детей при обучении правилам этикета и этических нор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1. Приу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ям задают образец поведения и затем контролируют то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ения того или иного правила, например, за столом, во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ы, в разговоре со старшими или ровес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. Упраж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или иное действие многократно повторяется. При этом следу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биваться осознания ребенком необходимости и разумности такого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. Организация воспитывающи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ближает детей к реальным жизненным условиям, ибо они оказываются перед выбором, например, есть вилкой и ножом или одной вил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4. Поощр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ироко используемый метод, реализуемый различными способ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побуждает детей к выбору правильного поведенческого шаг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е его нравственного потенц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5. Наказ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 применяться только при условии невозможности использования других мер воздействия. Цель наказания – пробудить желание поступать хорошо, на основе норм этик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6. Пример для подра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ется своеобразным наглядным образцом. Примером могут быть родители, дети, литературные и сказочные геро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. Словесные мет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огают более осознанному пониманию поведенческих прав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нная или сказочная история создает необходимый эмоциональный фон для восприятия правил поведения. Надо не только показать и рассказать, но и разъяснить, как и почему следует поступать в той или и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j</cp:lastModifiedBy>
  <dcterms:modified xsi:type="dcterms:W3CDTF">2022-11-02T16:25:01Z</dcterms:modified>
  <cp:revision>3</cp:revision>
  <dc:subject/>
  <dc:title>Консультация на тему «Роль педагога в воспитании этических норм и этикета в ДОУ» </dc:title>
</cp:coreProperties>
</file>