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8DFDF-3756-4917-BCF9-C36FB8A4D6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9B53C-BD95-4A58-9D7F-C607A436FB8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2276640" y="812880"/>
            <a:ext cx="3004920" cy="4008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5A7F1-0663-4F45-B2AC-8C98AA1789C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276640" y="812880"/>
            <a:ext cx="3006720" cy="4008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6630B-CFCC-4844-B019-4A46469673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276640" y="812880"/>
            <a:ext cx="3004920" cy="4008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81394-C306-4481-B890-DAB483EDFB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276640" y="812880"/>
            <a:ext cx="3006720" cy="4008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7FC58-6228-49BB-809B-3032FCB05FA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276640" y="812880"/>
            <a:ext cx="3006720" cy="4008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D041D-90F9-4925-B9F8-C2F458685C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276640" y="812880"/>
            <a:ext cx="3006720" cy="4008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14C05-40C8-4795-A2D0-1770246DB2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276640" y="812880"/>
            <a:ext cx="30067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3FFC9-13DC-4253-8471-AB149BE40E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2276640" y="812880"/>
            <a:ext cx="3006720" cy="4008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31C13-F1A5-4AB6-AE07-8243D4422F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276640" y="812880"/>
            <a:ext cx="3006720" cy="4008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D1ACD-A48F-483B-A772-BFA4FF322C1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2276640" y="812880"/>
            <a:ext cx="3006720" cy="4008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52BA7-3FBA-4210-8B9C-EF218B7BEB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3080" y="213948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3080" y="529056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07A76-6F85-4215-91FB-9CC83162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3080" y="213948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4960" y="213948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3080" y="52905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04960" y="52905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91E8A-F607-4143-9931-874F93B7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3080" y="213948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29280" y="213948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15480" y="213948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3080" y="52905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29280" y="52905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515480" y="52905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A407D-9464-44D7-B1CA-3881C0E94C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2E142-0A87-42E8-BBC8-52411B024D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3080" y="213948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1DA0D-FAD7-4299-8E9C-B42BAD3E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3080" y="213948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48E49-3FAB-42CA-8E07-7D7EDFD5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3080" y="213948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4960" y="213948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ACC54-64F8-4832-BC58-C95C7607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72F63-5E36-4074-9C0D-C9CA31564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43080" y="365040"/>
            <a:ext cx="6170400" cy="70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6D013-FE78-468E-B083-132BE1050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3080" y="213948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4960" y="213948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3080" y="52905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58B03-821F-43F5-BF35-F51A68C7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3080" y="213948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E280A-28FC-4136-B482-DD7783B0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3080" y="213948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4960" y="213948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4960" y="52905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0B396-8015-47B9-A1BD-E7A890BF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3080" y="213948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4960" y="213948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3080" y="529056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10578-AFDD-480B-B665-2E5E39E2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3080" y="213948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3080" y="529056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A6D8C-A479-4D37-83B9-71AAE133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3080" y="213948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4960" y="213948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3080" y="52905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4960" y="52905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0D88A-E7F8-43BD-B253-F5469559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3080" y="213948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29280" y="213948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15480" y="213948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3080" y="52905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29280" y="52905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15480" y="52905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6E5D7-D693-4E5B-B854-96A4E1DBB3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3080" y="213948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FCA33-56D6-4F70-B4B6-6F3EBF0C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3080" y="213948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4960" y="213948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A9E96-23BB-4E79-BC9B-3E0EA841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267C9-92BB-4DC1-ACBE-7CF8DF9F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3080" y="365040"/>
            <a:ext cx="6170400" cy="70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23D5A-1359-4CEB-A6B2-B4248229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3080" y="213948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4960" y="213948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3080" y="52905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1CF3D-AA47-4E27-A5CB-52621B30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3080" y="213948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4960" y="213948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04960" y="52905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87D65-BFB5-467F-B78E-54831FEE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3080" y="213948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4960" y="213948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3080" y="529056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69C92-794C-44E4-9D20-E98159B3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6114960" y="0"/>
            <a:ext cx="743040" cy="914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426600"/>
            <a:ext cx="542916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3184200" y="8743680"/>
            <a:ext cx="150012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rebuchet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31.8.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3080" y="874404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4687560" y="8740800"/>
            <a:ext cx="43956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rebuchet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AE58F7A-D334-4DD7-8686-B07FFA866D6E}" type="slidenum">
              <a:rPr b="0" lang="ru-RU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343080" y="213948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6114960" y="0"/>
            <a:ext cx="743040" cy="914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3"/>
          </p:nvPr>
        </p:nvSpPr>
        <p:spPr>
          <a:xfrm>
            <a:off x="3184200" y="8743680"/>
            <a:ext cx="150012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b13f9a"/>
                </a:solidFill>
                <a:latin typeface="Trebuchet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b13f9a"/>
                </a:solidFill>
                <a:latin typeface="Trebuchet MS"/>
                <a:ea typeface="Arial Unicode MS"/>
              </a:rPr>
              <a:t>31.8.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43080" y="874404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4"/>
          </p:nvPr>
        </p:nvSpPr>
        <p:spPr>
          <a:xfrm>
            <a:off x="4687560" y="8740800"/>
            <a:ext cx="43956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rebuchet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55E771-5356-47B8-BD6A-FAFA25BB333B}" type="slidenum">
              <a:rPr b="0" lang="ru-RU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43080" y="213948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426600"/>
            <a:ext cx="5430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Times New Roman"/>
              </a:rPr>
              <a:t>Консультация на тему</a:t>
            </a:r>
            <a:br>
              <a:rPr sz="3800"/>
            </a:br>
            <a:r>
              <a:rPr b="1" i="1" lang="ru-RU" sz="3800" spc="-1" strike="noStrike">
                <a:solidFill>
                  <a:srgbClr val="ff0000"/>
                </a:solidFill>
                <a:latin typeface="Times New Roman"/>
              </a:rPr>
              <a:t>«Роль педагога в воспитании этических норм и этикета в ДОУ»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539640" y="3600360"/>
            <a:ext cx="3915000" cy="320364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: скругленные углы 1"/>
          <p:cNvSpPr/>
          <p:nvPr/>
        </p:nvSpPr>
        <p:spPr>
          <a:xfrm>
            <a:off x="2708280" y="7093080"/>
            <a:ext cx="3065400" cy="18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-псих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й кв.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ДОУ «ЦРР – Д/С №165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Магнитогор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аш С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0" y="0"/>
            <a:ext cx="6021360" cy="28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Умение правильно общаться, дает ребенку шанс стать успешным, легче добиваться поставленных целей, выстраивать отношения с окружающими людьми, осознано выбрать професси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Чтобы процесс обучения ребенка правилам этикета был эффективным, необходимо следить за своей речью и своим поведением, так как все уроки могут оказаться бесполезными, если ребенок становиться свидетелем того, что его педагог ( воспитатель), родители сами не следуют соответствующим правилам по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3348000"/>
            <a:ext cx="6093000" cy="57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0" y="324000"/>
            <a:ext cx="594828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91000"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дагог – это такая профессия, которая вынуждает от человека постоянного общения со своими воспитанниками, с родителями детей, своими коллегами по работе. Так же педагог отвечает за тех детей, которых он будет воспитывать; еще на педагоге лежит ответственность за себя, за его право быть педагого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льтура поведения и общение с детьми играет важную роль в профессии педагога. Как мы знаем, педагог это образец для детей, они подражают ему во всем. В обязанности педагога входит воспитание, как в себе, так и в детях, личности, формирование характер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0" y="3851280"/>
            <a:ext cx="6237360" cy="52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 педагога в воспитании этических норм и правил этикета огром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ажно с детства прививать детям правила поведения. Благодаря привитым нормам поведения, они понимают как нужно вести себя в тех или иных жизненных ситуа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жде всего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кет для дет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к 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кет в цело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усматривает хорошие манеры, которые станут неким звеном при сглаживании конфликтных ситуаций. Зачастую при близком общении могут возникнуть спорные моменты и даже в детских играх легко можно отследить возможность назревания ссоры только из-за того, что кто-то кого-то оскорби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5948280" cy="34923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"/>
          <p:cNvSpPr/>
          <p:nvPr/>
        </p:nvSpPr>
        <p:spPr>
          <a:xfrm>
            <a:off x="0" y="3419640"/>
            <a:ext cx="5948280" cy="50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кет в жизни педагог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занимает значимую роль. К этикету относят правила поведения, вежливости. Цель воспитателя – развивать у своих воспитанников нравственные ценности, этическую культуру и образ жизни, воспитывать в детях дружелюбие, уважение, вежливость, чуткость по отношению к окружающим люд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основными правилами можно назвать следующие: проявление уважения к окружающим людям, стремление не ставить их в неудобное положение и поступать с другими так, как хочешь, чтобы поступали с т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е первые представления о нормах поведения ребенок получает в семье. Организация питания как в детском саду так и в семье напрямую связана со столовым этикетом и решением воспитательных задач – формированием у детей культуры поведения за сто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971640"/>
            <a:ext cx="5877000" cy="81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0" y="-4670280"/>
            <a:ext cx="6164280" cy="14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итатель формирует представления о нормах и правилах поведения, тем самым влияя на отношения дошкольника со сверстниками, родителями, другими взрослыми людьми, знакомыми и незнакомыми, помогая ориентироваться в общественной жизни и формируя навыки позитивного об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наша с вами обязанность помочь маленькому человеку в познании норм человеческих взаимоотношений, в приобретении поведенческих ориентиров, без которых нельзя чувствовать себя в обществе достаточно увер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бенку мало того, что Вы сказали, как нужно сделать. Ему еще и необходимо объяснить, почему именно так, а не иначе. Лучше всего действовать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сподво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прививайте правил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икета не напряму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а косвенно, чтобы малышу самому захотелось их выполнять с точностью до наобор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маленьких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т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еще не умеющих читать, лучшим способом привить нормы поведения являются игры и сказ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60280" y="0"/>
            <a:ext cx="5761080" cy="35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0" y="0"/>
            <a:ext cx="6093000" cy="72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обы проследить последовательность и постепенность задач по формированию культурно-гигиенических навыков, необходимо опираться на возрастные особенности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ти раннего возраста (от 1 года до 2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 Закрепить умение садиться на стул, пить из чашки (с 1 года 2месяце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Сформировать умение пользоваться ложкой, приучить самостоятельно есть разнообразную пищу, пользоваться салфеткой после еды (вначале с помощью взрослого, а затем по словесному указанию), выходя из-за стола, задвигать свой сту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Научить самостоятельно есть густую пищу ложкой (с 1 года 2 месяце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Научить есть из тарелки, пользоваться чашкой, есть с хлебом (с 1 года 5 месяце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риучать мыть руки перед едой с помощью взрослого, правильно пользоваться полотенцем (с 1 года 6 месяце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ти первой младшей группы (от 2 до 4 л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Закрепить умения самостоятельно мыть руки перед едой, насухо вытирать лицо и руки полотенцем, опрятно есть, держать ложку в правой руке, пользоваться салфеткой, полоскать рот по напоминанию взросл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Сформировать умения выполнять элементарные правила культурного поведения: не выходить из-за стола, не закончив еду, говорить спасиб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6948360"/>
            <a:ext cx="6308640" cy="21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0" y="395280"/>
            <a:ext cx="59482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ти средней группы (от 4 до 5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Совершенствовать приобретенные умения: пищу брать понемногу, хорошо пережевывать, есть бесшумно, правильно пользоваться столовыми приборами (ложкой, вилкой, ножом), салфеткой, полоскать рот после 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ти старшей группы (от 5 до 6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Закрепить умения правильно пользоваться столовыми приборами (вилкой, ножом); есть аккуратно, бесшумно, сохраняя правильную осанку за сто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родолжать прививать навыки культуры поведения: выходя из-за стола, тихо задвигать стул, благодарить взрос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ти подготовительной к школе группы (от 6 до 7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Закрепить навыки культуры поведения за столом: прямо сидеть, не класть локти на стол, бесшумно пить и пережевывать пищу, правильно пользоваться ножом, вилкой, салфет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5364000"/>
            <a:ext cx="6093000" cy="37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0" y="324000"/>
            <a:ext cx="5948280" cy="50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Для формирования этикетного поведения необходимы следующие усло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Позитивный наст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льзя обижать; чаще использовать похвалу, уделять больше вним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Пример взрос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ценивать свое поведение с позиций разумности и необход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блюдения этикета и соответствия собственным слов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Единство требований родителей к дет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оспитание детей осуществляется в процессе их деятельности при сочетании педагогического руководства с развитием детской инициативы и самостоятельности, с учетом возрастных и индивидуальных особенностей, при единстве требований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5148360"/>
            <a:ext cx="6093000" cy="38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0" y="395280"/>
            <a:ext cx="6021360" cy="82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особы педагогического воздействия на детей при обучении правилам этикета и этических нор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1. Приуч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тям задают образец поведения и затем контролируют точ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полнения того или иного правила, например, за столом, во врем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гры, в разговоре со старшими или ровесни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2. Упражн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 или иное действие многократно повторяется. При этом следу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биваться осознания ребенком необходимости и разумности такого действ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3. Организация воспитывающих ситуа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ближает детей к реальным жизненным условиям, ибо они оказываются перед выбором, например, есть вилкой и ножом или одной вил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4. Поощр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Широко используемый метод, реализуемый различными способ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н побуждает детей к выбору правильного поведенческого шага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зультате его нравственного потенци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5. Наказ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лжно применяться только при условии невозможности использования других мер воздействия. Цель наказания – пробудить желание поступать хорошо, на основе норм этик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6. Пример для подраж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вляется своеобразным наглядным образцом. Примером могут быть родители, дети, литературные и сказочные геро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7. Словесные мет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могают более осознанному пониманию поведенческих прав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Жизненная или сказочная история создает необходимый эмоциональный фон для восприятия правил поведения. Надо не только показать и рассказать, но и разъяснить, как и почему следует поступать в той или иной ситу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rj</cp:lastModifiedBy>
  <dcterms:modified xsi:type="dcterms:W3CDTF">2022-11-02T16:25:01Z</dcterms:modified>
  <cp:revision>3</cp:revision>
  <dc:subject/>
  <dc:title>Консультация на тему «Роль педагога в воспитании этических норм и этикета в ДОУ» </dc:title>
</cp:coreProperties>
</file>