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10.gif" ContentType="image/gif"/>
  <Override PartName="/ppt/media/image12.gif" ContentType="image/gi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9E4A-4737-455B-8978-927AF3F098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C2D6-2390-46E3-B38E-B6FA348033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E2D0-A1D9-4EBF-8628-6D7CBC2792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1A64-C1FA-48FE-8CA9-E642D87795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ACD2-627B-4E7D-94E1-ADD675F7DD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141A-7FE2-43AA-8410-02B9C55993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41E8-E715-40A3-A1F9-1A6BC63C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9976-6794-4EC1-86E5-02FE764D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0B7EA-C92D-4EA1-968A-5CEA28CC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70A6F-7C51-4461-A6E5-B6AA03C2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C3C27-34AF-4A5E-A262-FC9E3257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426A9-F819-4374-A103-1FB7D141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DF6A3-F2F1-4F23-9F1C-EC26FCAE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F53F6-6201-4F0C-8BED-88BFA87C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56940-839D-4610-9800-E9FAB49C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12867-A5BE-41B0-988D-277B13445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0AB49-45E8-4E1A-8217-6B8E235A4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8E5A-8092-4647-A3F3-6D8B80C8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4827-8A08-46E9-B9D6-4DADFFE8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31E3-70B2-4778-9F56-FB79A1DB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99BF-9CB7-4E58-998C-6A258263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B769-4BDB-4123-9AF9-0648B8A9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78EC-ED4D-444C-B27C-1A825C24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4C4C-BF16-4B2D-A05C-0EB013DF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FEC5-C56B-46E8-B1F0-B33817DC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919D-33EA-4E81-90D1-CBD2F7F2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7842-D212-4C21-ABA7-AB2FB78F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4A3E-C719-404A-AE18-A770DE8C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CAF1-E735-4427-BF96-C5B58940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B0A3-E01F-4EE3-AFC7-1186416D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942E-68E2-408A-BB7C-B99F9660A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418D-0FF8-483B-8F65-8E76F364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B4628-4BA3-4AD8-8318-1051D97E3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F2176-C82C-4E25-82D4-D6582320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32A45-B106-4050-9FE1-93C071D0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5254C-D594-4859-9CEA-DABB128C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BDE46-D221-4D2B-B6DF-9CE5B71B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752D-96CA-47D1-91B8-C8679962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7BDD3-EE4D-494D-8932-4964F1AB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02D46-2D05-4EA3-8E2A-375F9404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34BF5-6A37-46E9-9E52-A3B7ADB1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D3ECF-980B-4CDD-B756-82099A23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B3955-8197-4134-A6EB-35D3CAD2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52794-446D-468A-BB29-A79E75E44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E2BDA-D291-4F17-AA11-A62F1511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98920-E041-4163-970B-B4DD31DD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8BF72-94CC-4AA9-91B7-32539269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658F3-84C0-4F02-85C1-F064FA30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719A-9EC5-4B5E-90D0-D2FAA7F2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42B87-2FB9-4CB3-847F-824DA5D8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25CEE-42E1-4339-A1B7-30601523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A9EAF-D030-4678-8367-A647969C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69BBC-2127-40B3-A60C-436235A0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A134F-C385-418D-BDB8-0F399540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64EE7-B1BF-4CFE-8D91-E1D391BD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FB563-873F-4178-8339-C49E1BB2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B0DD5-6FAC-4BE9-ADFD-42233B17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AD98E-25FC-4873-BB28-55C5BDBF2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222EA-AB06-43FC-8916-922EF1BA8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BB25-0DAE-4BEB-9A24-867543FE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6B130-7FE8-42A8-AD19-6C1378D4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DCA85-7669-4B01-A831-212059F4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5DBD9-599E-45E4-AEDF-5C5702F8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CC986-16A6-461C-867E-3AC4A15F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27412-9F3E-43B9-BE1E-5B230FFF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BDC92-61E5-49A4-AF49-C2CF2650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15F6B-3D98-4251-8505-F55A3A99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9CA09-A050-4BA3-9EAC-F1FF0F7F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ADB9B-D677-47AC-88A7-C4F162E2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A78E1-583E-4993-AA46-74C689D76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A66E-B780-40B5-8FB2-0369C32D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61B5A-D849-4E94-9198-76D8C1FF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5FCAB-FFDD-4E73-9BEC-5F8A4D942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E7655-D542-4079-8510-FE370F3C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4D5DA-AB00-4046-AC00-844E9425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7645E-B371-4F9F-92F6-E0D33FD1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25652-A6DB-4CCE-8F13-5943D997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78864-C2B5-419E-8CDD-76EB8DD3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AF964-2094-463F-B76D-710A3040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4DF50-9E3F-4549-9A16-41D20933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51F26-E7E9-4DBC-8B61-7F5D2C8A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DB48-9805-48CE-BA7B-6BC4C6EE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5844B-D45F-490E-B140-350FFB41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A9623-4572-404C-8521-B42A2C662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178A5-0C6B-4BB3-8FCA-61D83F32F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402D0-7C83-4FC4-B75E-6F78815D8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768DD-33E8-442E-9CFC-637BF66C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FEC95-A2A9-405D-BEC2-A987B56D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3070A-CAFE-4E82-B93F-735666E0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6CFD6-ADAE-4ED4-B2F7-05FA50F0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DCF5D-41B3-443F-AAC2-DEA76E15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CE4CB-17BC-4F94-9521-387D0779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7D96-F6CA-4343-A0A6-C28A1423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F1F92-7AE9-45BF-A4C9-B88E2FC5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A4DAB-D6F6-44B9-86C1-85330BE8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762F4-79B2-4F7D-9B48-3F6402BE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0AAC8-9A83-4DDD-BC02-FC248C76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9ED5A-92B5-40D8-A3B2-A42DE4463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CB576-69CB-4D31-9604-B0E68D41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9E749-14C2-4A4F-95D0-07B2751A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609BD-121A-4DEC-850E-5A32EF00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4D8AE-203A-4C9E-995A-749AB80A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C1F28-56AD-4398-A5A0-F0AF4F8F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590B-FACC-4D31-B281-ADDEC118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A5255-B4BB-4EB0-964D-AD4DF702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68268-5837-4B88-B4FC-827B9971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68FDD-88DC-4E87-B0BF-4F04E9E9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237B6-04FE-40E8-8483-07006CF7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AB200-0967-4B68-BDCA-8CBC169E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5736F-055B-47C8-8DE7-E5AC5D497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5D1A8-8499-45B7-9A8D-88A233A41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C889C-FBFF-42B5-ACA2-18BB01515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F6ADA-856E-49EE-BCFE-857A7D40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74796-3FE0-4EED-B28F-C9D00378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0D01-690F-4B25-B9B0-A7E8C0B10723}" type="slidenum"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6DB6-63E3-4A19-B491-A47721634621}" type="slidenum"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B691-717B-4A78-9F28-E9BED653FD8B}" type="slidenum"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2EFC-64CA-4E96-B132-96A9ECBA1F7C}" type="slidenum"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0783-4442-41F2-9CF6-E98C117B83C7}" type="slidenum"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058C-2851-4E06-8244-862FF3DCCF15}" type="slidenum"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F5DC-C56E-43E2-AAB6-602A00C7CDDB}" type="slidenum"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094D-FD12-40AC-AA08-E4F9BE106F41}" type="slidenum"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E3E0-B9B6-424E-8C52-3459A633235A}" type="slidenum"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google.ru/imgres?imgurl=http://www.stihi.ru/pics/2008/08/03/116.jpg&amp;imgrefurl=http://www.stihi.ru/2008/08/03/116&amp;h=499&amp;w=750&amp;sz=88&amp;tbnid=lElHmUe8qeo8hM:&amp;tbnh=73&amp;tbnw=110&amp;prev=/search%3Fq%3D%25D0%25A4%25D0%25BE%25D1%2582%25D0%25BE%2B%25D0%2597%25D0%25B0%25D1%2580%25D1%258F%26tbm%3Disch%26tbo%3Du&amp;zoom=1&amp;q=&#1060;&#1086;&#1090;&#1086;+&#1047;&#1072;&#1088;&#1103;&amp;usg=__Rm36NXbTzrE1Tc0UwzzVMopNy3Q=&amp;hl=ru&amp;sa=X&amp;ei=Ah1lUqOrFoPv4gSZ7oGQCQ&amp;ved=0CB4Q9QEwAQ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928800"/>
            <a:ext cx="83296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ГАДКИ: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тали алы облака,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тала розовой река.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т и солнышко зашло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 леса и за моря.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 вдали еще светло,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о яркая …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                   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407" name="Picture 5" descr="https://storage.fabulae.ru/images/authors/8195/foto_1114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549360" y="341280"/>
            <a:ext cx="7918200" cy="114624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1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10" descr="https://photocentra.ru/images/main86/867233_main.jpg"/>
          <p:cNvPicPr/>
          <p:nvPr/>
        </p:nvPicPr>
        <p:blipFill>
          <a:blip r:embed="rId2"/>
          <a:stretch/>
        </p:blipFill>
        <p:spPr>
          <a:xfrm>
            <a:off x="1214280" y="857160"/>
            <a:ext cx="6275520" cy="4181400"/>
          </a:xfrm>
          <a:prstGeom prst="rect">
            <a:avLst/>
          </a:prstGeom>
          <a:ln w="0">
            <a:noFill/>
          </a:ln>
        </p:spPr>
      </p:pic>
      <p:sp>
        <p:nvSpPr>
          <p:cNvPr id="411" name="TextBox 7"/>
          <p:cNvSpPr/>
          <p:nvPr/>
        </p:nvSpPr>
        <p:spPr>
          <a:xfrm>
            <a:off x="571680" y="542916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ahoma"/>
              </a:rPr>
              <a:t>Яркое освещение горизонта перед восходом или после захода солнц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85680" y="182520"/>
            <a:ext cx="6564240" cy="5535720"/>
          </a:xfrm>
          <a:prstGeom prst="rect">
            <a:avLst/>
          </a:prstGeom>
          <a:ln w="0">
            <a:noFill/>
          </a:ln>
        </p:spPr>
      </p:pic>
      <p:sp>
        <p:nvSpPr>
          <p:cNvPr id="41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Рисунок 11" descr="2022-11-01_11-42-20.png"/>
          <p:cNvPicPr/>
          <p:nvPr/>
        </p:nvPicPr>
        <p:blipFill>
          <a:blip r:embed="rId2"/>
          <a:stretch/>
        </p:blipFill>
        <p:spPr>
          <a:xfrm>
            <a:off x="3500280" y="1143000"/>
            <a:ext cx="564372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487440" y="384120"/>
            <a:ext cx="7980120" cy="322416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571680" y="4357800"/>
            <a:ext cx="6400800" cy="23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едложения </a:t>
            </a:r>
            <a:endParaRPr b="0" lang="en-US" sz="2800" spc="-1" strike="noStrike">
              <a:solidFill>
                <a:srgbClr val="1f497d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след за утренней зарёю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ыходит солнце над горою…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 востоке заря занимается, 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ловно розовый пух облака.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420" name="Picture 5" descr="http://www.google.ru/images?q=tbn:ANd9GcTv9V4sg8WKnly3P05ACvPlR4cKPBrA-XOe8w_5u8j7LiFLfa2uXpjqli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120" y="2286000"/>
            <a:ext cx="2529000" cy="19447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6" descr="C:\Users\пользователь\Desktop\анимации\deti[1].gif"/>
          <p:cNvPicPr/>
          <p:nvPr/>
        </p:nvPicPr>
        <p:blipFill>
          <a:blip r:embed="rId4"/>
          <a:stretch/>
        </p:blipFill>
        <p:spPr>
          <a:xfrm>
            <a:off x="6804000" y="5084640"/>
            <a:ext cx="2208240" cy="1405080"/>
          </a:xfrm>
          <a:prstGeom prst="rect">
            <a:avLst/>
          </a:prstGeom>
          <a:ln w="0">
            <a:noFill/>
          </a:ln>
        </p:spPr>
      </p:pic>
      <p:sp>
        <p:nvSpPr>
          <p:cNvPr id="422" name="Прямоугольник 5"/>
          <p:cNvSpPr/>
          <p:nvPr/>
        </p:nvSpPr>
        <p:spPr>
          <a:xfrm>
            <a:off x="4429080" y="235728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НТОНИ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ря- зак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ловица: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32640" indent="-332640"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Franklin Gothic Book"/>
              </a:rPr>
              <a:t>Зарю проспать, рубахи не достать.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32640" indent="-332640"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Franklin Gothic Book"/>
              </a:rPr>
              <a:t>Фразеологизмы:</a:t>
            </a:r>
            <a:r>
              <a:rPr b="1" lang="ru-RU" sz="3600" spc="-1" strike="noStrike">
                <a:solidFill>
                  <a:srgbClr val="7030a0"/>
                </a:solidFill>
                <a:latin typeface="Franklin Gothic Book"/>
              </a:rPr>
              <a:t>	</a:t>
            </a:r>
            <a:r>
              <a:rPr b="1" lang="ru-RU" sz="3600" spc="-1" strike="noStrike">
                <a:solidFill>
                  <a:srgbClr val="7030a0"/>
                </a:solidFill>
                <a:latin typeface="Franklin Gothic Book"/>
              </a:rPr>
              <a:t>значение: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Franklin Gothic Book"/>
              </a:rPr>
              <a:t>Ни свет ни заря</a:t>
            </a:r>
            <a:r>
              <a:rPr b="1" i="1" lang="ru-RU" sz="3200" spc="-1" strike="noStrike">
                <a:solidFill>
                  <a:srgbClr val="1f497d"/>
                </a:solidFill>
                <a:latin typeface="Franklin Gothic Book"/>
              </a:rPr>
              <a:t>:</a:t>
            </a:r>
            <a:r>
              <a:rPr b="1" i="1" lang="ru-RU" sz="3200" spc="-1" strike="noStrike">
                <a:solidFill>
                  <a:srgbClr val="1f497d"/>
                </a:solidFill>
                <a:latin typeface="Franklin Gothic Book"/>
              </a:rPr>
              <a:t>	</a:t>
            </a:r>
            <a:r>
              <a:rPr b="1" i="1" lang="ru-RU" sz="3200" spc="-1" strike="noStrike">
                <a:solidFill>
                  <a:srgbClr val="00b050"/>
                </a:solidFill>
                <a:latin typeface="Franklin Gothic Book"/>
              </a:rPr>
              <a:t>очень рано утром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Franklin Gothic Book"/>
              </a:rPr>
              <a:t>От зари до зари:</a:t>
            </a:r>
            <a:r>
              <a:rPr b="1" i="1" lang="ru-RU" sz="3200" spc="-1" strike="noStrike">
                <a:solidFill>
                  <a:srgbClr val="1f497d"/>
                </a:solidFill>
                <a:latin typeface="Franklin Gothic Book"/>
              </a:rPr>
              <a:t>	</a:t>
            </a:r>
            <a:r>
              <a:rPr b="1" i="1" lang="ru-RU" sz="3200" spc="-1" strike="noStrike">
                <a:solidFill>
                  <a:srgbClr val="00b050"/>
                </a:solidFill>
                <a:latin typeface="Franklin Gothic Book"/>
              </a:rPr>
              <a:t>всю ночь или весь день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Franklin Gothic Book"/>
              </a:rPr>
              <a:t>Встать с зарей </a:t>
            </a:r>
            <a:r>
              <a:rPr b="1" i="1" lang="ru-RU" sz="3200" spc="-1" strike="noStrike" u="sng">
                <a:solidFill>
                  <a:srgbClr val="1f497d"/>
                </a:solidFill>
                <a:uFillTx/>
                <a:latin typeface="Franklin Gothic Book"/>
              </a:rPr>
              <a:t>:</a:t>
            </a:r>
            <a:r>
              <a:rPr b="1" i="1" lang="ru-RU" sz="3200" spc="-1" strike="noStrike" u="sng">
                <a:solidFill>
                  <a:srgbClr val="1f497d"/>
                </a:solidFill>
                <a:uFillTx/>
                <a:latin typeface="Franklin Gothic Book"/>
              </a:rPr>
              <a:t>	</a:t>
            </a:r>
            <a:r>
              <a:rPr b="1" i="1" lang="ru-RU" sz="3200" spc="-1" strike="noStrike" u="sng">
                <a:solidFill>
                  <a:srgbClr val="00b050"/>
                </a:solidFill>
                <a:uFillTx/>
                <a:latin typeface="Franklin Gothic Book"/>
              </a:rPr>
              <a:t>очень рано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Franklin Gothic Book"/>
              </a:rPr>
              <a:t> 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424" name="Picture 4" descr="http://www.google.ru/images?q=tbn:ANd9GcSWL99R0zE4rU5NSeozDlfzIhqlF7tUSmTG9MFS1PhhUwN-qVdLLGzQqg"/>
          <p:cNvPicPr/>
          <p:nvPr/>
        </p:nvPicPr>
        <p:blipFill>
          <a:blip r:embed="rId1"/>
          <a:stretch/>
        </p:blipFill>
        <p:spPr>
          <a:xfrm>
            <a:off x="6156360" y="4437000"/>
            <a:ext cx="2744640" cy="21988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5" descr="C:\Users\пользователь\Desktop\анимации\анимашки\собаки\dog11[1].gif"/>
          <p:cNvPicPr/>
          <p:nvPr/>
        </p:nvPicPr>
        <p:blipFill>
          <a:blip r:embed="rId2"/>
          <a:stretch/>
        </p:blipFill>
        <p:spPr>
          <a:xfrm>
            <a:off x="353880" y="5084640"/>
            <a:ext cx="25624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1f497d"/>
                </a:solidFill>
                <a:latin typeface="Franklin Gothic Book"/>
              </a:rPr>
              <a:t>З</a:t>
            </a:r>
            <a:r>
              <a:rPr b="1" lang="en-US" sz="9600" spc="-1" strike="noStrike" u="sng">
                <a:solidFill>
                  <a:srgbClr val="ff0000"/>
                </a:solidFill>
                <a:uFillTx/>
                <a:latin typeface="Franklin Gothic Book"/>
              </a:rPr>
              <a:t>a</a:t>
            </a:r>
            <a:r>
              <a:rPr b="1" lang="en-US" sz="9600" spc="-1" strike="noStrike">
                <a:solidFill>
                  <a:srgbClr val="1f497d"/>
                </a:solidFill>
                <a:latin typeface="Franklin Gothic Book"/>
              </a:rPr>
              <a:t>p</a:t>
            </a:r>
            <a:r>
              <a:rPr b="1" lang="ru-RU" sz="9600" spc="-1" strike="noStrike">
                <a:solidFill>
                  <a:srgbClr val="1f497d"/>
                </a:solidFill>
                <a:latin typeface="Franklin Gothic Book"/>
              </a:rPr>
              <a:t>я - з</a:t>
            </a:r>
            <a:r>
              <a:rPr b="1" lang="ru-RU" sz="9600" spc="-1" strike="noStrike" u="sng">
                <a:solidFill>
                  <a:srgbClr val="ff0000"/>
                </a:solidFill>
                <a:uFillTx/>
                <a:latin typeface="Franklin Gothic Book"/>
              </a:rPr>
              <a:t>а</a:t>
            </a:r>
            <a:r>
              <a:rPr b="1" lang="ru-RU" sz="9600" spc="-1" strike="noStrike">
                <a:solidFill>
                  <a:srgbClr val="1f497d"/>
                </a:solidFill>
                <a:latin typeface="Franklin Gothic Book"/>
              </a:rPr>
              <a:t>к</a:t>
            </a:r>
            <a:r>
              <a:rPr b="1" lang="ru-RU" sz="9600" spc="-1" strike="noStrike" u="sng">
                <a:solidFill>
                  <a:srgbClr val="ff0000"/>
                </a:solidFill>
                <a:uFillTx/>
                <a:latin typeface="Franklin Gothic Book"/>
              </a:rPr>
              <a:t>а</a:t>
            </a:r>
            <a:r>
              <a:rPr b="1" lang="ru-RU" sz="9600" spc="-1" strike="noStrike">
                <a:solidFill>
                  <a:srgbClr val="1f497d"/>
                </a:solidFill>
                <a:latin typeface="Franklin Gothic Book"/>
              </a:rPr>
              <a:t>т</a:t>
            </a:r>
            <a:endParaRPr b="0" lang="en-US" sz="96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28" name="Прямая соединительная линия 4"/>
          <p:cNvSpPr/>
          <p:nvPr/>
        </p:nvSpPr>
        <p:spPr>
          <a:xfrm flipH="1">
            <a:off x="3857400" y="1500120"/>
            <a:ext cx="142920" cy="571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1T11:50:42Z</dcterms:created>
  <dc:creator>пользователь</dc:creator>
  <dc:description/>
  <dc:language>en-US</dc:language>
  <cp:lastModifiedBy>User</cp:lastModifiedBy>
  <dcterms:modified xsi:type="dcterms:W3CDTF">2022-11-01T22:30:46Z</dcterms:modified>
  <cp:revision>17</cp:revision>
  <dc:subject/>
  <dc:title>Лексическое значение слова:</dc:title>
</cp:coreProperties>
</file>