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gif" ContentType="image/gif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FA9-04F6-4F6C-982F-4DE9B61AF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8E2-2DF9-4B04-B2D4-7C1735352F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BCB2-6FDF-47FD-9E7E-B7DB83487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81DB-8B1B-4E08-9223-8AA7E603A4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B31A-7FAC-4D16-9C5B-EB824D6A6C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AA28-EEE0-402C-BC2F-0F573F7030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5BC-A8CB-4D94-B207-AD785D82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A93-1BED-4B47-9F4F-8D71B354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924A-58CD-4172-A9B8-BC1ACD2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8A8E9-81DE-4091-9334-E85A23D3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B4E0-7ADD-4C28-B91E-94D6714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6F3EF-378F-4D0A-B53E-980B212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0234C-131A-4EA5-84FD-D648D42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F52CD-5D5C-4CB9-BABC-CAC6924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B4260-2900-4459-A6E1-435DD77B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CA59D-6A55-414D-BBB5-62A570DB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81793-565D-4000-86FD-FE2AF71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95E-BE10-4237-A5B3-94814DA4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B0C-C6F0-427B-BE3C-9DAD1798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70EC-3C49-4824-AA06-073D6DA4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DE76-4C21-499C-A8A7-9CA3A37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F413-8082-4F26-A374-DA46F2AB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74A-F146-4F10-B402-8C7BD904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F2D-EA4C-4D52-901E-68B1C145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8603-D6F9-40CE-96C7-AF46D01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E7DF-6F97-47DF-B7F1-AF620FB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83F-5D53-4D4A-801D-040108B8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B8AE-1931-48EF-A0AC-6FF2B3D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57D0-41B1-4E88-981F-9040244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78EE-415C-4D4E-8A49-1582312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C45-0226-4ECA-9048-CB5113AB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3DE-C46F-42C5-AAEF-2ABB2F45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7EA6-845E-4B6C-87E1-C0083E2D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BEB1-BA22-4BC4-BEC6-6C3D1C1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FA70-C66F-4991-A8E6-B5540B5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2A4F-2A85-46D4-9141-B293DA3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5E91-0176-41BE-9035-297CA4C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E32-68F9-4300-9AAF-44CAF93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9A17-AD75-4FB8-B9C2-4A38D86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BE61-8961-4CD1-BC7D-6DD6D62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35DD-F32C-4566-AF3F-039CC30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1E60-BA89-44DE-94AD-30418A4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2C84-E587-4706-9493-7739782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F8B9-BF11-4520-976C-96643B5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7994-0909-4429-9819-F809633B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FAFA-05F4-4F53-AA1B-32BE390B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7F91-BD02-4E42-8199-944DF4E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56D8-2BB6-4F6B-89E9-4D9768F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832-8698-4DD9-9BBA-051A968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399B-85A3-4789-BAE1-BC140FD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07B9-5AE1-4AB9-A814-651D77B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DD47-3031-473C-A299-C9565C9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05D7-2DA7-4F48-B0ED-26CB3E8E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AED6-5D33-4147-951F-D5235FC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8DB9-403A-4B7E-BCA3-B81EEE6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5BB1-65DD-4709-ADF1-F587834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3AEA-29AD-4CBF-A34E-84B09613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C38E-61EB-4184-9747-744C1A1E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9668-79D6-463C-BAAD-58CD65B3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7B6-F9BC-4FDD-801B-F4EBB1FD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0C7F-4071-4411-B073-BB125B1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4638-8890-48BE-AA34-C5BF366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FE8B-C834-4BBD-87DB-BFA4C10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FB26-3714-4C50-9CFB-B4E338C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B52C-A72E-4271-A93C-3155070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AF27-1964-40F5-8F67-5674682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B77F-7A43-4CA7-AF8A-AE4A064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D75D-52AF-43DF-9C1D-3C031D92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ECA4-C75E-4E16-9D40-60C2B2B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0222-269F-4422-86EF-BF32E435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BB-F60A-4F3F-8DB5-118D9B1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BF81-9211-40D7-9681-491308CE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954C-CC15-4401-9FF3-1CB0868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1973-CE26-4678-AFF9-C0F1DFC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7920-B67B-4BB3-8109-C477C85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D6BF-C6FC-4217-9418-F1545A44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4971-88BE-4D78-A80C-7EF50F7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6497-C7FA-4635-9063-97691CA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EA57-2A34-4D32-8CD6-6306570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014E-965F-4CD4-AC29-9916F55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DA85-D7F4-471B-BFD0-440B6F9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6EF-9545-478C-A741-D9E4CEB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6013-BE92-4C5B-B894-420D006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C115-71E0-4CBB-8B78-E1050775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A9144-8FF7-43EB-96C3-229FE810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BC86-B60A-4FF5-B453-570C2A5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67FB-86C6-49EF-9E9B-C9B6FD4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304CB-3777-4768-B6AD-0825EB41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99A2-F508-4A40-B3D4-F56FCAB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11BD-337D-4860-9E95-80C10302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4C37-376F-4FBD-A79B-780B6C1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9A99-8F23-4015-B745-BEDB277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A2E-7272-4D59-9432-DED05AE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C82D-23E0-49C2-B582-8A4A892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74546-A98A-48F8-8C62-5EDA3C1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FDA7-B11C-42ED-9367-FA373226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4D5AF-372A-41F8-A47F-64D8BD49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6860-D489-4DE3-8893-6189A6D4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D96C-0989-4CEE-B4F6-814D3145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A442-7590-438B-ADDF-542FDC98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151F6-7528-4BC4-9FA6-B612B5B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B33D-8E01-49AF-BC26-2AEEF85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F5BD-7874-4C45-AE99-F1270D2D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D79-6638-41F6-8A7F-FD2EB83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C4DA-1019-4813-A156-0B72772E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7D086-E40D-4B33-8AD9-7CAC4E4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6F83-A74C-4929-9C4D-8055CA1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C7EF-4B81-407C-A2A0-FD1B846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038D-F34E-4A7B-BC86-7F6B437B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F0CD-F698-4AF3-8A0A-06B43705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F86F7-2873-4A24-AE7B-73489F19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F0D9-135C-4025-BB37-4AE303B0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432F-739F-4074-92F0-76A0BFD5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5699-D438-4B12-9632-D8B34FE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775F-9359-4009-A879-52C381D92FC1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F134-EEA5-499D-9C38-59E871117F4A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DFA-8476-4716-B704-699889C53F8A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380-9A3C-4B60-8536-30DDAAA98CF4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98C-C617-4F36-944B-2D44303E6D7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7287-BACB-415C-9C19-E9C5E630D62F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C94-EB24-4E94-80A1-4E5FD6B52AC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B6F9-536C-45C4-B72C-D7F9834F7EBA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995C-E0B4-4966-80F8-EE0B102F3125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ru/imgres?imgurl=http://www.stihi.ru/pics/2008/08/03/116.jpg&amp;imgrefurl=http://www.stihi.ru/2008/08/03/116&amp;h=499&amp;w=750&amp;sz=88&amp;tbnid=lElHmUe8qeo8hM:&amp;tbnh=73&amp;tbnw=110&amp;prev=/search%3Fq%3D%25D0%25A4%25D0%25BE%25D1%2582%25D0%25BE%2B%25D0%2597%25D0%25B0%25D1%2580%25D1%258F%26tbm%3Disch%26tbo%3Du&amp;zoom=1&amp;q=&#1060;&#1086;&#1090;&#1086;+&#1047;&#1072;&#1088;&#1103;&amp;usg=__Rm36NXbTzrE1Tc0UwzzVMopNy3Q=&amp;hl=ru&amp;sa=X&amp;ei=Ah1lUqOrFoPv4gSZ7oGQCQ&amp;ved=0CB4Q9QEwAQ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928800"/>
            <a:ext cx="8329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И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али алы облака,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ала розовой река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и солнышко зашло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леса и за моря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вдали еще светло,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яркая 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7" name="Picture 5" descr="https://storage.fabulae.ru/images/authors/8195/foto_1114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549360" y="341280"/>
            <a:ext cx="79182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0" descr="https://photocentra.ru/images/main86/867233_main.jpg"/>
          <p:cNvPicPr/>
          <p:nvPr/>
        </p:nvPicPr>
        <p:blipFill>
          <a:blip r:embed="rId2"/>
          <a:stretch/>
        </p:blipFill>
        <p:spPr>
          <a:xfrm>
            <a:off x="1214280" y="857160"/>
            <a:ext cx="6275520" cy="41814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571680" y="542916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ahoma"/>
              </a:rPr>
              <a:t>Яркое освещение горизонта перед восходом или после захода сол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85680" y="182520"/>
            <a:ext cx="6564240" cy="553572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1" descr="2022-11-01_11-42-20.png"/>
          <p:cNvPicPr/>
          <p:nvPr/>
        </p:nvPicPr>
        <p:blipFill>
          <a:blip r:embed="rId2"/>
          <a:stretch/>
        </p:blipFill>
        <p:spPr>
          <a:xfrm>
            <a:off x="3500280" y="1143000"/>
            <a:ext cx="56437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87440" y="384120"/>
            <a:ext cx="7980120" cy="32241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571680" y="4357800"/>
            <a:ext cx="6400800" cy="23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ложения 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лед за утренней зарёю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ходит солнце над горою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востоке заря занимается,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но розовый пух облака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0" name="Picture 5" descr="http://www.google.ru/images?q=tbn:ANd9GcTv9V4sg8WKnly3P05ACvPlR4cKPBrA-XOe8w_5u8j7LiFLfa2uXpjqli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2286000"/>
            <a:ext cx="2529000" cy="1944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Users\пользователь\Desktop\анимации\deti[1].gif"/>
          <p:cNvPicPr/>
          <p:nvPr/>
        </p:nvPicPr>
        <p:blipFill>
          <a:blip r:embed="rId4"/>
          <a:stretch/>
        </p:blipFill>
        <p:spPr>
          <a:xfrm>
            <a:off x="6804000" y="5084640"/>
            <a:ext cx="2208240" cy="14050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4429080" y="2357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ОНИ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ря- за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овица: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Franklin Gothic Book"/>
              </a:rPr>
              <a:t>Зарю проспать, рубахи не достать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Фразеологизмы:</a:t>
            </a: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значение: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и свет ни заря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очень рано утром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От зари до зари: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всю ночь или весь день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стать с зарей </a:t>
            </a:r>
            <a:r>
              <a:rPr b="1" i="1" lang="ru-RU" sz="3200" spc="-1" strike="noStrike" u="sng">
                <a:solidFill>
                  <a:srgbClr val="1f497d"/>
                </a:solidFill>
                <a:uFillTx/>
                <a:latin typeface="Franklin Gothic Book"/>
              </a:rPr>
              <a:t>:</a:t>
            </a:r>
            <a:r>
              <a:rPr b="1" i="1" lang="ru-RU" sz="3200" spc="-1" strike="noStrike" u="sng">
                <a:solidFill>
                  <a:srgbClr val="1f497d"/>
                </a:solidFill>
                <a:uFillTx/>
                <a:latin typeface="Franklin Gothic Book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очень рано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4" name="Picture 4" descr="http://www.google.ru/images?q=tbn:ANd9GcSWL99R0zE4rU5NSeozDlfzIhqlF7tUSmTG9MFS1PhhUwN-qVdLLGzQqg"/>
          <p:cNvPicPr/>
          <p:nvPr/>
        </p:nvPicPr>
        <p:blipFill>
          <a:blip r:embed="rId1"/>
          <a:stretch/>
        </p:blipFill>
        <p:spPr>
          <a:xfrm>
            <a:off x="6156360" y="4437000"/>
            <a:ext cx="2744640" cy="2198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пользователь\Desktop\анимации\анимашки\собаки\dog11[1].gif"/>
          <p:cNvPicPr/>
          <p:nvPr/>
        </p:nvPicPr>
        <p:blipFill>
          <a:blip r:embed="rId2"/>
          <a:stretch/>
        </p:blipFill>
        <p:spPr>
          <a:xfrm>
            <a:off x="353880" y="5084640"/>
            <a:ext cx="2562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З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a</a:t>
            </a:r>
            <a:r>
              <a:rPr b="1" lang="en-US" sz="9600" spc="-1" strike="noStrike">
                <a:solidFill>
                  <a:srgbClr val="1f497d"/>
                </a:solidFill>
                <a:latin typeface="Franklin Gothic Book"/>
              </a:rPr>
              <a:t>p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я - з</a:t>
            </a:r>
            <a:r>
              <a:rPr b="1" lang="ru-RU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а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к</a:t>
            </a:r>
            <a:r>
              <a:rPr b="1" lang="ru-RU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а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т</a:t>
            </a:r>
            <a:endParaRPr b="0" lang="en-US" sz="9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8" name="Прямая соединительная линия 4"/>
          <p:cNvSpPr/>
          <p:nvPr/>
        </p:nvSpPr>
        <p:spPr>
          <a:xfrm flipH="1">
            <a:off x="3857400" y="1500120"/>
            <a:ext cx="14292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0:42Z</dcterms:created>
  <dc:creator>пользователь</dc:creator>
  <dc:description/>
  <dc:language>en-US</dc:language>
  <cp:lastModifiedBy>User</cp:lastModifiedBy>
  <dcterms:modified xsi:type="dcterms:W3CDTF">2022-11-01T22:30:46Z</dcterms:modified>
  <cp:revision>17</cp:revision>
  <dc:subject/>
  <dc:title>Лексическое значение слова:</dc:title>
</cp:coreProperties>
</file>