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F26-B21F-4CBD-AC1F-82A5EFCE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999-9412-4935-B892-5D6DDBB9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8EE-41F0-4461-875D-7FD9E9A6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C9B-D806-4755-8580-06BEEA4E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630-B932-4711-A27D-167F04C4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059-487C-4607-9597-25E8771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CA2-5BAC-42B0-A8F7-C6737C5C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690-8A30-45E7-92D3-9CE764C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F7E-24A6-4F05-865B-F59C3F4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B3F-64CC-44D2-83DD-1C395B8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66B-6029-4D07-967C-0D9E11C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12A-2E6B-4E4C-A323-656BED2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FA79-A257-4DDE-8E1B-9886816AD76C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fioco.ru/&#1087;&#1088;&#1080;&#1084;&#1077;&#1088;&#1099;-&#1079;&#1072;&#1076;&#1072;&#1095;-pisa" TargetMode="External"/><Relationship Id="rId2" Type="http://schemas.openxmlformats.org/officeDocument/2006/relationships/hyperlink" Target="https://fioco.ru/&#1087;&#1088;&#1080;&#1084;&#1077;&#1088;&#1099;-&#1079;&#1072;&#1076;&#1072;&#1095;-pisa" TargetMode="External"/><Relationship Id="rId3" Type="http://schemas.openxmlformats.org/officeDocument/2006/relationships/hyperlink" Target="https://fioco.ru/&#1087;&#1088;&#1080;&#1084;&#1077;&#1088;&#1099;-&#1079;&#1072;&#1076;&#1072;&#1095;-pis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Georgi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33"/>
                </a:solidFill>
                <a:latin typeface="Georgia"/>
                <a:ea typeface="Times New Roman"/>
              </a:rPr>
              <a:t>«Успех в PISA: готовимся и готовим»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428480"/>
            <a:ext cx="8785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Математическая грамотность – это способность индивидуума формулировать, применять и интерпретировать математику в разнообразных контекстах. Она включает математические рассуждения, использование математических понятий, процедур, фактов и инструментов для описания, объяснения и предсказания явлений. Она помогает людям понять роль математики в мире, высказывать хорошо обоснованные суждения и принимать решения, которые должны принимать конструктивные, активные и размышляющие граждане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дель математической грамотности.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6536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снову Организации области исследования мат грамотности положены три асп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ческо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используется в тестовых зада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нтекст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котором представлена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слительны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ые описывают, что делает ученик, чтобы связать этот контекст с математикой, необходимой для решения поставленной проблемы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тексты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екстные категории реального мир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ны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енны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ессиональны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слительные процессы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ать ситуацию математиче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математические понятия, факты, процедуры раз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претировать, использовать и оценивать математически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асти содержания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я и зависимости (алгеб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о и форма (геометр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пределенность и данные (ТВ и статис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(арифме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«Пицца».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ISA-201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646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В пиццерии продаются два вида круглой пиццы, имеющих одинаковую толщину и разные размеры.  Диаметр меньшей пиццы равен 30 см,  и она стоит 30 зедов. Диаметр большей пиццы равен 40 см, и она стоит 40 зедов. Какие пиццы выгоднее продавать хозяину пиццерии? Приведите ваши рассуждения.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Результат: 11%. Личный. Формулировать. Изменение и зависим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Продажа музыкальных дисков»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0" r="-5710" b="-33328"/>
          <a:stretch/>
        </p:blipFill>
        <p:spPr>
          <a:xfrm>
            <a:off x="324000" y="1557360"/>
            <a:ext cx="5760720" cy="4359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rcRect l="0" t="21335" r="0" b="0"/>
          <a:stretch/>
        </p:blipFill>
        <p:spPr>
          <a:xfrm>
            <a:off x="755640" y="4910040"/>
            <a:ext cx="3529080" cy="1255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rcRect l="0" t="14183" r="0" b="12059"/>
          <a:stretch/>
        </p:blipFill>
        <p:spPr>
          <a:xfrm>
            <a:off x="4716360" y="4792680"/>
            <a:ext cx="39610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Продажа музыкальных дисков»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392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держание: Неопределенность и да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 деятельности: «Интерпретировать» (дать ответ с учетом условий представленной в задании ситуаци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текст: Общественны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вень сложност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ниже 1 уровня сложности, 2) 1 уровен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зультат РФ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89%; 2) 72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ний результат стран ОЭСР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87%; 2) 8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ый результа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93%; 2)  91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ГОС О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. 6: … умеющий учиться, …, способный применять полученные знания на практике;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. 8: … метапредметные результаты, включающие освоенные обучающимися межпредметные понятия и универсальные учебные действия, способность их использования в … социальной практик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9240" y="214200"/>
            <a:ext cx="758196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оценочные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347120" y="13842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IS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789360" y="7858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MS PGothic"/>
              </a:rPr>
              <a:t>TIM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6515280" y="13539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IRL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49280" y="1968480"/>
            <a:ext cx="283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«Международная программа оценки учебных достижений 15-летних учащихся»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669960" y="2833560"/>
            <a:ext cx="2373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оценивает способности подростков использовать знания, умения и навыки, приобретенные в школе для решения широкого диапазона жизненных задач в различных сферах человеческой деятельности, а также в межличностном общении и социальных отношениях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2790720" y="1214280"/>
            <a:ext cx="31654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«Оценка математической и естественнонаучной грамотности учащихся  4 и 8-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ласс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5861160" y="1935000"/>
            <a:ext cx="28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6666"/>
                </a:solidFill>
                <a:latin typeface="Times New Roman"/>
                <a:ea typeface="MS PGothic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учение качества чтения и понимание текста»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5629320" y="2463840"/>
            <a:ext cx="3297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учает читательскую грамотность учащихся, проучившихся четыре года. В благоприятной образовательной среде между третьим и пятым годом школьного обучения происходит качественный переход в становлении важнейшего компонента учебной самостоятельности: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заканчивается </a:t>
            </a:r>
            <a:r>
              <a:rPr b="1" i="1" lang="ru-RU" sz="1600" spc="-1" strike="noStrike" u="sng">
                <a:solidFill>
                  <a:srgbClr val="666666"/>
                </a:solidFill>
                <a:uFillTx/>
                <a:latin typeface="Times New Roman"/>
                <a:ea typeface="MS PGothic"/>
              </a:rPr>
              <a:t>обучение чтению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технике чтения),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начинаетс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i="1" lang="ru-RU" sz="1600" spc="-1" strike="noStrike" u="sng">
                <a:solidFill>
                  <a:srgbClr val="666666"/>
                </a:solidFill>
                <a:uFillTx/>
                <a:latin typeface="Times New Roman"/>
                <a:ea typeface="MS PGothic"/>
              </a:rPr>
              <a:t>чтение для обуче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– использование письменных текстов как основного ресурса самообразования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3189240" y="2165400"/>
            <a:ext cx="2241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учаются особенности содержания школьного математического и естественнонаучного образования в странах- участницах, особенности учебного процесса, а также факторы, связанные с характеристиками образовательных учреждений, учителей, учащихся и их семей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ГОС ООО. Из предметных результатов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развитие умений применять изученные понятия, результаты, методы для решения задач практического характера и задач из смежных дисциплин с использованием при необходимости справочных материалов, компьютера, пользоваться оценкой и прикидкой при практических расчёт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Без теории нет практики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4997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между уровнем сформированности предметного знания и его переносом в новую ситуацию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уровень владения предметным знанием, тем выше вероятность его успешного применения в новом контек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ГЭ-2017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уль «Реальная матема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68240" y="1773360"/>
            <a:ext cx="754884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538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арусные корабли». 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PISA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37960" y="1500120"/>
            <a:ext cx="4438800" cy="480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749840" y="1511280"/>
            <a:ext cx="4178160" cy="292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4210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42920" y="2443320"/>
            <a:ext cx="3484800" cy="40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995720" y="2443320"/>
            <a:ext cx="3578400" cy="25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4995720" y="5113440"/>
            <a:ext cx="3578400" cy="119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Rectangle 7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1258920" y="260280"/>
                <a:ext cx="55227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500000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1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1187280" y="1052640"/>
                <a:ext cx="52563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00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4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12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3"/>
              <p:cNvSpPr txBox="1"/>
              <p:nvPr/>
            </p:nvSpPr>
            <p:spPr>
              <a:xfrm>
                <a:off x="1258920" y="1844640"/>
                <a:ext cx="5183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000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94000</m:t>
                    </m:r>
                    <m:r>
                      <m:t xml:space="preserve">≈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14"/>
          <p:cNvSpPr/>
          <p:nvPr/>
        </p:nvSpPr>
        <p:spPr>
          <a:xfrm>
            <a:off x="6863760" y="259560"/>
            <a:ext cx="7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516720" y="105156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(з.)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435720" y="18446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л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«Парусные корабли». </a:t>
            </a:r>
            <a:r>
              <a:rPr b="1" lang="en-US" sz="4300" spc="-1" strike="noStrike">
                <a:solidFill>
                  <a:srgbClr val="000000"/>
                </a:solidFill>
                <a:latin typeface="Cambria"/>
              </a:rPr>
              <a:t>PISA-2012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 Кол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 деятельности: Формул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екст: Нау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РФ: 1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ий результат стран ОЭСР: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симальный результат: 4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фект «типичной задач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я типичную текстовую задачу, ученик подменяет этап понимания и составления модели категоризацией и поиском в памяти готового алгоритма для данной категории задач, моделирование подменяется поиском готовой мо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ешении нетипичной задачи этапы понимания развернуты, самостоятельны, этап интерпретации логичен и осмысл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ение экспе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была бы посильной для российских учащихся, если бы была сформулирована в редакц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 год двигатель на корабле потребляет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00 л топлива, 1 литр топлива стоит 0,42 р. Установка паруса на корабле стоит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00 р. Парус экономит 20% топлива. Через сколько лет экономия топлива покроет стоимость установки парус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БОРНИК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65040" y="549000"/>
            <a:ext cx="84074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ценка способности 15-летних учащихся использовать приобретенные в школе знания и опыт для широкого диапазона жизненных задач в различных сферах человеческой деятельности, общния и социальных отно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714-00D0-42D2-9236-856F874210FF}" type="slidenum"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5 летние обучающие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3280" y="1600200"/>
            <a:ext cx="7597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выбор объясняется тем, что во многих странах к этому возрасту завершается обязательное обучение в школе, и, как следствие, программы обучения во многих странах имеют много обще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46040" indent="-1346040">
              <a:lnSpc>
                <a:spcPct val="120000"/>
              </a:lnSpc>
              <a:tabLst>
                <a:tab algn="l" pos="0"/>
                <a:tab algn="l" pos="134604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  <a:ea typeface="MS PGothic"/>
              </a:rPr>
              <a:t>PISA: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MS P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MS PGothic"/>
              </a:rPr>
              <a:t>определяет целевую оценку как то, что необходимо знать учащемуся, чтобы жить и действовать как гражданин завтрашнего мира (15-летни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46040" indent="-1346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16-1\Desktop\444.png"/>
          <p:cNvPicPr/>
          <p:nvPr/>
        </p:nvPicPr>
        <p:blipFill>
          <a:blip r:embed="rId1"/>
          <a:stretch/>
        </p:blipFill>
        <p:spPr>
          <a:xfrm>
            <a:off x="-47520" y="0"/>
            <a:ext cx="908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16-1\Desktop\5555555.png"/>
          <p:cNvPicPr/>
          <p:nvPr/>
        </p:nvPicPr>
        <p:blipFill>
          <a:blip r:embed="rId2"/>
          <a:stretch/>
        </p:blipFill>
        <p:spPr>
          <a:xfrm>
            <a:off x="0" y="0"/>
            <a:ext cx="8820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16-1\Desktop\Безымянный.png"/>
          <p:cNvPicPr/>
          <p:nvPr/>
        </p:nvPicPr>
        <p:blipFill>
          <a:blip r:embed="rId1"/>
          <a:srcRect l="0" t="0" r="7724" b="15876"/>
          <a:stretch/>
        </p:blipFill>
        <p:spPr>
          <a:xfrm>
            <a:off x="0" y="7920"/>
            <a:ext cx="91630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fioco.ru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имеры-задач-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is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7:34:22Z</dcterms:created>
  <dc:creator>user</dc:creator>
  <dc:description/>
  <dc:language>en-US</dc:language>
  <cp:lastModifiedBy>Oem</cp:lastModifiedBy>
  <dcterms:modified xsi:type="dcterms:W3CDTF">2019-10-17T12:53:58Z</dcterms:modified>
  <cp:revision>177</cp:revision>
  <dc:subject/>
  <dc:title>Слайд 1</dc:title>
</cp:coreProperties>
</file>