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F5B-F0F1-482F-9155-C1D44772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090-5BA9-489C-BB96-74FF8B33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16A-9335-4E57-9508-EBDF46FC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0D5-1BE0-497F-92F4-D1BFD77B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F7C-29CF-4347-90C4-2B8EFB04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0EB-E356-4031-9187-F4C4F1DC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B6C2-F6A0-4330-A43F-FEC456AB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241-3DB2-436F-AA59-43AE8585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2A3-7171-4CC8-B450-64123CE3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196-138B-4E98-A63B-946784D9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22A-8F82-488A-90C2-1D18AC11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3BC-B5D0-40CC-8867-8A95B6F0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7C12-885A-449E-A671-BAE1B6AF98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e9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e9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e9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ласть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способность, право и возможность распоряжаться кем-либо и чем-либо, оказывать решающее воздействие на пове-дение и деятельность людей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Овал 19"/>
          <p:cNvSpPr/>
          <p:nvPr/>
        </p:nvSpPr>
        <p:spPr>
          <a:xfrm>
            <a:off x="6178680" y="2789280"/>
            <a:ext cx="2813040" cy="26445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литическая 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Взаимосвязь политической и государственной власти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5" name="Овал 4"/>
          <p:cNvSpPr/>
          <p:nvPr/>
        </p:nvSpPr>
        <p:spPr>
          <a:xfrm>
            <a:off x="762120" y="1825560"/>
            <a:ext cx="2438280" cy="2060640"/>
          </a:xfrm>
          <a:prstGeom prst="ellipse">
            <a:avLst/>
          </a:prstGeom>
          <a:solidFill>
            <a:srgbClr val="99ccff">
              <a:alpha val="39000"/>
            </a:srgbClr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литическая 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4"/>
          <p:cNvSpPr/>
          <p:nvPr/>
        </p:nvSpPr>
        <p:spPr>
          <a:xfrm>
            <a:off x="789120" y="3179880"/>
            <a:ext cx="2438280" cy="2174760"/>
          </a:xfrm>
          <a:prstGeom prst="ellipse">
            <a:avLst/>
          </a:prstGeom>
          <a:solidFill>
            <a:srgbClr val="99ccff">
              <a:alpha val="36000"/>
            </a:srgbClr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сударственная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5"/>
          <p:cNvSpPr/>
          <p:nvPr/>
        </p:nvSpPr>
        <p:spPr>
          <a:xfrm>
            <a:off x="3678120" y="4419720"/>
            <a:ext cx="2508480" cy="2036520"/>
          </a:xfrm>
          <a:prstGeom prst="ellipse">
            <a:avLst/>
          </a:prstGeom>
          <a:noFill/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литическая 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6"/>
          <p:cNvSpPr/>
          <p:nvPr/>
        </p:nvSpPr>
        <p:spPr>
          <a:xfrm>
            <a:off x="3706920" y="4419720"/>
            <a:ext cx="2506680" cy="2028600"/>
          </a:xfrm>
          <a:prstGeom prst="ellipse">
            <a:avLst/>
          </a:prstGeom>
          <a:solidFill>
            <a:srgbClr val="99ccff">
              <a:alpha val="24000"/>
            </a:srgbClr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сударст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7"/>
          <p:cNvSpPr/>
          <p:nvPr/>
        </p:nvSpPr>
        <p:spPr>
          <a:xfrm>
            <a:off x="3575160" y="1825560"/>
            <a:ext cx="2798640" cy="24415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сударственная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8"/>
          <p:cNvSpPr/>
          <p:nvPr/>
        </p:nvSpPr>
        <p:spPr>
          <a:xfrm>
            <a:off x="6767640" y="4267080"/>
            <a:ext cx="1635120" cy="92088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сударственная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0"/>
          <p:cNvSpPr/>
          <p:nvPr/>
        </p:nvSpPr>
        <p:spPr>
          <a:xfrm>
            <a:off x="4184640" y="2855880"/>
            <a:ext cx="1371600" cy="129528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литическая  в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ая прямоугольная выноска 21"/>
          <p:cNvSpPr/>
          <p:nvPr/>
        </p:nvSpPr>
        <p:spPr>
          <a:xfrm>
            <a:off x="277920" y="1519200"/>
            <a:ext cx="914400" cy="612720"/>
          </a:xfrm>
          <a:prstGeom prst="wedgeRoundRectCallout">
            <a:avLst>
              <a:gd name="adj1" fmla="val 51893"/>
              <a:gd name="adj2" fmla="val 96421"/>
              <a:gd name="adj3" fmla="val 16667"/>
            </a:avLst>
          </a:prstGeom>
          <a:solidFill>
            <a:srgbClr val="ffffff"/>
          </a:solidFill>
          <a:ln w="1260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ая прямоугольная выноска 22"/>
          <p:cNvSpPr/>
          <p:nvPr/>
        </p:nvSpPr>
        <p:spPr>
          <a:xfrm>
            <a:off x="6477120" y="1825560"/>
            <a:ext cx="914400" cy="612720"/>
          </a:xfrm>
          <a:prstGeom prst="wedgeRoundRectCallout">
            <a:avLst>
              <a:gd name="adj1" fmla="val -117800"/>
              <a:gd name="adj2" fmla="val 53453"/>
              <a:gd name="adj3" fmla="val 16667"/>
            </a:avLst>
          </a:prstGeom>
          <a:solidFill>
            <a:srgbClr val="ffffff"/>
          </a:solidFill>
          <a:ln w="1260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ая прямоугольная выноска 23"/>
          <p:cNvSpPr/>
          <p:nvPr/>
        </p:nvSpPr>
        <p:spPr>
          <a:xfrm>
            <a:off x="7772400" y="5478480"/>
            <a:ext cx="914400" cy="612720"/>
          </a:xfrm>
          <a:prstGeom prst="wedgeRoundRectCallout">
            <a:avLst>
              <a:gd name="adj1" fmla="val -60226"/>
              <a:gd name="adj2" fmla="val -82231"/>
              <a:gd name="adj3" fmla="val 16667"/>
            </a:avLst>
          </a:prstGeom>
          <a:solidFill>
            <a:srgbClr val="ffffff"/>
          </a:solidFill>
          <a:ln w="1260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ая прямоугольная выноска 24"/>
          <p:cNvSpPr/>
          <p:nvPr/>
        </p:nvSpPr>
        <p:spPr>
          <a:xfrm>
            <a:off x="2347920" y="5789520"/>
            <a:ext cx="914400" cy="612720"/>
          </a:xfrm>
          <a:prstGeom prst="wedgeRoundRectCallout">
            <a:avLst>
              <a:gd name="adj1" fmla="val 114013"/>
              <a:gd name="adj2" fmla="val -61879"/>
              <a:gd name="adj3" fmla="val 16667"/>
            </a:avLst>
          </a:prstGeom>
          <a:solidFill>
            <a:srgbClr val="ffffff"/>
          </a:solidFill>
          <a:ln w="1260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7200" y="609480"/>
            <a:ext cx="82296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Типология политической власти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субъекту властвования: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Государственная (публичная, суверенная, на определённой территории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Общественная (партийная, профсоюзная, СМИ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функциям: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Законодатель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Исполнитель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удеб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2296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Типология политической власти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режиму правления: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Демократическ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Авторитар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Тоталитар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типам социального господства: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Традицион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Легаль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Харизматическая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a396c"/>
                </a:solidFill>
                <a:latin typeface="Tahoma"/>
              </a:rPr>
              <a:t>Роль политики в жизни общества (функции политики):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Обеспечить единство общества;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Использование различных средств и методов разрешения конфликтов;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Управление общественными и политическими процессами;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Включение личности в мир общественных отношений;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Обеспечение преемственности и обновления в развитии общества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Домашнее задание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Вопрос 5 стр. 9 – письменно (раздел «Проверь себя»)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Классификация видов власти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8960" y="838080"/>
            <a:ext cx="72961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источнику власт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Политическ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Экономическ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Культурно-информационная и др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 субъекту власт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Государствен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Партий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емейная (родительская) и др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Функциям органов власт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Законодатель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Исполнительна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1" marL="713160" indent="-274320">
              <a:spcBef>
                <a:spcPts val="601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удебная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520" y="609120"/>
            <a:ext cx="861084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Учитель на уроке охарактеризовал сущность и особенности власти, подробно раскрыв экономическую и политическую власть. Сравните два вида власти, упо­мянутые в условии задания, - экономическую и политическую.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Выберите и запишите в первую колонку таб­лицы порядковые номера черт сходства, а во вторую ко­лонку - порядковые номера черт отличия.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пособность влиять на деятельность и поведение людей и социальных групп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контроль над техникой, плодородными землями, полезными ископаемыми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наличие отношений господства и подчинени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уществование связи с функционированием государства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09680" y="5562720"/>
          <a:ext cx="6096240" cy="741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ЕРТЫ СХ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ЕРТЫ ОТЛИ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520" y="609120"/>
            <a:ext cx="861084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Учитель на уроке охарактеризовал сущность и особенности власти, подробно раскрыв экономическую и политическую власть. Сравните два вида власти, упо­мянутые в условии задания, - экономическую и политическую.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Выберите и запишите в первую колонку таб­лицы порядковые номера черт сходства, а во вторую ко­лонку - порядковые номера черт отличия.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пособность влиять на деятельность и поведение людей и социальных групп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контроль над техникой, плодородными землями, полезными ископаемыми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наличие отношений господства и подчинени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244e93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существование связи с функционированием государства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5562720"/>
          <a:ext cx="6096240" cy="741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ЕРТЫ СХ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ЕРТЫ ОТЛИ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Политическая власть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43" name="Объект 5" descr=""/>
          <p:cNvPicPr/>
          <p:nvPr/>
        </p:nvPicPr>
        <p:blipFill>
          <a:blip r:embed="rId1"/>
          <a:srcRect l="29206" t="35100" r="30505" b="35135"/>
          <a:stretch/>
        </p:blipFill>
        <p:spPr>
          <a:xfrm>
            <a:off x="1028880" y="148608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Политическая власть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способность, право и возможность отстаивать и претворять в жизнь определённую политику, используя политические партии, организации, государство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565000"/>
            <a:ext cx="7667640" cy="1079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37416"/>
                </a:solidFill>
                <a:latin typeface="Arial Narrow"/>
              </a:rPr>
              <a:t>Политика и власть</a:t>
            </a:r>
            <a:endParaRPr b="0" lang="en-US" sz="54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a396c"/>
                </a:solidFill>
                <a:latin typeface="Tahoma"/>
              </a:rPr>
              <a:t>Политика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искусство управления государством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деятельность в политической сфере общества, направленная на достижение, удержание, укрепление и реализацию власт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деятельность, связанная с отношениями между большими общественными группами, социальными соями, нациями, институтами, государствами 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662880" y="4973760"/>
            <a:ext cx="246672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Признаки политической власти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1825200"/>
            <a:ext cx="8286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Распространяется на всё общество, на всех проживающих на территории данного государства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Действует на основе права от имени всего общества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Обладает законным правом использовать силу (принуждение) в пределах страны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Характеризуется существованием единого общегосударствен­ного центра принятия политических решений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Имеет возможность использовать самые разнообразные сред­ства (экономические, социальные, культурно-информацион­ные, принудительные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2" name="Скругленная прямоугольная выноска 3"/>
          <p:cNvSpPr/>
          <p:nvPr/>
        </p:nvSpPr>
        <p:spPr>
          <a:xfrm>
            <a:off x="7391520" y="1214280"/>
            <a:ext cx="1600200" cy="685800"/>
          </a:xfrm>
          <a:prstGeom prst="wedgeRoundRectCallout">
            <a:avLst>
              <a:gd name="adj1" fmla="val -65421"/>
              <a:gd name="adj2" fmla="val -43875"/>
              <a:gd name="adj3" fmla="val 16667"/>
            </a:avLst>
          </a:prstGeom>
          <a:solidFill>
            <a:srgbClr val="ffffff"/>
          </a:solidFill>
          <a:ln w="1260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тр.5-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2:42:02Z</dcterms:created>
  <dc:creator>Мария</dc:creator>
  <dc:description/>
  <dc:language>en-US</dc:language>
  <cp:lastModifiedBy>Admin</cp:lastModifiedBy>
  <dcterms:modified xsi:type="dcterms:W3CDTF">2022-09-04T19:59:0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