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533520" y="763200"/>
            <a:ext cx="67024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100" spc="-1" strike="noStrike">
                <a:solidFill>
                  <a:srgbClr val="44546a"/>
                </a:solidFill>
                <a:latin typeface="Arial"/>
              </a:rPr>
              <a:t>Click to move the slide</a:t>
            </a: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3373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4398840" y="0"/>
            <a:ext cx="3373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9555120"/>
            <a:ext cx="3373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4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D1323-767E-45DE-82B1-E11C6ABE60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398840" y="9555120"/>
            <a:ext cx="3373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0ED0425-8B94-4D60-AFFC-8DC1AEBE8C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398840" y="9555120"/>
            <a:ext cx="3373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F9FBE8A-B0BB-4C61-B825-A050102A62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398840" y="9555120"/>
            <a:ext cx="3373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A6E4D55-E1D3-452D-A947-97A161421D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398840" y="9555120"/>
            <a:ext cx="3373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31B8CB8-593A-401A-AD18-F146F9ADB3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398840" y="9555120"/>
            <a:ext cx="3373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5FF0046-B21F-48DE-AE72-0EDE3222B5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398840" y="9555120"/>
            <a:ext cx="3373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8B6BC67-EDF7-4884-B5F2-F7A90D04FA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398840" y="9555120"/>
            <a:ext cx="3373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B210329-1E77-4F38-945E-D3EFDB141E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398840" y="9555120"/>
            <a:ext cx="3373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E926DD1-A345-4B51-8A6B-DCF22A9FF0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398840" y="9555120"/>
            <a:ext cx="3373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D1C9B25-BF7B-4811-8535-0E63F2F103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398840" y="9555120"/>
            <a:ext cx="3373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72D7F0-3466-4C73-B0A7-D6279D58B5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7C4B9-6ABD-46DF-B32D-E1B00C9E8E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709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18CEE-5576-4353-A411-E4367A6F29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32732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304416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99997-3093-468F-B7FB-BE74318F58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32732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32732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304416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304416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C4CAF-BD60-417E-9960-97C960E05B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572BB-69D4-467D-ABEE-F0D73C9CE6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6FF23-0D07-426A-81CA-BEAB7381F8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73DCF-6FCA-4B7E-BE44-9D2E0A6A2F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65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1240" y="1327320"/>
            <a:ext cx="44265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C4B7F-08A1-42D4-914B-A1DF7B9466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9817F-1EB4-42F2-ACF3-B341A0B13F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7092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1063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7C93A-A3EE-4D44-9BDE-7D3C5EC269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1240" y="1327320"/>
            <a:ext cx="44265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AF8B9-2861-4073-9434-3F0DA911C3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09740-A4A7-46F6-B873-631F145378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65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1240" y="132732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1240" y="304416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F949E-02FD-4FEC-99A8-6953ADCB13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1240" y="132732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709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1DD9A-82E3-4C74-A07C-9BCC22D3EA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709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EE463-6B8F-4C51-BC85-9514B63D55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1240" y="132732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1240" y="304416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BFF9F-38EA-4384-AA45-EFBEE8F598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70120" y="132732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6960" y="132732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70120" y="304416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6960" y="304416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C4916-AEC2-488C-8D40-BD73A1BB3DE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7AC2-4E59-4733-B728-97525929F61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B803-063D-4143-8F01-6CED1EDD42C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B7D4-2CCE-4172-8ABF-2DAB090EE45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65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51240" y="1327320"/>
            <a:ext cx="44265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815E-29A5-4DBA-B6C7-167AAB13B9B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37D3-DE26-43F6-B3E4-778BE51893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3A312-FFEC-4452-A20D-26215AD475A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7092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1063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3502-A20F-4FB5-B3B0-29DDADC47DA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51240" y="1327320"/>
            <a:ext cx="44265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B613-10B2-4C59-9C5E-ACAE282E5E2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65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1240" y="132732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51240" y="304416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3506-05FE-4108-9935-1443301B69B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1240" y="132732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709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6123-00AF-4B3B-AC32-8804B73F9BA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709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479A-2D93-4474-A94C-C0727E3CC2D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1240" y="132732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151240" y="304416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832B-28BC-4D74-83ED-F281343F632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70120" y="132732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636960" y="132732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70120" y="304416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636960" y="304416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7CCA-067C-4D13-A282-838AB2DBDD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65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327320"/>
            <a:ext cx="44265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F870F-2EF9-47F9-BD0E-950EA0B331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A1CCA-4F54-4D44-BE16-B097B19A0C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7092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1063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8F4D7-520C-43A4-A91C-A34580B08C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327320"/>
            <a:ext cx="44265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2ED33-DB5C-474E-BEBE-A870099F9D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65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32732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304416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D84E3-A4B0-41EB-84B7-1BDC97E10F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32732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709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3FEF3-E0C3-4AD2-9EAE-D3CFBF0333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7092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marL="250200" indent="0">
              <a:spcBef>
                <a:spcPts val="1412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50200" indent="-250200"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50200" indent="-250200">
              <a:spcBef>
                <a:spcPts val="141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50200" indent="-250200"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50200" indent="-250200"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50200" indent="-250200"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50200" indent="-250200"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03280" y="5165640"/>
            <a:ext cx="2349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448080" y="5165640"/>
            <a:ext cx="3193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93EF28-8C51-4D35-B92F-1FF0B41956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7280" y="1295280"/>
            <a:ext cx="8926560" cy="13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032360" y="2890800"/>
            <a:ext cx="5182920" cy="27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400720"/>
            <a:ext cx="234792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3448080" y="5400720"/>
            <a:ext cx="31939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9288000" y="5427360"/>
            <a:ext cx="646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E86F339-022E-4B60-BED6-F602108851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7092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0" algn="r">
              <a:spcAft>
                <a:spcPts val="106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332640" algn="r"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32640" indent="-332640" algn="r"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32640" indent="-332640" algn="r"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32640" indent="-332640" algn="r"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32640" indent="-332640" algn="r"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32640" indent="-332640" algn="r"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3280" y="1327320"/>
            <a:ext cx="9072360" cy="32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503280" y="5165640"/>
            <a:ext cx="2349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3448080" y="5165640"/>
            <a:ext cx="3193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53446C-315F-4640-B014-DF4E9826D5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7092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0">
              <a:spcBef>
                <a:spcPts val="1063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332640">
              <a:spcBef>
                <a:spcPts val="1063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32640" indent="-332640">
              <a:spcBef>
                <a:spcPts val="1063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32640" indent="-332640">
              <a:spcBef>
                <a:spcPts val="1063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32640" indent="-332640">
              <a:spcBef>
                <a:spcPts val="1063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32640" indent="-332640">
              <a:spcBef>
                <a:spcPts val="1063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32640" indent="-332640">
              <a:spcBef>
                <a:spcPts val="1063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19240" y="914400"/>
            <a:ext cx="775008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Формирование элементарных математических представле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В подготовительной групп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Тема: Состав числа 4 из двух меньших чисе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/>
          <p:nvPr/>
        </p:nvSpPr>
        <p:spPr>
          <a:xfrm>
            <a:off x="5121360" y="3657600"/>
            <a:ext cx="338292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Подготовила презентацию 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Воспитатель: Иванова А.В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МАДОУ “Снежинка”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-639720" y="2320920"/>
            <a:ext cx="3670200" cy="3440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3382920" y="2927520"/>
            <a:ext cx="1835280" cy="22446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2514600" y="3110040"/>
            <a:ext cx="1411200" cy="24620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4754520" y="3017880"/>
            <a:ext cx="1554120" cy="25765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6059520" y="2835360"/>
            <a:ext cx="1712880" cy="24685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2651040" y="378000"/>
            <a:ext cx="6456600" cy="224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93760" y="1143000"/>
            <a:ext cx="4349880" cy="28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Ребята давайте друг друга согреем своими улыбк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Для этого поставьте руки на пояс и произнесите слов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«Влево-вправо повернись и друг другу улыбнис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832360" y="1295280"/>
            <a:ext cx="3957840" cy="40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82440" y="458640"/>
            <a:ext cx="3846600" cy="4703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1719360" y="36360"/>
            <a:ext cx="9070920" cy="9446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213000" y="1828800"/>
            <a:ext cx="51087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Ребята встаньте в шеренгу и рассчитайтесь на первый-втор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Первые номера- это первая коман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Вторые номера это вторая коман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За выполненые задания вы будете получать наград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889760" y="1835280"/>
            <a:ext cx="2179800" cy="38052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011320" y="384120"/>
            <a:ext cx="41752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Игровое упражнение «Заселим дом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>
            <a:off x="92160" y="1096920"/>
            <a:ext cx="2193840" cy="1096920"/>
          </a:xfrm>
          <a:prstGeom prst="pie">
            <a:avLst/>
          </a:prstGeom>
          <a:solidFill>
            <a:srgbClr val="00a933"/>
          </a:solidFill>
          <a:ln cap="sq"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Microsoft YaHei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/>
          <p:nvPr/>
        </p:nvSpPr>
        <p:spPr>
          <a:xfrm>
            <a:off x="1189080" y="2193840"/>
            <a:ext cx="1096920" cy="1006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sq" w="9360">
            <a:solidFill>
              <a:srgbClr val="00a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/>
          <p:nvPr/>
        </p:nvSpPr>
        <p:spPr>
          <a:xfrm>
            <a:off x="92160" y="2193840"/>
            <a:ext cx="1096920" cy="1006560"/>
          </a:xfrm>
          <a:prstGeom prst="pie">
            <a:avLst/>
          </a:prstGeom>
          <a:noFill/>
          <a:ln cap="sq" w="9360">
            <a:solidFill>
              <a:srgbClr val="00a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Microsoft YaHei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/>
          <p:nvPr/>
        </p:nvSpPr>
        <p:spPr>
          <a:xfrm>
            <a:off x="92160" y="3200400"/>
            <a:ext cx="1096920" cy="1006560"/>
          </a:xfrm>
          <a:prstGeom prst="pie">
            <a:avLst/>
          </a:prstGeom>
          <a:noFill/>
          <a:ln cap="sq" w="9360">
            <a:solidFill>
              <a:srgbClr val="00a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Microsoft YaHei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/>
          <p:nvPr/>
        </p:nvSpPr>
        <p:spPr>
          <a:xfrm>
            <a:off x="1189080" y="4206960"/>
            <a:ext cx="1096920" cy="100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efefe"/>
          </a:solidFill>
          <a:ln cap="sq" w="9360">
            <a:solidFill>
              <a:srgbClr val="00a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/>
          <p:nvPr/>
        </p:nvSpPr>
        <p:spPr>
          <a:xfrm>
            <a:off x="1189080" y="3200400"/>
            <a:ext cx="1096920" cy="1006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sq" w="9360">
            <a:solidFill>
              <a:srgbClr val="00a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/>
          <p:nvPr/>
        </p:nvSpPr>
        <p:spPr>
          <a:xfrm>
            <a:off x="92160" y="4206960"/>
            <a:ext cx="1096920" cy="1004760"/>
          </a:xfrm>
          <a:prstGeom prst="pie">
            <a:avLst/>
          </a:prstGeom>
          <a:solidFill>
            <a:srgbClr val="fefefe"/>
          </a:solidFill>
          <a:ln cap="sq" w="9360">
            <a:solidFill>
              <a:srgbClr val="00a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Microsoft YaHei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/>
          <p:nvPr/>
        </p:nvSpPr>
        <p:spPr>
          <a:xfrm>
            <a:off x="2306520" y="915840"/>
            <a:ext cx="6105600" cy="39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Ребята скажите пожалуста номер дома и количество этажей в нем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«На каждом этаже в двух квартирах живет по четыре жильц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На верхнем этаже в квартире слева сколько жельцов проживают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А справа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Сколько всего жильцов на этаж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Сколько жильцов слев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Сколько жильцов справ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Как составили число четыр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Как еще можно составить число четыре?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Молодцы за правильно выполненное задан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команда получает звездоч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7128000" y="2232000"/>
            <a:ext cx="2952720" cy="29512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0" y="1371600"/>
            <a:ext cx="2919240" cy="42069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954080" y="274680"/>
            <a:ext cx="5543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Игровое упражнение «Разложи счетные палочки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/>
          <p:nvPr/>
        </p:nvSpPr>
        <p:spPr>
          <a:xfrm>
            <a:off x="2424240" y="787320"/>
            <a:ext cx="4341600" cy="21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Ребята я вам предлогая разделить палочки на две части, кто как хочет. и разложить их на одном этаж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Сколько всего у вас счетных палочек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На какие два числа вы разложили число четыр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1031760"/>
            <a:ext cx="2743200" cy="4546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621320" y="274680"/>
            <a:ext cx="45226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Игровое упражнение «Составь неделю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5400720" y="1911240"/>
            <a:ext cx="4711680" cy="32720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232000" y="704880"/>
            <a:ext cx="5651640" cy="20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Повторяем дни недел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Ребята возьмите пожалуйста крточку с цыфр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Встанте в шеренгу образуя недел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Пока музыка играет в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бегаете. Как только музык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останавливаетьс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вы выстраиваетет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в правильном поряд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479840" y="182520"/>
            <a:ext cx="6127920" cy="61261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011320" y="274680"/>
            <a:ext cx="43750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Игровое упражнение «Найди отличия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-36360" y="744480"/>
            <a:ext cx="1014228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На столе 2 шара (маленький железный и большой пластмассовый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и 2 деревянных кубика одного размера и веса, но разного цве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Из чего сделаны предметы, их сходство и различ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Представители команд выполняют зада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Различаются ли предметы по весу и как это мож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определи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Затем делается вывод: «Железный шар тяжеле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чем пластмассовый, а пластмассовый ша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легче железного шар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Кубики одинаковые по весу, но разные по цвету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rcRect l="-1019" t="0" r="-2098" b="0"/>
          <a:stretch/>
        </p:blipFill>
        <p:spPr>
          <a:xfrm>
            <a:off x="2301840" y="1463760"/>
            <a:ext cx="7778880" cy="37479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88920" y="879480"/>
            <a:ext cx="2562120" cy="47912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211720" y="201600"/>
            <a:ext cx="4572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Игровое упражнение «Собери картинку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2011320" y="639720"/>
            <a:ext cx="929952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Рбята у вас у каждого есть набор цветных геометрических фигу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Первой команде надо построить самол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Второй команде надо построить ракет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Расскажите какие геометрические фигуры вы использовал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382920" y="822240"/>
            <a:ext cx="5668920" cy="5670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378160" y="2890800"/>
            <a:ext cx="1863720" cy="2687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1371600" y="2909880"/>
            <a:ext cx="1554120" cy="25765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544760" y="627120"/>
            <a:ext cx="1920600" cy="1920960"/>
          </a:xfrm>
          <a:custGeom>
            <a:avLst/>
            <a:gdLst>
              <a:gd name="textAreaLeft" fmla="*/ 93600 w 1920600"/>
              <a:gd name="textAreaRight" fmla="*/ 1827000 w 1920600"/>
              <a:gd name="textAreaTop" fmla="*/ 93600 h 1920960"/>
              <a:gd name="textAreaBottom" fmla="*/ 1827360 h 1920960"/>
            </a:gdLst>
            <a:ahLst/>
            <a:rect l="textAreaLeft" t="textAreaTop" r="textAreaRight" b="textAreaBottom"/>
            <a:pathLst>
              <a:path w="1920239" h="1920239">
                <a:moveTo>
                  <a:pt x="320040" y="0"/>
                </a:moveTo>
                <a:lnTo>
                  <a:pt x="320040" y="0"/>
                </a:lnTo>
                <a:arcTo wR="320040" hR="320040" stAng="-5400000" swAng="-5400000"/>
                <a:lnTo>
                  <a:pt x="0" y="1600199"/>
                </a:lnTo>
                <a:lnTo>
                  <a:pt x="0" y="1600199"/>
                </a:lnTo>
                <a:arcTo wR="320040" hR="320040" stAng="10800000" swAng="-5400000"/>
                <a:lnTo>
                  <a:pt x="1600199" y="1920239"/>
                </a:lnTo>
                <a:lnTo>
                  <a:pt x="1600199" y="1920239"/>
                </a:lnTo>
                <a:arcTo wR="320040" hR="320040" stAng="5400000" swAng="-5400000"/>
                <a:lnTo>
                  <a:pt x="1920239" y="320040"/>
                </a:lnTo>
                <a:lnTo>
                  <a:pt x="1920239" y="320040"/>
                </a:lnTo>
                <a:arcTo wR="320040" hR="320040" stAng="0" swAng="-5400000"/>
                <a:lnTo>
                  <a:pt x="320040" y="0"/>
                </a:lnTo>
                <a:close/>
              </a:path>
            </a:pathLst>
          </a:custGeom>
          <a:noFill/>
          <a:ln cap="sq" w="76320">
            <a:solidFill>
              <a:srgbClr val="00a933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/>
          <p:nvPr/>
        </p:nvSpPr>
        <p:spPr>
          <a:xfrm>
            <a:off x="5851440" y="639720"/>
            <a:ext cx="1920960" cy="1920960"/>
          </a:xfrm>
          <a:custGeom>
            <a:avLst/>
            <a:gdLst>
              <a:gd name="textAreaLeft" fmla="*/ 93600 w 1920960"/>
              <a:gd name="textAreaRight" fmla="*/ 1827360 w 1920960"/>
              <a:gd name="textAreaTop" fmla="*/ 93600 h 1920960"/>
              <a:gd name="textAreaBottom" fmla="*/ 1827360 h 1920960"/>
            </a:gdLst>
            <a:ahLst/>
            <a:rect l="textAreaLeft" t="textAreaTop" r="textAreaRight" b="textAreaBottom"/>
            <a:pathLst>
              <a:path w="1920239" h="1920239">
                <a:moveTo>
                  <a:pt x="320040" y="0"/>
                </a:moveTo>
                <a:lnTo>
                  <a:pt x="320040" y="0"/>
                </a:lnTo>
                <a:arcTo wR="320040" hR="320040" stAng="-5400000" swAng="-5400000"/>
                <a:lnTo>
                  <a:pt x="0" y="1600199"/>
                </a:lnTo>
                <a:lnTo>
                  <a:pt x="0" y="1600199"/>
                </a:lnTo>
                <a:arcTo wR="320040" hR="320040" stAng="10800000" swAng="-5400000"/>
                <a:lnTo>
                  <a:pt x="1600199" y="1920239"/>
                </a:lnTo>
                <a:lnTo>
                  <a:pt x="1600199" y="1920239"/>
                </a:lnTo>
                <a:arcTo wR="320040" hR="320040" stAng="5400000" swAng="-5400000"/>
                <a:lnTo>
                  <a:pt x="1920239" y="320040"/>
                </a:lnTo>
                <a:lnTo>
                  <a:pt x="1920239" y="320040"/>
                </a:lnTo>
                <a:arcTo wR="320040" hR="320040" stAng="0" swAng="-5400000"/>
                <a:lnTo>
                  <a:pt x="320040" y="0"/>
                </a:lnTo>
                <a:close/>
              </a:path>
            </a:pathLst>
          </a:custGeom>
          <a:noFill/>
          <a:ln cap="sq" w="76320">
            <a:solidFill>
              <a:srgbClr val="00a933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/>
          <p:nvPr/>
        </p:nvSpPr>
        <p:spPr>
          <a:xfrm>
            <a:off x="3692520" y="182520"/>
            <a:ext cx="18860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icrosoft YaHei"/>
              </a:rPr>
              <a:t>Счё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0T23:41:18Z</dcterms:created>
  <dc:creator/>
  <dc:description/>
  <dc:language>en-US</dc:language>
  <cp:lastModifiedBy/>
  <dcterms:modified xsi:type="dcterms:W3CDTF">2022-11-03T09:41:16Z</dcterms:modified>
  <cp:revision>4</cp:revision>
  <dc:subject/>
  <dc:title>Подготовила презентацию :  Воспитатель: Иванова А.В.  МАДОУ “Снежинка”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e0f0000000000010292010207f7000400038000</vt:lpwstr>
  </property>
</Properties>
</file>