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1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398840" y="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64DAB-8905-4D0D-9937-94AB5379E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9DE25B-BC7F-4CD1-B744-560B3A4CE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590BA4-DA02-4962-956E-0EED45278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8794C1-C6BC-41EF-969F-28BDA657B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3B8E8E-3C98-42FC-AF33-27E5B9804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054D18-65FE-45E0-AA41-0A027E5EA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FA39E5-6C43-41AF-BF9A-4F9304B2A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7E59F1-EC2F-40EE-9B99-1E2B9C23F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D24677-0EF3-4B65-B1AF-8269161F4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5293C6-D0CF-41C3-8C2D-41F8C051D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B3B3D5-006E-4D80-A26D-7F4B4DB69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AA63-26D7-4390-BD57-44435EF6C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491E-0F46-4429-BBBD-C7F5C6728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9F0C-B75E-4FD7-8965-28FF2B2FC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5152-050C-4CDB-9570-9A4D36624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4B4E-B02A-4AD4-9934-41F7C63052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438E-2374-4C4A-AD9A-DA553127A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DDE1-69D0-4A89-B24D-51284A26DE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82A1-A581-44E5-B991-FC4CADD86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5BE8-EE52-4FD6-9123-8E8F874AB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70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24B4-935E-4269-A674-27650939CD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2946-55F9-4065-A936-C911011CA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8272-6ACF-47C1-96A7-EB69A6C4A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E3B2-0C74-4271-8016-DA6B8831A8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054D-9AF1-4075-B398-317279154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9E4C-5D73-47A4-936C-AE407B7E47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C77F-659B-48E7-85EF-B82E8BDB3B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F4EA-5A8E-4545-80A2-0ED1786485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3A4-25C5-4EA3-BA82-82F2E4C360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325-263B-457B-A356-00AA1A120C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97C-258E-41B0-875E-F1166B1D14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3C1-6BA7-4CE6-B8BB-8992C38400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2DA-3408-45B7-ADDF-1A702AA8E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7BF5-211B-49C7-B7C2-1B1FDCF14A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70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31B-8989-44CD-9F57-5AE4A741CE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143-3DE0-4253-9BDC-113ABC708D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51B-CB09-42E1-8F6E-E945AC1B5C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73F-C611-4352-B8B2-89293D4236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391-7848-4959-8EE6-D535301B00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544-B6B7-4B9E-A3B1-45B824F806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012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6960" y="132732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012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6960" y="30441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D8A-F074-49E2-A955-F8BA8CA02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5E7F-E818-49DA-894E-E37BD9A01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DF1B-F9CB-4C24-A3EA-F08217326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70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8000-9492-4201-9A96-BD1CDFE2C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967F-5441-49AA-A16E-8A6456345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30441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C4D1-76CF-433A-B476-FE9894C3C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32732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2C6C-9242-4B80-9A5A-97DED6A67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250200" indent="0"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0200" indent="-250200"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5165640"/>
            <a:ext cx="2349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5165640"/>
            <a:ext cx="3193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7B8E8-DEBC-410A-AD09-A054CB489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1295280"/>
            <a:ext cx="892656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2360" y="2890800"/>
            <a:ext cx="518292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00720"/>
            <a:ext cx="23479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5400720"/>
            <a:ext cx="31939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9288000" y="5427360"/>
            <a:ext cx="64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27BE4B6-001B-401E-BC99-381711C38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r"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 algn="r"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327320"/>
            <a:ext cx="907236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5165640"/>
            <a:ext cx="2349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448080" y="5165640"/>
            <a:ext cx="3193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8C452-0517-4A1C-B1BA-EA1FC3917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9240" y="914400"/>
            <a:ext cx="775008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Формирование элементарных математических представл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 подготовительной груп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ема: Состав числа 4 из двух меньших чис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121360" y="3657600"/>
            <a:ext cx="33829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Подготовила презентацию 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Воспитатель: Иванова А.В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МАДОУ “Снежинка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-639720" y="2320920"/>
            <a:ext cx="3670200" cy="344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382920" y="2927520"/>
            <a:ext cx="1835280" cy="2244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514600" y="3110040"/>
            <a:ext cx="1411200" cy="2462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754520" y="3017880"/>
            <a:ext cx="1554120" cy="2576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059520" y="2835360"/>
            <a:ext cx="1712880" cy="2468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651040" y="378000"/>
            <a:ext cx="6456600" cy="22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93760" y="1143000"/>
            <a:ext cx="43498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давайте друг друга согреем своими улыб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этого поставьте руки на пояс и произнесите сло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Влево-вправо повернись и друг другу улыбн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32360" y="1295280"/>
            <a:ext cx="39578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440" y="458640"/>
            <a:ext cx="3846600" cy="470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19360" y="36360"/>
            <a:ext cx="9070920" cy="94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13000" y="1828800"/>
            <a:ext cx="51087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встаньте в шеренгу и рассчитайтесь на первый-вто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ервые номера- это первая коман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ые номера это вторая коман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 выполненые задания вы будете получать награ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889760" y="1835280"/>
            <a:ext cx="2179800" cy="380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11320" y="384120"/>
            <a:ext cx="4175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Заселим до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92160" y="1096920"/>
            <a:ext cx="2193840" cy="1096920"/>
          </a:xfrm>
          <a:prstGeom prst="pie">
            <a:avLst/>
          </a:prstGeom>
          <a:solidFill>
            <a:srgbClr val="00a933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Microsoft YaHe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189080" y="2193840"/>
            <a:ext cx="1096920" cy="10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a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92160" y="2193840"/>
            <a:ext cx="1096920" cy="1006560"/>
          </a:xfrm>
          <a:prstGeom prst="pie">
            <a:avLst/>
          </a:prstGeom>
          <a:noFill/>
          <a:ln cap="sq" w="9360">
            <a:solidFill>
              <a:srgbClr val="00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Microsoft YaHe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92160" y="3200400"/>
            <a:ext cx="1096920" cy="1006560"/>
          </a:xfrm>
          <a:prstGeom prst="pie">
            <a:avLst/>
          </a:prstGeom>
          <a:noFill/>
          <a:ln cap="sq" w="9360">
            <a:solidFill>
              <a:srgbClr val="00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Microsoft YaHe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4206960"/>
            <a:ext cx="1096920" cy="10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efefe"/>
          </a:solidFill>
          <a:ln cap="sq" w="9360">
            <a:solidFill>
              <a:srgbClr val="00a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189080" y="3200400"/>
            <a:ext cx="1096920" cy="100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a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92160" y="4206960"/>
            <a:ext cx="1096920" cy="1004760"/>
          </a:xfrm>
          <a:prstGeom prst="pie">
            <a:avLst/>
          </a:prstGeom>
          <a:solidFill>
            <a:srgbClr val="fefefe"/>
          </a:solidFill>
          <a:ln cap="sq" w="9360">
            <a:solidFill>
              <a:srgbClr val="00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306520" y="915840"/>
            <a:ext cx="610560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скажите пожалуста номер дома и количество этажей в не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На каждом этаже в двух квартирах живет по четыре жиль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верхнем этаже в квартире слева сколько жельцов проживаю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справа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всего жильцов на этаж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жильцов сле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жильцов с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составили число четыр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еще можно составить число четыре?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олодцы за правильно выполненное зад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манда получает звездоч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128000" y="223200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2919240" cy="4206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54080" y="274680"/>
            <a:ext cx="554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Разложи счетные палоч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2424240" y="787320"/>
            <a:ext cx="43416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я вам предлогая разделить палочки на две части, кто как хочет. и разложить их на одном эта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лько всего у вас счетных палоче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какие два числа вы разложили число четыр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1031760"/>
            <a:ext cx="2743200" cy="4546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21320" y="274680"/>
            <a:ext cx="4522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Составь неделю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00720" y="1911240"/>
            <a:ext cx="4711680" cy="3272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32000" y="704880"/>
            <a:ext cx="565164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вторяем дни неде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ебята возьмите пожалуйста крточку с цыф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танте в шеренгу образуя недел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ка музыка играет в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егаете. Как только музы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станавливаеть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ы выстраиваете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 правильном поряд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479840" y="182520"/>
            <a:ext cx="6127920" cy="6126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11320" y="274680"/>
            <a:ext cx="4375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Найди отлич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-36360" y="744480"/>
            <a:ext cx="10142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столе 2 шара (маленький железный и большой пластмассовый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2 деревянных кубика одного размера и веса, но разного цв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з чего сделаны предметы, их сходство и различ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дставители команд выполняют зад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личаются ли предметы по весу и как это мож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тем делается вывод: «Железный шар тяжеле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 пластмассовый, а пластмассовый ш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легче железного ша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убики одинаковые по весу, но разные по цвет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rcRect l="-1019" t="0" r="-2098" b="0"/>
          <a:stretch/>
        </p:blipFill>
        <p:spPr>
          <a:xfrm>
            <a:off x="2301840" y="1463760"/>
            <a:ext cx="7778880" cy="37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8920" y="879480"/>
            <a:ext cx="2562120" cy="4791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11720" y="201600"/>
            <a:ext cx="4572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овое упражнение «Собери картинк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2011320" y="639720"/>
            <a:ext cx="92995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бята у вас у каждого есть набор цветных геометрических фигу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ервой команде надо построить само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торой команде надо построить раке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Расскажите какие геометрические фигуры вы использова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82920" y="822240"/>
            <a:ext cx="5668920" cy="567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378160" y="2890800"/>
            <a:ext cx="1863720" cy="268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71600" y="2909880"/>
            <a:ext cx="1554120" cy="2576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44760" y="627120"/>
            <a:ext cx="1920600" cy="1920960"/>
          </a:xfrm>
          <a:custGeom>
            <a:avLst/>
            <a:gdLst>
              <a:gd name="textAreaLeft" fmla="*/ 93600 w 1920600"/>
              <a:gd name="textAreaRight" fmla="*/ 1827000 w 1920600"/>
              <a:gd name="textAreaTop" fmla="*/ 93600 h 1920960"/>
              <a:gd name="textAreaBottom" fmla="*/ 1827360 h 1920960"/>
            </a:gdLst>
            <a:ahLst/>
            <a:rect l="textAreaLeft" t="textAreaTop" r="textAreaRight" b="textAreaBottom"/>
            <a:pathLst>
              <a:path w="1920239" h="1920239">
                <a:moveTo>
                  <a:pt x="320040" y="0"/>
                </a:moveTo>
                <a:lnTo>
                  <a:pt x="320040" y="0"/>
                </a:lnTo>
                <a:arcTo wR="320040" hR="320040" stAng="-5400000" swAng="-5400000"/>
                <a:lnTo>
                  <a:pt x="0" y="1600199"/>
                </a:lnTo>
                <a:lnTo>
                  <a:pt x="0" y="1600199"/>
                </a:lnTo>
                <a:arcTo wR="320040" hR="320040" stAng="10800000" swAng="-5400000"/>
                <a:lnTo>
                  <a:pt x="1600199" y="1920239"/>
                </a:lnTo>
                <a:lnTo>
                  <a:pt x="1600199" y="1920239"/>
                </a:lnTo>
                <a:arcTo wR="320040" hR="320040" stAng="5400000" swAng="-5400000"/>
                <a:lnTo>
                  <a:pt x="1920239" y="320040"/>
                </a:lnTo>
                <a:lnTo>
                  <a:pt x="1920239" y="320040"/>
                </a:lnTo>
                <a:arcTo wR="320040" hR="320040" stAng="0" swAng="-5400000"/>
                <a:lnTo>
                  <a:pt x="320040" y="0"/>
                </a:lnTo>
                <a:close/>
              </a:path>
            </a:pathLst>
          </a:custGeom>
          <a:noFill/>
          <a:ln cap="sq" w="76320">
            <a:solidFill>
              <a:srgbClr val="00a933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5851440" y="639720"/>
            <a:ext cx="1920960" cy="1920960"/>
          </a:xfrm>
          <a:custGeom>
            <a:avLst/>
            <a:gdLst>
              <a:gd name="textAreaLeft" fmla="*/ 93600 w 1920960"/>
              <a:gd name="textAreaRight" fmla="*/ 1827360 w 1920960"/>
              <a:gd name="textAreaTop" fmla="*/ 93600 h 1920960"/>
              <a:gd name="textAreaBottom" fmla="*/ 1827360 h 1920960"/>
            </a:gdLst>
            <a:ahLst/>
            <a:rect l="textAreaLeft" t="textAreaTop" r="textAreaRight" b="textAreaBottom"/>
            <a:pathLst>
              <a:path w="1920239" h="1920239">
                <a:moveTo>
                  <a:pt x="320040" y="0"/>
                </a:moveTo>
                <a:lnTo>
                  <a:pt x="320040" y="0"/>
                </a:lnTo>
                <a:arcTo wR="320040" hR="320040" stAng="-5400000" swAng="-5400000"/>
                <a:lnTo>
                  <a:pt x="0" y="1600199"/>
                </a:lnTo>
                <a:lnTo>
                  <a:pt x="0" y="1600199"/>
                </a:lnTo>
                <a:arcTo wR="320040" hR="320040" stAng="10800000" swAng="-5400000"/>
                <a:lnTo>
                  <a:pt x="1600199" y="1920239"/>
                </a:lnTo>
                <a:lnTo>
                  <a:pt x="1600199" y="1920239"/>
                </a:lnTo>
                <a:arcTo wR="320040" hR="320040" stAng="5400000" swAng="-5400000"/>
                <a:lnTo>
                  <a:pt x="1920239" y="320040"/>
                </a:lnTo>
                <a:lnTo>
                  <a:pt x="1920239" y="320040"/>
                </a:lnTo>
                <a:arcTo wR="320040" hR="320040" stAng="0" swAng="-5400000"/>
                <a:lnTo>
                  <a:pt x="320040" y="0"/>
                </a:lnTo>
                <a:close/>
              </a:path>
            </a:pathLst>
          </a:custGeom>
          <a:noFill/>
          <a:ln cap="sq" w="76320">
            <a:solidFill>
              <a:srgbClr val="00a933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692520" y="182520"/>
            <a:ext cx="18860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Счё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23:41:18Z</dcterms:created>
  <dc:creator/>
  <dc:description/>
  <dc:language>en-US</dc:language>
  <cp:lastModifiedBy/>
  <dcterms:modified xsi:type="dcterms:W3CDTF">2022-11-03T09:41:16Z</dcterms:modified>
  <cp:revision>4</cp:revision>
  <dc:subject/>
  <dc:title>Подготовила презентацию :  Воспитатель: Иванова А.В.  МАДОУ “Снежинка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f0000000000010292010207f7000400038000</vt:lpwstr>
  </property>
</Properties>
</file>