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7BF-7DBE-4025-B996-9A03D4A9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BB9-9858-41A0-880B-55F880A4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4C5-6164-4562-8B0A-5AEA20DF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E01-43C0-43B0-934A-E86BB4A4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1E0-8859-4472-AB89-5D6CE124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EF66-9EA4-409B-8C8C-17B6A6DC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AF6-3275-44BD-8661-40A07F7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66A7-2302-4334-A137-7C011C7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CA87-FB94-4C67-AC93-C6EE5E28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D08-2C93-4A88-A587-3157C3D8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D81D-3680-4E64-B5D0-2010D70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26A-8791-47E0-A386-4ED063DD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076D-1FB0-4FD5-9839-2FD2209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74A-5BE4-417F-9B71-51A8E75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9F0-85F8-4DC8-A728-AECFA8D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E24D-2E88-499F-95EB-F1B6BBCC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5C5-3E28-4CBA-8255-C1605531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06C-F970-4419-AA6C-D9F2762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746-4327-4EF2-BCBC-12D5A5F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E46-8704-4D15-A54D-064B11FB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5D1-4858-4BF9-BD25-6E7C72AB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365-7DFA-4C25-8AE0-A49DBFAC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DD1-145F-495C-AB4E-FAC7BB4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AA2-3D47-421C-B2A4-BA0A5DA2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822-C174-4DC3-BFC3-F929AC1C3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4881-2D74-4F1D-96E8-6FD143DB9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дарский фили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Бюджетного Образовательно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Моисеево Алабушск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общеобразовательной школ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ровского района Тамбовской области</a:t>
            </a: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й моей семьи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3640" y="4005000"/>
            <a:ext cx="489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6 класса Лапшиной Арины Руководитель: Евстратова Елена Викто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s://pamyat-narod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stsokol.ru/stsokol/03.1942/01.03.42/01_01/01.03.42_1-7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allaces.ru/p/people.php?id=000000027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s://www.bvvaul.ru/profiles/2066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260280"/>
            <a:ext cx="8002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война, жестокая вой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уносила, без разбора, слеп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емлю - умирали в обла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земле,  отстаивали неб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... Как много говорит это слово. Война - страдание матерей, сотни погибших солдат, сотни сирот и семей без отцов, жуткие воспоминания людей. В сердцах старшего поколения это слово – неизлечимая  ран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земляки, павлодарцы, тоже встали на защиту своей Родины…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их мой прапрадед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никин Василий Дмитрие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 за мир благодарна  ем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горжусь, что прапрадед - геро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женикин Василий Дмитриеви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в 1918 году в селе Павлодар Тамбовской губернии Борисоглебского уезда в многодетной семье. Отец – Служеникин Дмитрий Антонович, мать – Прасковья Васильевна, и девять детей: шесть сестёр и три брата. Василий с детства был любознательным, пристрастился к книгам. Учился хорошо. После окончания 8 классов жил в Борисоглебске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ант  Борисоглебского аэроклуба 1938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560600" y="1413000"/>
            <a:ext cx="6580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48320" y="98064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40 году окончил Борисоглебскую Краснознамённую военную авиационную школу имени В.П. Чка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487440"/>
            <a:ext cx="39751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начала Великой Отечественной войны его часть переводят в город Конотоп Харьковской обла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я боевых действий выполнил 90 боевых вылетов, из них: на прикрытие военных объектов — 57; на разведку со штурмовкой — 25; на сопровождение бомбардировщиков — 8, потерь бомбардировщики и истребители не имел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.02.1942 75 сад была переформирована в ВВС 38 ар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935600" y="692280"/>
            <a:ext cx="3665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й под Харьков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 1942 года.. Его звено дважды бомбило занятый врагами харьковский аэродром, но так и не смогло уничтожить. Поэтому была предпринята третья попытка. Немцы, заметив появившиеся самолёты, открыли по ним ураганный огонь. Снаряд противника попал в мотор самолёта. Служеникин понимал, что посадка неизбежна, это означало, что он попадёт в руки вра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ётчик принял твёрдое решение: повести горящую машину на скопище вражеских самолё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тчик-истребитель В.Д.Служеникин повторил подвиг Николая Гастелло. Он погиб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февраля 19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, уничтожив вражеские самолёты, склады с горючим и боеприпас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было 24 го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4200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ден  Красного Зна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аградного листа от 28.12.1941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...За период войны показал себя как бесстрашный лётчик, волевой командир… Свою преданность доказал своими боевыми действиями. Имеет 90 боевых вылетов…Все разведданные подтверждались штурмующими экипажами 282 ИАП и 230 СВАП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раждё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деном Красного Знамени 12.02.194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иказ о награждении поступил после гибели лётчи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95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Elena</cp:lastModifiedBy>
  <dcterms:modified xsi:type="dcterms:W3CDTF">2022-11-03T15:12:02Z</dcterms:modified>
  <cp:revision>21</cp:revision>
  <dc:subject/>
  <dc:title>Слайд 1</dc:title>
</cp:coreProperties>
</file>