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6BB-CEFB-4B41-892D-92D3C856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159-4296-4696-8B76-82C81332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062-7E5B-4049-9E04-D14233AC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6D8-66B3-4F57-B774-666E3AD0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8892-65E2-4D35-A29D-EE04541A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113B-0B4C-4743-B921-1E2288F1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1E9E-D29E-4149-9298-EA7A5A48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683A-25D3-4025-A516-2AF17E35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0781-7E1E-4856-B296-8411A73F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8FF-CBBC-474A-B79B-53542BCB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426C-FF74-4155-9B3E-C2188683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A8C-0EE2-4F18-8682-F83D0B28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07E6-4FBE-4C5E-89F6-A2721E23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1188-2F77-48A0-9931-B976319D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06ED-1690-45D6-ACF0-7EC5F1A8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A9FB-54E1-4FF0-9FF8-235CF98C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22F2-F566-4953-9E37-C5B77B52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872-18DB-4D5F-AA6C-942BFF01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020-462C-4995-8C18-306DC162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A2A-0294-43F2-B195-7045EE17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403-A5C9-4D5D-B17F-60119539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361-22BE-4E83-B749-E5D8E84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59F-6FA8-4A87-A88A-2E9AE3DB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5B2-89C8-463E-8BA1-113B047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F41F-BC7F-4BE3-83D2-1462D7BCF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354E-F1BA-4FEC-ABE5-8BDEF0EDB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дарский филиа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Бюджетного Образовательног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 Моисеево Алабушск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общеобразовательной школ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ровского района Тамбовской области</a:t>
            </a:r>
            <a:br>
              <a:rPr sz="2000"/>
            </a:br>
            <a:br>
              <a:rPr sz="20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й моей семьи</a:t>
            </a: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63640" y="4005000"/>
            <a:ext cx="4895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ы 6 класса Лапшиной Арины Руководитель: Евстратова Елена Викто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s://pamyat-narod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stsokol.ru/stsokol/03.1942/01.03.42/01_01/01.03.42_1-7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allaces.ru/p/people.php?id=000000027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s://www.bvvaul.ru/profiles/2066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260280"/>
            <a:ext cx="8002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война, жестокая вой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уносила, без разбора, слеп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емлю - умирали в облак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земле,  отстаивали неб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... Как много говорит это слово. Война - страдание матерей, сотни погибших солдат, сотни сирот и семей без отцов, жуткие воспоминания людей. В сердцах старшего поколения это слово – неизлечимая  рана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земляки, павлодарцы, тоже встали на защиту своей Родины…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их мой прапрадед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никин Василий Дмитриеви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 за мир благодарна  ем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горжусь, что прапрадед - геро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женикин Василий Дмитриеви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 в 1918 году в селе Павлодар Тамбовской губернии Борисоглебского уезда в многодетной семье. Отец – Служеникин Дмитрий Антонович, мать – Прасковья Васильевна, и девять детей: шесть сестёр и три брата. Василий с детства был любознательным, пристрастился к книгам. Учился хорошо. После окончания 8 классов жил в Борисоглебске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ант  Борисоглебского аэроклуба 1938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560600" y="1413000"/>
            <a:ext cx="6580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48320" y="98064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40 году окончил Борисоглебскую Краснознамённую военную авиационную школу имени В.П. Чка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487440"/>
            <a:ext cx="39751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 начала Великой Отечественной войны его часть переводят в город Конотоп Харьковской обла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ремя боевых действий выполнил 90 боевых вылетов, из них: на прикрытие военных объектов — 57; на разведку со штурмовкой — 25; на сопровождение бомбардировщиков — 8, потерь бомбардировщики и истребители не имел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.02.1942 75 сад была переформирована в ВВС 38 арм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935600" y="692280"/>
            <a:ext cx="3665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й под Харьков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враль 1942 года.. Его звено дважды бомбило занятый врагами харьковский аэродром, но так и не смогло уничтожить. Поэтому была предпринята третья попытка. Немцы, заметив появившиеся самолёты, открыли по ним ураганный огонь. Снаряд противника попал в мотор самолёта. Служеникин понимал, что посадка неизбежна, это означало, что он попадёт в руки вра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ётчик принял твёрдое решение: повести горящую машину на скопище вражеских самолё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тчик-истребитель В.Д.Служеникин повторил подвиг Николая Гастелло. Он погиб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февраля 194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, уничтожив вражеские самолёты, склады с горючим и боеприпас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было 24 го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43280" y="836640"/>
            <a:ext cx="4200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915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ден  Красного Зна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наградного листа от 28.12.1941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...За период войны показал себя как бесстрашный лётчик, волевой командир… Свою преданность доказал своими боевыми действиями. Имеет 90 боевых вылетов…Все разведданные подтверждались штурмующими экипажами 282 ИАП и 230 СВАП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граждён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деном Красного Знамени 12.02.194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риказ о награждении поступил после гибели лётчи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95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Elena</cp:lastModifiedBy>
  <dcterms:modified xsi:type="dcterms:W3CDTF">2022-11-03T15:12:02Z</dcterms:modified>
  <cp:revision>21</cp:revision>
  <dc:subject/>
  <dc:title>Слайд 1</dc:title>
</cp:coreProperties>
</file>