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076-F2B1-4090-A46C-0C5B5EA2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D206-C9F0-46E5-AC8E-859554D0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9E4-AC86-4B84-A34D-468E2D2E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2D0E-6CB1-4A91-9279-12E0542F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20A-149F-4DA7-9E06-89B6942F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F13-AF20-40F0-AD87-DE7477D7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4E9A-916B-4272-B6CB-ADB54E2C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FA63-B81D-4909-B6ED-460961B8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B56-230B-4930-878D-AF3020A2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EFA-6D34-42A0-A299-4DC27E4B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631-5316-4A9D-B1D2-FB386D9E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9714-AB50-4E27-AF96-282DB177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5AD9-FD80-45DF-9A62-BF047A19CF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римова Галина Михайловна</dc:creator>
  <dc:description/>
  <cp:keywords>викинги скандинавы норманны варяги</cp:keywords>
  <dc:language>en-US</dc:language>
  <cp:lastModifiedBy>Ирусик</cp:lastModifiedBy>
  <dcterms:modified xsi:type="dcterms:W3CDTF">2022-11-03T16:17:39Z</dcterms:modified>
  <cp:revision>237</cp:revision>
  <dc:subject>Урок по истории средних веков. 6 класс.</dc:subject>
  <dc:title>Время викинг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