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C2B-D1C5-4F86-B7B2-AD5A4257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99E-EAE8-4B39-A27D-1AC7E613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5AF-2872-49C1-8FD4-1CCE8E9F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B99-9722-4F6C-86D1-05B76190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4C8-11CB-44C4-BC6A-19E431AE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777-8110-4931-929B-A0AE8122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12E-2C53-4625-A8CD-5FB2AED3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E26-D97B-468B-AC11-CD83F73D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693E-07EE-4B75-A724-72F0131A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926-820B-4A99-9E5B-016E3219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A26-A986-45E1-A188-8AD46A66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55D-17DE-4FA4-AC9B-0B0C2DBE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4B1B-BC7E-47E5-A3C7-8CDF09DD7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имова Галина Михайловна</dc:creator>
  <dc:description/>
  <cp:keywords>викинги скандинавы норманны варяги</cp:keywords>
  <dc:language>en-US</dc:language>
  <cp:lastModifiedBy>Ирусик</cp:lastModifiedBy>
  <dcterms:modified xsi:type="dcterms:W3CDTF">2022-11-03T16:17:39Z</dcterms:modified>
  <cp:revision>237</cp:revision>
  <dc:subject>Урок по истории средних веков. 6 класс.</dc:subject>
  <dc:title>Время викинг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