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989-3096-47B9-9712-F78EDFC9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030-7C29-4DB3-82C5-CAA73BA0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4D6-C5AB-4F49-B8E2-518FB64A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FB9-D541-44BE-88ED-20A1D95B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4F6A-4BEA-4117-A2A5-C914F89E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6383-7855-40DA-858B-C372B699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0AD7-6C0E-498D-9E14-1BAA3A1B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52E2-3089-4919-BD9D-77D9B2BA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8B96-9FB6-4611-9D68-4F1A9C9B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79DB-B99D-4A3B-8B91-7A10A139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6412-7E34-40E3-95E9-55CA3E46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FE2-D9CD-462C-A352-39B72A6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C681-110E-40F0-AC23-77081332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222A-DB93-40CC-B140-26CC3667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3769-2501-4EDC-935B-E866F684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E3F3-E2DD-488D-A003-70015FB2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1AEC-8573-49D1-8AF9-4FC2234C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05C6-8780-4A00-ABB2-7D655DE0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A992-34DA-46A3-8D87-91CAE6A7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CC69-DFE5-4D8E-9B7E-E57FA0FD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1C90-7BCC-4DD0-BE6C-8ED5537E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D3C7-B639-4CE3-86D2-90C0E941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F11-8325-4BF3-8085-105D0968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A7DD-A71B-48CD-90DF-07369301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7FD3-ECEB-4D52-A2C1-9C0F17DE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471B-DB75-4266-8122-D34A727D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9F68-C88C-4696-80B5-03F4BC18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87B5-94E8-460E-B051-AC433514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AFEF-9D32-4B41-AEBC-279DEAC4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FF2C9-2B4C-476A-AF16-3AA00D1D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6148-2744-4A21-A546-C83C783D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48F5-0D30-43C2-B7DC-1CD18E88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32CC5-EF92-4801-A6F1-AE3E40FA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824-6DE1-4EF7-BB75-A668518D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F7F0-4543-44FD-9F34-71D0983F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C882C-F79E-4118-B4CA-4C1AFD70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BB3E0-906A-44D4-828D-A7B3C2AB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D0AE-A2E2-4EC7-9702-91E175AC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054F-29F8-4BFB-9819-321633AC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DC2A-60E4-41B9-B3CD-64FDD69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0B19-B1A2-4C9F-8217-38798710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43816-83FC-41E3-8A6C-B17FD7C8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E20F-DBD0-477C-860F-CB78B15F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8DC-7770-4B34-89B6-42DC9F04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CC2-DEF9-47F4-B925-4C9C1F73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6E4-0CEE-4801-9F3F-BA59D267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34D-5E3D-4DCF-9C72-3194D3E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23C-D893-4F8A-8D61-2B6ECCB2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ndara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6EC8-64E0-4A26-BB9D-6862D8D2D5F4}" type="slidenum">
              <a:rPr b="0" lang="ru-RU" sz="1200" spc="-1" strike="noStrike">
                <a:solidFill>
                  <a:srgbClr val="1d4577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ndara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9F92-15BF-4C6F-A0F0-F2E86B56C61A}" type="slidenum">
              <a:rPr b="0" lang="ru-RU" sz="1200" spc="-1" strike="noStrike">
                <a:solidFill>
                  <a:srgbClr val="e3e1d7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ndara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60B6-062E-45B0-B49C-4988DD936B2E}" type="slidenum">
              <a:rPr b="0" lang="ru-RU" sz="1200" spc="-1" strike="noStrike">
                <a:solidFill>
                  <a:srgbClr val="e3e1d7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ndara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A54B-D563-4A83-9134-3B878E6C5A9B}" type="slidenum">
              <a:rPr b="0" lang="ru-RU" sz="1200" spc="-1" strike="noStrike">
                <a:solidFill>
                  <a:srgbClr val="1d4577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4000" y="0"/>
            <a:ext cx="7850160" cy="234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24000" y="2421000"/>
            <a:ext cx="864072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6" name="Picture 2" descr="C:\Users\1\Desktop\1613625454_104-p-fon-dlya-prezentatsii-matematika-v-nachaln-115.jpg"/>
          <p:cNvPicPr/>
          <p:nvPr/>
        </p:nvPicPr>
        <p:blipFill>
          <a:blip r:embed="rId2"/>
          <a:stretch/>
        </p:blipFill>
        <p:spPr>
          <a:xfrm>
            <a:off x="108000" y="2205000"/>
            <a:ext cx="892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3160" y="1213920"/>
            <a:ext cx="78548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Задачу можно решить на уроке обобщения и систематизации знаний по теме: «Задачи на проценты»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Форма работы: групповая, фронтальная, индивидуальная  (для «сильных» учащихся)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08080" y="396720"/>
            <a:ext cx="8643960" cy="1413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160" y="1412640"/>
            <a:ext cx="8181720" cy="4730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значит вещь уценили на 20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%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Сколько будет стоить вещь после 1 уценки 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) Сколько будет стоить вещь после 2 уценки 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) Сколько будет стоить вещь  на другой распродаже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ком случае цена вещи будет меньше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500040" y="695160"/>
            <a:ext cx="7900920" cy="1584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99680" y="1785960"/>
            <a:ext cx="78548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ndar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1 этап. Анализ задачи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2 этап. Составление плана решения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3 этап. Осуществление решения задачи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4 этап. Проверка решения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5 этап.  Формулирование ответа задачи.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536400" y="554040"/>
            <a:ext cx="7851960" cy="2438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42600" y="2499840"/>
            <a:ext cx="7854840" cy="3714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1) коммуникативная;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2) способность учиться;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3) толерантность;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4) мыслительная;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5) способность действовать в проблемных ситуациях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536400" y="285840"/>
            <a:ext cx="7851960" cy="2633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160" y="2356920"/>
            <a:ext cx="7854840" cy="3929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1) коммуникативная;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2)  предметная;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3) креативна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61308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ndara"/>
              </a:rPr>
              <a:t>Задачи на проценты</a:t>
            </a:r>
            <a:endParaRPr b="0" lang="en-US" sz="28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. На весенней распродаже в одном магазине шарф стоимостью 350 руб. уценили на 40 %, а через неделю еще на 5% . В другом магазине, шарф такой же стоимости уценили сразу на 45%. В каком магазине выгоднее купить этот шарф?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2. Для мальчиков: Какую часть вашего класса составляют девочки? Ответ выразите в процентах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ля девочек: Какую часть вашего класса составляют мальчики? Ответ выразите в процентах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. Абонентская плата за телефон составляет 250 руб. Оплата производится до 15 числа каждого месяца, после чего начисляется штраф 4% ежедневно от абонентской платы. Сколько придется заплатить, если вы просрочили неделю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4. Мама купила телевизор в кредит, уплатила первый взнос 1500 руб., остальные 75% стоимости телевизора она должна выплатить в следующие 6 месяцев равными частями. Сколько стоит телевизор? Какую сумму мама будет выплачивать каждый месяц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85680" y="-317520"/>
            <a:ext cx="9077400" cy="7029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043640" y="4149360"/>
            <a:ext cx="73080" cy="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67071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bcb71"/>
                </a:solidFill>
                <a:latin typeface="Candara"/>
              </a:rPr>
              <a:t>Задача 6 класса</a:t>
            </a:r>
            <a:endParaRPr b="0" lang="en-US" sz="6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Две подруги  Оля и Лена отправились в магазин за покупками. В отделе «Головные уборы» проводилась акция : покупка второй шапки за 50% цены. Подруги решили воспользоваться акцией и приобрести себе шапки. Оля выбрала шапку за 2000 руб., а Лена за 1200 руб. Какую наименьшую сумму денег могут заплатить подруги магазину за две шапки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Candara"/>
              </a:rPr>
              <a:t>«Банковские» задачи на ЕГЭ</a:t>
            </a:r>
            <a:endParaRPr b="0" lang="en-US" sz="49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andara"/>
              </a:rPr>
              <a:t>№</a:t>
            </a:r>
            <a:r>
              <a:rPr b="0" lang="ru-RU" sz="2200" spc="-1" strike="noStrike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200" spc="-1" strike="noStrike" u="sng">
                <a:solidFill>
                  <a:srgbClr val="0d0d0d"/>
                </a:solidFill>
                <a:uFillTx/>
                <a:latin typeface="Candara"/>
              </a:rPr>
              <a:t>Нахождение количества  лет выплаты кредита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Candara"/>
              </a:rPr>
              <a:t>Максим хочет взять кредит в банке 1,5 млн. руб. Погашение кредита происходит раз в год платежами (кроме, может быть , последней) после начисления процентов. Процентная ставка – 10% годовых. На какое минимальное  количество лет может взять кредит, чтобы ежегодные выплаты были не более 350 тыс. руб.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№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200" spc="-1" strike="noStrike" u="sng">
                <a:solidFill>
                  <a:srgbClr val="0d0d0d"/>
                </a:solidFill>
                <a:uFillTx/>
                <a:latin typeface="Candara"/>
              </a:rPr>
              <a:t>Вычисление процентной ставки по кредиту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d0d0d"/>
                </a:solidFill>
                <a:latin typeface="Candara"/>
              </a:rPr>
              <a:t>31 декабря 2019 г. Максим взял в банке 1000000руб. В кредит. Схема следующая: 31 декабря каждого следующего года банк начисляет проценты на оставшуюся сумму долга, затем Максим переводит в банк очередной транш. Максим выплатил кредит за 2 транша, т. е. за 2 года. В первый раз он перевел в банк 660 тыс.руб.,во второй раз – 484 тыс. руб. Под какой процент банк выдал кредит Максиму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350280" y="-13425480"/>
            <a:ext cx="46080" cy="1375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ndar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№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3. </a:t>
            </a:r>
            <a:r>
              <a:rPr b="1" lang="ru-RU" sz="2000" spc="-1" strike="noStrike" u="sng">
                <a:solidFill>
                  <a:srgbClr val="0d0d0d"/>
                </a:solidFill>
                <a:uFillTx/>
                <a:latin typeface="Candara"/>
              </a:rPr>
              <a:t>Нахождение суммы кредит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ndara"/>
              </a:rPr>
              <a:t>31 декабря 2017 года Роман взял в банке некоторую сумму денег в кредит под 10% годовых. Схема выплаты следующая: 31 декабря каждого следующего года банк начисляет проценты на оставшуюся сумму долга, затем Роман переводит в банк 2 928 200 руб. Какую сумму взял Роман в банке, если он выплатил долг четырьмя равными платежами , т. е. за 4 года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№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4 </a:t>
            </a:r>
            <a:r>
              <a:rPr b="1" lang="ru-RU" sz="2000" spc="-1" strike="noStrike" u="sng">
                <a:solidFill>
                  <a:srgbClr val="0d0d0d"/>
                </a:solidFill>
                <a:uFillTx/>
                <a:latin typeface="Candara"/>
              </a:rPr>
              <a:t>Нахождение ежегодного транш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ndara"/>
              </a:rPr>
              <a:t>31 декабря 2017 года Роман взял в банке 8 599 000 руб.в кредит под 14% годовых. Схема выплаты следующая – 31 декабря каждого следующего года банк начисляет проценты на оставшуюся сумму долга (то есть увеличивает долг на 14%), затем Роман переводит в банк Х руб. Какой должна быть сумма  Х, чтобы Роман выплатил долг тремя равными платежами (т. е. за 3 года)?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0" y="-360360"/>
            <a:ext cx="9144000" cy="31226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6"/>
          <p:cNvSpPr/>
          <p:nvPr/>
        </p:nvSpPr>
        <p:spPr>
          <a:xfrm>
            <a:off x="5715000" y="2214720"/>
            <a:ext cx="314316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ndara"/>
              </a:rPr>
              <a:t>Цены снижены на 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428760" y="2214720"/>
            <a:ext cx="2357280" cy="414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Цены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сниже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на 20%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……………</a:t>
            </a: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Цены сниж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dara"/>
              </a:rPr>
              <a:t>на  10%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D:\Софизмы\Софизмы 12\i.jpg"/>
          <p:cNvPicPr/>
          <p:nvPr/>
        </p:nvPicPr>
        <p:blipFill>
          <a:blip r:embed="rId2"/>
          <a:stretch/>
        </p:blipFill>
        <p:spPr>
          <a:xfrm>
            <a:off x="3143160" y="2214720"/>
            <a:ext cx="107172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D:\Софизмы\Новая папка\111.gif"/>
          <p:cNvPicPr/>
          <p:nvPr/>
        </p:nvPicPr>
        <p:blipFill>
          <a:blip r:embed="rId3"/>
          <a:stretch/>
        </p:blipFill>
        <p:spPr>
          <a:xfrm>
            <a:off x="3643200" y="3857760"/>
            <a:ext cx="19288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ячеслав в среднем за месяц соверш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ездок. Для оплаты проезда он использует только проездной билет на определенное количество поездок и жетоны (не больше 10). Какую наименьшую сумму Вячеслав затратит на оплату поездок?</a:t>
            </a:r>
            <a:endParaRPr b="0" lang="en-US" sz="2000" spc="-1" strike="noStrike">
              <a:solidFill>
                <a:srgbClr val="1f497d"/>
              </a:solidFill>
              <a:latin typeface="Candar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" y="1773360"/>
          <a:ext cx="8229600" cy="3398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оезд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имость проездного билета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пределенное количество поездок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 рубля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ые усло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имость проездного билета с учетом скидки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кидка 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кидка 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кидка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1714680"/>
            <a:ext cx="7854840" cy="4714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На одной распродаже  вещь уценили на 20%, а через неделю ещё на 10%. На другой распродаже такую же вещь уценили сразу на 30%. Где выгоднее покупателю купить эту вещь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Облако 3"/>
          <p:cNvSpPr/>
          <p:nvPr/>
        </p:nvSpPr>
        <p:spPr>
          <a:xfrm>
            <a:off x="1428840" y="0"/>
            <a:ext cx="4286160" cy="171468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ad3f"/>
                </a:solidFill>
                <a:latin typeface="Candara"/>
              </a:rPr>
              <a:t>ЗАД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D:\Софизмы\Новая папка\111.gif"/>
          <p:cNvPicPr/>
          <p:nvPr/>
        </p:nvPicPr>
        <p:blipFill>
          <a:blip r:embed="rId1"/>
          <a:stretch/>
        </p:blipFill>
        <p:spPr>
          <a:xfrm>
            <a:off x="7572240" y="4286160"/>
            <a:ext cx="15717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6400" y="573120"/>
            <a:ext cx="7851960" cy="170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85480" y="2071440"/>
            <a:ext cx="81406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В задаче рассмотрены две ситуации. </a:t>
            </a: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Первая ситуация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: товар уценили на 20%, а потом еще на 10%. </a:t>
            </a: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Вторая ситуация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: товар уценили сразу на 30%. В задаче требуется узнать в каком случае цена вещи будет меньшей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536400" y="317520"/>
            <a:ext cx="7851960" cy="1414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71680" y="135720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 Способ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Алгебраический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Пусть 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x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рублей цена вещ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) 100% - 20% = 8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0,8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x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руб. – цена вещи после 1 уценк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2) 100% - 10% = 9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0,8 х * 0,9= 0,72х (руб.) - цена вещи после  2 уценк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3) 100% - 30% = 7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0,7х руб. - цена вещи  на  второй распродаже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4)  0,72х &gt; 0,7х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99680" y="0"/>
            <a:ext cx="785484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2 способ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С помощью схематического рисунка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)                           цена вещи - 10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вая цена                                  на 20 % &lt;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вая цена - 10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2)   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конечная цена                  на 10% &lt;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цена вещи - 10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3) 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конечная цена                    на 30% &lt;   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0" name="Прямая соединительная линия 27"/>
          <p:cNvSpPr/>
          <p:nvPr/>
        </p:nvSpPr>
        <p:spPr>
          <a:xfrm>
            <a:off x="1214280" y="1857240"/>
            <a:ext cx="6215400" cy="1800"/>
          </a:xfrm>
          <a:prstGeom prst="line">
            <a:avLst/>
          </a:prstGeom>
          <a:ln w="7920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37"/>
          <p:cNvSpPr/>
          <p:nvPr/>
        </p:nvSpPr>
        <p:spPr>
          <a:xfrm>
            <a:off x="2500200" y="1500120"/>
            <a:ext cx="0" cy="57168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39"/>
          <p:cNvSpPr/>
          <p:nvPr/>
        </p:nvSpPr>
        <p:spPr>
          <a:xfrm>
            <a:off x="3714840" y="1500120"/>
            <a:ext cx="0" cy="6429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41"/>
          <p:cNvSpPr/>
          <p:nvPr/>
        </p:nvSpPr>
        <p:spPr>
          <a:xfrm flipH="1">
            <a:off x="5000760" y="1500120"/>
            <a:ext cx="1440" cy="6429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43"/>
          <p:cNvSpPr/>
          <p:nvPr/>
        </p:nvSpPr>
        <p:spPr>
          <a:xfrm flipH="1">
            <a:off x="6357960" y="1571760"/>
            <a:ext cx="1440" cy="57132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49"/>
          <p:cNvSpPr/>
          <p:nvPr/>
        </p:nvSpPr>
        <p:spPr>
          <a:xfrm flipH="1">
            <a:off x="1213920" y="1500120"/>
            <a:ext cx="1800" cy="57168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53"/>
          <p:cNvSpPr/>
          <p:nvPr/>
        </p:nvSpPr>
        <p:spPr>
          <a:xfrm flipH="1">
            <a:off x="7429680" y="1500120"/>
            <a:ext cx="1440" cy="4287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Прямая со стрелкой 63"/>
          <p:cNvCxnSpPr/>
          <p:nvPr/>
        </p:nvCxnSpPr>
        <p:spPr>
          <a:xfrm>
            <a:off x="1143000" y="1428840"/>
            <a:ext cx="62157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8" name="Прямая со стрелкой 65"/>
          <p:cNvCxnSpPr/>
          <p:nvPr/>
        </p:nvCxnSpPr>
        <p:spPr>
          <a:xfrm>
            <a:off x="1143000" y="2142720"/>
            <a:ext cx="5286960" cy="2520"/>
          </a:xfrm>
          <a:prstGeom prst="straightConnector1">
            <a:avLst/>
          </a:prstGeom>
          <a:ln w="9360">
            <a:solidFill>
              <a:srgbClr val="951b5b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Прямая соединительная линия 69"/>
          <p:cNvSpPr/>
          <p:nvPr/>
        </p:nvSpPr>
        <p:spPr>
          <a:xfrm>
            <a:off x="1143000" y="3643200"/>
            <a:ext cx="5143680" cy="1800"/>
          </a:xfrm>
          <a:prstGeom prst="line">
            <a:avLst/>
          </a:prstGeom>
          <a:ln w="7920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71"/>
          <p:cNvSpPr/>
          <p:nvPr/>
        </p:nvSpPr>
        <p:spPr>
          <a:xfrm>
            <a:off x="2500200" y="3214800"/>
            <a:ext cx="0" cy="71424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3"/>
          <p:cNvSpPr/>
          <p:nvPr/>
        </p:nvSpPr>
        <p:spPr>
          <a:xfrm>
            <a:off x="3857760" y="3286080"/>
            <a:ext cx="0" cy="71460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75"/>
          <p:cNvSpPr/>
          <p:nvPr/>
        </p:nvSpPr>
        <p:spPr>
          <a:xfrm flipH="1">
            <a:off x="5072040" y="3286080"/>
            <a:ext cx="1440" cy="71460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77"/>
          <p:cNvSpPr/>
          <p:nvPr/>
        </p:nvSpPr>
        <p:spPr>
          <a:xfrm flipH="1">
            <a:off x="6286680" y="3214800"/>
            <a:ext cx="1440" cy="6429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79"/>
          <p:cNvSpPr/>
          <p:nvPr/>
        </p:nvSpPr>
        <p:spPr>
          <a:xfrm>
            <a:off x="1143000" y="3286080"/>
            <a:ext cx="0" cy="64440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Прямая со стрелкой 90"/>
          <p:cNvCxnSpPr/>
          <p:nvPr/>
        </p:nvCxnSpPr>
        <p:spPr>
          <a:xfrm>
            <a:off x="1143000" y="3285720"/>
            <a:ext cx="51444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6" name="Прямая со стрелкой 92"/>
          <p:cNvCxnSpPr/>
          <p:nvPr/>
        </p:nvCxnSpPr>
        <p:spPr>
          <a:xfrm>
            <a:off x="1143000" y="3929040"/>
            <a:ext cx="4858560" cy="2160"/>
          </a:xfrm>
          <a:prstGeom prst="straightConnector1">
            <a:avLst/>
          </a:prstGeom>
          <a:ln w="9360">
            <a:solidFill>
              <a:srgbClr val="951b5b"/>
            </a:solidFill>
            <a:miter/>
            <a:headEnd len="med" type="arrow" w="med"/>
            <a:tailEnd len="med" type="arrow" w="med"/>
          </a:ln>
        </p:spPr>
      </p:cxnSp>
      <p:sp>
        <p:nvSpPr>
          <p:cNvPr id="237" name="Прямая соединительная линия 94"/>
          <p:cNvSpPr/>
          <p:nvPr/>
        </p:nvSpPr>
        <p:spPr>
          <a:xfrm flipH="1">
            <a:off x="6000840" y="3286080"/>
            <a:ext cx="1440" cy="71460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97"/>
          <p:cNvSpPr/>
          <p:nvPr/>
        </p:nvSpPr>
        <p:spPr>
          <a:xfrm>
            <a:off x="1285920" y="5286240"/>
            <a:ext cx="6215040" cy="1800"/>
          </a:xfrm>
          <a:prstGeom prst="line">
            <a:avLst/>
          </a:prstGeom>
          <a:ln w="7920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99"/>
          <p:cNvSpPr/>
          <p:nvPr/>
        </p:nvSpPr>
        <p:spPr>
          <a:xfrm>
            <a:off x="1285920" y="5002200"/>
            <a:ext cx="0" cy="64152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03"/>
          <p:cNvSpPr/>
          <p:nvPr/>
        </p:nvSpPr>
        <p:spPr>
          <a:xfrm flipH="1">
            <a:off x="2498760" y="4859280"/>
            <a:ext cx="1440" cy="8571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5"/>
          <p:cNvSpPr/>
          <p:nvPr/>
        </p:nvSpPr>
        <p:spPr>
          <a:xfrm flipH="1">
            <a:off x="3857760" y="4857840"/>
            <a:ext cx="1440" cy="8571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07"/>
          <p:cNvSpPr/>
          <p:nvPr/>
        </p:nvSpPr>
        <p:spPr>
          <a:xfrm flipH="1">
            <a:off x="5072040" y="4859280"/>
            <a:ext cx="1440" cy="85716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9"/>
          <p:cNvSpPr/>
          <p:nvPr/>
        </p:nvSpPr>
        <p:spPr>
          <a:xfrm flipH="1">
            <a:off x="6357960" y="4930920"/>
            <a:ext cx="1440" cy="71424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13"/>
          <p:cNvSpPr/>
          <p:nvPr/>
        </p:nvSpPr>
        <p:spPr>
          <a:xfrm flipH="1">
            <a:off x="7500960" y="4930920"/>
            <a:ext cx="1440" cy="785520"/>
          </a:xfrm>
          <a:prstGeom prst="line">
            <a:avLst/>
          </a:prstGeom>
          <a:ln w="9360">
            <a:solidFill>
              <a:srgbClr val="36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Прямая со стрелкой 124"/>
          <p:cNvCxnSpPr/>
          <p:nvPr/>
        </p:nvCxnSpPr>
        <p:spPr>
          <a:xfrm>
            <a:off x="1285920" y="4857840"/>
            <a:ext cx="62157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6" name="Прямая со стрелкой 126"/>
          <p:cNvCxnSpPr/>
          <p:nvPr/>
        </p:nvCxnSpPr>
        <p:spPr>
          <a:xfrm>
            <a:off x="1285560" y="5785920"/>
            <a:ext cx="4429800" cy="2520"/>
          </a:xfrm>
          <a:prstGeom prst="straightConnector1">
            <a:avLst/>
          </a:prstGeom>
          <a:ln w="9360">
            <a:solidFill>
              <a:srgbClr val="951b5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7" name="Прямая со стрелкой 128"/>
          <p:cNvCxnSpPr/>
          <p:nvPr/>
        </p:nvCxnSpPr>
        <p:spPr>
          <a:xfrm flipH="1">
            <a:off x="5714640" y="3643200"/>
            <a:ext cx="2160" cy="22154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3160" y="1071360"/>
            <a:ext cx="8110440" cy="5500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3 способ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«Рассуждение»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Рассмотрим вторую ситуацию: товар стал стоить на 30% меньше, то есть 70% от первоначальной стоимости.  Рассмотрим первую ситуацию: после первой уценки товар стал стоить на 20% меньше, то есть 80% от первоначальной стоимости. Через неделю вещь стала  дешевле на 10%, то есть 72% (0,8-0,8*0,1= 0,72)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33520" y="785880"/>
            <a:ext cx="825336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4 способ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«произвольного допущения»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Предположим, что вещь стоит 100 руб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) 100% - 20% = 8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00* 0,8= 80 (руб.) - цена вещи после 1 уценк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2) 100% - 10% = 9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80 * 0,9 = 72 (руб.) - цена вещи после  2 уценки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3) 100% - 30% = 70%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100 * 0,7 = 70 (руб.) - цена вещи  на  второй распродаже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4) 72 руб. &gt; 70 руб.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1642680"/>
            <a:ext cx="785484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Ответ: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Выгоднее  купить вещь на второй распродаже.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7:25:18Z</dcterms:created>
  <dc:creator>Your User Name</dc:creator>
  <dc:description/>
  <dc:language>en-US</dc:language>
  <cp:lastModifiedBy>1</cp:lastModifiedBy>
  <dcterms:modified xsi:type="dcterms:W3CDTF">2022-11-04T07:20:10Z</dcterms:modified>
  <cp:revision>31</cp:revision>
  <dc:subject/>
  <dc:title>Внимание! Распродажа!</dc:title>
</cp:coreProperties>
</file>