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072-510A-4553-B30C-7359D50A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AB0-194E-4E13-9D20-B2D0A1A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E07-E50E-41F7-AA28-40877A06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CE0-808B-4F90-B7F7-D80157D9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4B4-1260-4EA7-86F8-9838951F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B3D0-4985-423E-BB5D-E0C844CD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CCA-217B-4CC5-A86C-4AB3F4E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F46-0016-4322-BAD3-F45265A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47D7-637E-416B-884E-277A559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9B9-D2D3-4248-86C2-176D0798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B4A-C7A4-457F-A4EF-EA8F7C0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F6F-39B3-4BA9-9C69-0CF3EA1A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C73E-A9F2-4C05-8F13-D00EB32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35C6-CF58-48C3-8A2F-8E38611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670-E64A-4428-993B-BDAC654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D68-E115-4A9D-964C-6D5E6BCD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B1C9-0E25-4D22-BF6D-A0A5B1F1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88AB-96D0-46B7-BBB6-B2BFF57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C673-5700-414D-8E44-5D1D9E57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5E8D-DDC9-4C6B-8378-0C9D5CB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BED1-1F7D-4355-AA69-6227CAB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6062-BA8A-4B51-A684-85B3E76A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9E5-84E6-4765-BC5E-80B3342B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51F0-9C35-4EB8-B4CE-1E192F4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1F2F-DEC1-4AD6-88E4-4A5289A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9C2B-5C43-4D77-B091-03C700D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CC51-1EC6-4849-A681-69B79D0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D393-20C9-4FFD-9CA1-F13C557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DEA0-10E5-4459-80DF-E499A4CB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3347-F3AF-457F-8D0A-E0AD4FE7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4FFD-3325-4F05-BC31-F027CB47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DC22-B3E5-457F-A00C-2F440FB6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D3F0-2AB7-4199-B881-9F49EDB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55A-A7FE-4ABA-B75A-B8446BA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0929D-6C95-4F3C-B77F-5435368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9684-4F90-428A-8D00-32D3048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F212-70B7-4617-802D-000CD29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88F6-04E2-483A-BD44-1BC2A724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8133-B097-423D-A292-680FDF3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04C9-32C2-42B2-8BCB-8F7F711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1817-5A4E-4852-96A8-B76EAA6D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9FB0-5743-4567-96DC-E96F4302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616D-5D7C-45C3-A505-2C966C88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810-D783-4296-B536-1CA7CE43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D06-90C4-48F7-8184-1532E2C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C4B-B5FE-44B0-AA58-1964F95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110-89B3-4CA4-9F84-FEBCAAD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AB7-3869-4855-B38D-157704E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BDE-25A1-48A5-9742-F5D1BD02FCAE}" type="slidenum">
              <a:rPr b="0" lang="ru-RU" sz="1200" spc="-1" strike="noStrike">
                <a:solidFill>
                  <a:srgbClr val="1d457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DEE9-3654-4A61-A216-0C6AC46DA0B1}" type="slidenum">
              <a:rPr b="0" lang="ru-RU" sz="1200" spc="-1" strike="noStrike">
                <a:solidFill>
                  <a:srgbClr val="e3e1d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10D4-FCB6-47E3-98D2-325B949CE3E7}" type="slidenum">
              <a:rPr b="0" lang="ru-RU" sz="1200" spc="-1" strike="noStrike">
                <a:solidFill>
                  <a:srgbClr val="e3e1d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D55E-BEFD-42C5-98F5-C9EF0F225DCB}" type="slidenum">
              <a:rPr b="0" lang="ru-RU" sz="1200" spc="-1" strike="noStrike">
                <a:solidFill>
                  <a:srgbClr val="1d457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4000" y="0"/>
            <a:ext cx="7850160" cy="234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24000" y="242100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6" name="Picture 2" descr="C:\Users\1\Desktop\1613625454_104-p-fon-dlya-prezentatsii-matematika-v-nachaln-115.jpg"/>
          <p:cNvPicPr/>
          <p:nvPr/>
        </p:nvPicPr>
        <p:blipFill>
          <a:blip r:embed="rId2"/>
          <a:stretch/>
        </p:blipFill>
        <p:spPr>
          <a:xfrm>
            <a:off x="108000" y="2205000"/>
            <a:ext cx="89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213920"/>
            <a:ext cx="78548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Задачу можно решить на уроке обобщения и систематизации знаний по теме: «Задачи на проценты»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орма работы: групповая, фронтальная, индивидуальная  (для «сильных» учащихся)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08080" y="396720"/>
            <a:ext cx="8643960" cy="1413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1412640"/>
            <a:ext cx="8181720" cy="473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ит вещь уценили на 20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%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Сколько будет стоить вещь после 1 уценки 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Сколько будет стоить вещь после 2 уценки 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Сколько будет стоить вещь  на другой распродаже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случае цена вещи будет меньше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500040" y="695160"/>
            <a:ext cx="7900920" cy="1584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99680" y="178596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1 этап. Анализ зада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 этап. Составление плана решени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3 этап. Осуществление решения зада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4 этап. Проверка решени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5 этап.  Формулирование ответа задачи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536400" y="554040"/>
            <a:ext cx="7851960" cy="2438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42600" y="2499840"/>
            <a:ext cx="7854840" cy="3714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) коммуникативна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2) способность учитьс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3) толерантность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4) мыслительна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5) способность действовать в проблемных ситуациях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7851960" cy="2633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160" y="2356920"/>
            <a:ext cx="7854840" cy="3929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1) коммуникативная;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2)  предметная;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3) креативна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130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ndara"/>
              </a:rPr>
              <a:t>Задачи на проценты</a:t>
            </a:r>
            <a:endParaRPr b="0" lang="en-US" sz="28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. На весенней распродаже в одном магазине шарф стоимостью 350 руб. уценили на 40 %, а через неделю еще на 5% . В другом магазине, шарф такой же стоимости уценили сразу на 45%. В каком магазине выгоднее купить этот шарф?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. Для мальчиков: Какую часть вашего класса составляют девочки? Ответ выразите в процентах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ля девочек: Какую часть вашего класса составляют мальчики? Ответ выразите в процентах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. Абонентская плата за телефон составляет 250 руб. Оплата производится до 15 числа каждого месяца, после чего начисляется штраф 4% ежедневно от абонентской платы. Сколько придется заплатить, если вы просрочили неделю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. Мама купила телевизор в кредит, уплатила первый взнос 1500 руб., остальные 75% стоимости телевизора она должна выплатить в следующие 6 месяцев равными частями. Сколько стоит телевизор? Какую сумму мама будет выплачивать каждый месяц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85680" y="-317520"/>
            <a:ext cx="9077400" cy="7029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043640" y="4149360"/>
            <a:ext cx="73080" cy="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7071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bcb71"/>
                </a:solidFill>
                <a:latin typeface="Candara"/>
              </a:rPr>
              <a:t>Задача 6 класса</a:t>
            </a:r>
            <a:endParaRPr b="0" lang="en-US" sz="6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ве подруги  Оля и Лена отправились в магазин за покупками. В отделе «Головные уборы» проводилась акция : покупка второй шапки за 50% цены. Подруги решили воспользоваться акцией и приобрести себе шапки. Оля выбрала шапку за 2000 руб., а Лена за 1200 руб. Какую наименьшую сумму денег могут заплатить подруги магазину за две шапки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ndara"/>
              </a:rPr>
              <a:t>«Банковские» задачи на ЕГЭ</a:t>
            </a:r>
            <a:endParaRPr b="0" lang="en-US" sz="49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0" lang="ru-RU" sz="2200" spc="-1" strike="noStrike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2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количества  лет выплаты кредита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Candara"/>
              </a:rPr>
              <a:t>Максим хочет взять кредит в банке 1,5 млн. руб. Погашение кредита происходит раз в год платежами (кроме, может быть , последней) после начисления процентов. Процентная ставка – 10% годовых. На какое минимальное  количество лет может взять кредит, чтобы ежегодные выплаты были не более 350 тыс. руб.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200" spc="-1" strike="noStrike" u="sng">
                <a:solidFill>
                  <a:srgbClr val="0d0d0d"/>
                </a:solidFill>
                <a:uFillTx/>
                <a:latin typeface="Candara"/>
              </a:rPr>
              <a:t>Вычисление процентной ставки по кредиту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Candara"/>
              </a:rPr>
              <a:t>31 декабря 2019 г. Максим взял в банке 1000000руб. В кредит. Схема следующая: 31 декабря каждого следующего года банк начисляет проценты на оставшуюся сумму долга, затем Максим переводит в банк очередной транш. Максим выплатил кредит за 2 транша, т. е. за 2 года. В первый раз он перевел в банк 660 тыс.руб.,во второй раз – 484 тыс. руб. Под какой процент банк выдал кредит Максиму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350280" y="-13425480"/>
            <a:ext cx="46080" cy="13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3.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суммы креди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31 декабря 2017 года Роман взял в банке некоторую сумму денег в кредит под 10% годовых. Схема выплаты следующая: 31 декабря каждого следующего года банк начисляет проценты на оставшуюся сумму долга, затем Роман переводит в банк 2 928 200 руб. Какую сумму взял Роман в банке, если он выплатил долг четырьмя равными платежами , т. е. за 4 год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4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ежегодного транш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31 декабря 2017 года Роман взял в банке 8 599 000 руб.в кредит под 14% годовых. Схема выплаты следующая – 31 декабря каждого следующего года банк начисляет проценты на оставшуюся сумму долга (то есть увеличивает долг на 14%), затем Роман переводит в банк Х руб. Какой должна быть сумма  Х, чтобы Роман выплатил долг тремя равными платежами (т. е. за 3 года)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0" y="-360360"/>
            <a:ext cx="9144000" cy="3122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6"/>
          <p:cNvSpPr/>
          <p:nvPr/>
        </p:nvSpPr>
        <p:spPr>
          <a:xfrm>
            <a:off x="5715000" y="2214720"/>
            <a:ext cx="314316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Цены снижены на 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428760" y="2214720"/>
            <a:ext cx="2357280" cy="414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Цены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сниж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на 20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……………</a:t>
            </a: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Цены сни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на  10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D:\Софизмы\Софизмы 12\i.jpg"/>
          <p:cNvPicPr/>
          <p:nvPr/>
        </p:nvPicPr>
        <p:blipFill>
          <a:blip r:embed="rId2"/>
          <a:stretch/>
        </p:blipFill>
        <p:spPr>
          <a:xfrm>
            <a:off x="3143160" y="2214720"/>
            <a:ext cx="107172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D:\Софизмы\Новая папка\111.gif"/>
          <p:cNvPicPr/>
          <p:nvPr/>
        </p:nvPicPr>
        <p:blipFill>
          <a:blip r:embed="rId3"/>
          <a:stretch/>
        </p:blipFill>
        <p:spPr>
          <a:xfrm>
            <a:off x="3643200" y="3857760"/>
            <a:ext cx="19288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ячеслав в среднем за месяц соверш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ездок. Для оплаты проезда он использует только проездной билет на определенное количество поездок и жетоны (не больше 10). Какую наименьшую сумму Вячеслав затратит на оплату поездок?</a:t>
            </a:r>
            <a:endParaRPr b="0" lang="en-US" sz="2000" spc="-1" strike="noStrike">
              <a:solidFill>
                <a:srgbClr val="1f497d"/>
              </a:solidFill>
              <a:latin typeface="Candar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1773360"/>
          <a:ext cx="8229600" cy="3398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езд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проездного билета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пределенное количество поездок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рубл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ые усло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проездного билета с учетом скидки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1714680"/>
            <a:ext cx="78548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На одной распродаже  вещь уценили на 20%, а через неделю ещё на 10%. На другой распродаже такую же вещь уценили сразу на 30%. Где выгоднее покупателю купить эту вещь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Облако 3"/>
          <p:cNvSpPr/>
          <p:nvPr/>
        </p:nvSpPr>
        <p:spPr>
          <a:xfrm>
            <a:off x="1428840" y="0"/>
            <a:ext cx="4286160" cy="171468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ad3f"/>
                </a:solidFill>
                <a:latin typeface="Candara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D:\Софизмы\Новая папка\111.gif"/>
          <p:cNvPicPr/>
          <p:nvPr/>
        </p:nvPicPr>
        <p:blipFill>
          <a:blip r:embed="rId1"/>
          <a:stretch/>
        </p:blipFill>
        <p:spPr>
          <a:xfrm>
            <a:off x="7572240" y="4286160"/>
            <a:ext cx="1571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573120"/>
            <a:ext cx="7851960" cy="170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85480" y="2071440"/>
            <a:ext cx="81406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В задаче рассмотрены две ситуации. </a:t>
            </a: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Первая ситуация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: товар уценили на 20%, а потом еще на 10%. </a:t>
            </a: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Вторая ситуация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: товар уценили сразу на 30%. В задаче требуется узнать в каком случае цена вещи будет меньшей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536400" y="317520"/>
            <a:ext cx="7851960" cy="1414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71680" y="13572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 Спосо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Алгебраический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усть 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рублей цена вещ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100% - 20% = 8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8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руб. – цена вещи после 1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100% - 10% = 9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8 х * 0,9= 0,72х (руб.) - цена вещи после  2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100% - 30% = 7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7х руб. - цена вещи  на  второй распродаже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)  0,72х &gt; 0,7х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 спосо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С помощью схематического рисунка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                          цена вещи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вая цена                                  на 20 % &lt;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вая цена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конечная цена                  на 10% &lt;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цена вещи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конечная цена                    на 30% &lt;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Прямая соединительная линия 27"/>
          <p:cNvSpPr/>
          <p:nvPr/>
        </p:nvSpPr>
        <p:spPr>
          <a:xfrm>
            <a:off x="1214280" y="1857240"/>
            <a:ext cx="621540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7"/>
          <p:cNvSpPr/>
          <p:nvPr/>
        </p:nvSpPr>
        <p:spPr>
          <a:xfrm>
            <a:off x="2500200" y="1500120"/>
            <a:ext cx="0" cy="57168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9"/>
          <p:cNvSpPr/>
          <p:nvPr/>
        </p:nvSpPr>
        <p:spPr>
          <a:xfrm>
            <a:off x="3714840" y="1500120"/>
            <a:ext cx="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41"/>
          <p:cNvSpPr/>
          <p:nvPr/>
        </p:nvSpPr>
        <p:spPr>
          <a:xfrm flipH="1">
            <a:off x="5000760" y="1500120"/>
            <a:ext cx="144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3"/>
          <p:cNvSpPr/>
          <p:nvPr/>
        </p:nvSpPr>
        <p:spPr>
          <a:xfrm flipH="1">
            <a:off x="6357960" y="1571760"/>
            <a:ext cx="1440" cy="5713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9"/>
          <p:cNvSpPr/>
          <p:nvPr/>
        </p:nvSpPr>
        <p:spPr>
          <a:xfrm flipH="1">
            <a:off x="1213920" y="1500120"/>
            <a:ext cx="1800" cy="57168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3"/>
          <p:cNvSpPr/>
          <p:nvPr/>
        </p:nvSpPr>
        <p:spPr>
          <a:xfrm flipH="1">
            <a:off x="7429680" y="1500120"/>
            <a:ext cx="1440" cy="4287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63"/>
          <p:cNvCxnSpPr/>
          <p:nvPr/>
        </p:nvCxnSpPr>
        <p:spPr>
          <a:xfrm>
            <a:off x="1143000" y="1428840"/>
            <a:ext cx="6215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8" name="Прямая со стрелкой 65"/>
          <p:cNvCxnSpPr/>
          <p:nvPr/>
        </p:nvCxnSpPr>
        <p:spPr>
          <a:xfrm>
            <a:off x="1143000" y="2142720"/>
            <a:ext cx="5286960" cy="252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Прямая соединительная линия 69"/>
          <p:cNvSpPr/>
          <p:nvPr/>
        </p:nvSpPr>
        <p:spPr>
          <a:xfrm>
            <a:off x="1143000" y="3643200"/>
            <a:ext cx="514368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1"/>
          <p:cNvSpPr/>
          <p:nvPr/>
        </p:nvSpPr>
        <p:spPr>
          <a:xfrm>
            <a:off x="2500200" y="3214800"/>
            <a:ext cx="0" cy="71424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3"/>
          <p:cNvSpPr/>
          <p:nvPr/>
        </p:nvSpPr>
        <p:spPr>
          <a:xfrm>
            <a:off x="3857760" y="3286080"/>
            <a:ext cx="0" cy="7146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75"/>
          <p:cNvSpPr/>
          <p:nvPr/>
        </p:nvSpPr>
        <p:spPr>
          <a:xfrm flipH="1">
            <a:off x="5072040" y="3286080"/>
            <a:ext cx="1440" cy="7146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77"/>
          <p:cNvSpPr/>
          <p:nvPr/>
        </p:nvSpPr>
        <p:spPr>
          <a:xfrm flipH="1">
            <a:off x="6286680" y="3214800"/>
            <a:ext cx="144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79"/>
          <p:cNvSpPr/>
          <p:nvPr/>
        </p:nvSpPr>
        <p:spPr>
          <a:xfrm>
            <a:off x="1143000" y="3286080"/>
            <a:ext cx="0" cy="6444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90"/>
          <p:cNvCxnSpPr/>
          <p:nvPr/>
        </p:nvCxnSpPr>
        <p:spPr>
          <a:xfrm>
            <a:off x="1143000" y="3285720"/>
            <a:ext cx="51444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6" name="Прямая со стрелкой 92"/>
          <p:cNvCxnSpPr/>
          <p:nvPr/>
        </p:nvCxnSpPr>
        <p:spPr>
          <a:xfrm>
            <a:off x="1143000" y="3929040"/>
            <a:ext cx="4858560" cy="216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sp>
        <p:nvSpPr>
          <p:cNvPr id="237" name="Прямая соединительная линия 94"/>
          <p:cNvSpPr/>
          <p:nvPr/>
        </p:nvSpPr>
        <p:spPr>
          <a:xfrm flipH="1">
            <a:off x="6000840" y="3286080"/>
            <a:ext cx="1440" cy="71460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97"/>
          <p:cNvSpPr/>
          <p:nvPr/>
        </p:nvSpPr>
        <p:spPr>
          <a:xfrm>
            <a:off x="1285920" y="5286240"/>
            <a:ext cx="621504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99"/>
          <p:cNvSpPr/>
          <p:nvPr/>
        </p:nvSpPr>
        <p:spPr>
          <a:xfrm>
            <a:off x="1285920" y="5002200"/>
            <a:ext cx="0" cy="6415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3"/>
          <p:cNvSpPr/>
          <p:nvPr/>
        </p:nvSpPr>
        <p:spPr>
          <a:xfrm flipH="1">
            <a:off x="2498760" y="485928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5"/>
          <p:cNvSpPr/>
          <p:nvPr/>
        </p:nvSpPr>
        <p:spPr>
          <a:xfrm flipH="1">
            <a:off x="3857760" y="485784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07"/>
          <p:cNvSpPr/>
          <p:nvPr/>
        </p:nvSpPr>
        <p:spPr>
          <a:xfrm flipH="1">
            <a:off x="5072040" y="485928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9"/>
          <p:cNvSpPr/>
          <p:nvPr/>
        </p:nvSpPr>
        <p:spPr>
          <a:xfrm flipH="1">
            <a:off x="6357960" y="4930920"/>
            <a:ext cx="1440" cy="71424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13"/>
          <p:cNvSpPr/>
          <p:nvPr/>
        </p:nvSpPr>
        <p:spPr>
          <a:xfrm flipH="1">
            <a:off x="7500960" y="4930920"/>
            <a:ext cx="1440" cy="7855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124"/>
          <p:cNvCxnSpPr/>
          <p:nvPr/>
        </p:nvCxnSpPr>
        <p:spPr>
          <a:xfrm>
            <a:off x="1285920" y="4857840"/>
            <a:ext cx="6215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6" name="Прямая со стрелкой 126"/>
          <p:cNvCxnSpPr/>
          <p:nvPr/>
        </p:nvCxnSpPr>
        <p:spPr>
          <a:xfrm>
            <a:off x="1285560" y="5785920"/>
            <a:ext cx="4429800" cy="252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7" name="Прямая со стрелкой 128"/>
          <p:cNvCxnSpPr/>
          <p:nvPr/>
        </p:nvCxnSpPr>
        <p:spPr>
          <a:xfrm flipH="1">
            <a:off x="5714640" y="3643200"/>
            <a:ext cx="2160" cy="22154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160" y="1071360"/>
            <a:ext cx="8110440" cy="5500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3 способ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«Рассуждение»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Рассмотрим вторую ситуацию: товар стал стоить на 30% меньше, то есть 70% от первоначальной стоимости.  Рассмотрим первую ситуацию: после первой уценки товар стал стоить на 20% меньше, то есть 80% от первоначальной стоимости. Через неделю вещь стала  дешевле на 10%, то есть 72% (0,8-0,8*0,1= 0,72)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33520" y="785880"/>
            <a:ext cx="825336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 способ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«произвольного допущения»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редположим, что вещь стоит 100 ру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100% - 20% = 8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00* 0,8= 80 (руб.) - цена вещи после 1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100% - 10% = 9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80 * 0,9 = 72 (руб.) - цена вещи после  2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100% - 30% = 7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00 * 0,7 = 70 (руб.) - цена вещи  на  второй распродаже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) 72 руб. &gt; 70 ру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1642680"/>
            <a:ext cx="785484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Ответ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Выгоднее  купить вещь на второй распродаже.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25:18Z</dcterms:created>
  <dc:creator>Your User Name</dc:creator>
  <dc:description/>
  <dc:language>en-US</dc:language>
  <cp:lastModifiedBy>1</cp:lastModifiedBy>
  <dcterms:modified xsi:type="dcterms:W3CDTF">2022-11-04T07:20:10Z</dcterms:modified>
  <cp:revision>31</cp:revision>
  <dc:subject/>
  <dc:title>Внимание! Распродажа!</dc:title>
</cp:coreProperties>
</file>