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CD-BC70-4C7F-BB7B-3A6D8F15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FB3-2779-440E-985C-DD179BD0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41C-55B3-4583-B3C0-CC58A72A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D24-2A98-4859-90CC-DC648DB8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509-1AB7-43BC-AC98-2137F27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3A1-3F4E-4812-8DF8-D68F092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5B0-FB8B-46CE-A2DF-474F8C5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355-37B5-47DF-8E1C-C438C085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8BD-F11A-4F3D-B72E-41F39A5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D76-61E4-48CC-BF9F-A12BFF2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E70-0226-4425-B63B-3EF1147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073-9D76-4994-87D2-7F0123A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C06-C977-4A68-87FB-FD136EC9163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0" descr=""/>
          <p:cNvPicPr/>
          <p:nvPr/>
        </p:nvPicPr>
        <p:blipFill>
          <a:blip r:embed="rId2"/>
          <a:srcRect l="0" t="0" r="0" b="19999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1" descr=""/>
          <p:cNvPicPr/>
          <p:nvPr/>
        </p:nvPicPr>
        <p:blipFill>
          <a:blip r:embed="rId3"/>
          <a:srcRect l="0" t="0" r="0" b="89024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900760" cy="2127240"/>
          </a:xfrm>
          <a:prstGeom prst="rect">
            <a:avLst/>
          </a:prstGeom>
          <a:ln w="0">
            <a:noFill/>
          </a:ln>
        </p:spPr>
      </p:pic>
      <p:pic>
        <p:nvPicPr>
          <p:cNvPr id="46" name="Подзаголовок 2" descr=""/>
          <p:cNvPicPr/>
          <p:nvPr/>
        </p:nvPicPr>
        <p:blipFill>
          <a:blip r:embed="rId3"/>
          <a:stretch/>
        </p:blipFill>
        <p:spPr>
          <a:xfrm>
            <a:off x="2803680" y="2822400"/>
            <a:ext cx="3536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31560"/>
            <a:ext cx="788688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2f5597"/>
                </a:solidFill>
                <a:latin typeface="Calibri Light"/>
              </a:rPr>
              <a:t>Формы проведения выпускного вечера:</a:t>
            </a:r>
            <a:br>
              <a:rPr sz="4800"/>
            </a:br>
            <a:r>
              <a:rPr b="0" lang="ru-RU" sz="30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Выход в каф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Праздничный концер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Шоу-програм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c55a11"/>
                </a:solidFill>
                <a:latin typeface="Calibri"/>
              </a:rPr>
              <a:t>Ваши предложени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843c0c"/>
                </a:solidFill>
                <a:latin typeface="Calibri Light"/>
              </a:rPr>
              <a:t>мероприятия к выпускному:</a:t>
            </a:r>
            <a:br>
              <a:rPr sz="6000"/>
            </a:br>
            <a:r>
              <a:rPr b="1" lang="ru-RU" sz="30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Видеосъемка уроков, празд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Монтаж видеофрагментов на общий ди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Составление классного фотоальб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риобретение дипл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риглашение г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одготовка конце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Составление сценар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1f4e79"/>
                </a:solidFill>
                <a:latin typeface="Calibri"/>
              </a:rPr>
              <a:t>Подготовка поздравительного номера от родителей. И т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320" indent="-157320"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843c0c"/>
                </a:solidFill>
                <a:latin typeface="Calibri Light"/>
              </a:rPr>
              <a:t>ПОСТАНОВИЛИ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84160"/>
            <a:ext cx="91440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Arial"/>
              </a:rPr>
              <a:t>Принять к сведению информацию об итогах первой четвер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Arial"/>
              </a:rPr>
              <a:t>Принять к сведению информацию по вопросам безопасности дет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ринять к сведению информацию о прививка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Участвовать в школьных мероприятиях. ( Новый год и др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осещать школу в школьной фор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Пользоваться сменной обув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Соблюдать гигиену и опрятный внешни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55a11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55a11"/>
                </a:solidFill>
                <a:latin typeface="Times New Roman CYR"/>
                <a:ea typeface="Times New Roman"/>
              </a:rPr>
              <a:t>Контролировать состояние учебников и тетрадей уче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8964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7840" y="198000"/>
            <a:ext cx="8966160" cy="66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Calibri"/>
              </a:rPr>
              <a:t>В заключение собрания хочется пожелать вам терпения в воспитании, понимания своих детей. Принимайте ребенка таким, какой он есть, любите его, что бы с ним ни случилось. Как сказал писатель Оскар Уайльд, «лучший способ сделать своих детей хорошими - это сделать их счастливым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Calibri"/>
              </a:rPr>
              <a:t>Пусть это шуточное стихотворение станет вашим руководством к действию в общении с вашими деть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-27540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52560" y="-46080"/>
            <a:ext cx="7886880" cy="69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Ласкатели, хвал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Прощатели, люб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Если разреша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Купители, дар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Тогда вы не ро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просто восхитител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Ворчатели, сер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А если вы, родите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Ругатели, сты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Гулятьнеотпуска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Собакозапретители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То знаете, родит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55a11"/>
                </a:solidFill>
                <a:latin typeface="Calibri"/>
              </a:rPr>
              <a:t>Вы просто крокоди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55a11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55a11"/>
                </a:solidFill>
                <a:latin typeface="Calibri Light"/>
              </a:rPr>
              <a:t>ПОВЕСТК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088640"/>
            <a:ext cx="78868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1.Итоги 1четверти. Выступление учителя (памятки родителям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2.Режим работы класса во 2 четвер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3.Отчет работы родительского комит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4.Личная гигиена, внешний вид учащих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5.Информация о мед.прививк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6. Информация по вопросам безопасност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2e75b6"/>
                </a:solidFill>
                <a:latin typeface="Calibri"/>
              </a:rPr>
              <a:t>7. Перспективы на 2 четвер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e75b6"/>
                </a:solidFill>
                <a:latin typeface="Calibri Light"/>
              </a:rPr>
              <a:t>1.Итоги 1четверти. Выступление учителя (памятки родителям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лагодарность родителя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ёнкин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пова Вер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птева Вера Валенти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итина Наталья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найдарова Екатери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3ea66d"/>
                </a:solidFill>
                <a:latin typeface="Calibri Light"/>
              </a:rPr>
              <a:t>1.Итоги 1четверти. Выступление учителя (памятки родителям)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В класс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5 учеников - отли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9 уч.- хорошисты, с одной тройкой 3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2 уч. – успевающих, с одной четвёркой 4 уче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5b9bd5"/>
                </a:solidFill>
                <a:latin typeface="Calibri"/>
              </a:rPr>
              <a:t>(раздать успеваемость и посещаем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149760"/>
            <a:ext cx="788688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372960"/>
            <a:ext cx="78868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ed7d31"/>
                </a:solidFill>
                <a:latin typeface="Calibri"/>
              </a:rPr>
              <a:t>Задача мам и пап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ea66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ea66d"/>
                </a:solidFill>
                <a:latin typeface="Calibri"/>
              </a:rPr>
              <a:t>ПРИДУМАТЬ ИНЕРЕСНУЮ СИСТЕМУ МОТИВ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1296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880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bf9000"/>
                </a:solidFill>
                <a:latin typeface="Calibri"/>
              </a:rPr>
              <a:t>Основные причины, которые способствуют снижению успеваемости вашего ребёнк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1) неправильно организованный режим дн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2) дети не вникают в суть выполняемого за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3) сталкиваясь с трудностями сразу же «опускают рук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4) лен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5) нет интереса к некоторым предмет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6) разный уровень длительности понимания и усвоения учебного материа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7) не умеют сосредотачиватьс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1f4e79"/>
                </a:solidFill>
                <a:latin typeface="Calibri"/>
              </a:rPr>
              <a:t>8) не прислушиваются к мнению старш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-111600"/>
            <a:ext cx="7886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2680" y="331920"/>
            <a:ext cx="859464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48235"/>
                </a:solidFill>
                <a:latin typeface="Calibri"/>
              </a:rPr>
              <a:t>Каковы же должны быть Ваши д</a:t>
            </a:r>
            <a:r>
              <a:rPr b="0" lang="ru-RU" sz="3600" spc="-1" strike="noStrike" u="sng">
                <a:solidFill>
                  <a:srgbClr val="548235"/>
                </a:solidFill>
                <a:uFillTx/>
                <a:latin typeface="Calibri"/>
              </a:rPr>
              <a:t>ействия по устранению низкой успеваем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548235"/>
                </a:solidFill>
                <a:latin typeface="Calibri"/>
              </a:rPr>
              <a:t>Переводим причины в задачи, а задачи в ваши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1) рационально вместе с ребёнком спланировать режим дня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2) научить ребёнка преодолевать возникшие трудности, оказывая ему при этом помощь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800" spc="-1" strike="noStrike">
                <a:solidFill>
                  <a:srgbClr val="c55a11"/>
                </a:solidFill>
                <a:latin typeface="Calibri"/>
              </a:rPr>
              <a:t>3) оказывать помощь детям в ходе подготовки домашнего задани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040" y="159840"/>
            <a:ext cx="8763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ea66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3ea66d"/>
                </a:solidFill>
                <a:latin typeface="Calibri"/>
              </a:rPr>
              <a:t>Уважаемые родители! какие же действия для устранения проблем низкой успеваемости детей вы можете предпринимать?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«Доченька (сыночек)! Теперь я тебя за всё буду хвалить, но прислушиваться к мнению старших и выполнять режим дня всё-таки над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Ведь точка зрения на проблемы класса в отношении учёбы и поведения у родителей, детей и учителя должны быть одинаковы, пути их решения </a:t>
            </a:r>
            <a:r>
              <a:rPr b="0" lang="ru-RU" sz="3000" spc="-1" strike="noStrike">
                <a:solidFill>
                  <a:srgbClr val="c55a11"/>
                </a:solidFill>
                <a:latin typeface="Calibri"/>
              </a:rPr>
              <a:t>совпадать</a:t>
            </a: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55a1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c55a11"/>
                </a:solidFill>
                <a:latin typeface="Calibri"/>
              </a:rPr>
              <a:t>Необходимо работать над трудолюбием ребёнка: </a:t>
            </a:r>
            <a:r>
              <a:rPr b="0" lang="ru-RU" sz="2800" spc="-1" strike="noStrike">
                <a:solidFill>
                  <a:srgbClr val="c55a11"/>
                </a:solidFill>
                <a:latin typeface="Calibri"/>
              </a:rPr>
              <a:t>научить и привить любовь к труду. и т. 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140400"/>
            <a:ext cx="7886880" cy="4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4880" y="247680"/>
            <a:ext cx="8978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563c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0563c1"/>
                </a:solidFill>
                <a:uFillTx/>
                <a:latin typeface="Calibri"/>
              </a:rPr>
              <a:t>Рабочие момен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ильное оформление работы  в рабочей тетради (памятк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вивки (оформление заявлений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формление заявлений по безопасности 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йт Дневник учи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астие в конкур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роприятия (Конкурсы,выпускной вече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User</cp:lastModifiedBy>
  <dcterms:modified xsi:type="dcterms:W3CDTF">2022-11-04T14:36:01Z</dcterms:modified>
  <cp:revision>144</cp:revision>
  <dc:subject/>
  <dc:title>Name of  presentation</dc:title>
</cp:coreProperties>
</file>