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130-F499-47E9-8003-5E4333D5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8BE-DC0F-4B14-8F95-908ACCD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01E-E601-485D-AE72-487FF68C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E6C-339A-4CF1-AEF5-4FE1C17E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626-174A-411A-847E-B60C9C9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090-7629-4E71-9E56-84557140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C05-CA7A-44F5-846B-B2FC9819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B90-434B-4EC5-B073-ACCEC551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3D5-B83A-4CAB-A334-2988968A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C92-0313-426D-A265-0B32A5B3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E73-E979-4961-B493-A89BFCB2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73F-E88A-4F81-8E61-9856037C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D908-25EC-481A-B8B2-7D5F1262BF9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0" descr=""/>
          <p:cNvPicPr/>
          <p:nvPr/>
        </p:nvPicPr>
        <p:blipFill>
          <a:blip r:embed="rId2"/>
          <a:srcRect l="0" t="0" r="0" b="19999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1" descr=""/>
          <p:cNvPicPr/>
          <p:nvPr/>
        </p:nvPicPr>
        <p:blipFill>
          <a:blip r:embed="rId3"/>
          <a:srcRect l="0" t="0" r="0" b="89024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900760" cy="2127240"/>
          </a:xfrm>
          <a:prstGeom prst="rect">
            <a:avLst/>
          </a:prstGeom>
          <a:ln w="0">
            <a:noFill/>
          </a:ln>
        </p:spPr>
      </p:pic>
      <p:pic>
        <p:nvPicPr>
          <p:cNvPr id="46" name="Подзаголовок 2" descr=""/>
          <p:cNvPicPr/>
          <p:nvPr/>
        </p:nvPicPr>
        <p:blipFill>
          <a:blip r:embed="rId3"/>
          <a:stretch/>
        </p:blipFill>
        <p:spPr>
          <a:xfrm>
            <a:off x="2803680" y="2822400"/>
            <a:ext cx="353664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31560"/>
            <a:ext cx="788688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2f5597"/>
                </a:solidFill>
                <a:latin typeface="Calibri Light"/>
              </a:rPr>
              <a:t>Формы проведения выпускного вечера:</a:t>
            </a:r>
            <a:br>
              <a:rPr sz="4800"/>
            </a:br>
            <a:r>
              <a:rPr b="0" lang="ru-RU" sz="30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c55a11"/>
                </a:solidFill>
                <a:latin typeface="Calibri"/>
              </a:rPr>
              <a:t>Выход в каф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c55a11"/>
                </a:solidFill>
                <a:latin typeface="Calibri"/>
              </a:rPr>
              <a:t>Праздничный концер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c55a11"/>
                </a:solidFill>
                <a:latin typeface="Calibri"/>
              </a:rPr>
              <a:t>Шоу-програм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c55a11"/>
                </a:solidFill>
                <a:latin typeface="Calibri"/>
              </a:rPr>
              <a:t>Ваши предложения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843c0c"/>
                </a:solidFill>
                <a:latin typeface="Calibri Light"/>
              </a:rPr>
              <a:t>мероприятия к выпускному:</a:t>
            </a:r>
            <a:br>
              <a:rPr sz="6000"/>
            </a:br>
            <a:r>
              <a:rPr b="1" lang="ru-RU" sz="30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Видеосъемка уроков, празд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Монтаж видеофрагментов на общий ди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Составление классного фотоальбо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Приобретение дипло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Приглашение г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Подготовка конце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Составление сценар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Подготовка поздравительного номера от родителей. И т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843c0c"/>
                </a:solidFill>
                <a:latin typeface="Calibri Light"/>
              </a:rPr>
              <a:t>ПОСТАНОВИЛИ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884160"/>
            <a:ext cx="914400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Arial"/>
              </a:rPr>
              <a:t>Принять к сведению информацию об итогах первой четвер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Arial"/>
              </a:rPr>
              <a:t>Принять к сведению информацию по вопросам безопасности дет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Принять к сведению информацию о прививка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Участвовать в школьных мероприятиях. ( Новый год и др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Посещать школу в школьной фор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Пользоваться сменной обувь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Соблюдать гигиену и опрятный внешний ви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Контролировать состояние учебников и тетрадей учени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89640"/>
            <a:ext cx="7886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7840" y="198000"/>
            <a:ext cx="8966160" cy="66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563c1"/>
                </a:solidFill>
                <a:latin typeface="Calibri"/>
              </a:rPr>
              <a:t>В заключение собрания хочется пожелать вам терпения в воспитании, понимания своих детей. Принимайте ребенка таким, какой он есть, любите его, что бы с ним ни случилось. Как сказал писатель Оскар Уайльд, «лучший способ сделать своих детей хорошими - это сделать их счастливым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563c1"/>
                </a:solidFill>
                <a:latin typeface="Calibri"/>
              </a:rPr>
              <a:t>Пусть это шуточное стихотворение станет вашим руководством к действию в общении с вашими деть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-275400"/>
            <a:ext cx="7886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2560" y="-46080"/>
            <a:ext cx="7886880" cy="69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Если вы, родите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Ласкатели, хвал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Если вы, родите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Прощатели, люб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Если разреша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Купители, дар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Тогда вы не род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А просто восхитител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А если вы, родите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Ворчатели, серд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А если вы, родите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Ругатели, стыд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Гулятьнеотпуска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Собакозапретители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То знаете, род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Вы просто крокоди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55a11"/>
                </a:solidFill>
                <a:latin typeface="Calibri Light"/>
              </a:rPr>
              <a:t>ПОВЕСТК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088640"/>
            <a:ext cx="78868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1.Итоги 1четверти. Выступление учителя (памятки родителям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2.Режим работы класса во 2 четвер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3.Отчет работы родительского комите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4.Личная гигиена, внешний вид учащих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5.Информация о мед.прививк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6. Информация по вопросам безопасности де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7. Перспективы на 2 четвер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e75b6"/>
                </a:solidFill>
                <a:latin typeface="Calibri Light"/>
              </a:rPr>
              <a:t>1.Итоги 1четверти. Выступление учителя (памятки родителям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лагодарность родителям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ёнкина Еле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пова Вер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птева Вера Валенти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итина Наталья Серг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найдарова Екатери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3ea66d"/>
                </a:solidFill>
                <a:latin typeface="Calibri Light"/>
              </a:rPr>
              <a:t>1.Итоги 1четверти. Выступление учителя (памятки родителям)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В класс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5 учеников - отли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9 уч.- хорошисты, с одной тройкой 3 уче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2 уч. – успевающих, с одной четвёркой 4 уче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(раздать успеваемость и посещаем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149760"/>
            <a:ext cx="7886880" cy="4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372960"/>
            <a:ext cx="7886880" cy="58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ed7d31"/>
                </a:solidFill>
                <a:latin typeface="Calibri"/>
              </a:rPr>
              <a:t>Задача мам и пап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3ea66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3ea66d"/>
                </a:solidFill>
                <a:latin typeface="Calibri"/>
              </a:rPr>
              <a:t>ПРИДУМАТЬ ИНЕРЕСНУЮ СИСТЕМУ МОТИВ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12960"/>
            <a:ext cx="7886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0"/>
            <a:ext cx="8801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bf9000"/>
                </a:solidFill>
                <a:latin typeface="Calibri"/>
              </a:rPr>
              <a:t>Основные причины, которые способствуют снижению успеваемости вашего ребёнк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1) неправильно организованный режим дн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2) дети не вникают в суть выполняемого зад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3) сталкиваясь с трудностями сразу же «опускают руки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4) лен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5) нет интереса к некоторым предмета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6) разный уровень длительности понимания и усвоения учебного материа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7) не умеют сосредотачивать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8) не прислушиваются к мнению старш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-111600"/>
            <a:ext cx="7886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2680" y="331920"/>
            <a:ext cx="859464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48235"/>
                </a:solidFill>
                <a:latin typeface="Calibri"/>
              </a:rPr>
              <a:t>Каковы же должны быть Ваши д</a:t>
            </a:r>
            <a:r>
              <a:rPr b="0" lang="ru-RU" sz="3600" spc="-1" strike="noStrike" u="sng">
                <a:solidFill>
                  <a:srgbClr val="548235"/>
                </a:solidFill>
                <a:uFillTx/>
                <a:latin typeface="Calibri"/>
              </a:rPr>
              <a:t>ействия по устранению низкой успеваем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48235"/>
                </a:solidFill>
                <a:latin typeface="Calibri"/>
              </a:rPr>
              <a:t>Переводим причины в задачи, а задачи в ваши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800" spc="-1" strike="noStrike">
                <a:solidFill>
                  <a:srgbClr val="c55a11"/>
                </a:solidFill>
                <a:latin typeface="Calibri"/>
              </a:rPr>
              <a:t>1) рационально вместе с ребёнком спланировать режим дня;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800" spc="-1" strike="noStrike">
                <a:solidFill>
                  <a:srgbClr val="c55a11"/>
                </a:solidFill>
                <a:latin typeface="Calibri"/>
              </a:rPr>
              <a:t>2) научить ребёнка преодолевать возникшие трудности, оказывая ему при этом помощь;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800" spc="-1" strike="noStrike">
                <a:solidFill>
                  <a:srgbClr val="c55a11"/>
                </a:solidFill>
                <a:latin typeface="Calibri"/>
              </a:rPr>
              <a:t>3) оказывать помощь детям в ходе подготовки домашнего задания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040" y="159840"/>
            <a:ext cx="8763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3ea66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3ea66d"/>
                </a:solidFill>
                <a:latin typeface="Calibri"/>
              </a:rPr>
              <a:t>Уважаемые родители! какие же действия для устранения проблем низкой успеваемости детей вы можете предпринимать?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c55a11"/>
                </a:solidFill>
                <a:latin typeface="Calibri"/>
              </a:rPr>
              <a:t>«Доченька (сыночек)! Теперь я тебя за всё буду хвалить, но прислушиваться к мнению старших и выполнять режим дня всё-таки над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c55a11"/>
                </a:solidFill>
                <a:latin typeface="Calibri"/>
              </a:rPr>
              <a:t>Ведь точка зрения на проблемы класса в отношении учёбы и поведения у родителей, детей и учителя должны быть одинаковы, пути их решения </a:t>
            </a:r>
            <a:r>
              <a:rPr b="0" lang="ru-RU" sz="3000" spc="-1" strike="noStrike">
                <a:solidFill>
                  <a:srgbClr val="c55a11"/>
                </a:solidFill>
                <a:latin typeface="Calibri"/>
              </a:rPr>
              <a:t>совпадать</a:t>
            </a:r>
            <a:r>
              <a:rPr b="0" lang="ru-RU" sz="3200" spc="-1" strike="noStrike">
                <a:solidFill>
                  <a:srgbClr val="c55a1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c55a11"/>
                </a:solidFill>
                <a:latin typeface="Calibri"/>
              </a:rPr>
              <a:t>Необходимо работать над трудолюбием ребёнка: </a:t>
            </a:r>
            <a:r>
              <a:rPr b="0" lang="ru-RU" sz="2800" spc="-1" strike="noStrike">
                <a:solidFill>
                  <a:srgbClr val="c55a11"/>
                </a:solidFill>
                <a:latin typeface="Calibri"/>
              </a:rPr>
              <a:t>научить и привить любовь к труду. и т. 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140400"/>
            <a:ext cx="7886880" cy="4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4880" y="247680"/>
            <a:ext cx="8978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0563c1"/>
                </a:solidFill>
                <a:uFillTx/>
                <a:latin typeface="Calibri"/>
              </a:rPr>
              <a:t>Рабочие момен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ильное оформление работы  в рабочей тетради (памятки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вивки (оформление заявлени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формление заявлений по безопасности де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йт Дневник учи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частие в конкур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роприятия (Конкурсы,выпускной вечер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User</cp:lastModifiedBy>
  <dcterms:modified xsi:type="dcterms:W3CDTF">2022-11-04T14:36:01Z</dcterms:modified>
  <cp:revision>144</cp:revision>
  <dc:subject/>
  <dc:title>Name of  presentation</dc:title>
</cp:coreProperties>
</file>