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3AC-F158-48E3-8621-13162FDA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0D7-1B0C-4B93-B1EB-69BE6DF7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946E2C-CDA7-4869-8A56-EFF2CFED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857089-8C60-4BF8-B28E-7F012EDE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DA0E54-CD35-4197-A92E-15738AB2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98D28D-5E31-43EF-8989-F11EC635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D6DAF3-F678-4CE9-9F0B-E94B8F8B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F50014-ECBD-439A-835A-B20779BC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E0C956-9DFE-4BE7-9755-C405ACF8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C82925-0B9D-42DA-BD15-CB77638C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9E00CF-33C6-42BA-B1AF-BC01C9D0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8CBAA3-BF18-4D48-91E2-CAED1EAD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BF8-A2A2-4200-9166-02BD41F8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972107-E321-43CC-976F-B3F01B33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A1A6BF-6B63-43FD-9B93-10B59CEF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7D43D3-2F57-4F9D-A8B1-D861CAEF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F0E730-F4C0-4350-B744-1FC187DE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0BB7DF-D985-48CB-B7CA-ECD8F398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F2E438-85EF-4D5E-8EFC-57FCF394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493255-6E49-438D-B47F-C12B2EA4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08285F-010E-4038-A619-4CC48B93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396B99-0A66-473F-BFC4-41A3F2AB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09F37E-A606-4899-9875-7EF331AB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DB4-035C-4104-B16D-6C13627D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84D0F2-A8BF-4F9B-9942-DD13C507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1B593-362D-4497-9D10-0A4C9EB3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BFF92-FA92-45CD-9BB6-2A5B13E2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2F30A-484C-4CBF-9979-FDA9052D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A5DCE-21B1-479D-B258-403EBBA1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FBFC0-C5AD-474F-80BB-E7BEFFAC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DFF8B-7B63-4CE8-995B-6DEADB00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AAA46-8CCC-44B8-86CF-D763032B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0F81A-69C9-4623-BDFA-AB69A9E9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7C0D6-09C1-4027-8CCC-AB4608E5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D588-D7D9-4AB5-AC3A-C2866A0E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EDA6C-7016-4524-B070-BE22DE9E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E87F5-2102-436A-8543-475AA052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F6B17-2442-4A24-986F-98F59862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970C0-3B54-4824-8749-2787EC0F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72D6D-A618-4D9D-895C-52AA6CDE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61246-14DB-4C93-8117-1D7AFECC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6CED1-4386-421B-B00F-CF9B681F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5800D-3144-4CA8-AD0A-1E1A575C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F93F0-FF18-47CA-BD80-8BBD6D76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BCE15-43FE-4FD9-B6BB-485AB559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C953-335B-4026-952B-1775594D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0B5A5-575F-4313-943D-E7004323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56F91-77E6-45D7-A84B-CCD82760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D9C1D-773B-4988-B845-A48CD2BE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4C8EF-B812-4BF6-9439-B1733CE9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998F7-E440-4998-8736-CA8F1FEC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26E1-589A-49A4-A6E3-86BDB325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39DD-C2FA-4FDE-9925-C67FCA74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8D4D-C2F0-4C9E-9206-167ECE7D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7ECD-D2A2-40B5-B5D5-13EB48F9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4DAD-1675-4F7B-9D9C-10FC9C43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7AB-A06D-46D4-A71F-DC95DD3F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9A0B-91A7-4DA6-A568-6F66DABB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973A-9031-418A-9D1A-233088B4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5092-F855-4B74-A9DC-0AA094C2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5588-EDF5-4ACC-8D31-9E56B86A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793B-0D00-4CD5-AFBB-48A0F134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47F5-B814-4512-9D11-43A2C7D0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4FFDB-F6F0-420E-B378-2F33EB13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D3A66-82EA-430C-A7C4-7C972411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52672-F76C-4B53-B015-654B2139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CB2F4-F890-4240-ACB8-FB81BD92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769-CB12-44D8-B379-7BF45BA7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CD91F-D16F-41EA-974C-2B4442B1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D788D-A08F-4CC3-8F5F-BE0BF0D6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2AEE-7170-46E7-BB60-8B129650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3DA53-A7FD-4360-9B7B-C43395BB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CA48F-2F5F-41B4-9EAE-1A3F8CE1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43B55-17B1-4D93-8F30-575A16B5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5E2D1-7BDD-428A-B83B-7F86262D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99D75-4DF2-40D6-BE43-FB472DB2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BF505-09EB-435A-AB1D-D9D420FD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547E2-6AB2-4AC2-ACD9-08B2AFFD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9BA-59B3-4C61-A41E-846C98FC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35E0B-41AC-4236-8D3E-13C78394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30036-D452-4534-94A5-2F27BA35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AF1E7-7764-402C-9529-D72E7793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C74D9-D0E5-44EB-8967-230DDD76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F2E5-D93A-4352-958E-E149578F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BE77-8BA9-41EF-8391-DB70DCC1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5D0D4-CCC0-4E27-A680-E5D0A45E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9E9B7-1D0B-4859-BEB9-7739FCAA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5D886-2709-4EEB-A510-9DF56092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6A9CD-D481-4AC5-8B79-30DCC3A7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531D-41EE-4EF1-8666-EB972387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DCCA6-EDB5-404A-A861-7C074D98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08071-1F41-4AB1-9516-388037F7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8482E-3140-4041-84AD-9C86A2A6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F0732-9C93-4DB3-B826-C5067CE7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A6E2E-170F-40E8-AF27-18D54B58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1A9DF-1245-4CEF-A7CD-1DABE70E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75B6F-49DA-4479-B749-C960E98A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6B046-C33E-4CA2-A41D-42AC9B9F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96745-BBBE-4E71-B685-E9D3730C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527D9-A5A4-4B5C-A5F7-4352C388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CA1-A307-441A-A1F7-2FEF72CF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899FF-FB7A-49FF-9E75-85FED302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0B1FA-FD34-490C-95F9-543E137E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38273-85F9-4EA7-883D-4B4FE825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4ECE50-7015-417E-9C80-F95887E7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C1677F-3D3D-45BB-A28B-3FF3CB02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01DCD2-AC2D-404A-B282-A62B3723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BBC9CF-86B8-42B9-9843-7419F699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168A8-CD54-46D9-8FB9-0DA1C02E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56909-0618-46D5-BCC3-5F17863F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C70539-1014-4F72-AF59-279D6C2A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EF7-C58D-49DD-815A-B8E0C248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A88BF-83F4-4983-81D5-90FB2C1F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C3B8D5-2EF7-4F3B-807D-47431613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3F282B-2501-49AF-94CF-76D91555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C0B18-E41C-42D9-BCF0-F5E8B5AC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85661-2CDC-4B1E-9720-E2B64E54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94B21-83BA-4FC1-9FFB-439855D0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1F342-3AE9-400B-BD7D-D5CA7CF2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51775-973A-4F17-A2C7-FB67AD06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63042-D932-4E47-ADC4-6BA1B4A8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480A2-AB88-4E89-B721-60883C13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D99-3662-453B-8DE6-D89792BB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10126-0BFA-487C-A014-B84712C1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92579-3327-4E82-BFCB-C19C319E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AC731-1239-43B6-8431-A7AEFC28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70039-EFC1-4996-8E02-F4FF2522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F7FE8-3AEA-47F7-A25C-F2394761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A6884-5A2C-42F3-A45E-79CE12B3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EF273-FCE2-4A31-8485-E1EA10B6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C3445-E9F8-48AB-8C19-0E89E7E6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327D4-FAD5-441A-9B73-135DFABF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9C6E5-8175-47C2-BA12-955A00BC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DC6-ED51-440A-85B4-58FA6CFE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B8B54-91F9-48E0-8730-EBEC566A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AB255-3493-454E-9415-A3D25E02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1FBA1-A990-46D6-92B3-A889D33C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46AEE-A747-4E8C-A1FA-D3B2FFB9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5D957-39E3-46D1-A7E1-F4E26161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33A37-33AD-469D-9699-C04AC94C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77CC8-C44B-4B6F-9ACF-7EA8E11E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55DC64-5F19-4541-A23C-9B08E0A5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D1B528-DAB3-4074-B0A8-EB0CF590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8A1BA1-51ED-4A8D-A667-E929DBEA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3DA1-5740-42C3-A76E-08A3BC54BD8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0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0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1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1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1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53B3-ED96-49C5-8D29-667DD2A347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6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AA69-7841-4E96-A790-2153AC797F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2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2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3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6130-FB12-43CD-9118-C7FC761EA0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26F8-5B51-4C0F-8ECE-D7A2A21CDF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339F-CB0C-49E6-83AB-80C9CDB9B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7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7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9C30-54D5-4F95-A1B1-3C0B10B9F6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637B-B08E-416E-9B82-DD9791B143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9FAB-A1C9-4121-BB28-91561B7123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3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1A70-1F9A-4F7E-937C-1612CA0A059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5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6379-D96F-4F0A-B510-64B1FB952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A2D6-C1F7-40BE-996C-3079DC99C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55280" y="244080"/>
            <a:ext cx="8086680" cy="57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Что я смогу сделать для планеты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95280" y="244440"/>
            <a:ext cx="8447040" cy="29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40% смертей в мире связаны с экологическими проблемами.  Поэтому  очень важно вникнуть в суть проблемы и понять в чем же причина ухудшения окружающей среды. Всем известно, что случается с человеком, когда его лечат не от той болезни... То же самое может произойти с экологией.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77" name="Picture 2" descr="C:\Documents and Settings\Лёшик\Мои документы\Мои рисунки\disaster.jpg"/>
          <p:cNvPicPr/>
          <p:nvPr/>
        </p:nvPicPr>
        <p:blipFill>
          <a:blip r:embed="rId1"/>
          <a:stretch/>
        </p:blipFill>
        <p:spPr>
          <a:xfrm>
            <a:off x="3203640" y="3573360"/>
            <a:ext cx="27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Загрязнение воздуха ядовитыми выбросами в атмосферу вызывают рак, нарушения работы иммунной системы. Это убивает около трех миллионов человек в год.  И действительно ситуация вокруг нас угнетающая, но люди привыкли жить сегодняшним днем и  мало есть влиятельных энтузиастов, кто смог бы остановить работу  фабрик или пустить в обиход новейшие разработки                       экологического топлива для транспорта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0" name="Picture 3" descr="C:\Documents and Settings\Лёшик\Мои документы\Мои рисунки\8447.jpg"/>
          <p:cNvPicPr/>
          <p:nvPr/>
        </p:nvPicPr>
        <p:blipFill>
          <a:blip r:embed="rId1"/>
          <a:stretch/>
        </p:blipFill>
        <p:spPr>
          <a:xfrm>
            <a:off x="4608360" y="2219400"/>
            <a:ext cx="41212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грязнение воды приводит к размножению малярийных комаров, из-за чего ежегодно умирает около двух миллионов человек. Нехватку чистой воды испытывают более миллиарда человек при том, что 80 процентов всех инфекционных заболеваний передается через в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Загрязнение и опустошение почвы приводит к тому, что отравляющие вещества поглощаются человеком вместе с пищей и водой. Нарушение пищеварения гарантирован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На микроуровне (в рамках семьи или одного человека), можно внести посильный вклад в предотвращение экологической катастрофы.  Да  что мы можем? –скажите Вы, это всё заводы…  Так вы поступите неправильно. В конце концов, те же  предприятия  стараются, чтобы обеспечить нашу потребительскую способность. Будь мы более экономными, ситуация заметно бы улучшилась и тем самым мы помогли бы «взять климату себя в руки»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ереги наш общий дом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8:23:03Z</dcterms:created>
  <dc:creator>Zver</dc:creator>
  <dc:description/>
  <dc:language>en-US</dc:language>
  <cp:lastModifiedBy>H HP</cp:lastModifiedBy>
  <dcterms:modified xsi:type="dcterms:W3CDTF">2022-11-05T05:55:20Z</dcterms:modified>
  <cp:revision>5</cp:revision>
  <dc:subject/>
  <dc:title>Природные катастрофы – всегда ли от нас ничего не зависит?</dc:title>
</cp:coreProperties>
</file>