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4433-530D-4C4F-AF88-5DC55A829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5D18-7DBA-4E1B-A467-1D94287B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AAAD52-F1E1-4727-A77A-6D39A56D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FEA1DC-3E1D-492B-B1F5-8BA8A8F7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A65E58-8A9A-40A4-B292-956CA049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63203C-1EF7-4B2F-B15A-3033FF12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AC6113-E646-4E9E-88E8-B2135873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5F7BD4-1E27-416D-8AB3-762A0268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BF7D16-ED36-472B-A41A-2804357B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88759B-C113-4030-BE29-96B173378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A464B9-E9BE-4D29-8AD8-FC3422404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87F288-9BBD-4C5D-BB34-B55A2ED3C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7597-E7F8-4668-9457-A62B94084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9AB86E-8242-416D-B9AB-D0C0E136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E6F540-7093-4358-B68D-0BC14A87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8FF70C-11A5-4970-816F-0DB0ED06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4E709D-06AD-4E37-AB32-E8231625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154BED-ED54-4ED6-99EE-10AD4465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379198-3BC5-49D8-8754-87932E1F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E9FDAC-4602-45D0-B6C1-45E6B1E5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DD7925-A588-49AE-A4F6-3CFA133A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1A213B-058C-485E-8703-563C3CFB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756D28-EB02-4AE8-A066-8A4E512A7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58FB-FAC9-485D-997F-C70269862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990A13-6A76-439F-A754-E25ADFB98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DB04B-5F96-42ED-ADD3-4662C6DC6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68097-67D4-4A74-A1DE-FBEEEA4B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65795-FA16-443D-A4F1-65D70F6D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79C6D-9593-42C0-9C5A-0267D5D8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60DFE-5CB2-46C9-8E9A-DD879705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996FE-7BAD-4480-A10C-02B4BAEC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1F0E5-1A4D-4AA9-9DAF-A042A8D8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079F3-60E3-4B2D-B101-5103B2CF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9CE12-053A-4433-B2A5-82F6A137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ADC6-DECD-43E8-86D3-FAFB3FA1F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8276D-2536-434E-A67F-D1465075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E33B1-2C5E-4CA1-8815-37AED522C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CF5C0-1378-4528-9F35-B20404FBF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DCFED8-FC4D-4B4C-BDEE-08FD72B92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11A996-CBC6-4342-916D-03AF276C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2DB755-37FA-452A-92D7-72349AB1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F1ED02-3EB6-498E-AEF8-43D8EAB2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5FBAB5-F545-4146-B0B9-E4BC6108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B5106F-9A0E-45EC-A681-121B6D8E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48251D-B052-46ED-A8C5-2B356AD4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49F9-79C7-49CC-A9B3-B0762565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203E69-875A-4E39-8983-1EB02862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28FE74-A312-4EC3-9978-57153916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6DBC98-6B47-4C1A-9E73-433DA25A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9B6F38-0302-4F31-9C10-788EA5E7C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8C98CA-6606-4C4F-A1E9-6BDB659E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926A-CC20-4145-9953-56E8C6AB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031B-6CF3-4AA1-B01E-3B64F51C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55E4-6C29-4516-AE5D-8A82AA9C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9D3E-5BA6-4D91-97D1-FD986B50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E0AF-7733-4A76-9002-35BDD61A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54BB-EC32-4A8D-B070-2C4476CC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3F2C-6C16-4C51-8F68-667E69AA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0DA6-046C-4192-BE6D-5B390E18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2386-523B-42D0-AC38-85BE68AF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0921-EB27-48FD-89D4-5C75E4F1C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2F09-D031-48F4-A98C-A1A8C4B25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FC3EC-26D9-413D-A5E5-3590E68C3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F4F60-4B7E-4D96-A3C0-C8E26BF6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6C733-8E6F-4C36-B357-93D60219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5D2D0-6C31-4DB4-BCE6-3055478E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BA68E-F432-45AC-9CEA-BDB4FA98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1D26-1441-4564-8C70-47801EA1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62C86-960F-4A7C-9667-7BD1CB1E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8130B-3309-4817-BB07-BA129FAD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F2455-85FB-4178-A917-44C7D9F7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32D3E-EB9A-414B-90A0-99634BCC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FFFBE-E130-43DD-91F0-A2DAAE7C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DAA6B-F404-440B-BB31-A8CFF04BE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059E0-A81C-4E9D-A310-EB09809A6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B4A05-53F0-4E37-A12B-DAE803B1D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032A1-3AEB-4802-9A8C-18CE48DE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9C5B1-98BF-4A59-8162-95C236BB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BA72-15D1-4927-8636-D3B6699D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122FE-3AB1-4527-ADE8-ACF2985E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D9E13-A927-4D8D-AE48-51B3AA04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B0E72-8344-433E-BBF7-F7CBE4F4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5336E-5051-4172-B3AB-4B078DCB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D26FB-48DA-4903-9AEF-553A227A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9CE56-4ED6-40E9-8CA3-8B984808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9E0AA-AD56-4198-B0C8-F82572B3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BE808-C82E-44BB-9CB9-EF488C00A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DD331-5BC5-4895-AAF7-3C8765145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F813A-1620-4EF2-A94F-1A85F4C83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2D58-5E9A-48CD-872A-3A1E867C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0FD88-1DE4-47ED-BBE6-E8B3C0BC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789D8-EBE8-4E10-96DF-10D2ADAA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064C9-27B6-4DD9-B56B-9CF75A1F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719E3-81A3-4A83-8DC4-84E8EA6E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E8017-72F0-482E-8CBC-1F9C0208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E7EE9-6F58-4E0F-ACA2-739A3CE8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ADCF3-B81F-4E94-84CB-29A0D038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F95B6-5B80-45B5-8411-F0312C90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04AB6-5154-4D4A-8161-B3BB50C7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3B3FF-5A57-424E-B83F-0B70FEA3F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D1C4-BB91-421D-BC53-7C62C575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8EA5A-CA7F-4DA2-8BCC-2A0BBD59E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6867C4-ECFA-4586-8A31-F63DC372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A460A0-5A1A-4D06-94D5-9C544343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C729F3-D7B3-424C-AC9C-4D258B68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F75D0E-FA6B-4271-99E7-C9107311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3658AD-D0DE-4EBE-BD2D-41C189A2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03B4A8-5A03-4324-9711-C6F2474C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22618E-B187-49E9-81D0-3B9DF0EF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C8BEC4-A81C-468B-8606-9C51FBA8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52E7FF-2DEB-484A-9D81-19E89422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D64B-4020-42A6-B045-BDDA0F82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BEEF7A-0725-4B30-9566-29B7F6D3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1C0A6B-390B-47CC-9986-361560764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DC89A5-7281-4B4F-B7D9-5EF8AF07C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4EDB4-9A91-4FAE-BF4A-E3CEF11AE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AEFD2-8A6E-44CD-8569-3BD70FC3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2C792-5FB8-43AF-A498-1EA4AF32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87E29-EDC1-4DF2-93AB-710D6676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5BF73-6481-4E32-BD69-0504B041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32E07-D4F7-432D-A71C-9A8AC90E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0687A-AE00-45FE-93FB-4637FE7E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D5BC-E5DE-4ED4-9725-967F2400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15225-EA9B-4C51-9B31-94E930F7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3FE9E-BA45-4240-9FA3-81AE3966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1C507-A7BC-48E1-948C-AE2C4767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0EFD7-9D02-43A7-A664-C9C18F913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79093-4AF3-43D0-960A-D1E6DA5C3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2EBF6-4CA2-4DA1-B7F7-F099968CA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B8A1A-EFB1-4AF4-AEDA-E6D22CA8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B85EB-8746-4F45-BB7C-2A9A2CAA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8D99A-C7DF-4959-B832-22A7B99E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B070C-B36F-45DE-B0C1-FF007B67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D51C-482C-49D0-A2D1-90BDF38D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FC1E5-7149-417D-B717-5373745F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B186F-39FF-43AE-996C-31860F1D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70434-31C0-478D-A4FF-693D473C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EE3B2-E596-4500-9766-48833D00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008E8-CBB2-443C-9BFE-BA758CF6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2A5F7-182B-4FB2-B0F7-949A6B09B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6D102-31DF-4405-82AF-272691150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89C322-3DB6-4B4A-A736-6A63A4987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B68593-637C-4605-A16E-1C0E66FC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1AB2B0-9CC8-40DA-909E-6468E336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9D47-374E-4BE5-8A98-ACE0818E362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0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0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0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1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1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1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1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0724-5A65-4CC4-B062-B59B2FBE0A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66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7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8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9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0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1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2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3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4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5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6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7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8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9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0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1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2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3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818F-7C6C-450D-80EE-881E76A7A8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26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27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8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9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0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1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632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3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E7D4-273C-40E5-9249-39971A2FD09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77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04F6-908E-46DC-B270-BC220CF093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6193-F2B4-4387-AF17-2F2D8A8392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8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0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1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72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73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74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6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79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0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81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C998-4DB7-4077-9896-F44E2A03B8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29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6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2585-98C5-419E-9646-DDA0E5D014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DA5B-1B6B-42BF-9F01-6D418B00FC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9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9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99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39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0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1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2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3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4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5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6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7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8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9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0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1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2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3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4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5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6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7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8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9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0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1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2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3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4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5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6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7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8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9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0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1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2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A6FD-4F40-44E0-9B25-A4848D6E58B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15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6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7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8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9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0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FA4A-1337-4E47-A43B-DA29CF63B9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3FA4-4309-4394-9E4A-AB6DD02842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55280" y="244080"/>
            <a:ext cx="8086680" cy="57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Что я смогу сделать для планеты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95280" y="244440"/>
            <a:ext cx="8447040" cy="29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40% смертей в мире связаны с экологическими проблемами.  Поэтому  очень важно вникнуть в суть проблемы и понять в чем же причина ухудшения окружающей среды. Всем известно, что случается с человеком, когда его лечат не от той болезни... То же самое может произойти с экологией.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677" name="Picture 2" descr="C:\Documents and Settings\Лёшик\Мои документы\Мои рисунки\disaster.jpg"/>
          <p:cNvPicPr/>
          <p:nvPr/>
        </p:nvPicPr>
        <p:blipFill>
          <a:blip r:embed="rId1"/>
          <a:stretch/>
        </p:blipFill>
        <p:spPr>
          <a:xfrm>
            <a:off x="3203640" y="3573360"/>
            <a:ext cx="27352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Загрязнение воздуха ядовитыми выбросами в атмосферу вызывают рак, нарушения работы иммунной системы. Это убивает около трех миллионов человек в год.  И действительно ситуация вокруг нас угнетающая, но люди привыкли жить сегодняшним днем и  мало есть влиятельных энтузиастов, кто смог бы остановить работу  фабрик или пустить в обиход новейшие разработки                       экологического топлива для транспорта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0" name="Picture 3" descr="C:\Documents and Settings\Лёшик\Мои документы\Мои рисунки\8447.jpg"/>
          <p:cNvPicPr/>
          <p:nvPr/>
        </p:nvPicPr>
        <p:blipFill>
          <a:blip r:embed="rId1"/>
          <a:stretch/>
        </p:blipFill>
        <p:spPr>
          <a:xfrm>
            <a:off x="4608360" y="2219400"/>
            <a:ext cx="412128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Загрязнение воды приводит к размножению малярийных комаров, из-за чего ежегодно умирает около двух миллионов человек. Нехватку чистой воды испытывают более миллиарда человек при том, что 80 процентов всех инфекционных заболеваний передается через вод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cc"/>
                </a:solidFill>
                <a:latin typeface="Arial"/>
              </a:rPr>
              <a:t>Загрязнение и опустошение почвы приводит к тому, что отравляющие вещества поглощаются человеком вместе с пищей и водой. Нарушение пищеварения гарантирован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На микроуровне (в рамках семьи или одного человека), можно внести посильный вклад в предотвращение экологической катастрофы.  Да  что мы можем? –скажите Вы, это всё заводы…  Так вы поступите неправильно. В конце концов, те же  предприятия  стараются, чтобы обеспечить нашу потребительскую способность. Будь мы более экономными, ситуация заметно бы улучшилась и тем самым мы помогли бы «взять климату себя в руки»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Береги наш общий дом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8:23:03Z</dcterms:created>
  <dc:creator>Zver</dc:creator>
  <dc:description/>
  <dc:language>en-US</dc:language>
  <cp:lastModifiedBy>H HP</cp:lastModifiedBy>
  <dcterms:modified xsi:type="dcterms:W3CDTF">2022-11-05T05:55:20Z</dcterms:modified>
  <cp:revision>5</cp:revision>
  <dc:subject/>
  <dc:title>Природные катастрофы – всегда ли от нас ничего не зависит?</dc:title>
</cp:coreProperties>
</file>