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CD2-32DF-4858-A102-8D7D4EB0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C66-0348-48F1-9E65-3A08A359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812-5981-4BF3-BFE0-76C1DFB9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99B-23DD-4D24-9696-8AD1C8B6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1DB-16B0-4C64-B238-4ED04CE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91E-2233-4221-B93D-77B8DCA8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38F-CE54-4D16-BDDE-343BA0D3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915-0327-440A-B008-94487391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D32-1035-44F4-B2E5-FB346ECF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56A-5460-4219-A51F-D01A55A7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B7F-E1E6-4684-A96A-AD23670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8CF-B7E2-4E64-97FC-A02BD92B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1B84-8308-4D2E-BDA5-9181163F3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e6.gif"/>
          <p:cNvPicPr/>
          <p:nvPr/>
        </p:nvPicPr>
        <p:blipFill>
          <a:blip r:embed="rId2"/>
          <a:stretch/>
        </p:blipFill>
        <p:spPr>
          <a:xfrm>
            <a:off x="1143000" y="1981080"/>
            <a:ext cx="31240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52480" y="1447920"/>
            <a:ext cx="5715000" cy="22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148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упражн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200400" y="4419720"/>
            <a:ext cx="322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для гла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1e6.gif"/>
          <p:cNvPicPr/>
          <p:nvPr/>
        </p:nvPicPr>
        <p:blipFill>
          <a:blip r:embed="rId3"/>
          <a:stretch/>
        </p:blipFill>
        <p:spPr>
          <a:xfrm>
            <a:off x="5257800" y="1981080"/>
            <a:ext cx="3124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32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75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9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10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1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2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3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4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5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6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7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8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0_9cdb_feacdfce_S.gif"/>
          <p:cNvPicPr/>
          <p:nvPr/>
        </p:nvPicPr>
        <p:blipFill>
          <a:blip r:embed="rId1"/>
          <a:stretch/>
        </p:blipFill>
        <p:spPr>
          <a:xfrm>
            <a:off x="-152280" y="1522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0_9cdb_feacdfce_S.gif"/>
          <p:cNvPicPr/>
          <p:nvPr/>
        </p:nvPicPr>
        <p:blipFill>
          <a:blip r:embed="rId2"/>
          <a:stretch/>
        </p:blipFill>
        <p:spPr>
          <a:xfrm flipH="1">
            <a:off x="7772400" y="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3" descr="0_9cdb_feacdfce_S.gif"/>
          <p:cNvPicPr/>
          <p:nvPr/>
        </p:nvPicPr>
        <p:blipFill>
          <a:blip r:embed="rId3"/>
          <a:stretch/>
        </p:blipFill>
        <p:spPr>
          <a:xfrm>
            <a:off x="-15228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4" descr="0_9cdb_feacdfce_S.gif"/>
          <p:cNvPicPr/>
          <p:nvPr/>
        </p:nvPicPr>
        <p:blipFill>
          <a:blip r:embed="rId4"/>
          <a:stretch/>
        </p:blipFill>
        <p:spPr>
          <a:xfrm flipH="1">
            <a:off x="777240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0_9cdb_feacdfce_S.gif"/>
          <p:cNvPicPr/>
          <p:nvPr/>
        </p:nvPicPr>
        <p:blipFill>
          <a:blip r:embed="rId5"/>
          <a:stretch/>
        </p:blipFill>
        <p:spPr>
          <a:xfrm>
            <a:off x="-15228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6" descr="0_9cdb_feacdfce_S.gif"/>
          <p:cNvPicPr/>
          <p:nvPr/>
        </p:nvPicPr>
        <p:blipFill>
          <a:blip r:embed="rId6"/>
          <a:stretch/>
        </p:blipFill>
        <p:spPr>
          <a:xfrm flipH="1">
            <a:off x="777240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7" descr="0_9cdb_feacdfce_S.gif"/>
          <p:cNvPicPr/>
          <p:nvPr/>
        </p:nvPicPr>
        <p:blipFill>
          <a:blip r:embed="rId7"/>
          <a:stretch/>
        </p:blipFill>
        <p:spPr>
          <a:xfrm>
            <a:off x="-15228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8" descr="0_9cdb_feacdfce_S.gif"/>
          <p:cNvPicPr/>
          <p:nvPr/>
        </p:nvPicPr>
        <p:blipFill>
          <a:blip r:embed="rId8"/>
          <a:stretch/>
        </p:blipFill>
        <p:spPr>
          <a:xfrm flipH="1">
            <a:off x="777240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9" descr="0_9cdb_feacdfce_S.gif"/>
          <p:cNvPicPr/>
          <p:nvPr/>
        </p:nvPicPr>
        <p:blipFill>
          <a:blip r:embed="rId9"/>
          <a:stretch/>
        </p:blipFill>
        <p:spPr>
          <a:xfrm>
            <a:off x="-152280" y="34290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0" descr="0_9cdb_feacdfce_S.gif"/>
          <p:cNvPicPr/>
          <p:nvPr/>
        </p:nvPicPr>
        <p:blipFill>
          <a:blip r:embed="rId10"/>
          <a:stretch/>
        </p:blipFill>
        <p:spPr>
          <a:xfrm flipH="1">
            <a:off x="7772400" y="33526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0_9cdb_feacdfce_S.gif"/>
          <p:cNvPicPr/>
          <p:nvPr/>
        </p:nvPicPr>
        <p:blipFill>
          <a:blip r:embed="rId11"/>
          <a:stretch/>
        </p:blipFill>
        <p:spPr>
          <a:xfrm>
            <a:off x="-1522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2" descr="0_9cdb_feacdfce_S.gif"/>
          <p:cNvPicPr/>
          <p:nvPr/>
        </p:nvPicPr>
        <p:blipFill>
          <a:blip r:embed="rId12"/>
          <a:stretch/>
        </p:blipFill>
        <p:spPr>
          <a:xfrm flipH="1">
            <a:off x="79246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3" descr="0_9cdb_feacdfce_S.gif"/>
          <p:cNvPicPr/>
          <p:nvPr/>
        </p:nvPicPr>
        <p:blipFill>
          <a:blip r:embed="rId13"/>
          <a:stretch/>
        </p:blipFill>
        <p:spPr>
          <a:xfrm>
            <a:off x="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4" descr="0_9cdb_feacdfce_S.gif"/>
          <p:cNvPicPr/>
          <p:nvPr/>
        </p:nvPicPr>
        <p:blipFill>
          <a:blip r:embed="rId14"/>
          <a:stretch/>
        </p:blipFill>
        <p:spPr>
          <a:xfrm flipH="1">
            <a:off x="800100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5" descr="0_9cdb_feacdfce_S.gif"/>
          <p:cNvPicPr/>
          <p:nvPr/>
        </p:nvPicPr>
        <p:blipFill>
          <a:blip r:embed="rId15"/>
          <a:stretch/>
        </p:blipFill>
        <p:spPr>
          <a:xfrm>
            <a:off x="0" y="5791320"/>
            <a:ext cx="1371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88334 -0.00416 E">
                                      <p:cBhvr>
                                        <p:cTn id="19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805 L -0.85833 0.11389 E">
                                      <p:cBhvr>
                                        <p:cTn id="20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86667 0.10834 E">
                                      <p:cBhvr>
                                        <p:cTn id="22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3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3 -0.02361 L -0.85834 0.1 E">
                                      <p:cBhvr>
                                        <p:cTn id="24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89166 0.00694 E">
                                      <p:cBhvr>
                                        <p:cTn id="25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-0.00417 L -0.85 0.10277 E">
                                      <p:cBhvr>
                                        <p:cTn id="26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7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7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8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9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89166 0.00695 E">
                                      <p:cBhvr>
                                        <p:cTn id="30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875 0.10695 E">
                                      <p:cBhvr>
                                        <p:cTn id="31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11111E-006 L 0.925 0.01111 E">
                                      <p:cBhvr>
                                        <p:cTn id="32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3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337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34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35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3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37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38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39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0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41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4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43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44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44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45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46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7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я</dc:creator>
  <dc:description/>
  <dc:language>en-US</dc:language>
  <cp:lastModifiedBy>Пользователь Windows</cp:lastModifiedBy>
  <dcterms:modified xsi:type="dcterms:W3CDTF">2022-02-17T15:33:06Z</dcterms:modified>
  <cp:revision>11</cp:revision>
  <dc:subject/>
  <dc:title>Слайд 1</dc:title>
</cp:coreProperties>
</file>