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110-2063-49C5-8FFB-B22E1805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999-2562-4D1E-9C4D-1B17264A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620-6681-4EF8-98F8-74FA211C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26F-E918-4473-B645-3A9619C9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21B-99E6-4CF8-860D-565E443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75B-C3B4-4713-944A-88AB0F4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6F1-C04A-4418-AF0C-7F85FFB1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2E7-EA98-4CBD-83A6-32A94F0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48F-18CE-42EF-ADEF-991176E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FCD-DC2E-468C-9A6F-648AAB4A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432-5879-4922-A530-4A6DAFC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6D5-B001-4970-A4CD-0CB2AFB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FB11-7224-4FC5-BF97-F131F2420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94a1e4"/>
              </a:gs>
              <a:gs pos="50000">
                <a:srgbClr val="ffffff"/>
              </a:gs>
              <a:gs pos="100000">
                <a:srgbClr val="94a1e4"/>
              </a:gs>
            </a:gsLst>
            <a:lin ang="18900000"/>
          </a:gradFill>
          <a:ln w="5724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0" spc="-1" strike="noStrike">
                <a:solidFill>
                  <a:srgbClr val="000066"/>
                </a:solidFill>
                <a:latin typeface="Courier New"/>
              </a:rPr>
              <a:t>К В 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3457800"/>
          </a:xfrm>
          <a:prstGeom prst="rect">
            <a:avLst/>
          </a:prstGeom>
          <a:gradFill rotWithShape="0">
            <a:gsLst>
              <a:gs pos="0">
                <a:srgbClr val="3dd1b1"/>
              </a:gs>
              <a:gs pos="50000">
                <a:srgbClr val="ffffff"/>
              </a:gs>
              <a:gs pos="100000">
                <a:srgbClr val="3dd1b1"/>
              </a:gs>
            </a:gsLst>
            <a:lin ang="2700000"/>
          </a:gradFill>
          <a:ln w="57240">
            <a:solidFill>
              <a:srgbClr val="0d351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Грамматика, грамматик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Наука очень строга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Она трудна, но без не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Gautami"/>
              </a:rPr>
              <a:t>Плохое было бы житьё</a:t>
            </a:r>
            <a:r>
              <a:rPr b="1" i="1" lang="ru-RU" sz="3600" spc="-1" strike="noStrike">
                <a:solidFill>
                  <a:srgbClr val="000000"/>
                </a:solidFill>
                <a:latin typeface="Gautam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d1"/>
              </a:gs>
              <a:gs pos="50000">
                <a:srgbClr val="ffffff"/>
              </a:gs>
              <a:gs pos="100000">
                <a:srgbClr val="7575d1"/>
              </a:gs>
            </a:gsLst>
            <a:lin ang="18900000"/>
          </a:gradFill>
          <a:ln w="5724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66"/>
                </a:solidFill>
                <a:latin typeface="Book Antiqua"/>
              </a:rPr>
              <a:t>Перв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cap="rnd" w="57240">
            <a:solidFill>
              <a:srgbClr val="0033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660033"/>
                </a:solidFill>
                <a:uFillTx/>
                <a:latin typeface="Century"/>
              </a:rPr>
              <a:t>1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Вянет и желтеет травка на лугах, только зеленеет озимь на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(А, Плеще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cap="rnd" w="57240">
            <a:solidFill>
              <a:srgbClr val="6633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660033"/>
                </a:solidFill>
                <a:uFillTx/>
                <a:latin typeface="Century"/>
              </a:rPr>
              <a:t>2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Блеснул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Bookman Old Style"/>
              </a:rPr>
              <a:t>И рады мы проказам матуш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333300"/>
                </a:solidFill>
                <a:latin typeface="Bookman Old Style"/>
              </a:rPr>
              <a:t>(А.С.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4e68c"/>
              </a:gs>
              <a:gs pos="100000">
                <a:srgbClr val="ffffff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274e04"/>
                </a:solidFill>
                <a:latin typeface="Book Antiqua"/>
              </a:rPr>
              <a:t>Втор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4f0322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   </a:t>
            </a:r>
            <a:r>
              <a:rPr b="1" i="1" lang="ru-RU" sz="2000" spc="-1" strike="noStrike">
                <a:solidFill>
                  <a:srgbClr val="660033"/>
                </a:solidFill>
                <a:latin typeface="Century"/>
              </a:rPr>
              <a:t>Какое слово спряталось? Объясни на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0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0900" spc="-1" strike="noStrike">
                <a:solidFill>
                  <a:srgbClr val="660066"/>
                </a:solidFill>
                <a:latin typeface="Century"/>
              </a:rPr>
              <a:t>А</a:t>
            </a:r>
            <a:endParaRPr b="0" lang="en-US" sz="2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4f0322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Century"/>
              </a:rPr>
              <a:t>Какое слово спряталось? Объясни на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100" spc="-1" strike="noStrike">
                <a:solidFill>
                  <a:srgbClr val="660033"/>
                </a:solidFill>
                <a:latin typeface="Century"/>
              </a:rPr>
              <a:t>А</a:t>
            </a:r>
            <a:endParaRPr b="0" lang="en-US" sz="2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214720" y="40006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292720" y="4292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703840" y="279072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715000" y="42861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89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3320b"/>
                </a:solidFill>
                <a:latin typeface="Book Antiqua"/>
              </a:rPr>
              <a:t>Треть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 Black"/>
              </a:rPr>
              <a:t>В каком колесе больше с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 Black"/>
              </a:rPr>
              <a:t>В каком колесе больше с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755640" y="2781360"/>
            <a:ext cx="3311640" cy="316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04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755640" y="4437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403280" y="3141720"/>
            <a:ext cx="194472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1403280" y="3213000"/>
            <a:ext cx="20890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5003640" y="2708280"/>
            <a:ext cx="3456000" cy="324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076720" y="4292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724360" y="2997360"/>
            <a:ext cx="201636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5940360" y="2852640"/>
            <a:ext cx="1656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979640" y="2997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987640" y="3500280"/>
            <a:ext cx="10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987640" y="4437000"/>
            <a:ext cx="8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979640" y="480528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971640" y="443700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1042920" y="350028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372360" y="2781360"/>
            <a:ext cx="8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7380360" y="3284640"/>
            <a:ext cx="9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380360" y="4437000"/>
            <a:ext cx="109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6443640" y="5013360"/>
            <a:ext cx="9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5292720" y="4437000"/>
            <a:ext cx="109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5292720" y="335772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51353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gradFill rotWithShape="0">
            <a:gsLst>
              <a:gs pos="0">
                <a:srgbClr val="faa4a4"/>
              </a:gs>
              <a:gs pos="50000">
                <a:srgbClr val="ffffff"/>
              </a:gs>
              <a:gs pos="100000">
                <a:srgbClr val="faa4a4"/>
              </a:gs>
            </a:gsLst>
            <a:lin ang="18900000"/>
          </a:gradFill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b1919"/>
                </a:solidFill>
                <a:latin typeface="Book Antiqua"/>
              </a:rPr>
              <a:t>Четвёр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57240">
            <a:solidFill>
              <a:srgbClr val="660033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Объясните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Вставьте пропущенные буквы,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	</a:t>
            </a:r>
            <a:r>
              <a:rPr b="1" i="1" lang="ru-RU" sz="2400" spc="-1" strike="noStrike">
                <a:solidFill>
                  <a:srgbClr val="993300"/>
                </a:solidFill>
                <a:latin typeface="Century"/>
              </a:rPr>
              <a:t>Дерево ценят по пл_дам, а человека по д_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57240">
            <a:solidFill>
              <a:srgbClr val="660033"/>
            </a:solidFill>
            <a:prstDash val="dash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Объясните послов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Century"/>
              </a:rPr>
              <a:t>Вставьте пропущенные буквы,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entury"/>
              </a:rPr>
              <a:t>За глупой г_ловой и н_гам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gradFill rotWithShape="0">
            <a:gsLst>
              <a:gs pos="0">
                <a:srgbClr val="6edfe8"/>
              </a:gs>
              <a:gs pos="50000">
                <a:srgbClr val="ffffff"/>
              </a:gs>
              <a:gs pos="100000">
                <a:srgbClr val="6edfe8"/>
              </a:gs>
            </a:gsLst>
            <a:lin ang="18900000"/>
          </a:gradFill>
          <a:ln w="57240">
            <a:solidFill>
              <a:srgbClr val="00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52b71"/>
                </a:solidFill>
                <a:latin typeface="Book Antiqua"/>
              </a:rPr>
              <a:t>Пя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99640" y="1916280"/>
            <a:ext cx="7417080" cy="3722400"/>
          </a:xfrm>
          <a:prstGeom prst="rect">
            <a:avLst/>
          </a:prstGeom>
          <a:gradFill rotWithShape="0">
            <a:gsLst>
              <a:gs pos="0">
                <a:srgbClr val="67efc5"/>
              </a:gs>
              <a:gs pos="100000">
                <a:srgbClr val="ffffff"/>
              </a:gs>
            </a:gsLst>
            <a:lin ang="18900000"/>
          </a:gradFill>
          <a:ln w="57240">
            <a:solidFill>
              <a:srgbClr val="006600"/>
            </a:solidFill>
            <a:prstDash val="dash"/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4230"/>
                </a:solidFill>
                <a:latin typeface="Georgia"/>
              </a:rPr>
              <a:t>Составьте возможные слова от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4230"/>
                </a:solidFill>
                <a:latin typeface="Georgia"/>
              </a:rPr>
              <a:t>«повествовательн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57240">
            <a:solidFill>
              <a:srgbClr val="bfa90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a909"/>
                </a:solidFill>
                <a:latin typeface="Book Antiqua"/>
              </a:rPr>
              <a:t>Шесто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96000" cy="4680000"/>
          </a:xfrm>
          <a:prstGeom prst="rect">
            <a:avLst/>
          </a:prstGeom>
          <a:noFill/>
          <a:ln w="57240">
            <a:solidFill>
              <a:srgbClr val="003300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9900"/>
                </a:solidFill>
                <a:latin typeface="Century"/>
              </a:rPr>
              <a:t>Слово рассыпалось. Из данных букв соберите его.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АВТРЗА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МНЛ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ОЛТЕП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АКЛ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r>
              <a:rPr b="1" i="1" lang="ru-RU" sz="2800" spc="-1" strike="noStrike">
                <a:solidFill>
                  <a:srgbClr val="137751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9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9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9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6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193080"/>
          </a:xfrm>
          <a:prstGeom prst="rect">
            <a:avLst/>
          </a:prstGeom>
          <a:gradFill rotWithShape="0">
            <a:gsLst>
              <a:gs pos="0">
                <a:srgbClr val="f86a6a"/>
              </a:gs>
              <a:gs pos="50000">
                <a:srgbClr val="ffffff"/>
              </a:gs>
              <a:gs pos="100000">
                <a:srgbClr val="f86a6a"/>
              </a:gs>
            </a:gsLst>
            <a:lin ang="2700000"/>
          </a:gradFill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Я люблю свой родной язык!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 понятен для всех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 певуч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Он, как русский народ, многолик,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Book Antiqua"/>
              </a:rPr>
              <a:t>Как держава наша могу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5:15:44Z</dcterms:created>
  <dc:creator>Библиотека</dc:creator>
  <dc:description/>
  <dc:language>en-US</dc:language>
  <cp:lastModifiedBy>user</cp:lastModifiedBy>
  <dcterms:modified xsi:type="dcterms:W3CDTF">2009-03-11T10:47:23Z</dcterms:modified>
  <cp:revision>18</cp:revision>
  <dc:subject/>
  <dc:title>К В Н</dc:title>
</cp:coreProperties>
</file>