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30D3-F138-4E89-AD3B-2DAFB6320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14B6-EB70-4B54-9189-10CAB209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BCE0-435A-4627-B1D3-5EE289A7A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2855-71F7-40E0-B440-34A6E1B1B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2E46-4948-4B0B-8077-5D2B58470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E095-7045-4990-A210-8336BD08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E0E2-A6A3-43A3-9619-9990B7A1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EF8B-167E-4951-9B06-A40CE344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0E98-9821-42D6-A212-054CF6AE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7826-035B-4D51-AB4D-80E5B3B7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4372-1041-4990-9CD7-2B3A22BF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B1AC-D369-436F-8F0E-4C5DF01A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E13F-7755-44B8-9C96-B7D083A2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4478-AEF7-472A-854F-66050CC3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245A-3A32-467E-B2D0-629C9445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BB55-4B1D-4017-9594-C6B5C913B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FA86-F255-4650-96B1-BB399657D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8FC2-E4EC-4FA2-B80A-64CEB3E5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2E21-2B85-4D1B-A110-4D4F8EE4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3001-9B68-44A6-AAFE-23BF1845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36EA-3AA6-4F5F-925F-683E09C5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9BC2-EB65-4D7F-AC2B-4D9DF77E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1989-D80B-4790-AE7F-7351D99F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B97D-D1D4-43B2-AAD2-8FF77F2A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862E-9AB1-4D71-B487-A7C33C78593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768A-2BC8-4DB0-B4C3-35A1740E0FB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8920" y="151920"/>
            <a:ext cx="871380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пришли сюда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ИТЬСЯ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лениться, а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УДИТЬСЯ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ть как?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РАТЕЛЬН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лушать как?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МАТЕЛЬН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хочешь отвечать…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КУ НЕ ЗАБУДЬ ПОДНЯТ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просят?</a:t>
            </a:r>
            <a:br>
              <a:rPr sz="36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ДО ВСТАТЬ, ГРОМКО, ЧЁТКО ОТВЕЧАТ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83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56200" y="549360"/>
            <a:ext cx="497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Около клетки кор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9480" y="1484280"/>
            <a:ext cx="629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Максим кормил кроликов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49720" y="2349360"/>
            <a:ext cx="606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В клетке серые крол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7680" y="3357720"/>
            <a:ext cx="828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Сестра Максима поила кролик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6000" y="4437000"/>
            <a:ext cx="661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В сарае у Максима клет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00920" y="1773360"/>
            <a:ext cx="497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Около клетки кор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91120" y="2492280"/>
            <a:ext cx="629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Максим кормил кроликов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9720" y="3284640"/>
            <a:ext cx="606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В клетке серые крол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0760" y="4149720"/>
            <a:ext cx="828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Сестра Максима поила кролик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6000" y="4797360"/>
            <a:ext cx="661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В сарае у Максима клет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64 -0.32685 L -0.00764 -0.66018 E">
                                      <p:cBhvr>
                                        <p:cTn id="106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10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4 -0.11412 L 0.00174 0.21922 E">
                                      <p:cBhvr>
                                        <p:cTn id="114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59760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5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993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тца был мальчик странный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ычный – деревянный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емле и под водой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ал он ключик золотой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юду нос совал он длинный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же это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427640" y="5084280"/>
            <a:ext cx="39542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уратино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24400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1372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66978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7272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343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дарин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ар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ка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10108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795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1T16:32:49Z</dcterms:created>
  <dc:creator>Daniil</dc:creator>
  <dc:description/>
  <dc:language>en-US</dc:language>
  <cp:lastModifiedBy>Daniil</cp:lastModifiedBy>
  <dcterms:modified xsi:type="dcterms:W3CDTF">2015-10-21T21:52:19Z</dcterms:modified>
  <cp:revision>4</cp:revision>
  <dc:subject/>
  <dc:title>Мы пришли сюда УЧИТЬСЯ. Не лениться, а ТРУДИТЬСЯ. Работать как? СТАРАТЕЛЬНО. А слушать как? ВНИМАТЕЛЬНО. Если хочешь отвечать… РУКУ НЕ ЗАБУДЬ ПОДНЯТЬ! Если спросят? НАДО ВСТАТЬ, ГРОМКО, ЧЁТКО ОТВЕЧАТЬ!</dc:title>
</cp:coreProperties>
</file>