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218-837A-4DED-BD88-4F26927E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B43-4B54-4945-9687-6D2324B8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6E4-173A-4B85-A881-3AEF3C46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231-039D-4C23-9F01-849BBE28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1536-5924-4F74-A3F6-85C3AB47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182-29A2-4C2C-B391-804F95F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B78-685D-46FA-8621-0F0E8DDE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EC14-2EB5-43AE-A460-E68A2D23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1F3-6278-4702-ACEE-70710F3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991-630E-441B-8D11-3D88322E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860-AF00-4775-BB42-3CEF553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E49-E505-4766-937B-610E025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9168-B09F-4BBB-BF1F-13D5D0E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2CBE-00CC-43E1-B666-F3697E2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A1E-B0B0-48B0-A322-D9873436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40E2-BBE7-4647-BF0E-D37A9DBA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2870-11D5-4DDB-AFEF-91F54834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766-A3AB-409C-BBB1-DD5379E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5C6-9CCB-49EC-AD11-A7A35F8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5BF-7907-46CC-AE95-F26E23F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4B3-226F-422A-A6AC-D622F6AB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1FC-0801-4801-8AD7-151A873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4DB-3A98-448D-941D-5F0A74A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A2B-A36A-4D88-9472-E7CF5C2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8BD-45D7-421A-96B7-EB1EA012C0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CE6-FAC5-42F2-84CE-A6CBA1C623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шли сюд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ЬС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ениться, 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ИТЬС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как?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АТЕЛЬ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лушать как?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ТЕЛЬ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отвечать…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У НЕ ЗАБУДЬ ПОДНЯТ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просят?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ВСТАТЬ, ГРОМКО, ЧЁТКО ОТВЕЧ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56200" y="54936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коло клетки кор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480" y="148428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Максим кормил кроликов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9720" y="2349360"/>
            <a:ext cx="60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клетке серые крол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7680" y="335772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естра Максима поила крол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4437000"/>
            <a:ext cx="66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сарае у Максима кле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00920" y="177336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коло клетки кор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1120" y="249228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Максим кормил кроликов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9720" y="3284640"/>
            <a:ext cx="606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клетке серые крол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760" y="414972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естра Максима поила крол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000" y="4797360"/>
            <a:ext cx="66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В сарае у Максима кле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32685 L -0.00764 -0.66018 E">
                                      <p:cBhvr>
                                        <p:cTn id="106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11412 L 0.00174 0.21922 E">
                                      <p:cBhvr>
                                        <p:cTn id="11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976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тца был мальчик странный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ычный – деревянны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 и под водо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л он ключик золото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 нос совал он длинны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3954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ратино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37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9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арин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95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6:32:49Z</dcterms:created>
  <dc:creator>Daniil</dc:creator>
  <dc:description/>
  <dc:language>en-US</dc:language>
  <cp:lastModifiedBy>Daniil</cp:lastModifiedBy>
  <dcterms:modified xsi:type="dcterms:W3CDTF">2015-10-21T21:52:19Z</dcterms:modified>
  <cp:revision>4</cp:revision>
  <dc:subject/>
  <dc:title>Мы пришли сюда УЧИТЬСЯ. Не лениться, а ТРУДИТЬСЯ. Работать как? СТАРАТЕЛЬНО. А слушать как? ВНИМАТЕЛЬНО. Если хочешь отвечать… РУКУ НЕ ЗАБУДЬ ПОДНЯТЬ! Если спросят? НАДО ВСТАТЬ, ГРОМКО, ЧЁТКО ОТВЕЧАТЬ!</dc:title>
</cp:coreProperties>
</file>