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9A38-7903-4717-8F25-89F90008F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F153-0C05-4AED-8018-EFFD80DA0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F42-C114-4D23-B7FA-46A39A3D70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54B-06B8-4383-9EAB-1A697DAB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E39-3EC7-4CF0-8F53-71F1F60E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FD7-448F-4D74-905D-0B0EAB97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1AF-AA33-4C52-9159-EC691BD9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C44-DBD1-4D2A-A1BE-644EAD8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A94-2B86-413A-B9FD-ABCB355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B3F-69F5-48F3-9DB3-A4134C7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6AE-2737-4A12-BBAF-DB686835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D30-9949-437A-8B03-CE2BD313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26C-E066-45C6-84B6-48F4E11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51F-FDF7-42CB-8ED1-B0FFB75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883-139B-49BA-82E3-4C04DDE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1B5-6C11-4A8A-9C67-B217F020E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Муниципальное бюджетное дошкольное образовательное учреждение      «Детский сад   №7 « Незабудк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чу все знать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дерева лист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–творческий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группа №5 «Колоколь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Николаенко Анна Дмитри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IMG_20210909_144322.jpg"/>
          <p:cNvPicPr/>
          <p:nvPr/>
        </p:nvPicPr>
        <p:blipFill>
          <a:blip r:embed="rId1"/>
          <a:stretch/>
        </p:blipFill>
        <p:spPr>
          <a:xfrm>
            <a:off x="493560" y="3425760"/>
            <a:ext cx="187164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815040" y="571680"/>
            <a:ext cx="53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 тонкой, длинной ки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рашивает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зо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хорош ты лист рез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IMG_20210909_144516.jpg"/>
          <p:cNvPicPr/>
          <p:nvPr/>
        </p:nvPicPr>
        <p:blipFill>
          <a:blip r:embed="rId2"/>
          <a:stretch/>
        </p:blipFill>
        <p:spPr>
          <a:xfrm>
            <a:off x="3638520" y="4280040"/>
            <a:ext cx="262908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IMG_20210909_144524.jpg"/>
          <p:cNvPicPr/>
          <p:nvPr/>
        </p:nvPicPr>
        <p:blipFill>
          <a:blip r:embed="rId3"/>
          <a:stretch/>
        </p:blipFill>
        <p:spPr>
          <a:xfrm>
            <a:off x="6278400" y="1779480"/>
            <a:ext cx="2133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869120" y="357120"/>
            <a:ext cx="54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 вас! Роди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IMG_20211104_17345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285920"/>
            <a:ext cx="36432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IMG_20211104_173525.jpg"/>
          <p:cNvPicPr/>
          <p:nvPr/>
        </p:nvPicPr>
        <p:blipFill>
          <a:blip r:embed="rId2"/>
          <a:stretch/>
        </p:blipFill>
        <p:spPr>
          <a:xfrm>
            <a:off x="4643280" y="1285920"/>
            <a:ext cx="4000680" cy="221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IMG_20211104_173725.jpg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00040" y="4071960"/>
            <a:ext cx="3857760" cy="2367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IMG_20211104_173819.jpg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786200" y="4000680"/>
            <a:ext cx="39290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онная карта проекта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тельност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овой, краткосрочный (одна неделя 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прое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познавательно- творчески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 №5 «Колокольчик», родители, воспитател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2888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сезонными изменениями листьев на деревьях; исследовать строение листа, опытным путем сделать вывод о наличии зеленого вещества в листьях, формирование целостной картины мира у детей среднего дошкольного возрас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ознакомить детей с деревьями, обратить внимание детей на форму листьев и их окраску;  с помощью лупы исследовать листья деревь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представления: деревья - живые существа, у них есть потребность в определённых условиях: тепло, свет, вода, питательная поч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желание сохранять красоту родно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желтеют листь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деревья сбрасывают листь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сделать из осенних листье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ходится внутри лист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олагаемый результ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 гербария осенних листь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творческих работ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 макета осеннего дере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консультации для роди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ее развлечение для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екта </a:t>
            </a:r>
            <a:br>
              <a:rPr sz="40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этап подготовительный </a:t>
            </a:r>
            <a:br>
              <a:rPr sz="29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 –дети заметили как красиво стало вокруг! Сразу посыпались вопросы. Почему листья желтеют? Почему листопад? А что находится в самом листочке?. Что можно сделать из опавших листьев и природного материала? Решили наблюдать за приходом осени в детский  с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Познавательно – творческий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. Наблюдения, экскурсии, эксперимен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картин русских художн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беседы, чтение  литературных произведений об осе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игры, п/игры с листочками. Сбор листьев для гербария и творчества.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Заключительный</a:t>
            </a:r>
            <a:br>
              <a:rPr sz="2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гербария осенних листьев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творческих работ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осеннего дерева. Оформление консультации для родителей. Осеннее развлечение с родителями.</a:t>
            </a:r>
            <a:br>
              <a:rPr sz="20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002920" y="857160"/>
            <a:ext cx="2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788480" y="7858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503000" y="150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878760" y="228600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IMG_20211001_114248.jpg"/>
          <p:cNvPicPr/>
          <p:nvPr/>
        </p:nvPicPr>
        <p:blipFill>
          <a:blip r:embed="rId1"/>
          <a:stretch/>
        </p:blipFill>
        <p:spPr>
          <a:xfrm>
            <a:off x="4500720" y="2571840"/>
            <a:ext cx="239688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IMG_20211001_114457.jpg"/>
          <p:cNvPicPr/>
          <p:nvPr/>
        </p:nvPicPr>
        <p:blipFill>
          <a:blip r:embed="rId2"/>
          <a:stretch/>
        </p:blipFill>
        <p:spPr>
          <a:xfrm>
            <a:off x="1643040" y="2500200"/>
            <a:ext cx="257184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609840" y="571680"/>
            <a:ext cx="74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 проекта  Любознательные  де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«Колокольчик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45120" y="1428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786120" y="7715160"/>
            <a:ext cx="142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500040" y="18572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14240" y="28584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ервые эксперименты и от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IMG_20210909_091105.jpg"/>
          <p:cNvPicPr/>
          <p:nvPr/>
        </p:nvPicPr>
        <p:blipFill>
          <a:blip r:embed="rId1"/>
          <a:stretch/>
        </p:blipFill>
        <p:spPr>
          <a:xfrm>
            <a:off x="428760" y="128592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IMG_20210909_091417.jpg"/>
          <p:cNvPicPr/>
          <p:nvPr/>
        </p:nvPicPr>
        <p:blipFill>
          <a:blip r:embed="rId2"/>
          <a:stretch/>
        </p:blipFill>
        <p:spPr>
          <a:xfrm>
            <a:off x="3357720" y="314316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IMG_20210909_091639.jpg"/>
          <p:cNvPicPr/>
          <p:nvPr/>
        </p:nvPicPr>
        <p:blipFill>
          <a:blip r:embed="rId3"/>
          <a:stretch/>
        </p:blipFill>
        <p:spPr>
          <a:xfrm>
            <a:off x="6000840" y="1357200"/>
            <a:ext cx="2428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000080" y="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IMG_20210924_161051.jpg"/>
          <p:cNvPicPr/>
          <p:nvPr/>
        </p:nvPicPr>
        <p:blipFill>
          <a:blip r:embed="rId1"/>
          <a:stretch/>
        </p:blipFill>
        <p:spPr>
          <a:xfrm>
            <a:off x="285840" y="285840"/>
            <a:ext cx="251604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MG_20210903_101833.jpg"/>
          <p:cNvPicPr/>
          <p:nvPr/>
        </p:nvPicPr>
        <p:blipFill>
          <a:blip r:embed="rId2"/>
          <a:stretch/>
        </p:blipFill>
        <p:spPr>
          <a:xfrm>
            <a:off x="3214800" y="50004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IMG_20210909_093616.jpg"/>
          <p:cNvPicPr/>
          <p:nvPr/>
        </p:nvPicPr>
        <p:blipFill>
          <a:blip r:embed="rId3"/>
          <a:stretch/>
        </p:blipFill>
        <p:spPr>
          <a:xfrm>
            <a:off x="6072120" y="214200"/>
            <a:ext cx="248148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20210917_114526.jpg"/>
          <p:cNvPicPr/>
          <p:nvPr/>
        </p:nvPicPr>
        <p:blipFill>
          <a:blip r:embed="rId4"/>
          <a:stretch/>
        </p:blipFill>
        <p:spPr>
          <a:xfrm>
            <a:off x="285840" y="3357720"/>
            <a:ext cx="2500200" cy="3214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20210919_232826.jpg"/>
          <p:cNvPicPr/>
          <p:nvPr/>
        </p:nvPicPr>
        <p:blipFill>
          <a:blip r:embed="rId5"/>
          <a:stretch/>
        </p:blipFill>
        <p:spPr>
          <a:xfrm>
            <a:off x="3143160" y="3357720"/>
            <a:ext cx="250344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20210919_232806.jpg"/>
          <p:cNvPicPr/>
          <p:nvPr/>
        </p:nvPicPr>
        <p:blipFill>
          <a:blip r:embed="rId6"/>
          <a:stretch/>
        </p:blipFill>
        <p:spPr>
          <a:xfrm>
            <a:off x="6000840" y="3357720"/>
            <a:ext cx="2717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928800" y="5716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гру к 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IMG_20210903_095249.jpg"/>
          <p:cNvPicPr/>
          <p:nvPr/>
        </p:nvPicPr>
        <p:blipFill>
          <a:blip r:embed="rId1"/>
          <a:stretch/>
        </p:blipFill>
        <p:spPr>
          <a:xfrm>
            <a:off x="285840" y="214200"/>
            <a:ext cx="200664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IMG_20210910_104241.jpg"/>
          <p:cNvPicPr/>
          <p:nvPr/>
        </p:nvPicPr>
        <p:blipFill>
          <a:blip r:embed="rId2"/>
          <a:stretch/>
        </p:blipFill>
        <p:spPr>
          <a:xfrm>
            <a:off x="285840" y="3214800"/>
            <a:ext cx="2071440" cy="3333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IMG_20210903_093707.jpg"/>
          <p:cNvPicPr/>
          <p:nvPr/>
        </p:nvPicPr>
        <p:blipFill>
          <a:blip r:embed="rId3"/>
          <a:stretch/>
        </p:blipFill>
        <p:spPr>
          <a:xfrm>
            <a:off x="6572160" y="214200"/>
            <a:ext cx="2143080" cy="3143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IMG_20210909_091837.jpg"/>
          <p:cNvPicPr/>
          <p:nvPr/>
        </p:nvPicPr>
        <p:blipFill>
          <a:blip r:embed="rId4"/>
          <a:stretch/>
        </p:blipFill>
        <p:spPr>
          <a:xfrm>
            <a:off x="2714760" y="1214280"/>
            <a:ext cx="3106440" cy="4143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IMG_20210909_091845.jpg"/>
          <p:cNvPicPr/>
          <p:nvPr/>
        </p:nvPicPr>
        <p:blipFill>
          <a:blip r:embed="rId5"/>
          <a:stretch/>
        </p:blipFill>
        <p:spPr>
          <a:xfrm>
            <a:off x="6429240" y="3429000"/>
            <a:ext cx="2357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7T08:46:28Z</dcterms:created>
  <dc:creator>User</dc:creator>
  <dc:description/>
  <dc:language>en-US</dc:language>
  <cp:lastModifiedBy>User</cp:lastModifiedBy>
  <dcterms:modified xsi:type="dcterms:W3CDTF">2022-11-05T09:42:50Z</dcterms:modified>
  <cp:revision>99</cp:revision>
  <dc:subject/>
  <dc:title>Слайд 1</dc:title>
</cp:coreProperties>
</file>