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66EC-8334-428D-A9F3-CEC9EAF8E5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23B-D283-4890-B551-FF64673B70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1C7C-A18A-4B30-AFF7-32511B66B3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EB5-D88A-43F7-8C09-D9705556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17E-7BA5-4B8C-BE46-7F2E74D3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15B-5DD0-43B2-9FA4-8F54D7F2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6C7-6290-4E5E-BB35-5EB209E1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63C-04E3-4BCD-A8DD-DCD6511E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7F3-F0A5-4FF9-AAA7-F3CBF6B8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E2C-5432-41F6-AF84-48CC7665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DDB-0ED7-43EF-ABCE-CECBBCDD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84E-C605-4357-B45A-62801F60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7B0-F6E2-4AB5-B6B7-D5B2A8E3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EAA-A75F-4537-B043-6163DC9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5DD-4450-437F-A79E-ABD499F1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E181-AC8F-41CF-BFEF-4400702D1F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Муниципальное бюджетное дошкольное образовательное учреждение      «Детский сад   №7 « Незабудк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чу все знать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го дерева лист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 –творческий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группа №5 «Колокольч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Николаенко Анна Дмитри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IMG_20210909_144322.jpg"/>
          <p:cNvPicPr/>
          <p:nvPr/>
        </p:nvPicPr>
        <p:blipFill>
          <a:blip r:embed="rId1"/>
          <a:stretch/>
        </p:blipFill>
        <p:spPr>
          <a:xfrm>
            <a:off x="493560" y="3425760"/>
            <a:ext cx="187164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815040" y="571680"/>
            <a:ext cx="53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 тонкой, длинной ки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рашивает 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зол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хорош ты лист рез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IMG_20210909_144516.jpg"/>
          <p:cNvPicPr/>
          <p:nvPr/>
        </p:nvPicPr>
        <p:blipFill>
          <a:blip r:embed="rId2"/>
          <a:stretch/>
        </p:blipFill>
        <p:spPr>
          <a:xfrm>
            <a:off x="3638520" y="4280040"/>
            <a:ext cx="2629080" cy="20113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IMG_20210909_144524.jpg"/>
          <p:cNvPicPr/>
          <p:nvPr/>
        </p:nvPicPr>
        <p:blipFill>
          <a:blip r:embed="rId3"/>
          <a:stretch/>
        </p:blipFill>
        <p:spPr>
          <a:xfrm>
            <a:off x="6278400" y="1779480"/>
            <a:ext cx="2133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869120" y="357120"/>
            <a:ext cx="543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 вас! Родит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IMG_20211104_173458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42960" y="1285920"/>
            <a:ext cx="364320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IMG_20211104_173525.jpg"/>
          <p:cNvPicPr/>
          <p:nvPr/>
        </p:nvPicPr>
        <p:blipFill>
          <a:blip r:embed="rId2"/>
          <a:stretch/>
        </p:blipFill>
        <p:spPr>
          <a:xfrm>
            <a:off x="4643280" y="1285920"/>
            <a:ext cx="4000680" cy="2214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IMG_20211104_173725.jpg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500040" y="4071960"/>
            <a:ext cx="3857760" cy="2367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IMG_20211104_173819.jpg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4786200" y="4000680"/>
            <a:ext cx="39290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онная карта проекта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олжительность проекта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овой, краткосрочный (одна неделя 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 проек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познавательно- творчески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проек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дней группы №5 «Колокольчик», родители, воспитател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2888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за сезонными изменениями листьев на деревьях; исследовать строение листа, опытным путем сделать вывод о наличии зеленого вещества в листьях, формирование целостной картины мира у детей среднего дошкольного возрас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ознакомить детей с деревьями, обратить внимание детей на форму листьев и их окраску;  с помощью лупы исследовать листья деревь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ировать представления: деревья - живые существа, у них есть потребность в определённых условиях: тепло, свет, вода, питательная поч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вать желание сохранять красоту родной прир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ные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желтеют листь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 деревья сбрасывают листь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сделать из осенних листье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ходится внутри листи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полагаемый результа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в гербария осенних листье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творческих работ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 макета осеннего дере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консультации для родител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нее развлечение для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проекта </a:t>
            </a:r>
            <a:br>
              <a:rPr sz="40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этап подготовительный </a:t>
            </a:r>
            <a:br>
              <a:rPr sz="29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проблемы –дети заметили как красиво стало вокруг! Сразу посыпались вопросы. Почему листья желтеют? Почему листопад? А что находится в самом листочке?. Что можно сделать из опавших листьев и природного материала? Решили наблюдать за приходом осени в детский  са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Познавательно – творческий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. Наблюдения, экскурсии, эксперимен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картин русских художник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беседы, чтение  литературных произведений об осен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игры, п/игры с листочками. Сбор листьев для гербария и творчества.</a:t>
            </a: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Заключительный</a:t>
            </a:r>
            <a:br>
              <a:rPr sz="28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гербария осенних листьев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творческих работ дет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а осеннего дерева. Оформление консультации для родителей. Осеннее развлечение с родителями.</a:t>
            </a:r>
            <a:br>
              <a:rPr sz="20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5002920" y="857160"/>
            <a:ext cx="2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788480" y="78588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1503000" y="1500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878760" y="228600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IMG_20211001_114248.jpg"/>
          <p:cNvPicPr/>
          <p:nvPr/>
        </p:nvPicPr>
        <p:blipFill>
          <a:blip r:embed="rId1"/>
          <a:stretch/>
        </p:blipFill>
        <p:spPr>
          <a:xfrm>
            <a:off x="4500720" y="2571840"/>
            <a:ext cx="2396880" cy="2928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IMG_20211001_114457.jpg"/>
          <p:cNvPicPr/>
          <p:nvPr/>
        </p:nvPicPr>
        <p:blipFill>
          <a:blip r:embed="rId2"/>
          <a:stretch/>
        </p:blipFill>
        <p:spPr>
          <a:xfrm>
            <a:off x="1643040" y="2500200"/>
            <a:ext cx="257184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609840" y="571680"/>
            <a:ext cx="74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 проекта  Любознательные  де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«Колокольчик»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645120" y="1428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3786120" y="7715160"/>
            <a:ext cx="1429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500040" y="18572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714240" y="285840"/>
            <a:ext cx="78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первые эксперименты и откр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IMG_20210909_091105.jpg"/>
          <p:cNvPicPr/>
          <p:nvPr/>
        </p:nvPicPr>
        <p:blipFill>
          <a:blip r:embed="rId1"/>
          <a:stretch/>
        </p:blipFill>
        <p:spPr>
          <a:xfrm>
            <a:off x="428760" y="1285920"/>
            <a:ext cx="257148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IMG_20210909_091417.jpg"/>
          <p:cNvPicPr/>
          <p:nvPr/>
        </p:nvPicPr>
        <p:blipFill>
          <a:blip r:embed="rId2"/>
          <a:stretch/>
        </p:blipFill>
        <p:spPr>
          <a:xfrm>
            <a:off x="3357720" y="3143160"/>
            <a:ext cx="2411280" cy="3214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IMG_20210909_091639.jpg"/>
          <p:cNvPicPr/>
          <p:nvPr/>
        </p:nvPicPr>
        <p:blipFill>
          <a:blip r:embed="rId3"/>
          <a:stretch/>
        </p:blipFill>
        <p:spPr>
          <a:xfrm>
            <a:off x="6000840" y="1357200"/>
            <a:ext cx="2428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000080" y="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е 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IMG_20210924_161051.jpg"/>
          <p:cNvPicPr/>
          <p:nvPr/>
        </p:nvPicPr>
        <p:blipFill>
          <a:blip r:embed="rId1"/>
          <a:stretch/>
        </p:blipFill>
        <p:spPr>
          <a:xfrm>
            <a:off x="285840" y="285840"/>
            <a:ext cx="2516040" cy="25718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IMG_20210903_101833.jpg"/>
          <p:cNvPicPr/>
          <p:nvPr/>
        </p:nvPicPr>
        <p:blipFill>
          <a:blip r:embed="rId2"/>
          <a:stretch/>
        </p:blipFill>
        <p:spPr>
          <a:xfrm>
            <a:off x="3214800" y="500040"/>
            <a:ext cx="2286000" cy="2500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IMG_20210909_093616.jpg"/>
          <p:cNvPicPr/>
          <p:nvPr/>
        </p:nvPicPr>
        <p:blipFill>
          <a:blip r:embed="rId3"/>
          <a:stretch/>
        </p:blipFill>
        <p:spPr>
          <a:xfrm>
            <a:off x="6072120" y="214200"/>
            <a:ext cx="2481480" cy="2714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20210917_114526.jpg"/>
          <p:cNvPicPr/>
          <p:nvPr/>
        </p:nvPicPr>
        <p:blipFill>
          <a:blip r:embed="rId4"/>
          <a:stretch/>
        </p:blipFill>
        <p:spPr>
          <a:xfrm>
            <a:off x="285840" y="3357720"/>
            <a:ext cx="2500200" cy="3214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20210919_232826.jpg"/>
          <p:cNvPicPr/>
          <p:nvPr/>
        </p:nvPicPr>
        <p:blipFill>
          <a:blip r:embed="rId5"/>
          <a:stretch/>
        </p:blipFill>
        <p:spPr>
          <a:xfrm>
            <a:off x="3143160" y="3357720"/>
            <a:ext cx="250344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1" descr="20210919_232806.jpg"/>
          <p:cNvPicPr/>
          <p:nvPr/>
        </p:nvPicPr>
        <p:blipFill>
          <a:blip r:embed="rId6"/>
          <a:stretch/>
        </p:blipFill>
        <p:spPr>
          <a:xfrm>
            <a:off x="6000840" y="3357720"/>
            <a:ext cx="2717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928800" y="57168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игру к позн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IMG_20210903_095249.jpg"/>
          <p:cNvPicPr/>
          <p:nvPr/>
        </p:nvPicPr>
        <p:blipFill>
          <a:blip r:embed="rId1"/>
          <a:stretch/>
        </p:blipFill>
        <p:spPr>
          <a:xfrm>
            <a:off x="285840" y="214200"/>
            <a:ext cx="200664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IMG_20210910_104241.jpg"/>
          <p:cNvPicPr/>
          <p:nvPr/>
        </p:nvPicPr>
        <p:blipFill>
          <a:blip r:embed="rId2"/>
          <a:stretch/>
        </p:blipFill>
        <p:spPr>
          <a:xfrm>
            <a:off x="285840" y="3214800"/>
            <a:ext cx="207144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IMG_20210903_093707.jpg"/>
          <p:cNvPicPr/>
          <p:nvPr/>
        </p:nvPicPr>
        <p:blipFill>
          <a:blip r:embed="rId3"/>
          <a:stretch/>
        </p:blipFill>
        <p:spPr>
          <a:xfrm>
            <a:off x="6572160" y="214200"/>
            <a:ext cx="2143080" cy="31435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IMG_20210909_091837.jpg"/>
          <p:cNvPicPr/>
          <p:nvPr/>
        </p:nvPicPr>
        <p:blipFill>
          <a:blip r:embed="rId4"/>
          <a:stretch/>
        </p:blipFill>
        <p:spPr>
          <a:xfrm>
            <a:off x="2714760" y="1214280"/>
            <a:ext cx="3106440" cy="4143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IMG_20210909_091845.jpg"/>
          <p:cNvPicPr/>
          <p:nvPr/>
        </p:nvPicPr>
        <p:blipFill>
          <a:blip r:embed="rId5"/>
          <a:stretch/>
        </p:blipFill>
        <p:spPr>
          <a:xfrm>
            <a:off x="6429240" y="3429000"/>
            <a:ext cx="23576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07T08:46:28Z</dcterms:created>
  <dc:creator>User</dc:creator>
  <dc:description/>
  <dc:language>en-US</dc:language>
  <cp:lastModifiedBy>User</cp:lastModifiedBy>
  <dcterms:modified xsi:type="dcterms:W3CDTF">2022-11-05T09:42:50Z</dcterms:modified>
  <cp:revision>99</cp:revision>
  <dc:subject/>
  <dc:title>Слайд 1</dc:title>
</cp:coreProperties>
</file>