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4C0-3E0B-4235-B01A-1D6396B2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497-24DA-4E38-8405-DCCBB7F2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114-70DD-4F38-AD07-905989BA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6C7-B3A0-4FC8-AC16-9C3479AF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259-E4B3-4F4F-B88D-4798B776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669-0C65-45D7-8355-2D2FCA34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0E6-376F-427A-B4F7-4AB55186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36B-375A-4059-B9AC-04B7DAB9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6C8-1A19-4727-A395-B4525947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6BE-1EB8-4BED-A659-8C117564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426-8D15-4C97-AC2C-D0165C6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0E1-DAAC-4D70-BE2D-FCBC621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3299-6DF5-4196-9BB5-B889B46BC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355760" y="620640"/>
            <a:ext cx="64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Тема урока: Счёт сотн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0920" y="1413000"/>
            <a:ext cx="11098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4f6228"/>
                </a:solidFill>
                <a:latin typeface="Bookman Old Style"/>
              </a:rPr>
              <a:t>Цель: научиться  читать, записыв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Bookman Old Style"/>
              </a:rPr>
              <a:t>Сравнивать  трёхзначные  чис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47240" y="3068640"/>
            <a:ext cx="685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чи (шаги)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меть читать и записывать трехзначные чис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меть представлять трехзначное число в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уммы  разрядных слагаем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. Уметь сравнивать чис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1042920" y="1628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410120" y="40464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16 н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ябр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ла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сс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н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я р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53560" y="2176560"/>
            <a:ext cx="70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200, 30, 8, 2, 400, 80, 20, 3,800, 4, 300,40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369080" y="2892600"/>
            <a:ext cx="257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8, 2, 3,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0"/>
          <p:cNvSpPr/>
          <p:nvPr/>
        </p:nvSpPr>
        <p:spPr>
          <a:xfrm>
            <a:off x="1412640" y="3789360"/>
            <a:ext cx="396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30, 80, 20, 4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2048400" y="4734000"/>
            <a:ext cx="55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200, 400, 800, 30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110960" y="549360"/>
            <a:ext cx="6261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562, 324, 56, 102, 78, 96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1268280"/>
          <a:ext cx="7561440" cy="27608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т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есят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ди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2" name="TextBox 3"/>
          <p:cNvSpPr/>
          <p:nvPr/>
        </p:nvSpPr>
        <p:spPr>
          <a:xfrm>
            <a:off x="1928880" y="206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214880" y="206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608880" y="2068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08880" y="2698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28880" y="2647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195800" y="2755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214880" y="3379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928880" y="333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6608880" y="33591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435320" y="4365720"/>
            <a:ext cx="75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 обозначает каждая цифра в записи чи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657, 765, 576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461520" y="549360"/>
            <a:ext cx="84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) Что обозначает цифра 4 в записи каждого из чисе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473, 49, 504, 444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39200" y="1600200"/>
            <a:ext cx="77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3) Сколько всего цифр и сколько различных циф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спользовано при записи каждого чис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5, 33, 535, 555, 700, 1000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0600" y="2781360"/>
            <a:ext cx="8712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) С помощью цифр 2, 3, 4 запиш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6 различных трехзначных чисел, используя каждую цифру один р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489760" y="429264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234, 243, 324, 342, 432, 423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rcRect l="14390" t="22643" r="29160" b="52756"/>
          <a:stretch/>
        </p:blipFill>
        <p:spPr>
          <a:xfrm>
            <a:off x="250920" y="1268280"/>
            <a:ext cx="8642160" cy="216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063520" y="260280"/>
            <a:ext cx="611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Учебник стр.78  №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90360" y="10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Вычисли, пользуясь алгоритм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10120" y="1249200"/>
            <a:ext cx="586728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(35-7·5)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7·(54:6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(27-6):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0:(7·6)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(64+9·4)·(42-3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одержимое 3"/>
          <p:cNvSpPr/>
          <p:nvPr/>
        </p:nvSpPr>
        <p:spPr>
          <a:xfrm>
            <a:off x="0" y="1249200"/>
            <a:ext cx="50086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Первым действием      выполняю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Далее –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Затем – 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7514280" y="121140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7019640" y="18874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6920640" y="253368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601320" y="320976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153040" y="487980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8783640" y="391788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6:17:05Z</dcterms:created>
  <dc:creator>ViTark</dc:creator>
  <dc:description/>
  <dc:language>en-US</dc:language>
  <cp:lastModifiedBy>Наталия Прокофьева</cp:lastModifiedBy>
  <dcterms:modified xsi:type="dcterms:W3CDTF">2020-11-15T11:39:13Z</dcterms:modified>
  <cp:revision>43</cp:revision>
  <dc:subject/>
  <dc:title>Презентация PowerPoint</dc:title>
</cp:coreProperties>
</file>