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B7CD-B900-4C2E-AC21-ECAC71F6E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18C1-2C09-4782-90CA-0607D1580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CAF0-966E-4862-B3CA-BB96571D2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3B96-F233-44F2-BBD0-484F4527D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98E64-1BA6-4376-8142-C562F8495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2654A-A974-4C6B-8CE7-F35808F2D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F2315-0817-4120-B38C-35CD8FE6A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64E44-B25B-4B18-A51B-3D1CAE53E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5AD2B-D589-423A-851B-8935D5B82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07F64-8B9C-43B3-A43E-9FF1B967F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7C3EA-0FE0-4E46-A718-6D885C1D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A6B3-9E57-410E-B664-23BE4A8D1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DE7A7-8CC8-46E5-84A8-6206C3A6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08F06-F039-4345-AC00-03BD4D04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ED9E1-016F-4D6D-8BDA-CD63D92F2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84C67-A551-4431-96B2-D12B1B9A5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E4DB9-317C-4DD6-B53A-CD1B337D3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EF94C-1C56-4866-AD12-BF67BA699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A255A-4C28-4E17-B230-E6F4A1055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6F2FC-832D-4529-89B6-42F221A7D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320AF-74E3-4BB8-BE82-54F48D4E9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18EB9-7C7A-4718-93D8-108462323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C103-716A-48E7-BEF0-2893A8467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63C0A-6A00-4063-A42D-726C78D88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F3E97-5719-4701-8467-7616112E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E8714-7CEA-42D7-A163-3B9D27D7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5B796-1CC3-4301-A96C-AB891859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94C62-AD7B-4369-8AF2-34BE26722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DACF2-AE63-4DF0-A4FC-FE6D1711D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E77A2-B15A-494F-B43D-E42B8D078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4E5B2-0416-4C29-B873-A67C06F45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E42BB-638E-43BC-8677-30D37EA9E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5B0AE-9DF6-46CC-BAE5-B396990E6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E9BB-67EE-463F-8C8D-573AE7FD9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ED066-6437-4EA2-BCEF-CA6674865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5EB4E-DEF7-4D17-AF7F-E8B871B62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1A1DE-EFC0-4B39-9213-5EAD73149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21BE9-1DBC-4CED-B33B-A6ACE163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5A23F-EA5B-4DA0-A23D-D6198051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E087B-4EAA-40BB-9DAF-3A6CD0AF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1E7FD-8ADB-4EFB-90FB-3A2A69FD1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FECAE-0FB3-4135-B1B3-A2FC021E3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B3042-3A18-44AA-B2C2-72DBF7635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171E-C427-49F6-8B06-C47ADB528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1CE3-2802-4D8A-BB9F-0AE962894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3A57-DA38-4E1C-98B9-C3C67332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3BFC-D736-4429-8883-5746A690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D0F5-1264-47D3-B322-55A05E5B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66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C45DC-6AC7-4C99-9A18-3A343BEC243C}" type="slidenum">
              <a:rPr b="0" lang="ru-RU" sz="1200" spc="-1" strike="noStrike">
                <a:solidFill>
                  <a:srgbClr val="5f66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5d1d7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c7c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c7c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c7c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BD008-5185-4CCE-BF8E-BE4E91F41AFE}" type="slidenum">
              <a:rPr b="0" lang="ru-RU" sz="1200" spc="-1" strike="noStrike">
                <a:solidFill>
                  <a:srgbClr val="bcc7c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5d1d7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c7c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c7c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c7c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81E90-2E1C-4268-A594-8A130324C3F8}" type="slidenum">
              <a:rPr b="0" lang="ru-RU" sz="1200" spc="-1" strike="noStrike">
                <a:solidFill>
                  <a:srgbClr val="bcc7c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66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6B396-08E7-481C-87DF-CF3CABF5EEC8}" type="slidenum">
              <a:rPr b="0" lang="ru-RU" sz="1200" spc="-1" strike="noStrike">
                <a:solidFill>
                  <a:srgbClr val="5f66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-457200" y="3219480"/>
            <a:ext cx="9796320" cy="2857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56760" y="357120"/>
            <a:ext cx="8458200" cy="22147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e947"/>
                </a:solidFill>
                <a:latin typeface="Constantia"/>
              </a:rPr>
              <a:t>Игра</a:t>
            </a:r>
            <a:endParaRPr b="0" lang="en-US" sz="6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e947"/>
                </a:solidFill>
                <a:latin typeface="Constantia"/>
              </a:rPr>
              <a:t> </a:t>
            </a:r>
            <a:r>
              <a:rPr b="1" i="1" lang="ru-RU" sz="6600" spc="-1" strike="noStrike">
                <a:solidFill>
                  <a:srgbClr val="ffe947"/>
                </a:solidFill>
                <a:latin typeface="Constantia"/>
              </a:rPr>
              <a:t>«Умники и умницы»</a:t>
            </a:r>
            <a:endParaRPr b="0" lang="en-US" sz="6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77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770" fill="hold"/>
                                        <p:tgtEl>
                                          <p:spTgt spid="1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" dur="77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" dur="77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8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5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Заголовок 3" descr=""/>
          <p:cNvPicPr/>
          <p:nvPr/>
        </p:nvPicPr>
        <p:blipFill>
          <a:blip r:embed="rId1"/>
          <a:stretch/>
        </p:blipFill>
        <p:spPr>
          <a:xfrm>
            <a:off x="450720" y="706320"/>
            <a:ext cx="8547120" cy="57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61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7030a0"/>
                </a:solidFill>
                <a:latin typeface="Calibri"/>
              </a:rPr>
              <a:t>1 – й агон</a:t>
            </a:r>
            <a:endParaRPr b="0" lang="en-US" sz="6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28760" y="142848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8cadae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ерно ли высказывание: «При помощи корня образуются новые слова?»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8cadae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ерно ли высказывание: «В однокоренных словах корень пишется одинаково?»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8cadae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«Окончание – неизменяемая часть слова.»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8cadae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ерно ли высказывание: «При помощи приставки и суффикса образуются новые слова?»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8cadae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ерно ли высказывание: «Корень – самая главная часть слова?»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8cadae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«Приставка – это часть слова, которая стоит после корня.»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8cadae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8cadae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from="(#ppt_x)" to="(#ppt_x+1)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8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3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0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7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4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1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8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1276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d915f"/>
                </a:solidFill>
                <a:latin typeface="Calibri"/>
              </a:rPr>
              <a:t>2 – й агон</a:t>
            </a:r>
            <a:endParaRPr b="0" lang="en-US" sz="6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214200" y="1428840"/>
            <a:ext cx="87156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onstantia"/>
              </a:rPr>
              <a:t>Красная дорожк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Назвать три месяца, которые не дружат с мягким (Ь) знако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000"/>
                </a:solidFill>
                <a:latin typeface="Constantia"/>
              </a:rPr>
              <a:t>Жёлтая дорожк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Найдите слова, в которых мягкий знак обозначает мягкость согласного звук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dc2868"/>
                </a:solidFill>
                <a:latin typeface="Constantia"/>
              </a:rPr>
              <a:t>Письмо, пальто, осенью, осень, братья, сын, мальчик, окунь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Constantia"/>
              </a:rPr>
              <a:t>Зелёная дорожк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dc2868"/>
                </a:solidFill>
                <a:latin typeface="Constantia"/>
              </a:rPr>
              <a:t>Братья, перя, вьюга, плате, ручи, соловьи, варене, друз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8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8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8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8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8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3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8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3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8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3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8" dur="5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3" dur="5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cc00"/>
                </a:solidFill>
                <a:latin typeface="Calibri"/>
              </a:rPr>
              <a:t>3 – й агон</a:t>
            </a:r>
            <a:endParaRPr b="0" lang="en-US" sz="6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14200" y="1428480"/>
            <a:ext cx="871560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onstantia"/>
              </a:rPr>
              <a:t>Красная дорожк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Разобрать слова по состав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dc2868"/>
                </a:solidFill>
                <a:latin typeface="Constantia"/>
              </a:rPr>
              <a:t>Дорожка, запах, грибк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c000"/>
                </a:solidFill>
                <a:latin typeface="Constantia"/>
              </a:rPr>
              <a:t>Жёлтая дорожк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Выделить окончания в словах</a:t>
            </a:r>
            <a:r>
              <a:rPr b="1" i="1" lang="ru-RU" sz="2600" spc="-1" strike="noStrike">
                <a:solidFill>
                  <a:srgbClr val="00206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dc2868"/>
                </a:solidFill>
                <a:latin typeface="Constantia"/>
              </a:rPr>
              <a:t>На ветру дрожат молоденькие осинк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6600"/>
                </a:solidFill>
                <a:latin typeface="Constantia"/>
              </a:rPr>
              <a:t>Зелёная дорожк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00"/>
                </a:solidFill>
                <a:latin typeface="Constantia"/>
              </a:rPr>
              <a:t>Закончить ряд родственных слов словом, отвечающим на вопрос «что делать?». Выделить корень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dc2868"/>
                </a:solidFill>
                <a:latin typeface="Constantia"/>
              </a:rPr>
              <a:t>Чёрный, чёрненький, чернот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dc2868"/>
                </a:solidFill>
                <a:latin typeface="Constantia"/>
              </a:rPr>
              <a:t>Умный, умненький, у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4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8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4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0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6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2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8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4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0" dur="5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6" dur="500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2" dur="500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6600ff"/>
                </a:solidFill>
                <a:latin typeface="Calibri"/>
              </a:rPr>
              <a:t>4 – й агон.</a:t>
            </a:r>
            <a:endParaRPr b="0" lang="en-US" sz="6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85480" y="1642680"/>
            <a:ext cx="86439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Constantia"/>
              </a:rPr>
              <a:t>Красная дорожк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Вставить буквы и подчеркнуть подлежащее и сказуемо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dc2868"/>
                </a:solidFill>
                <a:latin typeface="Constantia"/>
              </a:rPr>
              <a:t>Ёж…к  с…дел на г…ре.  Тр…щит мороз. По сн…гу б.. жит мышк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000"/>
                </a:solidFill>
                <a:latin typeface="Constantia"/>
              </a:rPr>
              <a:t>Жёлтая дорожк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Вставить пропущенные буквы и подобрать проверочное слов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dc2868"/>
                </a:solidFill>
                <a:latin typeface="Constantia"/>
              </a:rPr>
              <a:t>Ст…лы, шк..фы, ш…ры, м…сты, скр…пучий, м…сной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Constantia"/>
              </a:rPr>
              <a:t>Зелёная дорожк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Вставить букву и назвать соответствующую орфограмму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dc2868"/>
                </a:solidFill>
                <a:latin typeface="Constantia"/>
              </a:rPr>
              <a:t>Г…рой, к…пуста, к..р…ндаш, п..льто, м..дведь, уч..ник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77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9" dur="77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1" dur="77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3" dur="77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77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8" dur="77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0" dur="77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2" dur="77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77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7" dur="77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9" dur="77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1" dur="77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77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8" dur="77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0" dur="77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2" dur="77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77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7" dur="77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9" dur="77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1" dur="77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77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6" dur="77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8" dur="77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0" dur="77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77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7" dur="77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9" dur="77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1" dur="77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770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6" dur="77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8" dur="77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0" dur="77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770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5" dur="770" fill="hold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7" dur="770" fill="hold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9" dur="770" fill="hold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0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07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12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17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22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27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2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7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42" dur="500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47" dur="500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66"/>
                </a:solidFill>
                <a:latin typeface="Calibri"/>
              </a:rPr>
              <a:t>5 –й агон</a:t>
            </a:r>
            <a:endParaRPr b="0" lang="en-US" sz="6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14200" y="1642680"/>
            <a:ext cx="8715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onstantia"/>
              </a:rPr>
              <a:t>Красная дорожк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Назвать глаголы настоящего времен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66"/>
                </a:solidFill>
                <a:latin typeface="Constantia"/>
              </a:rPr>
              <a:t>Стучит, нарисует, купил, засыпает, умылась, поиграли, срисовывает, говорит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000"/>
                </a:solidFill>
                <a:latin typeface="Constantia"/>
              </a:rPr>
              <a:t>Жёлтая дорожк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Назвать имена существительные во множественном числ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66"/>
                </a:solidFill>
                <a:latin typeface="Constantia"/>
              </a:rPr>
              <a:t>Слёзы, дом, братья, кукла, игрушки, магазины, холодные, улицы, собак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Constantia"/>
              </a:rPr>
              <a:t>Зелёная дорожк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Назвать имена прилагательны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66"/>
                </a:solidFill>
                <a:latin typeface="Constantia"/>
              </a:rPr>
              <a:t>Сосулька, пушистая, прямой, сушит, ковёр, внимательный, квадратное, зелёно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2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5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8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3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6" dur="5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9" dur="5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4" dur="5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7" dur="500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0" dur="500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59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97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02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07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12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17" dur="5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2" dur="5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7" dur="5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32" dur="500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37" dur="500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Заголовок 1" descr=""/>
          <p:cNvPicPr/>
          <p:nvPr/>
        </p:nvPicPr>
        <p:blipFill>
          <a:blip r:embed="rId1"/>
          <a:stretch/>
        </p:blipFill>
        <p:spPr>
          <a:xfrm>
            <a:off x="-6480" y="590400"/>
            <a:ext cx="9223560" cy="59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30T05:26:41Z</dcterms:created>
  <dc:creator>user</dc:creator>
  <dc:description/>
  <dc:language>en-US</dc:language>
  <cp:lastModifiedBy>user</cp:lastModifiedBy>
  <dcterms:modified xsi:type="dcterms:W3CDTF">2008-05-19T04:10:13Z</dcterms:modified>
  <cp:revision>14</cp:revision>
  <dc:subject/>
  <dc:title>Слайд 1</dc:title>
</cp:coreProperties>
</file>