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D74-D975-4870-BF24-8DA5D815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D45-805C-44F3-BEE7-FF68AAA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28F-43DA-4B40-9767-B15757A5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4CE-94F3-4BAD-8552-A8F9FF15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7A0-C7FC-4A23-9990-31B112F4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B11C-827B-457D-A47F-DF4660E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7E5F-3900-46A3-BAAC-696414D9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5408-2FFF-47FF-944E-625B7DB4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613-D840-4202-98FC-8C880A27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736-1B10-40A6-862A-37741A1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529-6C05-47C4-A7AB-9D322BA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3A7-AEAF-416B-9081-BE11DE85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95C-ADBA-4A28-B959-392C7C0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6244-0E73-4E04-B16D-44DFD99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D54-C647-4CD0-9383-A6BA864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77F0-BB8F-4361-9F1D-FD16DCF8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484E-FB43-432A-9226-8DC15C6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D5C6-3D50-45AE-B71E-C6355515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03A1-59E6-42F8-BE02-293EC1CE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0F74-2036-4243-9936-A3EE6040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D8F1-D17F-4278-9609-1171179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8925-4462-4404-94BB-7DCD5F3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AF0-6ACC-4ABD-9D6C-BB8FAF9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DE56-728A-491D-A7D6-914CD2C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5D88-D6CB-44A9-AC7B-309CADB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84E9-1FE0-4689-B593-3E821FA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AA84-AD3B-42E1-AEAC-73CCD37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E9C8-25B6-4346-A593-714DB15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2859-CAC2-4E26-9884-4896F1DD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2FDC-725D-4B49-B865-9ADA202A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2479-8D37-4FED-B172-CA102549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1EDF-7D00-413F-8E47-1529B26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479A-146A-4A90-B4A8-1AF8160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B7F-3359-4626-B58C-6B59E998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3B3C-DE18-4526-B73D-A365F121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76A2-07C7-46CD-AAD9-36751430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7A8E-16D6-4E8D-BC2F-7EEE4165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51C5-789C-425D-96FE-CA4D833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F910-A8B5-4273-9E72-506F6723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97EB-C07D-45FA-B7AE-7887532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F290A-86BE-4C4F-9E79-38FD2F5A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5E69-4B5D-4E35-A727-32218C67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540F-B9AA-485C-BA37-B71A70E6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E31-45AD-4B9B-B4CF-9C4E718B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5D6-1336-4353-9E79-EAABE5D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CEF-7730-4D1F-A6F3-C1FDD085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E29-47B4-4CFC-89BF-F99CC31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96A-59D3-43EF-A7F5-B1CACA7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C78-06DC-4F81-9B4D-AEE0828C5FA3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38DA-69A1-45E3-B08C-80F8A531C17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803-4F12-473F-A04C-ACA3E50C8F4C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C4F-CA66-44BF-B94E-3DB069E054BE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457200" y="3219480"/>
            <a:ext cx="9796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357120"/>
            <a:ext cx="84582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Игра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 </a:t>
            </a:r>
            <a:r>
              <a:rPr b="1" i="1" lang="ru-RU" sz="6600" spc="-1" strike="noStrike">
                <a:solidFill>
                  <a:srgbClr val="ffe947"/>
                </a:solidFill>
                <a:latin typeface="Constantia"/>
              </a:rPr>
              <a:t>«Умники и умницы»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54712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1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При помощи корня образуются новые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В однокоренных словах корень пишется одинаково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Окончание – неизменяемая часть слова.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При помощи приставки и суффикса образуются новые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рно ли высказывание: «Корень – самая главная часть слова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Приставка – это часть слова, которая стоит после корня.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d915f"/>
                </a:solidFill>
                <a:latin typeface="Calibri"/>
              </a:rPr>
              <a:t>2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рас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звать три месяца, которые не дружат с мягким (Ь) зна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Constantia"/>
              </a:rPr>
              <a:t>Жёлт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йдите слова, в которых мягкий знак обозначает мягкость согласного зву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Письмо, пальто, осенью, осень, братья, сын, мальчик, оку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nstantia"/>
              </a:rPr>
              <a:t>Зелё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Братья, перя, вьюга, плате, ручи, соловьи, варене, друз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Calibri"/>
              </a:rPr>
              <a:t>3 – 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142848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Красная дорож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Разобрать слова по состав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Дорожка, запах, гриб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делить окончания в словах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На ветру дрожат молоденькие осин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onstantia"/>
              </a:rPr>
              <a:t>Закончить ряд родственных слов словом, отвечающим на вопрос «что делать?». Выделить коре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Чёрный, чёрненький, черно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dc2868"/>
                </a:solidFill>
                <a:latin typeface="Constantia"/>
              </a:rPr>
              <a:t>Умный, умненький, у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ff"/>
                </a:solidFill>
                <a:latin typeface="Calibri"/>
              </a:rPr>
              <a:t>4 – й агон.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5480" y="164268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Красная дорож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буквы и подчеркнуть подлежащее и сказуем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Ёж…к  с…дел на г…ре.  Тр…щит мороз. По сн…гу б.. жит мыш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пропущенные буквы и подобрать проверочное сло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Ст…лы, шк..фы, ш…ры, м…сты, скр…пучий, м…сн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ставить букву и назвать соответствующую орфограм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c2868"/>
                </a:solidFill>
                <a:latin typeface="Constantia"/>
              </a:rPr>
              <a:t>Г…рой, к…пуста, к..р…ндаш, п..льто, м..дведь, уч..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2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Calibri"/>
              </a:rPr>
              <a:t>5 –й агон</a:t>
            </a:r>
            <a:endParaRPr b="0" lang="en-US" sz="6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Крас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глаголы настоящего време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тучит, нарисует, купил, засыпает, умылась, поиграли, срисовывает, говори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nstantia"/>
              </a:rPr>
              <a:t>Жёлт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имена существительные во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лёзы, дом, братья, кукла, игрушки, магазины, холодные, улицы, соба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nstantia"/>
              </a:rPr>
              <a:t>Зелёная дорож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звать имена прилагательн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nstantia"/>
              </a:rPr>
              <a:t>Сосулька, пушистая, прямой, сушит, ковёр, внимательный, квадратное, зелён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-6480" y="590400"/>
            <a:ext cx="9223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26:41Z</dcterms:created>
  <dc:creator>user</dc:creator>
  <dc:description/>
  <dc:language>en-US</dc:language>
  <cp:lastModifiedBy>user</cp:lastModifiedBy>
  <dcterms:modified xsi:type="dcterms:W3CDTF">2008-05-19T04:10:13Z</dcterms:modified>
  <cp:revision>14</cp:revision>
  <dc:subject/>
  <dc:title>Слайд 1</dc:title>
</cp:coreProperties>
</file>