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CCE1-BA47-4562-BAD8-8707B61A1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D844-33A3-4F12-A1E2-B9846A06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363D-B62D-4580-B5FA-9589FB6D2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36AF-13C4-4E9B-84DC-9D931FEC5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C695-284D-46C5-9AA8-408A0604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A569-EBAF-44F3-BD57-F560240C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99F4-0EFB-4565-A819-D3710A6F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92AC-705D-4EE8-BD11-4900FAD5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7793-0E7F-4926-9F39-885776BF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5B00-773C-43F1-8C84-6A09889B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57CC-654E-465C-AD4A-49488A5F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E275-AA81-491E-A2F9-C5D8FD79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8BA1-AAA8-4EB8-8A63-76B8FCB40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3745080"/>
          </a:xfrm>
          <a:prstGeom prst="rect">
            <a:avLst/>
          </a:prstGeom>
          <a:gradFill rotWithShape="0">
            <a:gsLst>
              <a:gs pos="0">
                <a:srgbClr val="cc3399"/>
              </a:gs>
              <a:gs pos="50000">
                <a:srgbClr val="ffffff"/>
              </a:gs>
              <a:gs pos="100000">
                <a:srgbClr val="cc3399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660066"/>
                </a:solidFill>
                <a:latin typeface="Estrangelo Edessa"/>
              </a:rPr>
              <a:t>Знатоки русского язык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4365360"/>
            <a:ext cx="8424720" cy="187164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50000">
                <a:srgbClr val="ffffff"/>
              </a:gs>
              <a:gs pos="100000">
                <a:srgbClr val="ff505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Русский язык – один из самых развитых и богатых языков ми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76320">
            <a:solidFill>
              <a:srgbClr val="000066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99"/>
                </a:solidFill>
                <a:latin typeface="Century"/>
              </a:rPr>
              <a:t>Его корень в слове «писать», приставка в слове «рассказать», суффикс в слове «книжка», окончание в слове «вода». Назовите сл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писака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зап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рассказ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расп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99"/>
                </a:solidFill>
                <a:latin typeface="Century"/>
              </a:rPr>
              <a:t>Продолжите пословицу «Семеро одного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не гонят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не жд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не зовут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не ищ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99"/>
                </a:solidFill>
                <a:latin typeface="Century"/>
              </a:rPr>
              <a:t>Какое слово является проверочным для слова «прим…рени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мирный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ми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примерный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ме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3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7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4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0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4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7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00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5" dur="2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2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2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9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1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ox(out)" transition="out">
                                      <p:cBhvr additive="repl">
                                        <p:cTn id="935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76320">
            <a:solidFill>
              <a:srgbClr val="000066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99"/>
                </a:solidFill>
                <a:latin typeface="Century"/>
              </a:rPr>
              <a:t>«Звонят во все колокола» - сколько звуков (О) содержится в этой фраз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5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2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99"/>
                </a:solidFill>
                <a:latin typeface="Century"/>
              </a:rPr>
              <a:t>Найдите звуковую «одежду» для слова «яблок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 (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яблоко)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(йаблок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(йаблака)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(йаблак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3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6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9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1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arn(inHorizontal)" transition="out">
                                      <p:cBhvr additive="repl">
                                        <p:cTn id="987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arn(inHorizontal)" transition="out">
                                      <p:cBhvr additive="repl">
                                        <p:cTn id="990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arn(inHorizontal)" transition="out">
                                      <p:cBhvr additive="repl">
                                        <p:cTn id="993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2492280"/>
          </a:xfrm>
          <a:prstGeom prst="rect">
            <a:avLst/>
          </a:prstGeom>
          <a:gradFill rotWithShape="0">
            <a:gsLst>
              <a:gs pos="0">
                <a:srgbClr val="cc00ff"/>
              </a:gs>
              <a:gs pos="50000">
                <a:srgbClr val="ffffff"/>
              </a:gs>
              <a:gs pos="100000">
                <a:srgbClr val="cc00ff"/>
              </a:gs>
            </a:gsLst>
            <a:lin ang="8100000"/>
          </a:gra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660066"/>
                </a:solidFill>
                <a:latin typeface="Arial Black"/>
              </a:rPr>
              <a:t>III </a:t>
            </a:r>
            <a:r>
              <a:rPr b="1" i="1" lang="ru-RU" sz="7200" spc="-1" strike="noStrike">
                <a:solidFill>
                  <a:srgbClr val="660066"/>
                </a:solidFill>
                <a:latin typeface="Arial Black"/>
              </a:rPr>
              <a:t>отборочный ту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2708280"/>
            <a:ext cx="8713800" cy="388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7a6ad"/>
              </a:gs>
            </a:gsLst>
            <a:lin ang="8100000"/>
          </a:gradFill>
          <a:ln cap="rnd" w="57240">
            <a:solidFill>
              <a:srgbClr val="000066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Расположите дни недели в порядке 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воскрес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втор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пят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ср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5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5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61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66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71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76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lin ang="8100000"/>
          </a:gradFill>
          <a:ln w="57240">
            <a:solidFill>
              <a:srgbClr val="0066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4600"/>
                </a:solidFill>
                <a:latin typeface="Arial Black"/>
              </a:rPr>
              <a:t>Игра трет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543640"/>
          </a:xfrm>
          <a:prstGeom prst="rect">
            <a:avLst/>
          </a:prstGeom>
          <a:noFill/>
          <a:ln w="76320">
            <a:solidFill>
              <a:srgbClr val="000066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99"/>
                </a:solidFill>
                <a:latin typeface="Century"/>
              </a:rPr>
              <a:t>Назовите однокоренное существительное к прилагательному «богаты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крутой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мафио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богач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бизнес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99"/>
                </a:solidFill>
                <a:latin typeface="Century"/>
              </a:rPr>
              <a:t>Назовите словарное слово, обозначающее дорогу с рядами деревьев по сторон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тропинка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лаз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аллея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про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99"/>
                </a:solidFill>
                <a:latin typeface="Century"/>
              </a:rPr>
              <a:t>Назовите окончания в прилагательном «летн…» (каникул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- ые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нулев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- им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- 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7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0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4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7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0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6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9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2" dur="2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6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9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2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6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7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9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64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67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70" dur="5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5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92720"/>
          </a:xfrm>
          <a:prstGeom prst="rect">
            <a:avLst/>
          </a:prstGeom>
          <a:noFill/>
          <a:ln w="76320">
            <a:solidFill>
              <a:srgbClr val="000066"/>
            </a:solidFill>
            <a:prstDash val="dash"/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99"/>
                </a:solidFill>
                <a:latin typeface="Century"/>
              </a:rPr>
              <a:t>К шести прибавить семь получит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тридцать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тринадц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тренадцать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тринац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99"/>
                </a:solidFill>
                <a:latin typeface="Century"/>
              </a:rPr>
              <a:t>Определите падеж имени прилагательного в словосочетании «о хорошем друг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винительный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роди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предложный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да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99"/>
                </a:solidFill>
                <a:latin typeface="Century"/>
              </a:rPr>
              <a:t>Часть речи, которая обозначает признак предмета, называет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прилагательное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гла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существительное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местоим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99"/>
                </a:solidFill>
                <a:latin typeface="Century"/>
              </a:rPr>
              <a:t>Продолжите пословицу «Цену вещи узнаешь, когда её…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купишь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потеряе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увидишь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заведё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8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1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5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1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7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8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6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9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6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8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1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3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6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8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3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6" dur="2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5" dur="20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8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1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5" dur="5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9" dur="5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3" dur="5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76320">
            <a:solidFill>
              <a:srgbClr val="000066"/>
            </a:solidFill>
            <a:prstDash val="dash"/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99"/>
                </a:solidFill>
                <a:latin typeface="Century"/>
              </a:rPr>
              <a:t>Его корень в слове «вязать», приставка в слове «замолчать», суффикс в слове «сказка», окончание в слове «рыбка». Назовите новое сл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рассказ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рыба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завязка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сказ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99"/>
                </a:solidFill>
                <a:latin typeface="Century"/>
              </a:rPr>
              <a:t>Раскройте смысл выражения «Точить ляс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вытачивать из жел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лежать без д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говорить прав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говорить попу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99"/>
                </a:solidFill>
                <a:latin typeface="Century"/>
              </a:rPr>
              <a:t>Назовите «лишнее» сл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каша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звез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роза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коза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5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9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6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9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2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5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8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2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6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7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60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64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68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20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8" dur="20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2000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85" dur="5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88" dur="5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91" dur="500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256000"/>
          </a:xfrm>
          <a:prstGeom prst="rect">
            <a:avLst/>
          </a:prstGeom>
          <a:noFill/>
          <a:ln w="76320">
            <a:solidFill>
              <a:srgbClr val="000066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99"/>
                </a:solidFill>
                <a:latin typeface="Century"/>
              </a:rPr>
              <a:t>В Москве живёт москвич, а в Киеве?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киевлич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киевля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киевчанин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ки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99"/>
                </a:solidFill>
                <a:latin typeface="Century"/>
              </a:rPr>
              <a:t>Как правильно сказ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нет зубов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нет зуб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нет зуб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нет зуб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99"/>
                </a:solidFill>
                <a:latin typeface="Century"/>
              </a:rPr>
              <a:t>Найдите звуковую «одежду» слова «ягод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(йагада)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(йаг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 (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ягода)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(яга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8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4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18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9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2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5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3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9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2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5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49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52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55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10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10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480" dur="2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2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483" dur="2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5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486" dur="20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3840" cy="237672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57240">
            <a:solidFill>
              <a:srgbClr val="00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66"/>
                </a:solidFill>
                <a:latin typeface="Arial Black"/>
              </a:rPr>
              <a:t>I </a:t>
            </a:r>
            <a:r>
              <a:rPr b="1" i="1" lang="ru-RU" sz="8000" spc="-1" strike="noStrike">
                <a:solidFill>
                  <a:srgbClr val="000066"/>
                </a:solidFill>
                <a:latin typeface="Arial Black"/>
              </a:rPr>
              <a:t>отборочный ту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23640" y="3141360"/>
            <a:ext cx="8569080" cy="338292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50000">
                <a:srgbClr val="ffffff"/>
              </a:gs>
              <a:gs pos="100000">
                <a:srgbClr val="66ff33"/>
              </a:gs>
            </a:gsLst>
            <a:lin ang="13500000"/>
          </a:gradFill>
          <a:ln w="57240">
            <a:solidFill>
              <a:srgbClr val="0033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Arial"/>
              </a:rPr>
              <a:t>Расположите падежи в правильном поряд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Предложный паде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Дательный паде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Родительный паде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Винительный паде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5760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ffffff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80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Arial Black"/>
              </a:rPr>
              <a:t>Игра пер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642160" cy="5616720"/>
          </a:xfrm>
          <a:prstGeom prst="rect">
            <a:avLst/>
          </a:prstGeom>
          <a:noFill/>
          <a:ln w="76320">
            <a:solidFill>
              <a:srgbClr val="000066"/>
            </a:solidFill>
            <a:prstDash val="dash"/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" spc="-1" strike="noStrike">
                <a:solidFill>
                  <a:srgbClr val="003399"/>
                </a:solidFill>
                <a:latin typeface="Arial Black"/>
              </a:rPr>
              <a:t>           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" spc="-1" strike="noStrike">
                <a:solidFill>
                  <a:srgbClr val="003399"/>
                </a:solidFill>
                <a:latin typeface="Arial Black"/>
              </a:rPr>
              <a:t>	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Закончите выражение: «Поди туда – не знаю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куда                  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зач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почему             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с чем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  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К 10 прибавить 6 получит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шеснадцать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шестнац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шеснацать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шестнадц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Назовите словарное слово, которое произносится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           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при   прощании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до свидания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п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чао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бай - бай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3399"/>
                </a:solidFill>
                <a:latin typeface="Arial Black"/>
              </a:rPr>
              <a:t>	</a:t>
            </a:r>
            <a:r>
              <a:rPr b="1" i="1" lang="ru-RU" sz="800" spc="-1" strike="noStrike">
                <a:solidFill>
                  <a:srgbClr val="003399"/>
                </a:solidFill>
                <a:latin typeface="Arial Black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0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3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6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5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5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500"/>
                                        <p:tgtEl>
                                          <p:spTgt spid="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2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2000"/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/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/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/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2000"/>
                                        <p:tgtEl>
                                          <p:spTgt spid="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/>
                                        <p:tgtEl>
                                          <p:spTgt spid="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/>
                                        <p:tgtEl>
                                          <p:spTgt spid="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/>
                                        <p:tgtEl>
                                          <p:spTgt spid="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4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76320">
            <a:solidFill>
              <a:srgbClr val="000066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Назовите окончание прилагательного в словосочетании «о хорош…сестр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- ой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- 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-ей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- 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Назовите лишнее сл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камыш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В: ле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вещь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пла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Часть речи, которая обозначает предмет, называет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местоимение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прилаг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глагол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существ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Назовите слово, имеющее звук (й) в предложении «У каждого судьба сво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такого слова нет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судь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все слова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сво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2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97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00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03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28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34" dur="2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40" dur="2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9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2" dur="50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5" dur="5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59" dur="2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62" dur="200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65" dur="20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40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600" cy="6335640"/>
          </a:xfrm>
          <a:prstGeom prst="rect">
            <a:avLst/>
          </a:prstGeom>
          <a:noFill/>
          <a:ln w="76320">
            <a:solidFill>
              <a:srgbClr val="000066"/>
            </a:solidFill>
            <a:prstDash val="dash"/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333399"/>
                </a:solidFill>
                <a:latin typeface="Century"/>
              </a:rPr>
              <a:t>Укажите слово с правильным ударением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.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f734f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документы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f734f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документы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f734f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документы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f734f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доку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Определите падеж существительного «берег» в предложении «Берег увидел командир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винительный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роди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именительный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предлож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Продолжите пословицу «Дружба, как стекло: расколешь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не найдёшь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не соберё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не возьмёшь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не увиди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Раскройте смысл выражения «Перемывать косточк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сплетничать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играть на день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мыться в бане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мыть 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132000" y="69228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6588000" y="765000"/>
            <a:ext cx="144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92000" y="1125360"/>
            <a:ext cx="142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7092720" y="105264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5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8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0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3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5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70" dur="5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74" dur="5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78" dur="5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113440"/>
          </a:xfrm>
          <a:prstGeom prst="rect">
            <a:avLst/>
          </a:prstGeom>
          <a:noFill/>
          <a:ln w="76320">
            <a:solidFill>
              <a:srgbClr val="000066"/>
            </a:solidFill>
            <a:prstDash val="dash"/>
            <a:miter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Назовите слово в котором есть мягкий зв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окно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ве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трава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ш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Назовите проверочное слово для слова «ув…д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(без вод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видеть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вёл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вя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0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9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2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5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8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5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8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1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20500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ffffff"/>
              </a:gs>
            </a:gsLst>
            <a:lin ang="8100000"/>
          </a:gradFill>
          <a:ln w="57240">
            <a:solidFill>
              <a:srgbClr val="006666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f734f"/>
                </a:solidFill>
                <a:latin typeface="Arial Black"/>
              </a:rPr>
              <a:t>II</a:t>
            </a:r>
            <a:r>
              <a:rPr b="1" i="1" lang="ru-RU" sz="7200" spc="-1" strike="noStrike">
                <a:solidFill>
                  <a:srgbClr val="0f734f"/>
                </a:solidFill>
                <a:latin typeface="Arial Black"/>
              </a:rPr>
              <a:t> отборочный ту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95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0c7d2"/>
              </a:gs>
            </a:gsLst>
            <a:lin ang="8100000"/>
          </a:gradFill>
          <a:ln w="57240">
            <a:solidFill>
              <a:srgbClr val="003130"/>
            </a:solidFill>
            <a:prstDash val="dashDot"/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Расположите слова в порядке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увеличения количества слого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i="1" lang="en-US" sz="3200" spc="-1" strike="noStrike">
                <a:solidFill>
                  <a:srgbClr val="008080"/>
                </a:solidFill>
                <a:latin typeface="Arial"/>
              </a:rPr>
              <a:t>горизонт</a:t>
            </a:r>
            <a:r>
              <a:rPr b="1" i="1" lang="en-US" sz="32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808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80"/>
                </a:solidFill>
                <a:latin typeface="Arial"/>
              </a:rPr>
              <a:t>                         </a:t>
            </a:r>
            <a:r>
              <a:rPr b="1" i="1" lang="en-US" sz="3200" spc="-1" strike="noStrike">
                <a:solidFill>
                  <a:srgbClr val="008080"/>
                </a:solidFill>
                <a:latin typeface="Arial"/>
              </a:rPr>
              <a:t>зем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8080"/>
                </a:solidFill>
                <a:latin typeface="Arial"/>
              </a:rPr>
              <a:t>       </a:t>
            </a:r>
            <a:r>
              <a:rPr b="1" i="1" lang="en-US" sz="3200" spc="-1" strike="noStrike">
                <a:solidFill>
                  <a:srgbClr val="008080"/>
                </a:solidFill>
                <a:latin typeface="Arial"/>
              </a:rPr>
              <a:t>огром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80"/>
                </a:solidFill>
                <a:latin typeface="Arial"/>
              </a:rPr>
              <a:t>                         </a:t>
            </a:r>
            <a:r>
              <a:rPr b="1" i="1" lang="en-US" sz="3200" spc="-1" strike="noStrike">
                <a:solidFill>
                  <a:srgbClr val="008080"/>
                </a:solidFill>
                <a:latin typeface="Arial"/>
              </a:rPr>
              <a:t>сб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0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0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1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17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22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27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fffff"/>
              </a:gs>
              <a:gs pos="100000">
                <a:srgbClr val="6699ff"/>
              </a:gs>
            </a:gsLst>
            <a:lin ang="8100000"/>
          </a:gradFill>
          <a:ln w="38160">
            <a:solidFill>
              <a:srgbClr val="000099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Arial Black"/>
              </a:rPr>
              <a:t>Игра втор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76320">
            <a:solidFill>
              <a:srgbClr val="000066"/>
            </a:solidFill>
            <a:prstDash val="dash"/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99"/>
                </a:solidFill>
                <a:latin typeface="Century"/>
              </a:rPr>
              <a:t>Назовите имя существитель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зелёненький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зелен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зелень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зел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99"/>
                </a:solidFill>
                <a:latin typeface="Century"/>
              </a:rPr>
              <a:t>Сколько букв в русском алфави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33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10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99"/>
                </a:solidFill>
                <a:latin typeface="Century"/>
              </a:rPr>
              <a:t>Подлежащее подчёркивает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двумя чертами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тремя чер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одной чертой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не подчёрки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99"/>
                </a:solidFill>
                <a:latin typeface="Century"/>
              </a:rPr>
              <a:t>Раскройте смысл выражения «во весь ду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неуклюже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быст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медленно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вприпрыж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5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8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1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5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5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7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0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77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80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83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9" dur="2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2" dur="20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5" dur="2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99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2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5" dur="5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1" dur="5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4" dur="50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7" dur="5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0" dur="500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4" dur="5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8" dur="50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2" dur="5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6" dur="500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2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-360"/>
            <a:ext cx="8229600" cy="6669000"/>
          </a:xfrm>
          <a:prstGeom prst="rect">
            <a:avLst/>
          </a:prstGeom>
          <a:noFill/>
          <a:ln w="76320">
            <a:solidFill>
              <a:srgbClr val="000066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99"/>
                </a:solidFill>
                <a:latin typeface="Century"/>
              </a:rPr>
              <a:t>Назовите словарное слово, обозначающее человека, совершающего поездку в транспорте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безбилетник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пассаж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кондуктор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«заяц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99"/>
                </a:solidFill>
                <a:latin typeface="Century"/>
              </a:rPr>
              <a:t>Начальная форма имени прилагательног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И.п. ед.ч. м.р.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И.п. ед.ч. ж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Р.п. ед.ч. ж.р.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И.п. ед.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99"/>
                </a:solidFill>
                <a:latin typeface="Century"/>
              </a:rPr>
              <a:t>Назовите однокоренное существительное к прилагательному «ленивы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бездельник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В: Л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лентяй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Г: лоды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99"/>
                </a:solidFill>
                <a:latin typeface="Century"/>
              </a:rPr>
              <a:t>Поставьте существительное «килограмм» в форму Р.п. мн.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килограммов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кил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килограмм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килограмм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7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7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2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5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8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7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4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0" dur="2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2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6" dur="2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2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2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5" dur="5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8" dur="500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1" dur="500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45" dur="5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48" dur="500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51" dur="500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9:50:14Z</dcterms:created>
  <dc:creator>Библиотека</dc:creator>
  <dc:description/>
  <dc:language>en-US</dc:language>
  <cp:lastModifiedBy>Библиотека</cp:lastModifiedBy>
  <dcterms:modified xsi:type="dcterms:W3CDTF">2007-03-01T06:56:11Z</dcterms:modified>
  <cp:revision>20</cp:revision>
  <dc:subject/>
  <dc:title>Слайд 1</dc:title>
</cp:coreProperties>
</file>