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07F-C921-41C9-BA19-9986BC9C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27A-D7F8-407D-A4C4-1A70E7C4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5DA-AB26-4309-8D34-E9AD888D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F47-FB4A-45AF-9AA1-B156D844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4C5-0795-48C7-8117-57FB9D05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A4D-00E1-49D0-9804-9C433B49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ECA-FF84-428A-9F16-9305E6E3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82B-EEC4-4D44-9AD7-B1FB66A4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E5D-6DEB-4934-8070-98033DE9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9CE-9302-4691-8DDA-114E307B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9B2-0A1B-41FF-B9B2-F6E81EF3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432-EEB2-49D1-94ED-FD55CAC3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6E49-4B7E-4783-A2E2-C2D712C3C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745080"/>
          </a:xfrm>
          <a:prstGeom prst="rect">
            <a:avLst/>
          </a:prstGeom>
          <a:gradFill rotWithShape="0">
            <a:gsLst>
              <a:gs pos="0">
                <a:srgbClr val="cc3399"/>
              </a:gs>
              <a:gs pos="50000">
                <a:srgbClr val="ffffff"/>
              </a:gs>
              <a:gs pos="100000">
                <a:srgbClr val="cc33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0066"/>
                </a:solidFill>
                <a:latin typeface="Estrangelo Edessa"/>
              </a:rPr>
              <a:t>Знатоки русского язы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365360"/>
            <a:ext cx="8424720" cy="1871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Русский язык – один из самых развитых и богатых языков ми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Его корень в слове «писать», приставка в слове «рассказать», суффикс в слове «книжка», окончание в слове «вода». Назовит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исака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за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рассказ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рас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Продолжите пословицу «Семеро одног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гонят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жд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зовут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ищ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Какое слово является проверочным для слова «прим…р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ир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и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имер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3" dur="5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«Звонят во все колокола» - сколько звуков (О) содержится в этой фраз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5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2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Найдите звуковую «одежду» для слова «яблок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 (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яблоко)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йабло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йаблака)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йабла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2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5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8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98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9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99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249228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50000">
                <a:srgbClr val="ffffff"/>
              </a:gs>
              <a:gs pos="100000">
                <a:srgbClr val="cc00ff"/>
              </a:gs>
            </a:gsLst>
            <a:lin ang="81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0066"/>
                </a:solidFill>
                <a:latin typeface="Arial Black"/>
              </a:rPr>
              <a:t>III </a:t>
            </a:r>
            <a:r>
              <a:rPr b="1" i="1" lang="ru-RU" sz="7200" spc="-1" strike="noStrike">
                <a:solidFill>
                  <a:srgbClr val="660066"/>
                </a:solidFill>
                <a:latin typeface="Arial Black"/>
              </a:rPr>
              <a:t>отборочный ту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8713800" cy="388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7a6ad"/>
              </a:gs>
            </a:gsLst>
            <a:lin ang="8100000"/>
          </a:gradFill>
          <a:ln cap="rnd" w="57240">
            <a:solidFill>
              <a:srgbClr val="000066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асположите дни недели в порядке 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оскре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тор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я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8100000"/>
          </a:gradFill>
          <a:ln w="57240">
            <a:solidFill>
              <a:srgbClr val="0066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4600"/>
                </a:solidFill>
                <a:latin typeface="Arial Black"/>
              </a:rPr>
              <a:t>Игра тре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Назовите однокоренное существительное к прилагательному «богат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руто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афио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богач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бизнес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Назовите словарное слово, обозначающее дорогу с рядами деревьев по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опинка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лаз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аллея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Назовите окончания в прилагательном «летн…» (каникул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ые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уле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им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9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5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8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6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2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6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66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69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К шести прибавить семь получи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идцат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инадц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енадцат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инац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Определите падеж имени прилагательного в словосочетании «о хорошем друг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инитель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род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едлож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д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Часть речи, которая обозначает признак предмета, назы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илагательное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уществительное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естои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Продолжите пословицу «Цену вещи узнаешь, когда её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упиш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отеря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увидиш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завед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0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6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2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7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2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5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8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4" dur="2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7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4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8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2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Его корень в слове «вязать», приставка в слове «замолчать», суффикс в слове «сказка», окончание в слове «рыбка». Назовите ново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рассказ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рыб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авязка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сказ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Раскройте смысл выражения «Точить ляс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вытачивать из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лежать без 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говорить прав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говорить попу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Назовите «лишнее»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аша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роза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оза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4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7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9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3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7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4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7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0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25600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В Москве живёт москвич, а в Киеве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иевлич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иевл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иевчанин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и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Как правильно 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т зубов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т зуб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т зуб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т зуб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Найдите звуковую «одежду» слова «яг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йагада)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йа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 (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ягода)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(яга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2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2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79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82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85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3767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5724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66"/>
                </a:solidFill>
                <a:latin typeface="Arial Black"/>
              </a:rPr>
              <a:t>I </a:t>
            </a:r>
            <a:r>
              <a:rPr b="1" i="1" lang="ru-RU" sz="8000" spc="-1" strike="noStrike">
                <a:solidFill>
                  <a:srgbClr val="000066"/>
                </a:solidFill>
                <a:latin typeface="Arial Black"/>
              </a:rPr>
              <a:t>отборочный ту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3640" y="3141360"/>
            <a:ext cx="8569080" cy="338292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13500000"/>
          </a:gradFill>
          <a:ln w="57240">
            <a:solidFill>
              <a:srgbClr val="00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Расположите падежи в правильном поряд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Предложный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Дательный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Родительный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Винительный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80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 Black"/>
              </a:rPr>
              <a:t>Игра пер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003399"/>
                </a:solidFill>
                <a:latin typeface="Arial Black"/>
              </a:rPr>
              <a:t>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Закончите выражение: «Поди туда – не знаю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уда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за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очему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 че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 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К 10 прибавить 6 получи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шеснадцать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шестнац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шеснацать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шестнадц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словарное слово, которое произносится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          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при   прощани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до свидания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п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чао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бай - бай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3399"/>
                </a:solidFill>
                <a:latin typeface="Arial Black"/>
              </a:rPr>
              <a:t>	</a:t>
            </a:r>
            <a:r>
              <a:rPr b="1" i="1" lang="ru-RU" sz="800" spc="-1" strike="noStrike">
                <a:solidFill>
                  <a:srgbClr val="003399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окончание прилагательного в словосочетании «о хорош…сестр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о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е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-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лишне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камыш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В: ле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ещ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ла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Часть речи, которая обозначает предмет, назы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естоимение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глагол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слово, имеющее звук (й) в предложении «У каждого судьба сво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акого слова нет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уд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се слова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в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59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62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65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333399"/>
                </a:solidFill>
                <a:latin typeface="Century"/>
              </a:rPr>
              <a:t>Укажите слово с правильным ударением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f734f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документы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f734f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документы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f734f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документы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f734f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Определите падеж существительного «берег» в предложении «Берег увидел команди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инитель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род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именительный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предл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Продолжите пословицу «Дружба, как стекло: расколеш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найдёш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собер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возьмёш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не увид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Раскройте смысл выражения «Перемывать косточ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сплетничат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играть на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ыться в бане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мыть 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32000" y="692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588000" y="76500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92000" y="11253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92720" y="1052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70" dur="5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74" dur="5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78" dur="5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1344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слово в котором есть мягки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окно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е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трава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ш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Назовите проверочное слово для слова «ув…д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3399"/>
                </a:solidFill>
                <a:latin typeface="Century"/>
              </a:rPr>
              <a:t>(без 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идеть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ёл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вя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5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8100000"/>
          </a:gradFill>
          <a:ln w="57240">
            <a:solidFill>
              <a:srgbClr val="006666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f734f"/>
                </a:solidFill>
                <a:latin typeface="Arial Black"/>
              </a:rPr>
              <a:t>II</a:t>
            </a:r>
            <a:r>
              <a:rPr b="1" i="1" lang="ru-RU" sz="7200" spc="-1" strike="noStrike">
                <a:solidFill>
                  <a:srgbClr val="0f734f"/>
                </a:solidFill>
                <a:latin typeface="Arial Black"/>
              </a:rPr>
              <a:t> отборочный ту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95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7d2"/>
              </a:gs>
            </a:gsLst>
            <a:lin ang="8100000"/>
          </a:gradFill>
          <a:ln w="57240">
            <a:solidFill>
              <a:srgbClr val="003130"/>
            </a:solidFill>
            <a:prstDash val="dashDot"/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Расположите слова в порядке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увеличения количества слог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горизонт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       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огро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с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8100000"/>
          </a:gradFill>
          <a:ln w="38160">
            <a:solidFill>
              <a:srgbClr val="000099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 Black"/>
              </a:rPr>
              <a:t>Игра вто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Назовите имя существитель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елёненький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елен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елень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зе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Сколько букв в русском алфав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33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10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Подлежащее подчёрки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двумя чертами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тремя чер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одной чертой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не подчёрк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Раскройте смысл выражения «во весь ду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неуклюже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медленно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вприпрыж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8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77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80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83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9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5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4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7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0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6669000"/>
          </a:xfrm>
          <a:prstGeom prst="rect">
            <a:avLst/>
          </a:prstGeom>
          <a:noFill/>
          <a:ln w="76320">
            <a:solidFill>
              <a:srgbClr val="000066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Назовите словарное слово, обозначающее человека, совершающего поездку в транспорте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безбилетник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пассаж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ондуктор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«зая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Начальная форма имени прилагательн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И.п. ед.ч. м.р.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И.п. ед.ч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Р.п. ед.ч. ж.р.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И.п. ед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Назовите однокоренное существительное к прилагательному «ленив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бездельник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В: 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лентяй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Г: лоды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Century"/>
              </a:rPr>
              <a:t>Поставьте существительное «килограмм» в форму Р.п. мн.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А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илограммов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В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ил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Б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илограмм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Century"/>
              </a:rPr>
              <a:t>Г: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 килограм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8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5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8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1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45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48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51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9:50:14Z</dcterms:created>
  <dc:creator>Библиотека</dc:creator>
  <dc:description/>
  <dc:language>en-US</dc:language>
  <cp:lastModifiedBy>Библиотека</cp:lastModifiedBy>
  <dcterms:modified xsi:type="dcterms:W3CDTF">2007-03-01T06:56:11Z</dcterms:modified>
  <cp:revision>20</cp:revision>
  <dc:subject/>
  <dc:title>Слайд 1</dc:title>
</cp:coreProperties>
</file>