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29E-44CB-40BC-9056-F5853B190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5CF1-719D-457C-8ED4-EDD1749C4E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FBB4-1423-45E7-8618-131059890C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67A2-1CA1-4273-B736-BB46113D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92D2-7F9F-446C-A2BE-7D2E017F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8C5C-7FF5-46D5-9D74-25FCB61E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8A70-98A4-4C46-A3D0-95C2240C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8627-685D-4496-8FC5-540F70B1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69EE-F534-4E39-BDB1-0414A232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FE8A-24A4-4B68-8CA9-D9CF65E2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4BF2-72AE-4CD7-A6A5-9547C753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E075-14E8-4BEB-99E5-ECC0DC5D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ACCE-3136-4BF9-9ABF-00883C1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0D40-6890-42FD-9969-701D11E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D391-F1DD-43D2-BE69-5F9F213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55FD-7CDF-4178-9BDF-2ABF6329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313D-3A45-451E-94A0-83E60D0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4C49-9E9B-403D-AD14-51B5E408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DA2D-988A-43BE-B463-E2B99B9E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3798-04C6-4799-B074-2B8CBAD1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2560-94BB-478B-B6FA-0D6B59C2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5F22-24E3-4F43-84A4-626F6B90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1E35-04AC-4B13-A87F-D0B2C129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9508-B1D2-4A18-8A54-D28282DB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27A9-B3E1-4FA9-BF8B-3050065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78C0-7DBA-48BA-864E-344F168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76E9-7656-4EA4-97A4-4F211EA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D1C7-2515-4AA9-B53C-8B36199F63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5126-B9A4-4793-BA53-DF23869C6B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Картинки по запросу севастополь фото города"/>
          <p:cNvPicPr/>
          <p:nvPr/>
        </p:nvPicPr>
        <p:blipFill>
          <a:blip r:embed="rId1"/>
          <a:stretch/>
        </p:blipFill>
        <p:spPr>
          <a:xfrm>
            <a:off x="5076720" y="2421000"/>
            <a:ext cx="3095640" cy="35528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Constantia"/>
              </a:rPr>
              <a:t>Образ героического  гор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Constantia"/>
              </a:rPr>
              <a:t>в «Севастопольских рассказах»                   Л.Н.  Толсто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Constantia"/>
              </a:rPr>
              <a:t>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407880" y="1566720"/>
            <a:ext cx="357372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Картинки по запросу"/>
          <p:cNvPicPr/>
          <p:nvPr/>
        </p:nvPicPr>
        <p:blipFill>
          <a:blip r:embed="rId1"/>
          <a:srcRect l="0" t="0" r="531" b="54173"/>
          <a:stretch/>
        </p:blipFill>
        <p:spPr>
          <a:xfrm>
            <a:off x="3780000" y="189000"/>
            <a:ext cx="5113080" cy="3671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Картинки по запросу"/>
          <p:cNvPicPr/>
          <p:nvPr/>
        </p:nvPicPr>
        <p:blipFill>
          <a:blip r:embed="rId2"/>
          <a:stretch/>
        </p:blipFill>
        <p:spPr>
          <a:xfrm>
            <a:off x="108000" y="2997360"/>
            <a:ext cx="4282920" cy="3719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5"/>
          <p:cNvSpPr/>
          <p:nvPr/>
        </p:nvSpPr>
        <p:spPr>
          <a:xfrm>
            <a:off x="5364000" y="1163520"/>
            <a:ext cx="37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евастополь в числе первых городов СССР 22 июня 1941 г. в 3 часа 15 минут подвергся налету фашистской ави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490920" y="4869000"/>
            <a:ext cx="378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ряки Черноморского флота, жители города организованно вста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защиту Севастопо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D:\Documents and Settings\Admin\Рабочий стол\21.jpg"/>
          <p:cNvPicPr/>
          <p:nvPr/>
        </p:nvPicPr>
        <p:blipFill>
          <a:blip r:embed="rId1"/>
          <a:stretch/>
        </p:blipFill>
        <p:spPr>
          <a:xfrm>
            <a:off x="146160" y="1495440"/>
            <a:ext cx="5081400" cy="3213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365040" y="-324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вастополь прославился героической обороной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941-1942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одержимое 6" descr="Похожее изображение"/>
          <p:cNvPicPr/>
          <p:nvPr/>
        </p:nvPicPr>
        <p:blipFill>
          <a:blip r:embed="rId1"/>
          <a:stretch/>
        </p:blipFill>
        <p:spPr>
          <a:xfrm>
            <a:off x="5003640" y="549360"/>
            <a:ext cx="3816360" cy="568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Картинки по запросу оборона севастополя в великой отечественной войне"/>
          <p:cNvPicPr/>
          <p:nvPr/>
        </p:nvPicPr>
        <p:blipFill>
          <a:blip r:embed="rId2"/>
          <a:stretch/>
        </p:blipFill>
        <p:spPr>
          <a:xfrm>
            <a:off x="449280" y="2708280"/>
            <a:ext cx="4249800" cy="2124000"/>
          </a:xfrm>
          <a:prstGeom prst="rect">
            <a:avLst/>
          </a:prstGeom>
          <a:ln w="0">
            <a:noFill/>
          </a:ln>
        </p:spPr>
      </p:pic>
      <p:pic>
        <p:nvPicPr>
          <p:cNvPr id="147" name="Заголовок 1" descr=""/>
          <p:cNvPicPr/>
          <p:nvPr/>
        </p:nvPicPr>
        <p:blipFill>
          <a:blip r:embed="rId3"/>
          <a:stretch/>
        </p:blipFill>
        <p:spPr>
          <a:xfrm>
            <a:off x="274680" y="304920"/>
            <a:ext cx="4595760" cy="1609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Город-герой Севастополь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i-main-pic" descr="Картинка 81 из 58952"/>
          <p:cNvPicPr/>
          <p:nvPr/>
        </p:nvPicPr>
        <p:blipFill>
          <a:blip r:embed="rId1"/>
          <a:stretch/>
        </p:blipFill>
        <p:spPr>
          <a:xfrm>
            <a:off x="357120" y="1000080"/>
            <a:ext cx="2500560" cy="38005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214800" y="928800"/>
            <a:ext cx="300024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250 д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должалас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роическ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боро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евастопо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965 году Севастополю присвоено звание «Город-герой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руч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Ленин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а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олотая Зв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D:\Documents and Settings\Admin\Рабочий стол\2f6593fd73aa67fa33ac8fa5a03_prev.jpg"/>
          <p:cNvPicPr/>
          <p:nvPr/>
        </p:nvPicPr>
        <p:blipFill>
          <a:blip r:embed="rId2"/>
          <a:stretch/>
        </p:blipFill>
        <p:spPr>
          <a:xfrm>
            <a:off x="6143760" y="2143080"/>
            <a:ext cx="281772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ород-герой Севастополь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3760" y="1052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853-185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5316480" y="10047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941-19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8" descr="http://www.gpw-65.ru/images/stories/goroda/sevastopol.jpg"/>
          <p:cNvPicPr/>
          <p:nvPr/>
        </p:nvPicPr>
        <p:blipFill>
          <a:blip r:embed="rId1"/>
          <a:stretch/>
        </p:blipFill>
        <p:spPr>
          <a:xfrm>
            <a:off x="458640" y="3357720"/>
            <a:ext cx="1986120" cy="3092400"/>
          </a:xfrm>
          <a:prstGeom prst="rect">
            <a:avLst/>
          </a:prstGeom>
          <a:ln w="0">
            <a:noFill/>
          </a:ln>
        </p:spPr>
      </p:pic>
      <p:pic>
        <p:nvPicPr>
          <p:cNvPr id="156" name="Заголовок 1" descr=""/>
          <p:cNvPicPr/>
          <p:nvPr/>
        </p:nvPicPr>
        <p:blipFill>
          <a:blip r:embed="rId2"/>
          <a:stretch/>
        </p:blipFill>
        <p:spPr>
          <a:xfrm>
            <a:off x="3011400" y="3902040"/>
            <a:ext cx="5175360" cy="22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Картинки по запросу севастополь фото города"/>
          <p:cNvPicPr/>
          <p:nvPr/>
        </p:nvPicPr>
        <p:blipFill>
          <a:blip r:embed="rId3"/>
          <a:stretch/>
        </p:blipFill>
        <p:spPr>
          <a:xfrm>
            <a:off x="3240000" y="1557360"/>
            <a:ext cx="2664000" cy="190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1:34:45Z</dcterms:created>
  <dc:creator>Епифанцева</dc:creator>
  <dc:description/>
  <dc:language>en-US</dc:language>
  <cp:lastModifiedBy>Галина Лисина</cp:lastModifiedBy>
  <dcterms:modified xsi:type="dcterms:W3CDTF">2022-11-06T20:38:20Z</dcterms:modified>
  <cp:revision>54</cp:revision>
  <dc:subject/>
  <dc:title>Виртуальное путешествие «Города-герои</dc:title>
</cp:coreProperties>
</file>